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5399-E0B2-4D0D-BF6C-9EC922D7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8C66-B034-4A53-B4DF-51D9C24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E672-15E2-43A1-8624-FF9D5405E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9A1A-15E6-4F99-842D-7958E47D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460B5-E18E-400C-9F21-050D32CF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3CF6-F448-43BD-87BB-ED5ECBCF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6A19-F1EA-4172-AD23-4C342E6A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01DB9-0D3E-4B48-9F9C-5FA71670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FB7-C7D6-477B-BC52-42F6F7BE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A05CC-511A-4E7F-8C2B-25BD5D85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9E6A-3D7A-456F-B4CD-F0A25588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956-E65A-4FBD-B4C4-A78092A3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4E96-AD2A-43AA-9FBF-30C7A321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BC09-4EE7-42B1-B714-CFE6BC18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69D9-89C3-48C5-B5F3-96BB5F79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4FE7-02AF-40E4-A6F3-FEC497FE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11790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3787200"/>
            <a:ext cx="250236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5D7E-8A26-4C03-8FA8-855CD88D6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CFE-5CD4-4CAA-8FB0-1A33AE65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B6F-5E5B-4CFB-AAFC-29F77D0F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56F-9855-4029-B465-3828AD69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188640"/>
            <a:ext cx="7792920" cy="34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8C5-C214-40D3-BB00-0A8385021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039F-F4A6-4498-B8C8-009298054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37872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F071-8097-49B5-B5E6-CCC6FFB3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179000"/>
            <a:ext cx="37926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787200"/>
            <a:ext cx="7772400" cy="23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397-2619-4AD1-A499-D22F0079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26028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26028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68256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68256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6094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152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94284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52DC3-8AF6-4950-898F-B35AF14BB1C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305920" y="0"/>
            <a:ext cx="838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6-</a:t>
            </a:r>
            <a:fld id="{9DD5C1B6-E5DC-404C-B583-6B546908E2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1295280"/>
            <a:ext cx="9009000" cy="1052640"/>
            <a:chOff x="0" y="1295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1403280"/>
              <a:ext cx="711360" cy="474840"/>
              <a:chOff x="290520" y="1403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1403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1403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1825560"/>
              <a:ext cx="737640" cy="474840"/>
              <a:chOff x="414360" y="1825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1825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1825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1752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1295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2117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2100-A0FD-4F57-B40A-EF2E5ADD04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Six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 Research Design: Survey and Obser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3962520" cy="24764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lexibility of Data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lexibility of data collection is determined primarily by the extent to which the respondent can interact with the interviewer and the survey questionnair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versity of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iversity of questions that can be asked in a survey depends upon the degree of interaction the respondent has with the interviewer and the questionnaire, as well as the ability to actually see the question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Physical Stimu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use physical stimuli such as the product, a product prototype, commercials, or promotional displays during the interview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ampl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ample control is the ability of the survey mode to reach the units specified in the sample effectively and efficient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of the Data Collection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gree of control a researcher has over the environment in which the respondent answers the questionnair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of Field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control the interviewers and supervisors involved in data collection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antit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ility to collect large amounts of data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 Digit Directory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82440" y="1371600"/>
            <a:ext cx="8979120" cy="536904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2258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1428840"/>
            <a:ext cx="8813880" cy="52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dding a Constant to the Last Di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integer between 1 and 9 is added to the telephone number selected from the directory. In plus-one sampling, the number added to the last digit is 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selected from directory: 404-953-3004 (exchange-block). Add one to the last digit to form 404-953-3005. This is the number to be included in the s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Randomizing the r Last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 the r (r = 2, 3, or 4) last digits with an equal number of randomly selected dig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selected from directory: 404-881-1124. Replace the last four digits of the block with randomly selected numbers 5, 2, 8, and 6 to form 404-881-528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162920" y="3720960"/>
            <a:ext cx="125712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2440" y="1447920"/>
            <a:ext cx="8979120" cy="49464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04920" y="1728720"/>
            <a:ext cx="853416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Two-Stage Proced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he first stage consists of selecting an exchange and telephone number from the directory. In the second stage, the last three digits of the selected number are replaced with a three-digit random number between 000 and 99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ahoma"/>
              </a:rPr>
              <a:t>Cluster 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exchange: 63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elected number: 404-636-323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lace the last three digits (230) with randomly selected 389 to form 404-636-3389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Repeat this process until the desired number of telephone numbers from this cluster is obtained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6858000" y="33526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andom Digit Directory Desig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"/>
          <p:cNvSpPr/>
          <p:nvPr/>
        </p:nvSpPr>
        <p:spPr>
          <a:xfrm>
            <a:off x="12258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urvey response rate is broadly defined as the percentage of the total attempted interviews that are completed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ceived Anony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ceived anonymity refers to the respondents' perceptions that their identities will not be discerned by the interviewer or the researcher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cial Desirability/Sensitive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cial desirability is the tendency of the respondents to give answers that are socially acceptable, whether or not they are true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riteria for Evaluating Survey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tential for Interviewer B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nt of the interviewer's role determines the potential for bi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tal time taken for administering the survey to the entire sampl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tal cost of administering the survey and collecting the 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480" y="1517760"/>
            <a:ext cx="8991360" cy="52578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0276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12760" y="2279520"/>
            <a:ext cx="861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1695600"/>
            <a:ext cx="211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73240" y="1649520"/>
            <a:ext cx="898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Phone/ C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743200" y="1649520"/>
            <a:ext cx="12794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-Home Intervie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1573200"/>
            <a:ext cx="1050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all-Intercept Inter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19720" y="1801800"/>
            <a:ext cx="974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CA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21360" y="1649520"/>
            <a:ext cx="9745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il Surve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35760" y="1649520"/>
            <a:ext cx="89856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Mail Pa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73840" y="18018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E-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543800" y="1801800"/>
            <a:ext cx="898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2362320"/>
          <a:ext cx="11290320" cy="510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1129032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Comparative Evaluation of Survey Method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Structured versus Unstructur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uctur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earcher specifies in detail what is to be observed and how the measurements are to be recorded, e.g., an auditor performing inventory analysis in a store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structur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observer monitors all aspects of the phenomenon that seem relevant to the problem at hand, e.g., observing children playing with new toy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Disguised versus Undisguis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guis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pondents are unaware that they are being observed.  Disguise may be accomplished by using one-way mirrors, hidden cameras, or inconspicuous mechanical devices.  Observers may be disguised as shoppers or sales clerk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isguis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the respondents are aware that they are under observ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Natural versus Contrived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atur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volves observing behavior as it takes places in the environment.  For example, one could observe the behavior of respondents eating fast food in Burger King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ived observ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respondents' behavior is observed in an artificial environment, such as a test kitch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) Overview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) Survey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6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) Survey Methods Classified by Mode of Administ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  Telephone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Traditional Telephone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Computer-Assisted Telephone Interview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CA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. Personal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Personal In-home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Mall-Intercept Personal Inter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Computer-Assisted Personal Interviewing (CAP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ii.  Mail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Mail Interview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Mail Pa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v.  Electronic Metho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E-mail Surveys            b. Internet Surve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 Classification of Observation Method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90720" y="3581280"/>
            <a:ext cx="7086600" cy="1879560"/>
            <a:chOff x="990720" y="3581280"/>
            <a:chExt cx="7086600" cy="1879560"/>
          </a:xfrm>
        </p:grpSpPr>
        <p:sp>
          <p:nvSpPr>
            <p:cNvPr id="231" name=""/>
            <p:cNvSpPr/>
            <p:nvPr/>
          </p:nvSpPr>
          <p:spPr>
            <a:xfrm>
              <a:off x="2971800" y="3581280"/>
              <a:ext cx="3352680" cy="609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a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78080" y="3646440"/>
              <a:ext cx="32990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a0c0e"/>
                  </a:solidFill>
                  <a:latin typeface="Arial"/>
                </a:rPr>
                <a:t>Observation 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4222800"/>
              <a:ext cx="0" cy="12380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2400" y="4648320"/>
              <a:ext cx="7054920" cy="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9072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7180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248520" y="4680000"/>
              <a:ext cx="0" cy="78084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77320" y="4648320"/>
              <a:ext cx="0" cy="812520"/>
            </a:xfrm>
            <a:prstGeom prst="line">
              <a:avLst/>
            </a:prstGeom>
            <a:ln w="12600">
              <a:solidFill>
                <a:srgbClr val="0a0c0e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17440" y="5460840"/>
            <a:ext cx="8697960" cy="711360"/>
            <a:chOff x="217440" y="5460840"/>
            <a:chExt cx="8697960" cy="711360"/>
          </a:xfrm>
        </p:grpSpPr>
        <p:grpSp>
          <p:nvGrpSpPr>
            <p:cNvPr id="240" name=""/>
            <p:cNvGrpSpPr/>
            <p:nvPr/>
          </p:nvGrpSpPr>
          <p:grpSpPr>
            <a:xfrm>
              <a:off x="217440" y="5473440"/>
              <a:ext cx="1851120" cy="698760"/>
              <a:chOff x="217440" y="5473440"/>
              <a:chExt cx="1851120" cy="698760"/>
            </a:xfrm>
          </p:grpSpPr>
          <p:sp>
            <p:nvSpPr>
              <p:cNvPr id="241" name=""/>
              <p:cNvSpPr/>
              <p:nvPr/>
            </p:nvSpPr>
            <p:spPr>
              <a:xfrm>
                <a:off x="228600" y="5473440"/>
                <a:ext cx="175248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7440" y="5473440"/>
                <a:ext cx="18511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Personal Observ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122560" y="5460840"/>
              <a:ext cx="1851120" cy="698760"/>
              <a:chOff x="2122560" y="5460840"/>
              <a:chExt cx="1851120" cy="698760"/>
            </a:xfrm>
          </p:grpSpPr>
          <p:sp>
            <p:nvSpPr>
              <p:cNvPr id="244" name=""/>
              <p:cNvSpPr/>
              <p:nvPr/>
            </p:nvSpPr>
            <p:spPr>
              <a:xfrm>
                <a:off x="2133720" y="5473440"/>
                <a:ext cx="175248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22560" y="5460840"/>
                <a:ext cx="18511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Mechanical Observatio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292880" y="5473440"/>
              <a:ext cx="1622520" cy="698760"/>
              <a:chOff x="7292880" y="5473440"/>
              <a:chExt cx="1622520" cy="698760"/>
            </a:xfrm>
          </p:grpSpPr>
          <p:sp>
            <p:nvSpPr>
              <p:cNvPr id="247" name=""/>
              <p:cNvSpPr/>
              <p:nvPr/>
            </p:nvSpPr>
            <p:spPr>
              <a:xfrm>
                <a:off x="7315200" y="5473440"/>
                <a:ext cx="160020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292880" y="5473440"/>
                <a:ext cx="162252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Trace Analys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5475240" y="5460840"/>
              <a:ext cx="1698840" cy="698760"/>
              <a:chOff x="5475240" y="5460840"/>
              <a:chExt cx="1698840" cy="698760"/>
            </a:xfrm>
          </p:grpSpPr>
          <p:sp>
            <p:nvSpPr>
              <p:cNvPr id="250" name=""/>
              <p:cNvSpPr/>
              <p:nvPr/>
            </p:nvSpPr>
            <p:spPr>
              <a:xfrm>
                <a:off x="5486400" y="5473440"/>
                <a:ext cx="167652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475240" y="5460840"/>
                <a:ext cx="169884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Content Analysi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4027320" y="5473440"/>
              <a:ext cx="1317960" cy="685800"/>
              <a:chOff x="4027320" y="5473440"/>
              <a:chExt cx="1317960" cy="6858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14800" y="5473440"/>
                <a:ext cx="1219320" cy="68580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a0c0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027320" y="5538600"/>
                <a:ext cx="131796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a0c0e"/>
                    </a:solidFill>
                    <a:latin typeface="Arial"/>
                  </a:rPr>
                  <a:t>Audi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1219320" y="993600"/>
            <a:ext cx="1850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2971800" cy="3645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84120" y="1893960"/>
            <a:ext cx="11653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lass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Personal Observation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researcher observes actual behavior as it occurs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bserver does not attempt to manipulate the phenomenon being observed but merely records what takes place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example, a researcher might record traffic counts and observe traffic flows in a department st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Mechanical Observ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 not require respondents' direct participatio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 Nielsen audimete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urnstiles that record the number of people entering or leaving a building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-site cameras (still, motion picture, or video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tical scanners in super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 require respondent involvement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ye-tracking moni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pil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sychogalvano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oice pitch analyz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SzPct val="66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vices measuring response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udi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searcher collects data by examining physical records or performing inventory analysi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re collected personally by the researche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ata are based upon counts, usually of physical objects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tail and wholesale audits conducted by marketing research suppliers were discussed in the context of syndicated data in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tent Analysi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bjective, systematic, and quantitative description of the manifest content of a communication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unit of analysis may be words, characters (individuals or objects), themes (propositions), space and time measures (length or duration of the message), or topics (subject of the message)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categories for classifying the units are developed and the communication is broken down according to prescribed rul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Observation Method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race Analysi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collection is based on physical traces, or evidence, of pa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havior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elective erosion of tiles in a museum indexed by the replacement rate was used to determine the relative popularity of exhibit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number of different fingerprints on a page was used to gauge the readership of various advertisements in a magazi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osition of the radio dials in cars brought in for service was used to estimate share of listening audience of various radio stations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ge and condition of cars in a parking lot were used to assess the affluence of custome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agazines people donated to charity were used to determine people's favorite magazin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et visitors leave traces which can be analyzed to examine browsing and usage behavior by using cookies.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Tahoma"/>
              </a:rPr>
              <a:t>A Comparative Evaluation of Observation Methods</a:t>
            </a:r>
            <a:endParaRPr b="0" lang="en-US" sz="2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82440" y="1422360"/>
            <a:ext cx="8979120" cy="35686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43000" y="977760"/>
            <a:ext cx="1447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1480" y="2209680"/>
            <a:ext cx="8236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33520" y="4724280"/>
            <a:ext cx="2692440" cy="2133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4480" y="1644480"/>
            <a:ext cx="8877240" cy="32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riteria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Personal         Mechanical          Audit        Content     Tr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Observation   Observation         Analysis  Analysis   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gree of structu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Degree of disguise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bility to observe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 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natural setting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Observation bias     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sis Bia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i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General remarks  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Most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Can be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           Expensive   Limited to    Method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flexible 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intrusive                                 commu-      last res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5f5f5f"/>
                </a:solidFill>
                <a:latin typeface="Arial"/>
              </a:rPr>
              <a:t>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Times New Roman"/>
              </a:rPr>
              <a:t>Relative Advantages of Observation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permit measurement of actual behavior rather than reports of intended or preferred behavior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reporting bias, and potential bias caused by the interviewer and the interviewing process is eliminated or reduced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rtain types of data can be collected only by observa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the observed phenomenon occurs frequently or is of short duration, observational methods may be cheaper and faster than survey metho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Times New Roman"/>
              </a:rPr>
              <a:t>Relative Disadvantages of Observation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asons for the observed behavior may not be determined since little is known about the underlying motives, beliefs, attitudes, and preferences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lective perception (bias in the researcher's perception) can bias the data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data are often time-consuming and expensive, and it is difficult to observe certain forms of behavio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some cases, the use of observational methods may be unethical, as in observing people without their knowledge or cons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best to view observation as a complement to survey methods, rather than as being in competition with them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 Comparative Evaluation of Survey Methods for International Marketing Research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"/>
          <p:cNvSpPr/>
          <p:nvPr/>
        </p:nvSpPr>
        <p:spPr>
          <a:xfrm>
            <a:off x="177840" y="1320840"/>
            <a:ext cx="8713800" cy="547200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66680" y="1295280"/>
            <a:ext cx="8606160" cy="55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riteria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Telephon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Personal         Mail         Electron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sample contro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in locat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ondents at h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ccessibility of ho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a lar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l of trained interview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population in rural are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ma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curre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ephone dire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vailability of mailing lis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enetration of telephon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an efficient postal syste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level of litera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e-to-face communication culture   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or access to computers &amp; Internet    ?                 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A (+) denotes an advantage, and a (–) denotes a disadvantage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0276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8205840" y="582948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06632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91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) A Comparative Evaluation of Survey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ility of Data Col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versity of Ques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Physical Stimul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the Data Collection Enviro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rol of Field Fo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ntity of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ived Anonym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cial Desirability/ Sensitive Inform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for Interviewer Bi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9640" indent="-42084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of Survey Method(s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vs. Unstructured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guised vs. Undisguised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tural vs. Contrived Obser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4000" indent="-5940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servational Methods Classified by Mode of Administ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sonal Observ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31320" indent="-5198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e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029200" y="5105520"/>
            <a:ext cx="3949560" cy="175248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arative Evaluation of Observational Meth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 of 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gree of Disgu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Observe in Natural Se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ysis B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Rema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60240" indent="-66024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parison of Survey and Observational Method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Advantages of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1035000" indent="-57780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55000"/>
              <a:buFont typeface="Tahoma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Disadvantages of Obser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hapter Outlin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117900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tional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ics in Marketing Re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and Comput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 on Bur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1500"/>
              </a:spcBef>
              <a:buClr>
                <a:srgbClr val="000000"/>
              </a:buClr>
              <a:buSzPct val="60000"/>
              <a:buFont typeface="Tahoma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y Terms and Concep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343400" cy="39117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A Classification of Survey Method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372280"/>
            <a:ext cx="7696080" cy="1028520"/>
            <a:chOff x="0" y="5372280"/>
            <a:chExt cx="7696080" cy="1028520"/>
          </a:xfrm>
        </p:grpSpPr>
        <p:grpSp>
          <p:nvGrpSpPr>
            <p:cNvPr id="117" name=""/>
            <p:cNvGrpSpPr/>
            <p:nvPr/>
          </p:nvGrpSpPr>
          <p:grpSpPr>
            <a:xfrm>
              <a:off x="0" y="5403960"/>
              <a:ext cx="1854360" cy="698760"/>
              <a:chOff x="0" y="5403960"/>
              <a:chExt cx="1854360" cy="698760"/>
            </a:xfrm>
          </p:grpSpPr>
          <p:sp>
            <p:nvSpPr>
              <p:cNvPr id="118" name=""/>
              <p:cNvSpPr/>
              <p:nvPr/>
            </p:nvSpPr>
            <p:spPr>
              <a:xfrm>
                <a:off x="52560" y="5423040"/>
                <a:ext cx="1434960" cy="672840"/>
              </a:xfrm>
              <a:prstGeom prst="rect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5403960"/>
                <a:ext cx="18543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ahoma"/>
                  </a:rPr>
                  <a:t>Traditional Telephon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1644480" y="5423040"/>
              <a:ext cx="2426040" cy="977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68920" y="5575320"/>
              <a:ext cx="120636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50000" y="5575320"/>
              <a:ext cx="901800" cy="749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44480" y="5372280"/>
              <a:ext cx="2463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uter-Assisted Telephone Intervie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03760" y="5510160"/>
              <a:ext cx="1701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 Intervie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56480" y="5556240"/>
              <a:ext cx="9396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 Pan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213200" y="990720"/>
            <a:ext cx="1031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g. 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65320" y="4038480"/>
            <a:ext cx="8076960" cy="1022400"/>
            <a:chOff x="1165320" y="4038480"/>
            <a:chExt cx="8076960" cy="1022400"/>
          </a:xfrm>
        </p:grpSpPr>
        <p:sp>
          <p:nvSpPr>
            <p:cNvPr id="128" name=""/>
            <p:cNvSpPr/>
            <p:nvPr/>
          </p:nvSpPr>
          <p:spPr>
            <a:xfrm>
              <a:off x="1187280" y="4133880"/>
              <a:ext cx="1206720" cy="5205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58880" y="4133880"/>
              <a:ext cx="1206720" cy="67320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30480" y="4083120"/>
              <a:ext cx="2426040" cy="9777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165320" y="4114800"/>
              <a:ext cx="1231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-Hom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41440" y="4068720"/>
              <a:ext cx="17020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ll Inter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41640" y="4038480"/>
              <a:ext cx="24638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Computer-Assisted Personal Interview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924680" y="4159080"/>
              <a:ext cx="1143000" cy="533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34320" y="4159080"/>
              <a:ext cx="901440" cy="5335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21360" y="4167360"/>
              <a:ext cx="17020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-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01000" y="4162320"/>
              <a:ext cx="12412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095880" y="990720"/>
            <a:ext cx="2457720" cy="1638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1111320" y="1352520"/>
            <a:ext cx="7086600" cy="1695600"/>
            <a:chOff x="1111320" y="1352520"/>
            <a:chExt cx="7086600" cy="1695600"/>
          </a:xfrm>
        </p:grpSpPr>
        <p:sp>
          <p:nvSpPr>
            <p:cNvPr id="140" name=""/>
            <p:cNvSpPr/>
            <p:nvPr/>
          </p:nvSpPr>
          <p:spPr>
            <a:xfrm>
              <a:off x="4070520" y="1371600"/>
              <a:ext cx="1587240" cy="74916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11320" y="2666880"/>
              <a:ext cx="708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25880" y="1352520"/>
              <a:ext cx="17017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urvey Method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844880" y="21337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1132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468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4508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197920" y="26668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272880" y="3022560"/>
            <a:ext cx="8534520" cy="2540160"/>
            <a:chOff x="272880" y="3022560"/>
            <a:chExt cx="8534520" cy="2540160"/>
          </a:xfrm>
        </p:grpSpPr>
        <p:sp>
          <p:nvSpPr>
            <p:cNvPr id="149" name=""/>
            <p:cNvSpPr/>
            <p:nvPr/>
          </p:nvSpPr>
          <p:spPr>
            <a:xfrm>
              <a:off x="272880" y="3022560"/>
              <a:ext cx="1587600" cy="520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82920" y="3022560"/>
              <a:ext cx="1511280" cy="520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87880" y="3056040"/>
              <a:ext cx="901800" cy="487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840" y="3079800"/>
              <a:ext cx="14432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eleph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98840" y="3079800"/>
              <a:ext cx="122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Pers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46200" y="3079800"/>
              <a:ext cx="6858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ai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512120" y="3048120"/>
              <a:ext cx="1295280" cy="48708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26440" y="3079800"/>
              <a:ext cx="1348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lectron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44680" y="350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97120" y="3733920"/>
              <a:ext cx="3124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9712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468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921200" y="37339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1400" y="3505320"/>
              <a:ext cx="0" cy="167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78400" y="5181480"/>
              <a:ext cx="182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78400" y="51814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07200" y="51814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30080" y="3581280"/>
              <a:ext cx="0" cy="129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7800" y="4876920"/>
              <a:ext cx="2057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7800" y="4876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635200" y="4876920"/>
              <a:ext cx="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97920" y="35053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35800" y="373392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3580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807400" y="373392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ome Decisions Related to the Mail Interview Packag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1714680"/>
            <a:ext cx="8763120" cy="45208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5760" y="1892160"/>
            <a:ext cx="900108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Outgoing Envelo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utgoing envelope: size, color, retur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 of addr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Cover Let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nsorshi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appe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Post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iz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Questionn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Layout     Form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ent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oduction       Color       Respondent anonym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Return Envel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of envelope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cen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etary versus non-moneta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paid versus promised amoun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0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7680" y="1905120"/>
            <a:ext cx="842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44720" y="1909800"/>
            <a:ext cx="2350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3797280"/>
            <a:ext cx="83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3120" y="5319720"/>
            <a:ext cx="8307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39120" y="990720"/>
            <a:ext cx="1258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ble 6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2832120"/>
            <a:ext cx="8351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920" y="6006960"/>
            <a:ext cx="8307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43800" y="876240"/>
            <a:ext cx="1434960" cy="3162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920" y="4711680"/>
            <a:ext cx="835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188640"/>
            <a:ext cx="779292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ample Mailing Lis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386000"/>
            <a:ext cx="8620200" cy="5395680"/>
          </a:xfrm>
          <a:prstGeom prst="rect">
            <a:avLst/>
          </a:prstGeom>
          <a:solidFill>
            <a:srgbClr val="cce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9320" y="1515960"/>
            <a:ext cx="861696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List Title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Number on List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            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vertising agencies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389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nks, branche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1108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8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t own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428960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50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mbers of Commerc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655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onal computer own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221867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mili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76000000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qu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wholesal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737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gazines, consumer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4119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tographic, portrai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3374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4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les executiv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19000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55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ves of professional men         166361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60/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MCA’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1036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$8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ice shown is per 1000 names (/M), except where no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454120" cy="1370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19:30:27Z</dcterms:created>
  <dc:creator>dcom</dc:creator>
  <dc:description/>
  <dc:language>en-US</dc:language>
  <cp:lastModifiedBy>Pearson Education</cp:lastModifiedBy>
  <dcterms:modified xsi:type="dcterms:W3CDTF">2003-07-18T12:35:50Z</dcterms:modified>
  <cp:revision>38</cp:revision>
  <dc:subject/>
  <dc:title>Chapter Three</dc:title>
</cp:coreProperties>
</file>