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BBF5-26EF-47A2-BC4F-C7B89556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378720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2646-9E05-4312-B495-1D8E63CF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A51-6158-438C-ABE2-51E4C99E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11790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11790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37872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37872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37872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4B4-9AF9-4345-BC22-23B737EB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C997-75A9-4677-AB3B-2FCE32A4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ACFF-FA1C-4301-8B5C-A5DB061A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913B-103F-4C18-B00E-DCDFDDFC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5B86-0035-40D5-8B8A-55307B5C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EB90-9993-4F55-B530-DC2C3A30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188640"/>
            <a:ext cx="779292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F152-CFBF-4E7A-B183-D9052C6E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0577-F7C2-4F03-92E0-4AEDD664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F784-F33D-49C9-AC24-BB3DE0DC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1748-8CDC-4EBA-A924-59FAEA13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378720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EC99-9BD5-42F6-8959-DDF35D2F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378720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DE31-DA6C-4C26-85B2-34020673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AB3F-D016-4848-BDEE-903CB28F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11790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11790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37872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37872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37872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7C9F-A50C-48ED-915B-F796A346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A983-23FF-4652-935F-B8F3E13D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FF3C-ACB3-4147-91D6-8FAAC07B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579B-B0C5-40CF-93B0-819DB359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188640"/>
            <a:ext cx="779292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EFC5-0B92-4643-A152-EF6218AD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6B7-F895-4A2D-8CF3-30791F14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6C20-E678-49A9-8CB0-5E736FF4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78720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E62C-A118-4EF5-BE02-9545C8F5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2602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2602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6825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6825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6094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52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94284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07DA-AFEF-4315-846F-ACACC5B8E4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305920" y="0"/>
            <a:ext cx="838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-</a:t>
            </a:r>
            <a:fld id="{7DE1E253-DF0A-4A55-8DF0-400CF3975F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1295280"/>
            <a:ext cx="9009000" cy="1052640"/>
            <a:chOff x="0" y="1295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1403280"/>
              <a:ext cx="711360" cy="474840"/>
              <a:chOff x="290520" y="1403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1403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1403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1825560"/>
              <a:ext cx="737640" cy="474840"/>
              <a:chOff x="414360" y="1825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1825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1825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1752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1295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2117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52C4-CD93-46F8-B4C5-6DEC956C78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pter Six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 Research Design: Survey and Obser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38280" y="4191120"/>
            <a:ext cx="3962520" cy="2476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iteria for Evaluating Survey Method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lexibility of Data Col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lexibility of data collection is determined primarily by the extent to which the respondent can interact with the interviewer and the survey questionnaire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iversity of Ques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iversity of questions that can be asked in a survey depends upon the degree of interaction the respondent has with the interviewer and the questionnaire, as well as the ability to actually see the questions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Physical Stimu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ility to use physical stimuli such as the product, a product prototype, commercials, or promotional displays during the interview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iteria for Evaluating Survey Method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ampl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ample control is the ability of the survey mode to reach the units specified in the sample effectively and efficient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of the Data Collection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gree of control a researcher has over the environment in which the respondent answers the questionnai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of Field Fo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ility to control the interviewers and supervisors involved in data collection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antity of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ility to collect large amounts of data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andom Digit Directory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82440" y="1371600"/>
            <a:ext cx="8979120" cy="5369040"/>
          </a:xfrm>
          <a:prstGeom prst="rect">
            <a:avLst/>
          </a:prstGeom>
          <a:solidFill>
            <a:srgbClr val="cce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25800" y="990720"/>
            <a:ext cx="1031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g. 6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1428840"/>
            <a:ext cx="881388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dding a Constant to the Last Di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teger between 1 and 9 is added to the telephone number selected from the directory. In plus-one sampling, the number added to the last digit is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selected from directory: 404-953-3004 (exchange-block). Add one to the last digit to form 404-953-3005. This is the number to be included in the s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andomizing the r Last Dig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 the r (r = 2, 3, or 4) last digits with an equal number of randomly selected digi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selected from directory: 404-881-1124. Replace the last four digits of the block with randomly selected numbers 5, 2, 8, and 6 to form 404-881-528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162920" y="3720960"/>
            <a:ext cx="125712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2440" y="1447920"/>
            <a:ext cx="8979120" cy="4946400"/>
          </a:xfrm>
          <a:prstGeom prst="rect">
            <a:avLst/>
          </a:prstGeom>
          <a:solidFill>
            <a:srgbClr val="cce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1728720"/>
            <a:ext cx="8534160" cy="44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Two-Stage Proced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first stage consists of selecting an exchange and telephone number from the directory. In the second stage, the last three digits of the selected number are replaced with a three-digit random number between 000 and 999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Cluster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lected exchange: 63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lected number: 404-636-32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the last three digits (230) with randomly selected 389 to form 404-636-3389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eat this process until the desired number of telephone numbers from this cluster is obtain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58000" y="3352680"/>
            <a:ext cx="1828800" cy="16002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andom Digit Directory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1225800" y="990720"/>
            <a:ext cx="1031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g. 6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iteria for Evaluating Survey Method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spons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urvey response rate is broadly defined as the percentage of the total attempted interviews that are completed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ceived Anonym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ceived anonymity refers to the respondents' perceptions that their identities will not be discerned by the interviewer or the researcher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cial Desirability/Sensitive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cial desirability is the tendency of the respondents to give answers that are socially acceptable, whether or not they are true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iteria for Evaluating Survey Method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tential for Interviewer B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nt of the interviewer's role determines the potential for b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tal time taken for administering the survey to the entire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tal cost of administering the survey and collecting the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0480" y="1517760"/>
            <a:ext cx="8991360" cy="5257800"/>
          </a:xfrm>
          <a:prstGeom prst="rect">
            <a:avLst/>
          </a:prstGeom>
          <a:solidFill>
            <a:srgbClr val="cce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02760" y="990720"/>
            <a:ext cx="1258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6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2760" y="2279520"/>
            <a:ext cx="861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2800" y="1695600"/>
            <a:ext cx="2117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73240" y="1649520"/>
            <a:ext cx="898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Phone/ C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3200" y="1649520"/>
            <a:ext cx="1279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n-Home Intervie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1573200"/>
            <a:ext cx="10508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Mall-Intercept Inter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1801800"/>
            <a:ext cx="974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CA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21360" y="1649520"/>
            <a:ext cx="974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Mail Surve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35760" y="1649520"/>
            <a:ext cx="898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Mail Pan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73840" y="1801800"/>
            <a:ext cx="898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E-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43800" y="1801800"/>
            <a:ext cx="898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04920" y="2362320"/>
          <a:ext cx="11290320" cy="510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62320"/>
                    <a:ext cx="1129032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 Comparative Evaluation of Survey Method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Observation Method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ructured versus Unstructured Observ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ured observ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the researcher specifies in detail what is to be observed and how the measurements are to be recorded, e.g., an auditor performing inventory analysis in a stor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structured observ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the observer monitors all aspects of the phenomenon that seem relevant to the problem at hand, e.g., observing children playing with new toy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Observation Method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Disguised versus Undisguised Observ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guised observ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the respondents are unaware that they are being observed.  Disguise may be accomplished by using one-way mirrors, hidden cameras, or inconspicuous mechanical devices.  Observers may be disguised as shoppers or sales clerk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isguised observ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the respondents are aware that they are under observ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Observation Method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Natural versus Contrived Observ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atur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nvolves observing behavior as it takes places in the environment.  For example, one could observe the behavior of respondents eating fast food in Burger King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ived observ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respondents' behavior is observed in an artificial environment, such as a test kitch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pter Outl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) Over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) Survey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) Survey Methods Classified by Mode of Administ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  Telephone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. Traditional Telephone Inter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. Computer-Assisted Telephone Interview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CAT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i. Personal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. Personal In-home Inter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. Mall-Intercept Personal Inter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. Computer-Assisted Personal Interviewing (CAP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ii.  Mail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. Mail Interview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. Mail Pa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v.  Electronic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. E-mail Surveys            b. Internet Surve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Classification of Observation Method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990720" y="3581280"/>
            <a:ext cx="7086600" cy="1879560"/>
            <a:chOff x="990720" y="3581280"/>
            <a:chExt cx="7086600" cy="1879560"/>
          </a:xfrm>
        </p:grpSpPr>
        <p:sp>
          <p:nvSpPr>
            <p:cNvPr id="231" name=""/>
            <p:cNvSpPr/>
            <p:nvPr/>
          </p:nvSpPr>
          <p:spPr>
            <a:xfrm>
              <a:off x="2971800" y="3581280"/>
              <a:ext cx="3352680" cy="609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a0c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78080" y="3646440"/>
              <a:ext cx="329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a0c0e"/>
                  </a:solidFill>
                  <a:latin typeface="Arial"/>
                </a:rPr>
                <a:t>Observation Metho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4222800"/>
              <a:ext cx="0" cy="1238040"/>
            </a:xfrm>
            <a:prstGeom prst="line">
              <a:avLst/>
            </a:prstGeom>
            <a:ln w="12600">
              <a:solidFill>
                <a:srgbClr val="0a0c0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22400" y="4648320"/>
              <a:ext cx="7054920" cy="0"/>
            </a:xfrm>
            <a:prstGeom prst="line">
              <a:avLst/>
            </a:prstGeom>
            <a:ln w="12600">
              <a:solidFill>
                <a:srgbClr val="0a0c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90720" y="4680000"/>
              <a:ext cx="0" cy="780840"/>
            </a:xfrm>
            <a:prstGeom prst="line">
              <a:avLst/>
            </a:prstGeom>
            <a:ln w="12600">
              <a:solidFill>
                <a:srgbClr val="0a0c0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71800" y="4680000"/>
              <a:ext cx="0" cy="780840"/>
            </a:xfrm>
            <a:prstGeom prst="line">
              <a:avLst/>
            </a:prstGeom>
            <a:ln w="12600">
              <a:solidFill>
                <a:srgbClr val="0a0c0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48520" y="4680000"/>
              <a:ext cx="0" cy="780840"/>
            </a:xfrm>
            <a:prstGeom prst="line">
              <a:avLst/>
            </a:prstGeom>
            <a:ln w="12600">
              <a:solidFill>
                <a:srgbClr val="0a0c0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077320" y="4648320"/>
              <a:ext cx="0" cy="812520"/>
            </a:xfrm>
            <a:prstGeom prst="line">
              <a:avLst/>
            </a:prstGeom>
            <a:ln w="12600">
              <a:solidFill>
                <a:srgbClr val="0a0c0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17440" y="5460840"/>
            <a:ext cx="8697960" cy="711360"/>
            <a:chOff x="217440" y="5460840"/>
            <a:chExt cx="8697960" cy="711360"/>
          </a:xfrm>
        </p:grpSpPr>
        <p:grpSp>
          <p:nvGrpSpPr>
            <p:cNvPr id="240" name=""/>
            <p:cNvGrpSpPr/>
            <p:nvPr/>
          </p:nvGrpSpPr>
          <p:grpSpPr>
            <a:xfrm>
              <a:off x="217440" y="5473440"/>
              <a:ext cx="1851120" cy="698760"/>
              <a:chOff x="217440" y="5473440"/>
              <a:chExt cx="1851120" cy="698760"/>
            </a:xfrm>
          </p:grpSpPr>
          <p:sp>
            <p:nvSpPr>
              <p:cNvPr id="241" name=""/>
              <p:cNvSpPr/>
              <p:nvPr/>
            </p:nvSpPr>
            <p:spPr>
              <a:xfrm>
                <a:off x="228600" y="5473440"/>
                <a:ext cx="1752480" cy="68580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0a0c0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17440" y="5473440"/>
                <a:ext cx="185112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a0c0e"/>
                    </a:solidFill>
                    <a:latin typeface="Arial"/>
                  </a:rPr>
                  <a:t>Personal Observ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2122560" y="5460840"/>
              <a:ext cx="1851120" cy="698760"/>
              <a:chOff x="2122560" y="5460840"/>
              <a:chExt cx="1851120" cy="698760"/>
            </a:xfrm>
          </p:grpSpPr>
          <p:sp>
            <p:nvSpPr>
              <p:cNvPr id="244" name=""/>
              <p:cNvSpPr/>
              <p:nvPr/>
            </p:nvSpPr>
            <p:spPr>
              <a:xfrm>
                <a:off x="2133720" y="5473440"/>
                <a:ext cx="1752480" cy="68580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0a0c0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122560" y="5460840"/>
                <a:ext cx="185112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a0c0e"/>
                    </a:solidFill>
                    <a:latin typeface="Arial"/>
                  </a:rPr>
                  <a:t>Mechanical Observ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292880" y="5473440"/>
              <a:ext cx="1622520" cy="698760"/>
              <a:chOff x="7292880" y="5473440"/>
              <a:chExt cx="1622520" cy="698760"/>
            </a:xfrm>
          </p:grpSpPr>
          <p:sp>
            <p:nvSpPr>
              <p:cNvPr id="247" name=""/>
              <p:cNvSpPr/>
              <p:nvPr/>
            </p:nvSpPr>
            <p:spPr>
              <a:xfrm>
                <a:off x="7315200" y="5473440"/>
                <a:ext cx="1600200" cy="68580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0a0c0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292880" y="5473440"/>
                <a:ext cx="162252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a0c0e"/>
                    </a:solidFill>
                    <a:latin typeface="Arial"/>
                  </a:rPr>
                  <a:t>Trace Analysi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5475240" y="5460840"/>
              <a:ext cx="1698840" cy="698760"/>
              <a:chOff x="5475240" y="5460840"/>
              <a:chExt cx="1698840" cy="698760"/>
            </a:xfrm>
          </p:grpSpPr>
          <p:sp>
            <p:nvSpPr>
              <p:cNvPr id="250" name=""/>
              <p:cNvSpPr/>
              <p:nvPr/>
            </p:nvSpPr>
            <p:spPr>
              <a:xfrm>
                <a:off x="5486400" y="5473440"/>
                <a:ext cx="1676520" cy="68580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0a0c0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475240" y="5460840"/>
                <a:ext cx="169884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a0c0e"/>
                    </a:solidFill>
                    <a:latin typeface="Arial"/>
                  </a:rPr>
                  <a:t>Content Analysi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027320" y="5473440"/>
              <a:ext cx="1317960" cy="685800"/>
              <a:chOff x="4027320" y="5473440"/>
              <a:chExt cx="1317960" cy="685800"/>
            </a:xfrm>
          </p:grpSpPr>
          <p:sp>
            <p:nvSpPr>
              <p:cNvPr id="253" name=""/>
              <p:cNvSpPr/>
              <p:nvPr/>
            </p:nvSpPr>
            <p:spPr>
              <a:xfrm>
                <a:off x="4114800" y="5473440"/>
                <a:ext cx="1219320" cy="68580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0a0c0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027320" y="5538600"/>
                <a:ext cx="131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a0c0e"/>
                    </a:solidFill>
                    <a:latin typeface="Arial"/>
                  </a:rPr>
                  <a:t>Aud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1219320" y="993600"/>
            <a:ext cx="1850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g. 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2971800" cy="3645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284120" y="1893960"/>
            <a:ext cx="116532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lass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Observation Method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ersonal Observ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researcher observes actual behavior as it occurs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observer does not attempt to manipulate the phenomenon being observed but merely records what takes plac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example, a researcher might record traffic counts and observe traffic flows in a department st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Observation Method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Mechanical Observa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 not require respondents' direct particip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 Nielsen audimet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urnstiles that record the number of people entering or leaving a build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-site cameras (still, motion picture, or video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tical scanners in super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 require respondent involvement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ye-tracking moni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pilo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sychogalvano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oice pitch analyz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vices measuring response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Observation Method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udi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searcher collects data by examining physical records or performing inventory analysi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re collected personally by the researcher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ata are based upon counts, usually of physical object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tail and wholesale audits conducted by marketing research suppliers were discussed in the context of syndicated data in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Observation Method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tent Analysi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objective, systematic, and quantitative description of the manifest content of a communication.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unit of analysis may be words, characters (individuals or objects), themes (propositions), space and time measures (length or duration of the message), or topics (subject of the message)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categories for classifying the units are developed and the communication is broken down according to prescribed rul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Observation Method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race Analysi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collection is based on physical traces, or evidence, of pa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elective erosion of tiles in a museum indexed by the replacement rate was used to determine the relative popularity of exhibi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number of different fingerprints on a page was used to gauge the readership of various advertisements in a magazi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osition of the radio dials in cars brought in for service was used to estimate share of listening audience of various radio stations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ge and condition of cars in a parking lot were used to assess the affluence of custom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agazines people donated to charity were used to determine people's favorite magazi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et visitors leave traces which can be analyzed to examine browsing and usage behavior by using cookie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Tahoma"/>
              </a:rPr>
              <a:t>A Comparative Evaluation of Observation Methods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82440" y="1422360"/>
            <a:ext cx="8979120" cy="3568680"/>
          </a:xfrm>
          <a:prstGeom prst="rect">
            <a:avLst/>
          </a:prstGeom>
          <a:solidFill>
            <a:srgbClr val="cce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3000" y="977760"/>
            <a:ext cx="144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1480" y="2209680"/>
            <a:ext cx="8236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33520" y="4724280"/>
            <a:ext cx="2692440" cy="21337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4480" y="1644480"/>
            <a:ext cx="887724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riteria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Personal         Mechanical          Audit        Content     T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bservation   Observation         Analysis  Analysis   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ree of struc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to hig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Degree of disguise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Medium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Low to high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Low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High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Hig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observe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to hig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atural setting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Observation bias        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High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Low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Low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Medium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Med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Bi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u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General remarks   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Most 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Can be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           Expensive   Limited to    Method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flexible 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intrusive                                 commu-      last res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Relative Advantages of Observation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permit measurement of actual behavior rather than reports of intended or preferred behavior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reporting bias, and potential bias caused by the interviewer and the interviewing process is eliminated or reduced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rtain types of data can be collected only by observatio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the observed phenomenon occurs frequently or is of short duration, observational methods may be cheaper and faster than survey metho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Relative Disadvantages of Observation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asons for the observed behavior may not be determined since little is known about the underlying motives, beliefs, attitudes, and preference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lective perception (bias in the researcher's perception) can bias the data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data are often time-consuming and expensive, and it is difficult to observe certain forms of behavior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some cases, the use of observational methods may be unethical, as in observing people without their knowledge or cons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best to view observation as a complement to survey methods, rather than as being in competition with the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 Comparative Evaluation of Survey Methods for International Marketing Research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177840" y="1320840"/>
            <a:ext cx="8713800" cy="5472000"/>
          </a:xfrm>
          <a:prstGeom prst="rect">
            <a:avLst/>
          </a:prstGeom>
          <a:solidFill>
            <a:srgbClr val="cce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6680" y="1295280"/>
            <a:ext cx="860616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riteri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  Telephone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Personal         Mail         Electro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sample contr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+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iculty in loca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dents at 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ccessibility of ho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vailability of a larg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ol of trained intervie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population in rural are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vailability of map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vailability of curr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ephone 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vailability of mailing l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penetration of telepho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ck of an efficient postal sys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level of litera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e-to-face communication culture   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or access to computers &amp; Internet    ?             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A (+) denotes an advantage, and a (–) denotes a disadvantage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02760" y="990720"/>
            <a:ext cx="1258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6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8205840" y="5829480"/>
            <a:ext cx="1028520" cy="1028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pter Outl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06632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91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) A Comparative Evaluation of Survey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420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ility of Data Col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420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versity of Ques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420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Physical Stimu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420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pl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420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 of the Data Collection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420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 of Field Fo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420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ntity of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420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420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ceived Anonym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420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cial Desirability/ Sensitive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420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for Interviewer Bia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420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420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pter Outl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94000" indent="-5940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of Survey Method(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4000" indent="-5940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519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vs. Unstructured Obser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519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guised vs. Undisguised Obser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519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ural vs. Contrived Observ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4000" indent="-5940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al Methods Classified by Mode of Admini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519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al Observ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519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Obser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519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519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519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e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29200" y="5105520"/>
            <a:ext cx="3949560" cy="1752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pter Outl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parative Evaluation of Observational Method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5778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gree of 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5778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gree of Disgu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5778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Observe in Natural Se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5778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sis B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5778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 Rema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60240" indent="-6602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parison of Survey and Observational Method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5778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Advantages of Obser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5778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Disadvantages of Obser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pter Outl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tional Marketing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ics in Marketing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and Comput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Bur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 Terms and Conce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4343400" cy="3911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 Classification of Survey Method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5372280"/>
            <a:ext cx="7696080" cy="1028520"/>
            <a:chOff x="0" y="5372280"/>
            <a:chExt cx="7696080" cy="1028520"/>
          </a:xfrm>
        </p:grpSpPr>
        <p:grpSp>
          <p:nvGrpSpPr>
            <p:cNvPr id="117" name=""/>
            <p:cNvGrpSpPr/>
            <p:nvPr/>
          </p:nvGrpSpPr>
          <p:grpSpPr>
            <a:xfrm>
              <a:off x="0" y="5403960"/>
              <a:ext cx="1854360" cy="698760"/>
              <a:chOff x="0" y="5403960"/>
              <a:chExt cx="1854360" cy="698760"/>
            </a:xfrm>
          </p:grpSpPr>
          <p:sp>
            <p:nvSpPr>
              <p:cNvPr id="118" name=""/>
              <p:cNvSpPr/>
              <p:nvPr/>
            </p:nvSpPr>
            <p:spPr>
              <a:xfrm>
                <a:off x="52560" y="5423040"/>
                <a:ext cx="1434960" cy="67284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5403960"/>
                <a:ext cx="18543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Traditional Telepho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1644480" y="5423040"/>
              <a:ext cx="2426040" cy="9777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68920" y="5575320"/>
              <a:ext cx="1206360" cy="673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50000" y="5575320"/>
              <a:ext cx="901800" cy="7491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44480" y="5372280"/>
              <a:ext cx="24638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omputer-Assisted Telephone Interview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03760" y="5510160"/>
              <a:ext cx="17017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ail Intervi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56480" y="5556240"/>
              <a:ext cx="9396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ail Pa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13200" y="990720"/>
            <a:ext cx="1031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g. 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165320" y="4038480"/>
            <a:ext cx="8076960" cy="1022400"/>
            <a:chOff x="1165320" y="4038480"/>
            <a:chExt cx="8076960" cy="1022400"/>
          </a:xfrm>
        </p:grpSpPr>
        <p:sp>
          <p:nvSpPr>
            <p:cNvPr id="128" name=""/>
            <p:cNvSpPr/>
            <p:nvPr/>
          </p:nvSpPr>
          <p:spPr>
            <a:xfrm>
              <a:off x="1187280" y="4133880"/>
              <a:ext cx="1206720" cy="520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58880" y="4133880"/>
              <a:ext cx="1206720" cy="673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30480" y="4083120"/>
              <a:ext cx="2426040" cy="9777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65320" y="4114800"/>
              <a:ext cx="123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-Ho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41440" y="4068720"/>
              <a:ext cx="17020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all Inter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41640" y="4038480"/>
              <a:ext cx="24638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omputer-Assisted Personal Interview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24680" y="4159080"/>
              <a:ext cx="1143000" cy="533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34320" y="4159080"/>
              <a:ext cx="901440" cy="533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21360" y="4167360"/>
              <a:ext cx="1702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-m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01000" y="4162320"/>
              <a:ext cx="1241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095880" y="990720"/>
            <a:ext cx="2457720" cy="1638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1111320" y="1352520"/>
            <a:ext cx="7086600" cy="1695600"/>
            <a:chOff x="1111320" y="1352520"/>
            <a:chExt cx="7086600" cy="1695600"/>
          </a:xfrm>
        </p:grpSpPr>
        <p:sp>
          <p:nvSpPr>
            <p:cNvPr id="140" name=""/>
            <p:cNvSpPr/>
            <p:nvPr/>
          </p:nvSpPr>
          <p:spPr>
            <a:xfrm>
              <a:off x="4070520" y="1371600"/>
              <a:ext cx="1587240" cy="7491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11320" y="2666880"/>
              <a:ext cx="708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25880" y="1352520"/>
              <a:ext cx="17017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urvey Metho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44880" y="2133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11320" y="26668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44680" y="26668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45080" y="26668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197920" y="26668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72880" y="3022560"/>
            <a:ext cx="8534520" cy="2540160"/>
            <a:chOff x="272880" y="3022560"/>
            <a:chExt cx="8534520" cy="2540160"/>
          </a:xfrm>
        </p:grpSpPr>
        <p:sp>
          <p:nvSpPr>
            <p:cNvPr id="149" name=""/>
            <p:cNvSpPr/>
            <p:nvPr/>
          </p:nvSpPr>
          <p:spPr>
            <a:xfrm>
              <a:off x="272880" y="3022560"/>
              <a:ext cx="1587600" cy="520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82920" y="3022560"/>
              <a:ext cx="1511280" cy="520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87880" y="3056040"/>
              <a:ext cx="901800" cy="487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840" y="3079800"/>
              <a:ext cx="144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eleph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98840" y="3079800"/>
              <a:ext cx="1225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ers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46200" y="3079800"/>
              <a:ext cx="68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12120" y="3048120"/>
              <a:ext cx="1295280" cy="487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26440" y="3079800"/>
              <a:ext cx="1348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lectron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4680" y="3505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7120" y="3733920"/>
              <a:ext cx="312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97120" y="37339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4680" y="37339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21200" y="37339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21400" y="3505320"/>
              <a:ext cx="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78400" y="518148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78400" y="51814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07200" y="51814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0080" y="3581280"/>
              <a:ext cx="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7800" y="487692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7800" y="48769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35200" y="48769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97920" y="3505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35800" y="37339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35800" y="37339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807400" y="37339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ome Decisions Related to the Mail Interview Packag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1714680"/>
            <a:ext cx="8763120" cy="4520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5760" y="1892160"/>
            <a:ext cx="90010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utgoing Envelo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going envelope: size, color, return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a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 of addr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over L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nsorshi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of appe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Post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sonaliz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Questionn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Layout     Form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nt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oduction       Color       Respondent anonym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turn Envel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of envelope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ncen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etary versus non-moneta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paid versus promised amou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cf01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7680" y="1905120"/>
            <a:ext cx="842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44720" y="1909800"/>
            <a:ext cx="235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3797280"/>
            <a:ext cx="835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3120" y="5319720"/>
            <a:ext cx="8307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9120" y="990720"/>
            <a:ext cx="1258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2832120"/>
            <a:ext cx="8351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6006960"/>
            <a:ext cx="8307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543800" y="876240"/>
            <a:ext cx="1434960" cy="31622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4920" y="4711680"/>
            <a:ext cx="835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ample Mailing Lis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1386000"/>
            <a:ext cx="8620200" cy="5395680"/>
          </a:xfrm>
          <a:prstGeom prst="rect">
            <a:avLst/>
          </a:prstGeom>
          <a:solidFill>
            <a:srgbClr val="cce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9320" y="1515960"/>
            <a:ext cx="861696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List Title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  Number on List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       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ertising agencies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389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45/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nks, branche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11089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85/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t own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428960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50/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mbers of Commer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6559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45/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sonal computer own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221867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qu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mili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76000000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qu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wholesal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737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45/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gazines, consum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4119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45/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tographic, portra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337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45/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les executiv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19000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55/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ves of professional men         166361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60/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MCA’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1036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8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ce shown is per 1000 names (/M), except where no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486400" y="3581280"/>
            <a:ext cx="2454120" cy="1370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19:30:27Z</dcterms:created>
  <dc:creator>dcom</dc:creator>
  <dc:description/>
  <dc:language>en-US</dc:language>
  <cp:lastModifiedBy>Pearson Education</cp:lastModifiedBy>
  <dcterms:modified xsi:type="dcterms:W3CDTF">2003-07-18T12:35:50Z</dcterms:modified>
  <cp:revision>38</cp:revision>
  <dc:subject/>
  <dc:title>Chapter Three</dc:title>
</cp:coreProperties>
</file>