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3B7-6F62-40E4-AD55-E092A632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3BC-9BB0-405B-862A-930EFA2D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C99-2330-4203-ABA6-1CEAD1D5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7FF-4A13-4AE4-A00C-50C3DC54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F654-F4A1-4244-B84D-1F6CC562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EA4E-383C-481C-921A-2064CB3F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5EF-0C4A-42CB-B5AB-72541DC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9AC0-0EE6-4593-AA1C-0FD347C8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F1C7-88B6-41A0-9A92-CFED9FD8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63A3-C8DE-4C44-AFA9-B3E1EDE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7BC0-AAC6-4F3A-9D81-C1B1EB77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DF4-E78A-401C-A32C-C0F46A9F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7DC-839F-4C0E-8D59-ABB8572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5C6-0BDF-4BF0-B89A-636BEA4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3662-78AB-4DF6-9E10-54223EA0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262E-BA9D-490C-90C7-D39D9190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C19D-1569-437E-89D7-0E05E022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389-A454-481D-8ADB-4A123430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130-F98E-48E7-96B7-BBBECF8A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885-4F54-4F18-8088-66B8853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F92-CEB2-426D-8632-AD01C35F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4EE-85D6-4D9A-A548-FE85BCD9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89C-4AD6-42ED-B692-50CE771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1E5-62B1-4C7A-B1EA-9A1EF7B4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BF7D-CC46-4CB7-B4B2-69FFAA8D7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305920" y="0"/>
            <a:ext cx="838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-</a:t>
            </a:r>
            <a:fld id="{B9281E76-B079-46D4-BA2A-68A306DF9A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295280"/>
            <a:ext cx="9009000" cy="1052640"/>
            <a:chOff x="0" y="1295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403280"/>
              <a:ext cx="711360" cy="474840"/>
              <a:chOff x="290520" y="1403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403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403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1825560"/>
              <a:ext cx="737640" cy="474840"/>
              <a:chOff x="414360" y="1825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1825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1825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1752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295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117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539-25F4-40BB-A252-6FCBC06BAC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Seve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al Research Desig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al desi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set of procedures specify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est units and how these units are to be divided into homogeneous subsampl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ndependent variables or treatments are to be manipulat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ependent variables are to be measured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the extraneous variables are to be control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in Experi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valid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whether the manipulation of the independent variables or treatments actually caused the observed effects on the dependent variables.  Control of extraneous variables is a necessary condition for establishing in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valid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whether the cause-and-effect relationships found in the experiment can be generalized.  To what populations, settings, times, independent variables and dependent variables can the results be proje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traneous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specific events that are external to the experiment but occur at the same time as the experi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refers to changes in the test units themselves that occur with the passage of tim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effe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caused by the process of experimentation.  Typically, these are the effects on the experiment of taking a measure on the dependent variable before and after the presentation of the treatme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testing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occurs when a prior observation affects a latter observati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traneous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active testing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IT), a prior measurement affects the test unit's response to the independent variabl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tru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I) refers to changes in the measuring instrument, in the observers or in the scores themselv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reg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effects (SR) occur when test units with extreme scores move closer to the average score during the course of the experime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ion bi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SB) refers to the improper assignment of test units to treatment condition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rt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MO) refers to the loss of test units while the experiment is in progres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olling Extraneous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ndom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the random assignment of test units to experimental groups by using random numbers.  Treatment conditions are also randomly assigned to experimental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tch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comparing test units on a set of key background variables before assigning them to the treatment condi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measuring the extraneous variables and adjusting for their effects through statistical analy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the use of experiments designed to control specific extraneous variabl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Experimental Desig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-experiment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o not employ randomization procedures to control for extraneous factors: the one-shot case study, the one-group pretest-posttest design, and the static-grou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experiment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earcher can randomly assign test units to experimental groups and treatments to experimental groups: the pretest-posttest control group design, the posttest-only control group design, and the Solomon four-group desig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Experimental Desig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si-experiment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esult when the researcher is unable to achieve full manipulation of scheduling or allocation of treatments to test units but can still apply part of the apparatus of true experimentation: time series and multiple time series design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series of basic experiments that allows for statistical control and analysis of external variables: randomized block design, Latin square design, and factorial design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Experimental Desig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70680" y="851040"/>
            <a:ext cx="25653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99360" y="2895480"/>
            <a:ext cx="2252520" cy="3492720"/>
            <a:chOff x="99360" y="2895480"/>
            <a:chExt cx="2252520" cy="3492720"/>
          </a:xfrm>
        </p:grpSpPr>
        <p:sp>
          <p:nvSpPr>
            <p:cNvPr id="191" name=""/>
            <p:cNvSpPr/>
            <p:nvPr/>
          </p:nvSpPr>
          <p:spPr>
            <a:xfrm>
              <a:off x="235080" y="2895480"/>
              <a:ext cx="205092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360" y="2965320"/>
              <a:ext cx="2252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e-experi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5080" y="3809880"/>
              <a:ext cx="2050920" cy="2578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520" y="3833640"/>
              <a:ext cx="2057400" cy="25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-Shot Case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 Group Pretest-Post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tatic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468520" y="2895480"/>
            <a:ext cx="2209680" cy="3498840"/>
            <a:chOff x="2468520" y="2895480"/>
            <a:chExt cx="2209680" cy="3498840"/>
          </a:xfrm>
        </p:grpSpPr>
        <p:sp>
          <p:nvSpPr>
            <p:cNvPr id="196" name=""/>
            <p:cNvSpPr/>
            <p:nvPr/>
          </p:nvSpPr>
          <p:spPr>
            <a:xfrm>
              <a:off x="2521080" y="2901960"/>
              <a:ext cx="173988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8520" y="2895480"/>
              <a:ext cx="17524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rue Experi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21080" y="3816360"/>
              <a:ext cx="1892160" cy="2577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68520" y="3809880"/>
              <a:ext cx="2209680" cy="25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etest-Posttest  Control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sttest: Only Control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lomon Four-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754520" y="2895480"/>
            <a:ext cx="1981080" cy="3498840"/>
            <a:chOff x="4754520" y="2895480"/>
            <a:chExt cx="1981080" cy="3498840"/>
          </a:xfrm>
        </p:grpSpPr>
        <p:sp>
          <p:nvSpPr>
            <p:cNvPr id="201" name=""/>
            <p:cNvSpPr/>
            <p:nvPr/>
          </p:nvSpPr>
          <p:spPr>
            <a:xfrm>
              <a:off x="4883040" y="2901960"/>
              <a:ext cx="173988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4520" y="2895480"/>
              <a:ext cx="1981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uasi Experi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7080" y="3816360"/>
              <a:ext cx="1892160" cy="2577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0840" y="3809880"/>
              <a:ext cx="175248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ime Se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ultiple Time Se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93080" y="2895480"/>
            <a:ext cx="1892160" cy="3695400"/>
            <a:chOff x="7093080" y="2895480"/>
            <a:chExt cx="1892160" cy="3695400"/>
          </a:xfrm>
        </p:grpSpPr>
        <p:sp>
          <p:nvSpPr>
            <p:cNvPr id="206" name=""/>
            <p:cNvSpPr/>
            <p:nvPr/>
          </p:nvSpPr>
          <p:spPr>
            <a:xfrm>
              <a:off x="7169040" y="2895480"/>
              <a:ext cx="173988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3840" y="2965320"/>
              <a:ext cx="132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tatis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93080" y="3809880"/>
              <a:ext cx="1892160" cy="2578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16840" y="3757680"/>
              <a:ext cx="1676160" cy="28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ndomized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tin Squ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actorial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189800" y="106992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ure 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95280" y="1682640"/>
            <a:ext cx="6629400" cy="1212840"/>
            <a:chOff x="1295280" y="1682640"/>
            <a:chExt cx="6629400" cy="1212840"/>
          </a:xfrm>
        </p:grpSpPr>
        <p:sp>
          <p:nvSpPr>
            <p:cNvPr id="212" name=""/>
            <p:cNvSpPr/>
            <p:nvPr/>
          </p:nvSpPr>
          <p:spPr>
            <a:xfrm>
              <a:off x="2825640" y="1682640"/>
              <a:ext cx="3035520" cy="596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51840" y="1706400"/>
              <a:ext cx="278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xperimental Desig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9720" y="2286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95280" y="2590920"/>
              <a:ext cx="662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9528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2900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1500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2468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ne-Shot Cas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ingle group of test units is exposed to a treatm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ingle measurement on the dependent variable is taken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random assignment of test uni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ne-shot case study is more appropriate for exploratory than for conclus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ne-Group Pretest-Posttest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group of test units is measured twic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control group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is computed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validity of this conclusion is questionable since extraneous variables are largely uncontroll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Concept of Caus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) Conditions for Caus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) Definition of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) Definition of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) Validity in Experi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) Extrane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) Controlling Extrane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c Group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wo-group experimental desig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perimental group (EG) is exposed to the treatment, and the control group (CG) is no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ments on both groups are made only after the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units are not assigned at random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would be measured 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True Experimental Designs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Pretest-Posttest Control Group Desig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units are randomly assigned to either the experimental or the control gro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pretreatment measure is taken on each group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(TE) is measured as: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-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ion  bias is eliminated by randomization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ther extraneous effects are  controll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(Extraneous Vari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perimental result is obtained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-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active testing effect is not controll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Posttest-Only Control Group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  :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G  :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is obtain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 for pre-measurement, the implementation of this design is very similar to that of the pretest-posttest control group desig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uasi-Experimental Designs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ime Series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randomization of test units to treat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iming of treatment presentation, as well as which test units are exposed to the treatment, may not be within the researcher's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Time Series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G  :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G  :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control group is carefully selected, this design can be an improvement over the simple time series experiment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test the treatment effect twice: against the pretreatment measurements in the experimental group and against the control group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stic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desig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consist of a series of basic experiments that allow for statistical control and analysis of external variables and offer the following advantag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ects of more than one independent variable can be measur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extraneous variables can be statistically contro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conomical designs can be formulated when each test unit is measured more than once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common statistical designs are the randomized block design, the Latin square design, and the factorial desig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ized Block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s useful when there is only one major external variable, such as store size, that might influence the dependent variabl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est units are blocked, or grouped, on the basis of the external variabl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y blocking, the researcher ensures that the various experimental and control groups are matched closely on the external var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ized Block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06200" y="1733400"/>
            <a:ext cx="8979120" cy="365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1080" y="1779480"/>
            <a:ext cx="911520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Treatment Groups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                      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lock        Store           Commercial     Commercial     Commerci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umber   Patronage             A                   B                  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Heav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Medi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N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78720" y="106668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280" y="3022560"/>
            <a:ext cx="8521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86200" y="5016600"/>
            <a:ext cx="3111480" cy="1841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tin Square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s the researcher to statistically control two noninteracting external variables as well as to manipulate the independent variabl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external or blocking variable is divided into an equal number of blocks, or level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dependent variable is also divided into the same number of level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Latin square is conceptualized as a table (see Table 7.5), with the rows and columns representing the blocks in the two external variable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evels of the independent variable are assigned to the cells in the tabl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ssignment rule is that each level of the independent variable should appear only once in each row and each column, as shown in Table 7.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tin Square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202760" y="106668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3520" y="1809720"/>
            <a:ext cx="8305200" cy="2991600"/>
            <a:chOff x="533520" y="1809720"/>
            <a:chExt cx="8305200" cy="2991600"/>
          </a:xfrm>
        </p:grpSpPr>
        <p:grpSp>
          <p:nvGrpSpPr>
            <p:cNvPr id="249" name=""/>
            <p:cNvGrpSpPr/>
            <p:nvPr/>
          </p:nvGrpSpPr>
          <p:grpSpPr>
            <a:xfrm>
              <a:off x="533520" y="1809720"/>
              <a:ext cx="8305200" cy="2991600"/>
              <a:chOff x="533520" y="1809720"/>
              <a:chExt cx="8305200" cy="2991600"/>
            </a:xfrm>
          </p:grpSpPr>
          <p:sp>
            <p:nvSpPr>
              <p:cNvPr id="250" name=""/>
              <p:cNvSpPr/>
              <p:nvPr/>
            </p:nvSpPr>
            <p:spPr>
              <a:xfrm>
                <a:off x="639360" y="1809720"/>
                <a:ext cx="8199360" cy="236232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3520" y="1968120"/>
                <a:ext cx="8229240" cy="28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Interest in the Store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                                    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Store Patronage     High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Medium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Low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Heavy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   B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A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C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Medium 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             C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B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Low and none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   A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C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B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762120" y="2819520"/>
              <a:ext cx="7735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942160" y="4724280"/>
            <a:ext cx="3174840" cy="2044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938160" y="4495680"/>
            <a:ext cx="4356000" cy="207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)  A Classification of Experimental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) Pre-experimental Desig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) True Experimental Desig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) Quasi Experimental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) Statistical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) Laboratory vs. Field Experi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) Experimental vs. Non-experimental Desig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) Limitations of Experi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) Application: Tes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s used to measure the effects of two or more independent variables at various level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factorial design may also be conceptualized as a tabl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two-factor design, each level of one variable represents a row and each level of another variable represents a colum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202760" y="106668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743200"/>
            <a:ext cx="9102600" cy="3192840"/>
            <a:chOff x="0" y="2743200"/>
            <a:chExt cx="9102600" cy="3192840"/>
          </a:xfrm>
        </p:grpSpPr>
        <p:sp>
          <p:nvSpPr>
            <p:cNvPr id="260" name=""/>
            <p:cNvSpPr/>
            <p:nvPr/>
          </p:nvSpPr>
          <p:spPr>
            <a:xfrm>
              <a:off x="23760" y="2743200"/>
              <a:ext cx="9055080" cy="3187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2921040"/>
              <a:ext cx="9102600" cy="3015000"/>
              <a:chOff x="0" y="2921040"/>
              <a:chExt cx="9102600" cy="30150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921040"/>
                <a:ext cx="9102600" cy="30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 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Amount of Humor</a:t>
                </a:r>
                <a:r>
                  <a:rPr b="0" lang="en-US" sz="2400" spc="-1" strike="noStrike">
                    <a:solidFill>
                      <a:srgbClr val="003300"/>
                    </a:solidFill>
                    <a:latin typeface="Tahom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Amount of Store             No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Medium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 High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Information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 Humor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Humor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 Humor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Low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Medium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Hig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4800" y="4125600"/>
                <a:ext cx="8521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33680" y="3363840"/>
                <a:ext cx="5448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320" y="1346040"/>
            <a:ext cx="2120760" cy="2006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boratory versus Field Experi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88920" y="1447920"/>
            <a:ext cx="8902800" cy="4101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6680" y="1506600"/>
            <a:ext cx="88898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ctor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oratory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tro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eactive Error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mand Artifact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ternal Validity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xternal Validity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im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hort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Number of Unit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ase of Implementation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6440" y="97776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040" y="2057400"/>
            <a:ext cx="8445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07240" y="3657600"/>
            <a:ext cx="2349360" cy="2705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384200" cy="138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36520" y="25146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520" y="403848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520" y="43434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520" y="464832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520" y="495288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520" y="312408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520" y="34290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6520" y="373392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520" y="281952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840" y="52578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imitations of Experi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s can be time consuming, particularly if the researcher is interested in measuring the long-term eff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s are often expensive.  The requirements of experimental group, control group, and multiple measurements significantly add to the cost of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s can be difficult to administer.  It may be impossible to control for the effects of the extraneous variables, particularly in a field environm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etitors may deliberately contaminate the results of a field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1378080"/>
            <a:ext cx="7835760" cy="51688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5120" y="1828800"/>
            <a:ext cx="6934320" cy="4254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09600" y="1378080"/>
            <a:ext cx="1679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Compet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8305920" y="1441440"/>
            <a:ext cx="45720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907920" y="137160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77520" y="6102360"/>
            <a:ext cx="346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Overall Marketing Strateg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299440" y="6095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914400" y="6165720"/>
            <a:ext cx="457200" cy="3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-622800" y="3764160"/>
            <a:ext cx="3488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Socio-Cultural Environ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385760" y="3228120"/>
            <a:ext cx="2199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Need for Secrec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052080" y="1981080"/>
            <a:ext cx="3595320" cy="957240"/>
            <a:chOff x="3052080" y="1981080"/>
            <a:chExt cx="3595320" cy="957240"/>
          </a:xfrm>
        </p:grpSpPr>
        <p:sp>
          <p:nvSpPr>
            <p:cNvPr id="296" name=""/>
            <p:cNvSpPr/>
            <p:nvPr/>
          </p:nvSpPr>
          <p:spPr>
            <a:xfrm>
              <a:off x="3124080" y="1987560"/>
              <a:ext cx="3340080" cy="901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52080" y="1981080"/>
              <a:ext cx="3595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New Product Develop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Research on Existing Produc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Research on other Elem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641840" y="29653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124080" y="3206880"/>
            <a:ext cx="3340080" cy="444240"/>
            <a:chOff x="3124080" y="3206880"/>
            <a:chExt cx="3340080" cy="444240"/>
          </a:xfrm>
        </p:grpSpPr>
        <p:sp>
          <p:nvSpPr>
            <p:cNvPr id="300" name=""/>
            <p:cNvSpPr/>
            <p:nvPr/>
          </p:nvSpPr>
          <p:spPr>
            <a:xfrm>
              <a:off x="3124080" y="3206880"/>
              <a:ext cx="3340080" cy="444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90760" y="3206880"/>
              <a:ext cx="30801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Simulated Test Market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124080" y="3968640"/>
            <a:ext cx="3340080" cy="444600"/>
            <a:chOff x="3124080" y="3968640"/>
            <a:chExt cx="3340080" cy="444600"/>
          </a:xfrm>
        </p:grpSpPr>
        <p:sp>
          <p:nvSpPr>
            <p:cNvPr id="303" name=""/>
            <p:cNvSpPr/>
            <p:nvPr/>
          </p:nvSpPr>
          <p:spPr>
            <a:xfrm>
              <a:off x="3124080" y="3968640"/>
              <a:ext cx="3340080" cy="444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560" y="3968640"/>
              <a:ext cx="3130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Controlled Test Market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641840" y="372744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1840" y="4489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4730760"/>
            <a:ext cx="3340080" cy="4446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19480" y="4730760"/>
            <a:ext cx="297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andard Test Marke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5492880"/>
            <a:ext cx="3340080" cy="444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40880" y="5492880"/>
            <a:ext cx="2627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ational Intro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1840" y="52513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3720" y="2432160"/>
            <a:ext cx="0" cy="322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63560" y="571500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63560" y="342900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63560" y="419112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0120" y="2292480"/>
            <a:ext cx="444240" cy="33400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620760" y="3684960"/>
            <a:ext cx="2500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op and Reevalu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40480" y="251460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40480" y="342900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40480" y="419112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16800" y="495288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87880" y="213984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87880" y="297828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87880" y="381636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87880" y="450216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05880" y="2060640"/>
            <a:ext cx="1726920" cy="682920"/>
            <a:chOff x="1505880" y="2060640"/>
            <a:chExt cx="1726920" cy="682920"/>
          </a:xfrm>
        </p:grpSpPr>
        <p:sp>
          <p:nvSpPr>
            <p:cNvPr id="327" name=""/>
            <p:cNvSpPr/>
            <p:nvPr/>
          </p:nvSpPr>
          <p:spPr>
            <a:xfrm>
              <a:off x="1868400" y="2060640"/>
              <a:ext cx="1141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Very +v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05880" y="2365200"/>
              <a:ext cx="1726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Other Fac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505880" y="3051000"/>
            <a:ext cx="1726920" cy="683280"/>
            <a:chOff x="1505880" y="3051000"/>
            <a:chExt cx="1726920" cy="683280"/>
          </a:xfrm>
        </p:grpSpPr>
        <p:sp>
          <p:nvSpPr>
            <p:cNvPr id="330" name=""/>
            <p:cNvSpPr/>
            <p:nvPr/>
          </p:nvSpPr>
          <p:spPr>
            <a:xfrm>
              <a:off x="1868400" y="3051000"/>
              <a:ext cx="1141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Very +v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5880" y="3355920"/>
              <a:ext cx="1726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Other Fac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521720" y="3809880"/>
            <a:ext cx="1726920" cy="682920"/>
            <a:chOff x="1521720" y="3809880"/>
            <a:chExt cx="1726920" cy="682920"/>
          </a:xfrm>
        </p:grpSpPr>
        <p:sp>
          <p:nvSpPr>
            <p:cNvPr id="333" name=""/>
            <p:cNvSpPr/>
            <p:nvPr/>
          </p:nvSpPr>
          <p:spPr>
            <a:xfrm>
              <a:off x="1884240" y="3809880"/>
              <a:ext cx="1141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Very +v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1720" y="4114440"/>
              <a:ext cx="1726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Other Fac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ecting a Test-Marketing Strate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243828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the Selection of Test Mark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82440" y="1682640"/>
            <a:ext cx="8979120" cy="456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5000" y="1735200"/>
            <a:ext cx="8874000" cy="46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est Markets should have the following qualiti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large enough to produce meaningful projections. They                                     should contain at least 2% of the potential actual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demograph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with respect to product consumption behav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with respect to media u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with respect to compe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latively isolated in terms of media and physical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normal historical development in the produc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marketing research and auditing servic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be over-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)  Determining a Test Marketing Strateg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)  International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)  Ethics in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)  Internet and Comput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)  Focus on Bur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)  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)  Key Terms an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cept of Causa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255320"/>
            <a:ext cx="7888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tatement such as "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caus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 will have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meaning to an ordinary person and to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ientis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Ordinary Meaning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Scientific Mea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only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only one of a number o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causes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ust always lead to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ccurrenc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akes th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deterministi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c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prob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probabilistic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possible to prov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 can never prove that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  At best, we c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fer that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____________________________________________________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itions for Causa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comitant var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extent to which a cause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an effect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occur together or vary together in the way predicted by the hypothesis under consider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 order of occurr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dition states that the causing event must occur either before or simultaneously with the effect; it cannot occur afterward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sence of other possible causal fa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means that the factor or variable being investigated should be the only possible causal explan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vidence of Concomitant Variation between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rchase of Fashion Clothing and Edu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77960"/>
            <a:ext cx="3797280" cy="2273040"/>
            <a:chOff x="2743200" y="2577960"/>
            <a:chExt cx="3797280" cy="2273040"/>
          </a:xfrm>
        </p:grpSpPr>
        <p:sp>
          <p:nvSpPr>
            <p:cNvPr id="114" name=""/>
            <p:cNvSpPr/>
            <p:nvPr/>
          </p:nvSpPr>
          <p:spPr>
            <a:xfrm>
              <a:off x="2743200" y="2577960"/>
              <a:ext cx="3797280" cy="227304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9400" y="2641320"/>
              <a:ext cx="0" cy="2158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836360" y="2895480"/>
            <a:ext cx="74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84280" y="2133720"/>
            <a:ext cx="74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1280" y="2133720"/>
            <a:ext cx="66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6680" y="289548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3 (7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1800" y="289548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7 (2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56680" y="396252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2 (6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85480" y="396252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8 (3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9360" y="3568680"/>
            <a:ext cx="3530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5240" y="1577880"/>
            <a:ext cx="394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chase of Fashion Clothing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066680"/>
            <a:ext cx="13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4483080"/>
            <a:ext cx="2514600" cy="220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88080" y="2865600"/>
            <a:ext cx="194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0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88080" y="3932280"/>
            <a:ext cx="194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0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800" y="4546440"/>
            <a:ext cx="2755800" cy="231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05400" y="3943440"/>
            <a:ext cx="66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88600" y="3340440"/>
            <a:ext cx="178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Education, X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urchase of Fashion Clothing By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come and Edu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73160" y="3282840"/>
            <a:ext cx="2425680" cy="1282680"/>
            <a:chOff x="1073160" y="3282840"/>
            <a:chExt cx="2425680" cy="1282680"/>
          </a:xfrm>
        </p:grpSpPr>
        <p:grpSp>
          <p:nvGrpSpPr>
            <p:cNvPr id="134" name=""/>
            <p:cNvGrpSpPr/>
            <p:nvPr/>
          </p:nvGrpSpPr>
          <p:grpSpPr>
            <a:xfrm>
              <a:off x="1073160" y="3282840"/>
              <a:ext cx="2425680" cy="1282680"/>
              <a:chOff x="1073160" y="3282840"/>
              <a:chExt cx="2425680" cy="1282680"/>
            </a:xfrm>
          </p:grpSpPr>
          <p:sp>
            <p:nvSpPr>
              <p:cNvPr id="135" name=""/>
              <p:cNvSpPr/>
              <p:nvPr/>
            </p:nvSpPr>
            <p:spPr>
              <a:xfrm>
                <a:off x="1073160" y="3282840"/>
                <a:ext cx="2425680" cy="128268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32000" y="3346560"/>
                <a:ext cx="0" cy="11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136520" y="392436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411920" y="1994040"/>
            <a:ext cx="125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Low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62840" y="2298600"/>
            <a:ext cx="100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2440" y="287964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30520" y="2879640"/>
            <a:ext cx="54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" y="341316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520" y="4098960"/>
            <a:ext cx="54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515520" y="3607920"/>
            <a:ext cx="142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46720" y="3413160"/>
            <a:ext cx="112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0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6720" y="4022640"/>
            <a:ext cx="112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0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10040" y="333684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10040" y="394668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03040" y="335916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2 (61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3040" y="396864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71 (57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92920" y="3359160"/>
            <a:ext cx="91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8 (39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2360" y="396864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9 (4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102360" y="3282840"/>
            <a:ext cx="2425680" cy="1206720"/>
            <a:chOff x="6102360" y="3282840"/>
            <a:chExt cx="2425680" cy="1206720"/>
          </a:xfrm>
        </p:grpSpPr>
        <p:grpSp>
          <p:nvGrpSpPr>
            <p:cNvPr id="154" name=""/>
            <p:cNvGrpSpPr/>
            <p:nvPr/>
          </p:nvGrpSpPr>
          <p:grpSpPr>
            <a:xfrm>
              <a:off x="6102360" y="3282840"/>
              <a:ext cx="2425680" cy="1206720"/>
              <a:chOff x="6102360" y="3282840"/>
              <a:chExt cx="2425680" cy="1206720"/>
            </a:xfrm>
          </p:grpSpPr>
          <p:sp>
            <p:nvSpPr>
              <p:cNvPr id="155" name=""/>
              <p:cNvSpPr/>
              <p:nvPr/>
            </p:nvSpPr>
            <p:spPr>
              <a:xfrm>
                <a:off x="6102360" y="3282840"/>
                <a:ext cx="2425680" cy="120672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61200" y="3346560"/>
                <a:ext cx="0" cy="109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165720" y="38862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518520" y="1994040"/>
            <a:ext cx="1318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High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42800" y="2298600"/>
            <a:ext cx="100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05320" y="280368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7240" y="333684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80160" y="2825640"/>
            <a:ext cx="82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73720" y="4022640"/>
            <a:ext cx="54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32240" y="335916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41 (8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32240" y="396864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51 (76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2120" y="3359160"/>
            <a:ext cx="91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9 (2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22120" y="3968640"/>
            <a:ext cx="91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9 (24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720680" y="3734280"/>
            <a:ext cx="107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692440" cy="2095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29000" y="1066680"/>
            <a:ext cx="2451240" cy="207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756160" cy="207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finitions and Concep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variables or alternatives that are manipulated and whose effects are measured and compared, e.g., price level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uni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individuals, organizations, or other entities whose response to the independent variables or treatments is being examined, e.g., consumers or stor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the variables which measure the effect of the independent variables on the test units, e.g., sales, profits, and market shar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neous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all variables other than the independent variables that affect the response of the test units, e.g., store size, store location, and competitive effor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30:27Z</dcterms:created>
  <dc:creator>dcom</dc:creator>
  <dc:description/>
  <dc:language>en-US</dc:language>
  <cp:lastModifiedBy>Pearson Education</cp:lastModifiedBy>
  <dcterms:modified xsi:type="dcterms:W3CDTF">2003-07-18T12:36:13Z</dcterms:modified>
  <cp:revision>35</cp:revision>
  <dc:subject/>
  <dc:title>Chapter Three</dc:title>
</cp:coreProperties>
</file>