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3833-B779-485D-905A-445F8919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37872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46D-A08E-4035-AC32-62FCF26A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7405-2460-4512-9806-A311698D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4A3E-4108-4EB3-91AC-04354BAF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85D3-9B57-4543-A45F-EE114FAF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A1CA-1980-476D-8F48-9911D55C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4298-F017-4DF5-BE65-E712F6045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927F-C917-4F93-B73C-3ADD681A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B0EF-6E66-4B0E-BE0F-3CBAD401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188640"/>
            <a:ext cx="779292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B82D-1C84-4E82-B518-0E201EB8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2C00-230A-4DDF-A8E5-418963DD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1CED-14A3-472B-AD5E-7792369DF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ADF0D-0F80-4AF6-8E5F-40730E2D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8B58-B0B6-4D08-BA8E-8D8092D5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37872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38B0-04D8-42C6-95C5-8ADF4C3C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D068-E25D-40EC-AB2C-4962AFFF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8DBE-337B-4105-8192-44CD1A983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38C6-2ABF-4D7F-BCA9-BB0D5191F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A45F-E33B-4059-BE5B-FC3168F2A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E36-4262-4D8B-907F-52117655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188640"/>
            <a:ext cx="779292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182-D4DE-4B50-98B8-BAC42081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FB7-4E1E-4BEC-B199-D9CAEEB1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5DA7-6100-4BAD-B41A-FCDF59AB6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86E1-B5F7-40B6-9BA8-62336863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260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2602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6825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6825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09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5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4284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538D-08B3-4F08-BC0F-2B3DA2D4D3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305920" y="0"/>
            <a:ext cx="838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7-</a:t>
            </a:r>
            <a:fld id="{FDA9E52D-1340-42CF-AE1D-08D82BDF65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1295280"/>
            <a:ext cx="9009000" cy="1052640"/>
            <a:chOff x="0" y="1295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1403280"/>
              <a:ext cx="711360" cy="474840"/>
              <a:chOff x="290520" y="1403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1403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1403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1825560"/>
              <a:ext cx="737640" cy="474840"/>
              <a:chOff x="414360" y="1825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1825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1825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1752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1295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2117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6409-B4BA-4594-86EF-4AD44E6A46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Seve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al Research Desig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perimental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mental desig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set of procedures specify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est units and how these units are to be divided into homogeneous subsample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ndependent variables or treatments are to be manipulat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dependent variables are to be measured,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the extraneous variables are to be controll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Validity in Experimen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valid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refers to whether the manipulation of the independent variables or treatments actually caused the observed effects on the dependent variables.  Control of extraneous variables is a necessary condition for establishing internal validit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rnal valid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refers to whether the cause-and-effect relationships found in the experiment can be generalized.  To what populations, settings, times, independent variables and dependent variables can the results be project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traneous Vari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refers to specific events that are external to the experiment but occur at the same time as the experi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refers to changes in the test units themselves that occur with the passage of time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effec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re caused by the process of experimentation.  Typically, these are the effects on the experiment of taking a measure on the dependent variable before and after the presentation of the treatment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testing eff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 occurs when a prior observation affects a latter observatio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traneous Vari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active testing effe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IT), a prior measurement affects the test unit's response to the independent variable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tru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I) refers to changes in the measuring instrument, in the observers or in the scores themselve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istical regress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effects (SR) occur when test units with extreme scores move closer to the average score during the course of the experiment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ion bia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SB) refers to the improper assignment of test units to treatment condition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rta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MO) refers to the loss of test units while the experiment is in progres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trolling Extraneous Vari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ndomiz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refers to the random assignment of test units to experimental groups by using random numbers.  Treatment conditions are also randomly assigned to experimental grou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tch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volves comparing test units on a set of key background variables before assigning them to the treatment condi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istical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volves measuring the extraneous variables and adjusting for their effects through statistical analysi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volves the use of experiments designed to control specific extraneous variable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Classification of Experimental Desig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-experimental desig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do not employ randomization procedures to control for extraneous factors: the one-shot case study, the one-group pretest-posttest design, and the static-group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experimental desig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the researcher can randomly assign test units to experimental groups and treatments to experimental groups: the pretest-posttest control group design, the posttest-only control group design, and the Solomon four-group desig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Classification of Experimental Desig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si-experimental desig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result when the researcher is unable to achieve full manipulation of scheduling or allocation of treatments to test units but can still apply part of the apparatus of true experimentation: time series and multiple time series design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tistical desig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series of basic experiments that allows for statistical control and analysis of external variables: randomized block design, Latin square design, and factorial design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Classification of Experimental Desig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70680" y="851040"/>
            <a:ext cx="2565360" cy="184140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99360" y="2895480"/>
            <a:ext cx="2252520" cy="3492720"/>
            <a:chOff x="99360" y="2895480"/>
            <a:chExt cx="2252520" cy="3492720"/>
          </a:xfrm>
        </p:grpSpPr>
        <p:sp>
          <p:nvSpPr>
            <p:cNvPr id="191" name=""/>
            <p:cNvSpPr/>
            <p:nvPr/>
          </p:nvSpPr>
          <p:spPr>
            <a:xfrm>
              <a:off x="235080" y="2895480"/>
              <a:ext cx="2050920" cy="673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9360" y="2965320"/>
              <a:ext cx="22525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e-experim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5080" y="3809880"/>
              <a:ext cx="2050920" cy="2578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520" y="3833640"/>
              <a:ext cx="2057400" cy="25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e-Shot Case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One Group Pretest-Postte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tatic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468520" y="2895480"/>
            <a:ext cx="2209680" cy="3498840"/>
            <a:chOff x="2468520" y="2895480"/>
            <a:chExt cx="2209680" cy="3498840"/>
          </a:xfrm>
        </p:grpSpPr>
        <p:sp>
          <p:nvSpPr>
            <p:cNvPr id="196" name=""/>
            <p:cNvSpPr/>
            <p:nvPr/>
          </p:nvSpPr>
          <p:spPr>
            <a:xfrm>
              <a:off x="2521080" y="2901960"/>
              <a:ext cx="1739880" cy="673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68520" y="2895480"/>
              <a:ext cx="175248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rue Experim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21080" y="3816360"/>
              <a:ext cx="1892160" cy="2577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68520" y="3809880"/>
              <a:ext cx="2209680" cy="252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retest-Posttest  Control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osttest: Only Control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olomon Four-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4754520" y="2895480"/>
            <a:ext cx="1981080" cy="3498840"/>
            <a:chOff x="4754520" y="2895480"/>
            <a:chExt cx="1981080" cy="3498840"/>
          </a:xfrm>
        </p:grpSpPr>
        <p:sp>
          <p:nvSpPr>
            <p:cNvPr id="201" name=""/>
            <p:cNvSpPr/>
            <p:nvPr/>
          </p:nvSpPr>
          <p:spPr>
            <a:xfrm>
              <a:off x="4883040" y="2901960"/>
              <a:ext cx="1739880" cy="673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54520" y="2895480"/>
              <a:ext cx="19810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Quasi Experiment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807080" y="3816360"/>
              <a:ext cx="1892160" cy="25779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30840" y="3809880"/>
              <a:ext cx="175248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ime Ser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ultiple Time Ser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7093080" y="2895480"/>
            <a:ext cx="1892160" cy="3695400"/>
            <a:chOff x="7093080" y="2895480"/>
            <a:chExt cx="1892160" cy="3695400"/>
          </a:xfrm>
        </p:grpSpPr>
        <p:sp>
          <p:nvSpPr>
            <p:cNvPr id="206" name=""/>
            <p:cNvSpPr/>
            <p:nvPr/>
          </p:nvSpPr>
          <p:spPr>
            <a:xfrm>
              <a:off x="7169040" y="2895480"/>
              <a:ext cx="1739880" cy="673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33840" y="2965320"/>
              <a:ext cx="1323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tatist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93080" y="3809880"/>
              <a:ext cx="1892160" cy="25783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116840" y="3757680"/>
              <a:ext cx="1676160" cy="283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Randomized Block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Latin Squa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actorial Desig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1189800" y="1069920"/>
            <a:ext cx="1368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gure 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295280" y="1682640"/>
            <a:ext cx="6629400" cy="1212840"/>
            <a:chOff x="1295280" y="1682640"/>
            <a:chExt cx="6629400" cy="1212840"/>
          </a:xfrm>
        </p:grpSpPr>
        <p:sp>
          <p:nvSpPr>
            <p:cNvPr id="212" name=""/>
            <p:cNvSpPr/>
            <p:nvPr/>
          </p:nvSpPr>
          <p:spPr>
            <a:xfrm>
              <a:off x="2825640" y="1682640"/>
              <a:ext cx="3035520" cy="5968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51840" y="1706400"/>
              <a:ext cx="2784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xperimental Desig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19720" y="22860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295280" y="2590920"/>
              <a:ext cx="662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295280" y="2590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29000" y="2590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715000" y="2590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924680" y="2590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One-Shot Case Stud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ingle group of test units is exposed to a treatmen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ingle measurement on the dependent variable is taken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random assignment of test unit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ne-shot case study is more appropriate for exploratory than for conclusive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One-Group Pretest-Posttest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group of test units is measured twic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control group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eatment effect is computed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validity of this conclusion is questionable since extraneous variables are largely uncontrolled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) Over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) Concept of Caus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) Conditions for Caus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) Definition of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) Definition of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) Validity in Experi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) Extraneous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) Controlling Extraneous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atic Group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G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wo-group experimental desig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perimental group (EG) is exposed to the treatment, and the control group (CG) is not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ments on both groups are made only after the treat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 units are not assigned at random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eatment effect would be measured a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True Experimental Designs: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Pretest-Posttest Control Group Desig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G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est units are randomly assigned to either the experimental or the control gro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pretreatment measure is taken on each group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eatment effect (TE) is measured as: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-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ion  bias is eliminated by randomization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ther extraneous effects are  controlled as follow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–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(Extraneous Vari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perimental result is obtained b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-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active testing effect is not controlle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Posttest-Only Control Group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  :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G  :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eatment effect is obtained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 for pre-measurement, the implementation of this design is very similar to that of the pretest-posttest control group design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Quasi-Experimental Designs: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ime Series Desig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randomization of test units to treatment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iming of treatment presentation, as well as which test units are exposed to the treatment, may not be within the researcher's contro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Multiple Time Series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G  :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G  :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the control group is carefully selected, this design can be an improvement over the simple time series experiment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test the treatment effect twice: against the pretreatment measurements in the experimental group and against the control group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tatistical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istical designs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 consist of a series of basic experiments that allow for statistical control and analysis of external variables and offer the following advantages: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ects of more than one independent variable can be measur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extraneous variables can be statistically controlle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Economical designs can be formulated when each test unit is measured more than once.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common statistical designs are the randomized block design, the Latin square design, and the factorial desig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andomized Block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s useful when there is only one major external variable, such as store size, that might influence the dependent variabl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est units are blocked, or grouped, on the basis of the external variabl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y blocking, the researcher ensures that the various experimental and control groups are matched closely on the external vari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andomized Block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106200" y="1733400"/>
            <a:ext cx="8979120" cy="3651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1080" y="1779480"/>
            <a:ext cx="9115200" cy="31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         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Treatment Groups</a:t>
            </a: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                           </a:t>
            </a: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Block        Store           Commercial     Commercial     Commerci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Tahoma"/>
              </a:rPr>
              <a:t>Number   Patronage             A                   B                   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Heav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Medium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Low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      None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78720" y="1066680"/>
            <a:ext cx="125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7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1280" y="3022560"/>
            <a:ext cx="85215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786200" y="5016600"/>
            <a:ext cx="3111480" cy="18414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atin Square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s the researcher to statistically control two noninteracting external variables as well as to manipulate the independent variable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external or blocking variable is divided into an equal number of blocks, or levels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dependent variable is also divided into the same number of levels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Latin square is conceptualized as a table (see Table 7.5), with the rows and columns representing the blocks in the two external variables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levels of the independent variable are assigned to the cells in the table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ssignment rule is that each level of the independent variable should appear only once in each row and each column, as shown in Table 7.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atin Square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1202760" y="1066680"/>
            <a:ext cx="125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7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33520" y="1809720"/>
            <a:ext cx="8305200" cy="2991600"/>
            <a:chOff x="533520" y="1809720"/>
            <a:chExt cx="8305200" cy="2991600"/>
          </a:xfrm>
        </p:grpSpPr>
        <p:grpSp>
          <p:nvGrpSpPr>
            <p:cNvPr id="249" name=""/>
            <p:cNvGrpSpPr/>
            <p:nvPr/>
          </p:nvGrpSpPr>
          <p:grpSpPr>
            <a:xfrm>
              <a:off x="533520" y="1809720"/>
              <a:ext cx="8305200" cy="2991600"/>
              <a:chOff x="533520" y="1809720"/>
              <a:chExt cx="8305200" cy="2991600"/>
            </a:xfrm>
          </p:grpSpPr>
          <p:sp>
            <p:nvSpPr>
              <p:cNvPr id="250" name=""/>
              <p:cNvSpPr/>
              <p:nvPr/>
            </p:nvSpPr>
            <p:spPr>
              <a:xfrm>
                <a:off x="639360" y="1809720"/>
                <a:ext cx="8199360" cy="236232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33520" y="1968120"/>
                <a:ext cx="8229240" cy="2833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Interest in the Store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                                      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Store Patronage     High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Medium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ahoma"/>
                  </a:rPr>
                  <a:t>Low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    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Heavy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        B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     A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C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Medium 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                  C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     B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A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 </a:t>
                </a:r>
                <a:r>
                  <a:rPr b="0" lang="en-US" sz="2000" spc="-1" strike="noStrike">
                    <a:solidFill>
                      <a:srgbClr val="333399"/>
                    </a:solidFill>
                    <a:latin typeface="Tahoma"/>
                  </a:rPr>
                  <a:t>Low and none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        A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     C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	</a:t>
                </a:r>
                <a:r>
                  <a:rPr b="0" lang="en-US" sz="2000" spc="-1" strike="noStrike">
                    <a:solidFill>
                      <a:srgbClr val="1c1c1c"/>
                    </a:solidFill>
                    <a:latin typeface="Tahoma"/>
                  </a:rPr>
                  <a:t>B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2" name=""/>
            <p:cNvSpPr/>
            <p:nvPr/>
          </p:nvSpPr>
          <p:spPr>
            <a:xfrm>
              <a:off x="762120" y="2819520"/>
              <a:ext cx="7735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942160" y="4724280"/>
            <a:ext cx="3174840" cy="204480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938160" y="4495680"/>
            <a:ext cx="4356000" cy="2070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)  A Classification of Experimental De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) Pre-experimental Design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) True Experimental Desig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) Quasi Experimental De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3) Statistical Desig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4) Laboratory vs. Field Experi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) Experimental vs. Non-experimental Desig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) Limitations of Experi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7) Application: Test Mark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ial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s used to measure the effects of two or more independent variables at various levels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factorial design may also be conceptualized as a tabl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two-factor design, each level of one variable represents a row and each level of another variable represents a column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Factorial Desig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202760" y="1066680"/>
            <a:ext cx="125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7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2743200"/>
            <a:ext cx="9102600" cy="3192840"/>
            <a:chOff x="0" y="2743200"/>
            <a:chExt cx="9102600" cy="3192840"/>
          </a:xfrm>
        </p:grpSpPr>
        <p:sp>
          <p:nvSpPr>
            <p:cNvPr id="260" name=""/>
            <p:cNvSpPr/>
            <p:nvPr/>
          </p:nvSpPr>
          <p:spPr>
            <a:xfrm>
              <a:off x="23760" y="2743200"/>
              <a:ext cx="9055080" cy="3187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0" y="2921040"/>
              <a:ext cx="9102600" cy="3015000"/>
              <a:chOff x="0" y="2921040"/>
              <a:chExt cx="9102600" cy="3015000"/>
            </a:xfrm>
          </p:grpSpPr>
          <p:sp>
            <p:nvSpPr>
              <p:cNvPr id="262" name=""/>
              <p:cNvSpPr/>
              <p:nvPr/>
            </p:nvSpPr>
            <p:spPr>
              <a:xfrm>
                <a:off x="0" y="2921040"/>
                <a:ext cx="9102600" cy="301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      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Amount of Humor</a:t>
                </a:r>
                <a:r>
                  <a:rPr b="0" lang="en-US" sz="2400" spc="-1" strike="noStrike">
                    <a:solidFill>
                      <a:srgbClr val="003300"/>
                    </a:solidFill>
                    <a:latin typeface="Tahoma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Amount of Store             No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      Medium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       High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Information   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       Humor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      Humor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       Humor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      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Low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    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A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C 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Medium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D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333399"/>
                    </a:solidFill>
                    <a:latin typeface="Tahoma"/>
                  </a:rPr>
                  <a:t>Hig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G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H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34800" y="4125600"/>
                <a:ext cx="852192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433680" y="3363840"/>
                <a:ext cx="544824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6320" y="1346040"/>
            <a:ext cx="2120760" cy="200664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aboratory versus Field Experimen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88920" y="1447920"/>
            <a:ext cx="8902800" cy="4101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6680" y="1506600"/>
            <a:ext cx="888984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ctor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Laboratory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nvironmen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ific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l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ntrol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Reactive Error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Demand Artifacts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High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Internal Validity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High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xternal Validity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Tim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Short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Number of Units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rge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Ease of Implementation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High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                        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ost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65fb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1c1c1c"/>
                </a:solidFill>
                <a:latin typeface="Tahoma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26440" y="977760"/>
            <a:ext cx="125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7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040" y="2057400"/>
            <a:ext cx="84456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807240" y="3657600"/>
            <a:ext cx="2349360" cy="27050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6934320" y="2209680"/>
            <a:ext cx="1384200" cy="13845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36520" y="251460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6520" y="403848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6520" y="434340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520" y="464832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6520" y="495288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6520" y="312408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6520" y="342900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6520" y="373392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36520" y="281952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12840" y="5257800"/>
            <a:ext cx="6462720" cy="0"/>
          </a:xfrm>
          <a:prstGeom prst="line">
            <a:avLst/>
          </a:prstGeom>
          <a:ln w="126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imitations of Experiment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ments can be time consuming, particularly if the researcher is interested in measuring the long-term effect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ments are often expensive.  The requirements of experimental group, control group, and multiple measurements significantly add to the cost of researc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ments can be difficult to administer.  It may be impossible to control for the effects of the extraneous variables, particularly in a field environment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etitors may deliberately contaminate the results of a field experim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14400" y="1378080"/>
            <a:ext cx="7835760" cy="516888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365120" y="1828800"/>
            <a:ext cx="6934320" cy="4254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09600" y="1378080"/>
            <a:ext cx="16794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Competi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8305920" y="1441440"/>
            <a:ext cx="457200" cy="33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 flipV="1">
            <a:off x="907920" y="137160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77520" y="6102360"/>
            <a:ext cx="346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Overall Marketing Strateg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8299440" y="6095880"/>
            <a:ext cx="45720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914400" y="6165720"/>
            <a:ext cx="457200" cy="3304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-622800" y="3764160"/>
            <a:ext cx="34884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Socio-Cultural Environmen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7385760" y="3228120"/>
            <a:ext cx="2199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Tahoma"/>
              </a:rPr>
              <a:t>Need for Secrec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3052080" y="1981080"/>
            <a:ext cx="3595320" cy="957240"/>
            <a:chOff x="3052080" y="1981080"/>
            <a:chExt cx="3595320" cy="957240"/>
          </a:xfrm>
        </p:grpSpPr>
        <p:sp>
          <p:nvSpPr>
            <p:cNvPr id="296" name=""/>
            <p:cNvSpPr/>
            <p:nvPr/>
          </p:nvSpPr>
          <p:spPr>
            <a:xfrm>
              <a:off x="3124080" y="1987560"/>
              <a:ext cx="3340080" cy="9018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52080" y="1981080"/>
              <a:ext cx="35953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New Product Developme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Research on Existing Produc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Research on other Element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4641840" y="29653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124080" y="3206880"/>
            <a:ext cx="3340080" cy="444240"/>
            <a:chOff x="3124080" y="3206880"/>
            <a:chExt cx="3340080" cy="444240"/>
          </a:xfrm>
        </p:grpSpPr>
        <p:sp>
          <p:nvSpPr>
            <p:cNvPr id="300" name=""/>
            <p:cNvSpPr/>
            <p:nvPr/>
          </p:nvSpPr>
          <p:spPr>
            <a:xfrm>
              <a:off x="3124080" y="3206880"/>
              <a:ext cx="3340080" cy="44424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90760" y="3206880"/>
              <a:ext cx="30801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Simulated Test Marketi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3124080" y="3968640"/>
            <a:ext cx="3340080" cy="444600"/>
            <a:chOff x="3124080" y="3968640"/>
            <a:chExt cx="3340080" cy="444600"/>
          </a:xfrm>
        </p:grpSpPr>
        <p:sp>
          <p:nvSpPr>
            <p:cNvPr id="303" name=""/>
            <p:cNvSpPr/>
            <p:nvPr/>
          </p:nvSpPr>
          <p:spPr>
            <a:xfrm>
              <a:off x="3124080" y="3968640"/>
              <a:ext cx="3340080" cy="4446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220560" y="3968640"/>
              <a:ext cx="31305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Controlled Test Marketing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641840" y="372744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41840" y="448956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00400" y="4730760"/>
            <a:ext cx="3340080" cy="44460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19480" y="4730760"/>
            <a:ext cx="29764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tandard Test Marketing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00400" y="5492880"/>
            <a:ext cx="3340080" cy="44424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440880" y="5492880"/>
            <a:ext cx="2627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National Introduc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41840" y="525132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3720" y="2432160"/>
            <a:ext cx="0" cy="3225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663560" y="5715000"/>
            <a:ext cx="1473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63560" y="342900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63560" y="419112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0120" y="2292480"/>
            <a:ext cx="444240" cy="334008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6620760" y="3684960"/>
            <a:ext cx="25009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top and Reevaluat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40480" y="2514600"/>
            <a:ext cx="101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540480" y="3429000"/>
            <a:ext cx="101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540480" y="4191120"/>
            <a:ext cx="1015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16800" y="4952880"/>
            <a:ext cx="939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887880" y="2139840"/>
            <a:ext cx="516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-v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87880" y="2978280"/>
            <a:ext cx="516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-v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87880" y="3816360"/>
            <a:ext cx="516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-v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87880" y="4502160"/>
            <a:ext cx="516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-v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505880" y="2060640"/>
            <a:ext cx="1726920" cy="682920"/>
            <a:chOff x="1505880" y="2060640"/>
            <a:chExt cx="1726920" cy="682920"/>
          </a:xfrm>
        </p:grpSpPr>
        <p:sp>
          <p:nvSpPr>
            <p:cNvPr id="327" name=""/>
            <p:cNvSpPr/>
            <p:nvPr/>
          </p:nvSpPr>
          <p:spPr>
            <a:xfrm>
              <a:off x="1868400" y="2060640"/>
              <a:ext cx="11415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Very +v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05880" y="2365200"/>
              <a:ext cx="17269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Other Facto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505880" y="3051000"/>
            <a:ext cx="1726920" cy="683280"/>
            <a:chOff x="1505880" y="3051000"/>
            <a:chExt cx="1726920" cy="683280"/>
          </a:xfrm>
        </p:grpSpPr>
        <p:sp>
          <p:nvSpPr>
            <p:cNvPr id="330" name=""/>
            <p:cNvSpPr/>
            <p:nvPr/>
          </p:nvSpPr>
          <p:spPr>
            <a:xfrm>
              <a:off x="1868400" y="3051000"/>
              <a:ext cx="11415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Very +v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505880" y="3355920"/>
              <a:ext cx="17269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Other Facto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521720" y="3809880"/>
            <a:ext cx="1726920" cy="682920"/>
            <a:chOff x="1521720" y="3809880"/>
            <a:chExt cx="1726920" cy="682920"/>
          </a:xfrm>
        </p:grpSpPr>
        <p:sp>
          <p:nvSpPr>
            <p:cNvPr id="333" name=""/>
            <p:cNvSpPr/>
            <p:nvPr/>
          </p:nvSpPr>
          <p:spPr>
            <a:xfrm>
              <a:off x="1884240" y="3809880"/>
              <a:ext cx="114156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Very +v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521720" y="4114440"/>
              <a:ext cx="17269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Other Factor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lecting a Test-Marketing Strateg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6" name=""/>
          <p:cNvSpPr/>
          <p:nvPr/>
        </p:nvSpPr>
        <p:spPr>
          <a:xfrm>
            <a:off x="1676520" y="2438280"/>
            <a:ext cx="1396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iteria for the Selection of Test Marke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82440" y="1682640"/>
            <a:ext cx="8979120" cy="4565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5000" y="1735200"/>
            <a:ext cx="8874000" cy="46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Test Markets should have the following qualities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large enough to produce meaningful projections. They                                     should contain at least 2% of the potential actual popu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representative demographical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representative with respect to product consumption behav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representative with respect to media usa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representative with respect to competi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relatively isolated in terms of media and physical distribu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normal historical development in the produc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marketing research and auditing service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5000"/>
              </a:lnSpc>
              <a:buClr>
                <a:srgbClr val="000000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be over-tes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)  Determining a Test Marketing Strateg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)  International Marketing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)  Ethics in Marketing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1)  Internet and Comput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)  Focus on Bur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)  Sum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)  Key Terms and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cept of Causa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255320"/>
            <a:ext cx="7888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tatement such as "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caus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 will have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meaning to an ordinary person and to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ientis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Ordinary Meaning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Scientific Mea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________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only cause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only one of a number of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causes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must always lead to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ccurrence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makes th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deterministi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ccurrence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more proba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)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probabilistic cause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possible to prove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 can never prove that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cause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  At best, we ca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fer that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cause of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____________________________________________________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nditions for Causal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comitant vari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extent to which a cause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and an effect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occur together or vary together in the way predicted by the hypothesis under considera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ime order of occurr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dition states that the causing event must occur either before or simultaneously with the effect; it cannot occur afterward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sence of other possible causal fact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means that the factor or variable being investigated should be the only possible causal explana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Evidence of Concomitant Variation between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rchase of Fashion Clothing and Edu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743200" y="2577960"/>
            <a:ext cx="3797280" cy="2273040"/>
            <a:chOff x="2743200" y="2577960"/>
            <a:chExt cx="3797280" cy="2273040"/>
          </a:xfrm>
        </p:grpSpPr>
        <p:sp>
          <p:nvSpPr>
            <p:cNvPr id="114" name=""/>
            <p:cNvSpPr/>
            <p:nvPr/>
          </p:nvSpPr>
          <p:spPr>
            <a:xfrm>
              <a:off x="2743200" y="2577960"/>
              <a:ext cx="3797280" cy="2273040"/>
            </a:xfrm>
            <a:prstGeom prst="rect">
              <a:avLst/>
            </a:prstGeom>
            <a:solidFill>
              <a:srgbClr val="ccec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59400" y="2641320"/>
              <a:ext cx="0" cy="21589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836360" y="2895480"/>
            <a:ext cx="74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84280" y="2133720"/>
            <a:ext cx="7498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01280" y="2133720"/>
            <a:ext cx="669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56680" y="2895480"/>
            <a:ext cx="134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63 (73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61800" y="2895480"/>
            <a:ext cx="134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37 (27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56680" y="3962520"/>
            <a:ext cx="134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2 (6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785480" y="3962520"/>
            <a:ext cx="134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8 (36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889360" y="3568680"/>
            <a:ext cx="35305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95240" y="1577880"/>
            <a:ext cx="394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rchase of Fashion Clothing,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1066680"/>
            <a:ext cx="135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53080" y="4483080"/>
            <a:ext cx="2514600" cy="2209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688080" y="2865600"/>
            <a:ext cx="1940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0 (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688080" y="3932280"/>
            <a:ext cx="1940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00 (100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85800" y="4546440"/>
            <a:ext cx="2755800" cy="2311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805400" y="3943440"/>
            <a:ext cx="669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588600" y="3340440"/>
            <a:ext cx="1784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Tahoma"/>
              </a:rPr>
              <a:t>Education, X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urchase of Fashion Clothing By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Income and Educ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073160" y="3282840"/>
            <a:ext cx="2425680" cy="1282680"/>
            <a:chOff x="1073160" y="3282840"/>
            <a:chExt cx="2425680" cy="1282680"/>
          </a:xfrm>
        </p:grpSpPr>
        <p:grpSp>
          <p:nvGrpSpPr>
            <p:cNvPr id="134" name=""/>
            <p:cNvGrpSpPr/>
            <p:nvPr/>
          </p:nvGrpSpPr>
          <p:grpSpPr>
            <a:xfrm>
              <a:off x="1073160" y="3282840"/>
              <a:ext cx="2425680" cy="1282680"/>
              <a:chOff x="1073160" y="3282840"/>
              <a:chExt cx="2425680" cy="1282680"/>
            </a:xfrm>
          </p:grpSpPr>
          <p:sp>
            <p:nvSpPr>
              <p:cNvPr id="135" name=""/>
              <p:cNvSpPr/>
              <p:nvPr/>
            </p:nvSpPr>
            <p:spPr>
              <a:xfrm>
                <a:off x="1073160" y="3282840"/>
                <a:ext cx="2425680" cy="128268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232000" y="3346560"/>
                <a:ext cx="0" cy="1168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136520" y="392436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411920" y="1994040"/>
            <a:ext cx="1258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Tahoma"/>
              </a:rPr>
              <a:t>Low Inc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62840" y="2298600"/>
            <a:ext cx="100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52440" y="2879640"/>
            <a:ext cx="603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30520" y="2879640"/>
            <a:ext cx="54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8040" y="3413160"/>
            <a:ext cx="603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44520" y="4098960"/>
            <a:ext cx="54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-515520" y="3607920"/>
            <a:ext cx="1422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46720" y="3413160"/>
            <a:ext cx="112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00 (10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46720" y="4022640"/>
            <a:ext cx="1121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00 (10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510040" y="333684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510040" y="394668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03040" y="3359160"/>
            <a:ext cx="101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22 (61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03040" y="3968640"/>
            <a:ext cx="101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71 (57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92920" y="3359160"/>
            <a:ext cx="91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78 (39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22360" y="3968640"/>
            <a:ext cx="101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29 (43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6102360" y="3282840"/>
            <a:ext cx="2425680" cy="1206720"/>
            <a:chOff x="6102360" y="3282840"/>
            <a:chExt cx="2425680" cy="1206720"/>
          </a:xfrm>
        </p:grpSpPr>
        <p:grpSp>
          <p:nvGrpSpPr>
            <p:cNvPr id="154" name=""/>
            <p:cNvGrpSpPr/>
            <p:nvPr/>
          </p:nvGrpSpPr>
          <p:grpSpPr>
            <a:xfrm>
              <a:off x="6102360" y="3282840"/>
              <a:ext cx="2425680" cy="1206720"/>
              <a:chOff x="6102360" y="3282840"/>
              <a:chExt cx="2425680" cy="1206720"/>
            </a:xfrm>
          </p:grpSpPr>
          <p:sp>
            <p:nvSpPr>
              <p:cNvPr id="155" name=""/>
              <p:cNvSpPr/>
              <p:nvPr/>
            </p:nvSpPr>
            <p:spPr>
              <a:xfrm>
                <a:off x="6102360" y="3282840"/>
                <a:ext cx="2425680" cy="120672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261200" y="3346560"/>
                <a:ext cx="0" cy="109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6165720" y="3886200"/>
              <a:ext cx="2311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518520" y="1994040"/>
            <a:ext cx="1318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Tahoma"/>
              </a:rPr>
              <a:t>High Inc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42800" y="2298600"/>
            <a:ext cx="1001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Purch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05320" y="2803680"/>
            <a:ext cx="603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67240" y="3336840"/>
            <a:ext cx="603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580160" y="2825640"/>
            <a:ext cx="825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73720" y="4022640"/>
            <a:ext cx="544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ahoma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32240" y="3359160"/>
            <a:ext cx="101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241 (8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32240" y="3968640"/>
            <a:ext cx="101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51 (76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22120" y="3359160"/>
            <a:ext cx="91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59 (20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22120" y="3968640"/>
            <a:ext cx="917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49 (24%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4720680" y="3734280"/>
            <a:ext cx="1071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6095880" y="4572000"/>
            <a:ext cx="2692440" cy="2095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3429000" y="1066680"/>
            <a:ext cx="2451240" cy="207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380880" y="4495680"/>
            <a:ext cx="2756160" cy="2070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efinitions and Concep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ependent 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re variables or alternatives that are manipulated and whose effects are measured and compared, e.g., price level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st uni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re individuals, organizations, or other entities whose response to the independent variables or treatments is being examined, e.g., consumers or store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pendent 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re the variables which measure the effect of the independent variables on the test units, e.g., sales, profits, and market share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neous 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are all variables other than the independent variables that affect the response of the test units, e.g., store size, store location, and competitive effort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9:30:27Z</dcterms:created>
  <dc:creator>dcom</dc:creator>
  <dc:description/>
  <dc:language>en-US</dc:language>
  <cp:lastModifiedBy>Pearson Education</cp:lastModifiedBy>
  <dcterms:modified xsi:type="dcterms:W3CDTF">2003-07-18T12:36:13Z</dcterms:modified>
  <cp:revision>35</cp:revision>
  <dc:subject/>
  <dc:title>Chapter Three</dc:title>
</cp:coreProperties>
</file>