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F1E9-42BE-49C1-AA29-CEA6B62A2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8A7E-031C-40FE-BD0C-B8C21CFAA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awarding pay raises or providing verbal praise for good perform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9170-27F3-4A43-B1BF-6546D098E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A06D-2AC4-46A4-920D-118614A95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3B17-DA86-49F3-87D7-9FA587B9F98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ummary of Managerial Power—let’s first review Position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3798-D6BE-455A-A038-33AE63506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B20B-D190-4AF7-A259-FB5F3289F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D88A-4CE2-4736-87F6-5FD098E25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50C1-BD52-4FE1-B1FA-E79FAA1FB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behaviors are independent; managers can be high or low on both behavi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F051-1F46-41BB-B6D7-4B8C68192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4D5F-34B7-40FE-8E0E-1722C94AB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947D-AD60-4E5F-8E5E-E54528882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69CE-B327-481B-BBAB-7F1697B98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5B50-A64C-4BF2-B90A-24C32B822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A2BA-3F3B-4020-A562-6CB7301D1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rect answer is “B” – leader. See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81ED-3C63-4BA5-92C3-3955994B5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ers may delegate and support subordinates, while others are very authoritari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77EF-794C-4224-827B-6365BCC2B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9F71-79EC-458D-897F-F9162BBCD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the power to hire or fire employ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3319-2E2E-473F-9E00-738B568B9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17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1EB1-DEB5-4D33-A421-67E8846A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17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225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0631-795B-4B67-9AB5-736CF508F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4124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10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17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4124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10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77D4-28C0-480E-B2DD-CFB9F8FF5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5345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17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A132-BDA4-4AAD-875B-15EAA9F7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225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17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17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17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225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4124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10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17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4124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10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58C0-0FC9-41D9-AD05-FCBA43F0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5345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617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8225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617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617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617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8225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44124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10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617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44124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1210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8CE0-7E2D-4C21-848B-E6D89BEE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35F5-9C50-4A46-9AC1-8939D20A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5345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8768-63FE-4C43-9DB2-4790D309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17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F709-4A07-483B-8751-6023699C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225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6610-1D20-4752-B735-B4BC94E0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17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64D3-C64D-4E32-B25A-3D2800AA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3"/>
          <p:cNvSpPr/>
          <p:nvPr/>
        </p:nvSpPr>
        <p:spPr>
          <a:xfrm>
            <a:off x="609480" y="1371600"/>
            <a:ext cx="853452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6c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934320" y="64576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-</a:t>
            </a:r>
            <a:fld id="{96CCC3E0-6E4C-41ED-9CBC-EF33486FB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0" y="1371600"/>
            <a:ext cx="609480" cy="2057400"/>
          </a:xfrm>
          <a:prstGeom prst="rect">
            <a:avLst/>
          </a:prstGeom>
          <a:solidFill>
            <a:srgbClr val="d6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0" y="3429000"/>
            <a:ext cx="609480" cy="3429000"/>
          </a:xfrm>
          <a:prstGeom prst="rect">
            <a:avLst/>
          </a:prstGeom>
          <a:solidFill>
            <a:srgbClr val="00a4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488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488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3"/>
          <p:cNvSpPr/>
          <p:nvPr/>
        </p:nvSpPr>
        <p:spPr>
          <a:xfrm>
            <a:off x="609480" y="1371600"/>
            <a:ext cx="853452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6c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0" y="1371600"/>
            <a:ext cx="609480" cy="2057400"/>
          </a:xfrm>
          <a:prstGeom prst="rect">
            <a:avLst/>
          </a:prstGeom>
          <a:solidFill>
            <a:srgbClr val="d6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0" y="3429000"/>
            <a:ext cx="609480" cy="3429000"/>
          </a:xfrm>
          <a:prstGeom prst="rect">
            <a:avLst/>
          </a:prstGeom>
          <a:solidFill>
            <a:srgbClr val="00a4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488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762120"/>
            <a:ext cx="9144000" cy="106668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971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228600" y="6400800"/>
            <a:ext cx="363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McGraw-Hill/Irw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Contemporary Management, 5/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4811400" y="6629040"/>
            <a:ext cx="4197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Book Antiqua"/>
              </a:rPr>
              <a:t>Copyright © 2008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7"/>
          <p:cNvSpPr/>
          <p:nvPr/>
        </p:nvSpPr>
        <p:spPr>
          <a:xfrm>
            <a:off x="0" y="5486400"/>
            <a:ext cx="9144000" cy="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8"/>
          <p:cNvSpPr/>
          <p:nvPr/>
        </p:nvSpPr>
        <p:spPr>
          <a:xfrm>
            <a:off x="4267080" y="5486400"/>
            <a:ext cx="914400" cy="457200"/>
          </a:xfrm>
          <a:prstGeom prst="flowChartMerge">
            <a:avLst/>
          </a:prstGeom>
          <a:solidFill>
            <a:srgbClr val="800000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9"/>
          <p:cNvSpPr/>
          <p:nvPr/>
        </p:nvSpPr>
        <p:spPr>
          <a:xfrm>
            <a:off x="304920" y="304920"/>
            <a:ext cx="1752480" cy="1904760"/>
          </a:xfrm>
          <a:prstGeom prst="ellipse">
            <a:avLst/>
          </a:prstGeom>
          <a:solidFill>
            <a:srgbClr val="33cccc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905120" y="762120"/>
            <a:ext cx="5562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chapter 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wer: The Key to Leadersh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ward Po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bility of a manager to give or withhold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ible and intangible rewa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managers use reward power to signal to employees that they are doing a good jo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6477120" y="4549680"/>
            <a:ext cx="2286000" cy="2059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wer: The Key to Leadersh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ercive Po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bility of a manager to punish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c4884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l w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4884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 cuts, and dismiss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iring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c4884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ed in effectiveness and application; can have serious negative side eff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wer: The Key to Leadersh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ert Po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that is based on special knowledge, skills, and expertise that the leader posses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ds to be used in a guiding or coaching mann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wer: The Key to Leadersh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erent Power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وة الاقتداء والإعجاب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that comes from coworkers’ respect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loyal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essed by managers who are likable and whom subordinates wish to use as a role model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4"/>
          <p:cNvSpPr/>
          <p:nvPr/>
        </p:nvSpPr>
        <p:spPr>
          <a:xfrm>
            <a:off x="6934320" y="64580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ACAC-0FF7-41EC-9B9F-B99B1975D49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5868720" y="3429000"/>
            <a:ext cx="3543840" cy="45828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صادرة قوة القائد الرسم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5724360" y="3429000"/>
            <a:ext cx="487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611280" y="3357720"/>
            <a:ext cx="2232000" cy="8240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وة المركز الوظيف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3492360" y="3429000"/>
            <a:ext cx="2095560" cy="45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قوة الشخص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2988720" y="3357720"/>
            <a:ext cx="442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826920" y="4005360"/>
            <a:ext cx="201456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وة المكافأ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JO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وة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إكرا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قوة الشرع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3564000" y="4221000"/>
            <a:ext cx="19447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وة الخب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قوة المرجع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09400" y="399960"/>
            <a:ext cx="8125200" cy="96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urces of Power and Influen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88520" y="87480"/>
            <a:ext cx="7929720" cy="119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mpowerment: An Component i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dern Manage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0592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owerment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تمكين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cess of giving employees at all levels in the organization the authority to make decisions, be responsible for their outcomes, improve quality, and cut costs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mpowerment: An Component i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dern Manage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773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88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owerment increases a manager’s ability to get things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88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owerment increases workers’ involvement, motivation, and commi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88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owerment gives managers more time to concentrate on their critical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adership Models </a:t>
            </a:r>
            <a:r>
              <a:rPr b="1" lang="ar-JO" sz="3600" spc="-1" strike="noStrike">
                <a:solidFill>
                  <a:srgbClr val="ffff00"/>
                </a:solidFill>
                <a:latin typeface="Arial"/>
              </a:rPr>
              <a:t>النظريات القيادية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Trait Model</a:t>
            </a: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نظريات السمات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empt to identify personal characteristics that cause for effective leadershi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shows that certain personal characteristics do appear to be connected to effective leadershi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“traits” are the result of skills and knowledge and effective leaders do not necessarily possess all of these trai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adership Model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77600" y="1599840"/>
            <a:ext cx="7910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ehavioral Model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نظريات السلوكي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es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basic typ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behavior that many leaders engaged in to influence their subordin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100000"/>
              </a:lnSpc>
              <a:spcBef>
                <a:spcPts val="60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فترض مؤيدوا هذه النظريات أن أنشطة القائد وأفعالة وتصرفاته أثناء العمل تشكل أسلوباً أو نمطاً عاماً لقيادته وهي التي تحدد فاعليته وليست سماته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adership Model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ehavioral Model</a:t>
            </a: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1. Consideration</a:t>
            </a:r>
            <a:r>
              <a:rPr b="1" i="1" lang="ar-S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leaders show subordinates they trust, respect, and care about th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agers look out for the well-being of their subordin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what they can to help subordinates feel good and enjoy the work they per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Nature of Leadersh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by which a person u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uence over others and inspires, motivates and directs their activities to achieve group or organizational go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adership Model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ehavioral Model</a:t>
            </a: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Initiating structu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ers take steps to make sure that work gets done, subordinates perform their work acceptably, and the organization is efficient and effec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s assign tasks to groups and let subordinates know what is expected of th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ingency Models of Leadership</a:t>
            </a:r>
            <a:r>
              <a:rPr b="1" lang="ar-JO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JO" sz="2400" spc="-1" strike="noStrike">
                <a:solidFill>
                  <a:srgbClr val="ffff00"/>
                </a:solidFill>
                <a:latin typeface="Arial"/>
              </a:rPr>
              <a:t>النظريات الموقفية أو الظرفية</a:t>
            </a:r>
            <a:r>
              <a:rPr b="1" lang="ar-JO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Contingency Mode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makes a manager an effective leader in one situation is not necessarily what that manager needs to be equally effective in another situation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ther or not a manager is an effective leader is the result of the relationship between what the manager  is like, what he does, and the situation in  which leadership  takes pl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ingency Models of Leadership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Fiedler’s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leadership is depending on both the characteristics of the leader and of the situation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er style is the continuing, characteristic approach to leadership that a manager uses and does not readily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quickly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ingency Models of Leadersh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Fiedler’s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ship-oriented styl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وجه نحو العلاقات</a:t>
            </a:r>
            <a:r>
              <a:rPr b="0" lang="ar-J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العاملين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5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ers concerned with developing good relations with their subordinates and to be liked by th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sk-oriented styl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ar-JO" sz="18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لتوجه نحو المهام</a:t>
            </a:r>
            <a:r>
              <a:rPr b="0" lang="ar-JO" sz="1800" spc="-1" strike="noStrike">
                <a:solidFill>
                  <a:srgbClr val="000000"/>
                </a:solidFill>
                <a:latin typeface="Arial"/>
              </a:rPr>
              <a:t> / الانتاج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5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ers whose primary concern is to ensure that subordinates perform at a high level so the job gets do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use’s Path-Goal Theo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ntingency model of leadership proposing that effective leaders can motivate subordinates to achiev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97080">
              <a:lnSpc>
                <a:spcPct val="90000"/>
              </a:lnSpc>
              <a:spcBef>
                <a:spcPts val="700"/>
              </a:spcBef>
              <a:buClr>
                <a:srgbClr val="c4884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ly identifying the outcomes that subordinates  are trying to obtain from their jo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97080">
              <a:lnSpc>
                <a:spcPct val="90000"/>
              </a:lnSpc>
              <a:spcBef>
                <a:spcPts val="700"/>
              </a:spcBef>
              <a:buClr>
                <a:srgbClr val="c4884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warding subordinates with these outcomes for high-performance and attainment of work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97080">
              <a:lnSpc>
                <a:spcPct val="90000"/>
              </a:lnSpc>
              <a:spcBef>
                <a:spcPts val="700"/>
              </a:spcBef>
              <a:buClr>
                <a:srgbClr val="c4884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rifying the paths leading to the attainment of work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tivating with Path-Go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2105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88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h-Goal identifies four leadership behavi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rective behavio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et goals, assign tasks, show how to do th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pportive behavi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look out for the worker’s best inter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rticipative behavior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 subordinates a say in matters that affect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hievement-oriented behavior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ing very challenging goals, believing in worker’s abil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tivating with Path-Go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8483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behavior to be used depends on the nature of the subordinates and the kind of work they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"/>
          <p:cNvPicPr/>
          <p:nvPr/>
        </p:nvPicPr>
        <p:blipFill>
          <a:blip r:embed="rId1"/>
          <a:stretch/>
        </p:blipFill>
        <p:spPr>
          <a:xfrm>
            <a:off x="6781680" y="4952880"/>
            <a:ext cx="2133720" cy="156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Question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n individual who is able to exert influence over other people to help achieve group or organizational goa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4884c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4884c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4884c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4884c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Nature of Leadersh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88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ndividual who is able to exert influence over other people to help achieve group or organizational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2438280" cy="1803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Nature of Leadersh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182080" cy="45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sonal Leadership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pecific ways in which a manager chooses to influence others shapes the way that manager approaches the other principal tasks of manag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hallenge is for mana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all levels to develop a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personal managem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y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Nature of Leadersh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inction between managers and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s establish and implement procedures to ensure smooth function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erform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ers look to the future and char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lan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ur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ath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adership Across Cultur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eadership styles may vary among different countries or cultur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opean managers tend to be more people-oriented than American or Japanese mana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panese managers are group-oriented, while U.S managers focuses more on profita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urces of Managerial Pow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tretch/>
        </p:blipFill>
        <p:spPr>
          <a:xfrm>
            <a:off x="152280" y="1308240"/>
            <a:ext cx="8622000" cy="5321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wer: The Key to Leadersh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gitimate Power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88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uthority that a manager has by virtu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nefit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his or her position in the fi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4-11-01T16:15:44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