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E8BC-600A-44C0-9D40-1131E8922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7AB5-2765-405C-BCBE-6FCA223F4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awarding pay raises or providing verbal praise for good 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657A-2127-47F0-A57D-7BC6E3E63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B505-C112-4A70-8284-1980F0CBD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F0AC-C8FC-4B00-A417-59D8898C454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ummary of Managerial Power—let’s first review Position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F648-D494-480E-B6C2-43BBA265B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E55E-3A12-458C-8771-E11003400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9A37-72C5-4669-9B14-96079A07A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7726-4080-4CC5-9C2A-59FDF02CC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behaviors are independent; managers can be high or low on both behavi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E610-BC56-4841-8F39-EE58725F6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BFCB-21A4-4FD2-8ED3-96A40F955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15A1-164E-41BE-8138-7E321F098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4031-00B2-42AD-AE94-F06CDB0A8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61BA-8936-4F00-85F3-5CD94CA86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B9FC-FA0D-4541-A472-B76B1814C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ct answer is “B” – leader. Se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7C26-4847-4566-A3B8-DBD24CBF6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 may delegate and support subordinates, while others are very authoritari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FAF4-5356-42B4-A595-2BBE2B121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BD3A-F643-4864-B9DD-64CCDF2CA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the power to hire or fire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6E1-9927-4C30-B451-C9A6A08B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6FD-F8DB-4C4E-AA98-A3F89345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F14-5747-43FD-B42E-43565F29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2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17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2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10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D94-34EC-4E73-9919-34E0CA8A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534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628-037A-48AA-86CD-98988CDA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412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412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10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5C5-5EE8-42B9-BEE4-A62C03D6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534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412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617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412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210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435-9548-44A0-9C73-2DB98B0C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B10-AA50-404F-B84C-688034F7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534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2E7-3A73-48CF-90F7-B1628062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A5B-AC98-4203-B87F-5FCDCCDF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907-CEAF-4142-8E47-8806B6D5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20B-C93A-47F1-8230-AB727423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609480" y="1371600"/>
            <a:ext cx="853452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6c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934320" y="6457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-</a:t>
            </a:r>
            <a:fld id="{FB06C713-2A24-48F5-92E9-BE41AD9EB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1371600"/>
            <a:ext cx="609480" cy="2057400"/>
          </a:xfrm>
          <a:prstGeom prst="rect">
            <a:avLst/>
          </a:prstGeom>
          <a:solidFill>
            <a:srgbClr val="d6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3429000"/>
            <a:ext cx="609480" cy="3429000"/>
          </a:xfrm>
          <a:prstGeom prst="rect">
            <a:avLst/>
          </a:prstGeom>
          <a:solidFill>
            <a:srgbClr val="00a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88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88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3"/>
          <p:cNvSpPr/>
          <p:nvPr/>
        </p:nvSpPr>
        <p:spPr>
          <a:xfrm>
            <a:off x="609480" y="1371600"/>
            <a:ext cx="853452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6c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1371600"/>
            <a:ext cx="609480" cy="2057400"/>
          </a:xfrm>
          <a:prstGeom prst="rect">
            <a:avLst/>
          </a:prstGeom>
          <a:solidFill>
            <a:srgbClr val="d6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0" y="3429000"/>
            <a:ext cx="609480" cy="3429000"/>
          </a:xfrm>
          <a:prstGeom prst="rect">
            <a:avLst/>
          </a:prstGeom>
          <a:solidFill>
            <a:srgbClr val="00a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88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762120"/>
            <a:ext cx="9144000" cy="106668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6400800"/>
            <a:ext cx="363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Contemporary Management, 5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811400" y="6629040"/>
            <a:ext cx="419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Book Antiqua"/>
              </a:rPr>
              <a:t>Copyright © 2008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0" y="5486400"/>
            <a:ext cx="91440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4267080" y="5486400"/>
            <a:ext cx="914400" cy="457200"/>
          </a:xfrm>
          <a:prstGeom prst="flowChartMerge">
            <a:avLst/>
          </a:prstGeom>
          <a:solidFill>
            <a:srgbClr val="80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304920" y="304920"/>
            <a:ext cx="1752480" cy="1904760"/>
          </a:xfrm>
          <a:prstGeom prst="ellipse">
            <a:avLst/>
          </a:prstGeom>
          <a:solidFill>
            <a:srgbClr val="33ccc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905120" y="762120"/>
            <a:ext cx="5562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chapter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ward Po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a manager to give or withhold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ible and intangible rew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managers use reward power to signal to employees that they are doing a good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6477120" y="4549680"/>
            <a:ext cx="2286000" cy="205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rcive Po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a manager to punish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w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4884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cuts, and dismiss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r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in effectiveness and application; can have serious negative side eff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t Po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that is based on special knowledge, skills, and expertise that the leader poss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ds to be used in a guiding or coaching man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t Power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وة الاقتداء والإعجا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that comes from coworkers’ respect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loya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essed by managers who are likable and whom subordinates wish to use as a role mode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934320" y="6458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29B7-B156-4E51-AE4B-DBABDCF860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5868720" y="3429000"/>
            <a:ext cx="3543840" cy="4582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ادرة قوة القائد الرس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5724360" y="3429000"/>
            <a:ext cx="487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3357720"/>
            <a:ext cx="2232000" cy="824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وة المركز الوظي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492360" y="3429000"/>
            <a:ext cx="2095560" cy="45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قوة 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988720" y="3357720"/>
            <a:ext cx="44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826920" y="4005360"/>
            <a:ext cx="20145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وة المكافأ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و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إكرا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وة الشر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564000" y="4221000"/>
            <a:ext cx="1944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وة الخب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وة المرج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09400" y="399960"/>
            <a:ext cx="8125200" cy="9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urces of Power and Influe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88520" y="87480"/>
            <a:ext cx="792972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powerment: An Component i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ern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owerment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مكين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 of giving employees at all levels in the organization the authority to make decisions, be responsible for their outcomes, improve quality, and cut costs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powerment: An Component i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ern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ment increases a manager’s ability to get thing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ment increases workers’ involvement, motivation, and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ment gives managers more time to concentrate on their critical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ership Models </a:t>
            </a:r>
            <a:r>
              <a:rPr b="1" lang="ar-JO" sz="3600" spc="-1" strike="noStrike">
                <a:solidFill>
                  <a:srgbClr val="ffff00"/>
                </a:solidFill>
                <a:latin typeface="Arial"/>
              </a:rPr>
              <a:t>النظريات القيادي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rait Model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ظريات السم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 to identify personal characteristics that cause for effective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shows that certain personal characteristics do appear to be connected to effective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“traits” are the result of skills and knowledge and effective leaders do not necessarily possess all of these tra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ership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77600" y="1599840"/>
            <a:ext cx="7910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havioral Model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نظريات السلوك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s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basic typ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behavior that many leaders engaged in to influence their subordi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100000"/>
              </a:lnSpc>
              <a:spcBef>
                <a:spcPts val="60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ترض مؤيدوا هذه النظريات أن أنشطة القائد وأفعالة وتصرفاته أثناء العمل تشكل أسلوباً أو نمطاً عاماً لقيادته وهي التي تحدد فاعليته وليست سماته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ership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havioral Model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1. Consideration</a:t>
            </a:r>
            <a:r>
              <a:rPr b="1" i="1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eaders show subordinates they trust, respect, and care about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rs look out for the well-being of their subordin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what they can to help subordinates feel good and enjoy the work they per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Nature of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by which a person u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e over others and inspires, motivates and directs their activities to achieve group or organizational 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ership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havioral Model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nitiating struct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 take steps to make sure that work gets done, subordinates perform their work acceptably, and the organization is efficient and eff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s assign tasks to groups and let subordinates know what is expected of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ingency Models of Leadership</a:t>
            </a:r>
            <a:r>
              <a:rPr b="1" lang="ar-JO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JO" sz="2400" spc="-1" strike="noStrike">
                <a:solidFill>
                  <a:srgbClr val="ffff00"/>
                </a:solidFill>
                <a:latin typeface="Arial"/>
              </a:rPr>
              <a:t>النظريات الموقفية أو الظرفية</a:t>
            </a:r>
            <a:r>
              <a:rPr b="1" lang="ar-JO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ntingency Mod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makes a manager an effective leader in one situation is not necessarily what that manager needs to be equally effective in another situation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ther or not a manager is an effective leader is the result of the relationship between what the manager  is like, what he does, and the situation in  which leadership  takes pl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ingency Models of Leadership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iedler’s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leadership is depending on both the characteristics of the leader and of the situation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style is the continuing, characteristic approach to leadership that a manager uses and does not readily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ickly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ingency Models of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iedler’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-oriented sty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جه نحو العلاقات</a:t>
            </a:r>
            <a:r>
              <a:rPr b="0" lang="ar-J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العاملين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 concerned with developing good relations with their subordinates and to be liked by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-oriented sty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توجه نحو المهام</a:t>
            </a: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 / الانتا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 whose primary concern is to ensure that subordinates perform at a high level so the job gets d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use’s Path-Goal The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ingency model of leadership proposing that effective leaders can motivate subordinates to achie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97080">
              <a:lnSpc>
                <a:spcPct val="90000"/>
              </a:lnSpc>
              <a:spcBef>
                <a:spcPts val="700"/>
              </a:spcBef>
              <a:buClr>
                <a:srgbClr val="c488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 identifying the outcomes that subordinates  are trying to obtain from their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97080">
              <a:lnSpc>
                <a:spcPct val="90000"/>
              </a:lnSpc>
              <a:spcBef>
                <a:spcPts val="700"/>
              </a:spcBef>
              <a:buClr>
                <a:srgbClr val="c488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warding subordinates with these outcomes for high-performance and attainment of work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97080">
              <a:lnSpc>
                <a:spcPct val="90000"/>
              </a:lnSpc>
              <a:spcBef>
                <a:spcPts val="700"/>
              </a:spcBef>
              <a:buClr>
                <a:srgbClr val="c488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fying the paths leading to the attainment of work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tivating with Path-Go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210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-Goal identifies four leadership behavi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rective behavi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t goals, assign tasks, show how to do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pportive behavi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ok out for the worker’s best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ticipative behavior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subordinates a say in matters that affec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hievement-oriented behavior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very challenging goals, believing in worker’s 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tivating with Path-Go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behavior to be used depends on the nature of the subordinates and the kind of work they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6781680" y="4952880"/>
            <a:ext cx="2133720" cy="156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estio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n individual who is able to exert influence over other people to help achieve group or organizational go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Nature of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dividual who is able to exert influence over other people to help achieve group or organization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2438280" cy="180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Nature of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18208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Leadership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cific ways in which a manager chooses to influence others shapes the way that manager approaches the other principal tasks of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llenge is for mana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all levels to develop 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personal managem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y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Nature of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inction between managers and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s establish and implement procedures to ensure smooth function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erform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 look to the future and char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la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ur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th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ership Across Cultu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adership styles may vary among different countries or cultur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an managers tend to be more people-oriented than American or Japanese mana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ese managers are group-oriented, while U.S managers focuses more on profi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rces of Managerial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152280" y="1308240"/>
            <a:ext cx="8622000" cy="5321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itimate Pow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uthority that a manager has by virtu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nefit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his or her position in the fi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4-11-01T16:15:44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