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00A-72BB-4B5A-AD74-D8D5B858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2061-61CC-4D1A-A60F-6BA0528D7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B2B-7E3C-4024-B450-02239721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4B8-5FF4-4465-8E41-9C97D43C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567-0E27-4467-A6EF-2AF05BB5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632-6094-42AF-88CE-6C1C2BE5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608-F887-49F6-9756-5DD845A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C5B-D6E1-4AA5-9D43-E7CC643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B44-2BAC-49F2-BDF2-ACEAB56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BB1-3F3E-4C66-AC9A-40D9FCAF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7BB-E9D6-4738-868E-A84BAB1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171-3E7D-4009-81EE-B911546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B87-9EEA-4AAA-B4C1-FD08FFD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3A1-D09E-42B1-A41F-F96D46A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AAA-CAFC-4D99-BA74-AF5CF7051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81160" y="3352680"/>
            <a:ext cx="8429400" cy="651960"/>
          </a:xfrm>
          <a:prstGeom prst="rect">
            <a:avLst/>
          </a:prstGeom>
          <a:solidFill>
            <a:srgbClr val="ffff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ramework for Ethic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405080" y="1816200"/>
            <a:ext cx="6357960" cy="65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6223-46AF-4D61-AE77-BE026B821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s can be revised(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updated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all possible actiona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 the cost/benefits of each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k out additional points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Eight:  Put Your Plan Into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g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rocesses of choosing the best alternative for achieving the best results or outcomes compliance with individual and social values, moral, and regul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 situation w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certainty about what is right to do from a moral or ethical persp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. Give more profits or increase the sala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Dilemma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2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er man-power is required for the organ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better his clients with good services or be loyal to his employees who have helped the company gro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lients nor the employees deserve to suffer and it is the entrepreneur’s call to tak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mework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cribe the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whether there is an ethical issue or an ethical dile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 and rank the key values and princi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ther your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any applicable Code of Eth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the o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a course of 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?  What is the surrounding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wo:  Determine Whether There Is an 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avoidance of har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hree:  Identify and Rank the Key Values and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38:31Z</dcterms:created>
  <dc:creator>OISNDS</dc:creator>
  <dc:description/>
  <dc:language>en-US</dc:language>
  <cp:lastModifiedBy>User</cp:lastModifiedBy>
  <dcterms:modified xsi:type="dcterms:W3CDTF">2014-10-15T18:47:53Z</dcterms:modified>
  <cp:revision>27</cp:revision>
  <dc:subject/>
  <dc:title>A Framework for Ethical Decision Making</dc:title>
</cp:coreProperties>
</file>