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803D-6FF2-492E-91F4-2B4804EEF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BB3D-457B-4102-952F-2E30385FE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DF9-BE0A-419B-AEFF-1ED7452C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D7A-A36A-4454-BA45-FA0881BF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766-66B2-4507-ADE2-7A909194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7B3-86FC-4C07-A5F4-166F89E1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7CB-CBC7-4232-B224-45108687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E69-CB05-43D4-AD68-4E37FF2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31D-49AB-4173-A195-24C4F9E6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1FB-3D1E-4FFB-BE41-E29C00B3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9E7-23F2-49BB-9ADF-0D7FBC07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442-6BCF-40D7-97C6-2F7434F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6C7-F3DF-4230-BC44-ED865C4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831-09F6-4ECB-B8D9-3B69B99C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E204-536E-4A74-B44B-E23BBB84A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81160" y="3352680"/>
            <a:ext cx="8429400" cy="651960"/>
          </a:xfrm>
          <a:prstGeom prst="rect">
            <a:avLst/>
          </a:prstGeom>
          <a:solidFill>
            <a:srgbClr val="ffffff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Framework for Ethic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405080" y="1816200"/>
            <a:ext cx="6357960" cy="65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0243-F453-4148-9483-87BB0D022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s can be revised(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د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r updated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all possible actionabl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 the cost/benefits of each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k out additional points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Eight:  Put Your Plan Into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cost for each person involved (client, family members, co-workers, agenc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g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processes of choosing the best alternative for achieving the best results or outcomes compliance with individual and social values, moral, and regula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thical dilemma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a situation wi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certainty about what is right to do from a moral or ethical persp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For examp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. Give more profits or increase the salar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Dilemma Def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ample 2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new technology is being launched which is good for the company as well as the customers. But, if this is brought into use, a lesser man-power is required for the organiz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ntrepreneur is now in an ethical dilemma whether he wants to better his clients with good services or be loyal to his employees who have helped the company grow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unpleasantness of the situation arises when neither the clients nor the employees deserve to suffer and it is the entrepreneur’s call to tak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amework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cribe the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rmine whether there is an ethical issue or an ethical dile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 and rank the key values and princip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ther your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any applicable Code of Eth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rmine the op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a course of 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?  What is the surroundings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Two:  Determine Whether There Is an 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lemma becomes ethical when the good or bad options seem to have a moral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avoidance of harm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do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safe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Three:  Identify and Rank the Key Values and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that a decision to a dilemma which goes against an individual’s personal set of values has very little chance of suc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38:31Z</dcterms:created>
  <dc:creator>OISNDS</dc:creator>
  <dc:description/>
  <dc:language>en-US</dc:language>
  <cp:lastModifiedBy>User</cp:lastModifiedBy>
  <dcterms:modified xsi:type="dcterms:W3CDTF">2014-10-15T18:47:53Z</dcterms:modified>
  <cp:revision>27</cp:revision>
  <dc:subject/>
  <dc:title>A Framework for Ethical Decision Making</dc:title>
</cp:coreProperties>
</file>