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chniques of Mandibular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%-15% positive a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al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sive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erior 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ernativ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ontal ligament injection (PD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w-G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inosi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sep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p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a of inser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l ramus, mid-coronoid notc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l with occlusal plane (1 cm above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4 posterior from coronoid notch to pterygomandibular rap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 to bone (20-25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rge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ior alveolar nerve, near mandibular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onoid no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terygomandibular rap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lusal plane of mandibular poster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eca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inject if bone not conta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forceful bon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ilure of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ion too 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ion too ant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ory inn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Mylohyoid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contralateral Incisive nerve inn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m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ial par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0058400" cy="683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88920"/>
            <a:ext cx="9829800" cy="668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dibular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r success rate than Maxillary anesthesia - approx. 80-85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 to bone 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access to nerve trunks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13040" y="0"/>
            <a:ext cx="4660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10058400" cy="683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2320"/>
            <a:ext cx="10058400" cy="683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88920"/>
            <a:ext cx="9829800" cy="668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dibular Nerve Bloc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ior alve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al - Incisive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g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w-G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ino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dibular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performed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highest failure rate (15-2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depends on depositing solution within 1 mm of nerve tru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 complete mandibular nerve blo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supplemental buccal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quire infiltration of incisors or mesial root of first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rves anesthet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ior Alve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sive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g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as Anesthet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dibular teeth to mi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of mandible, inferior ramus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 mucosa anterior to mental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erior 2/3 tongue &amp; floor of mo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gual soft tissue and perioste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mandibular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 anterior soft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gual an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rior Alveolar Nerve Block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tra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/inflammation at injection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at risk for self injury (eg. childr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4T12:54:26Z</dcterms:created>
  <dc:creator>Ben Connaughton</dc:creator>
  <dc:description/>
  <dc:language>en-US</dc:language>
  <cp:lastModifiedBy>Microsoft Office User</cp:lastModifiedBy>
  <cp:lastPrinted>2009-04-22T19:24:48Z</cp:lastPrinted>
  <dcterms:modified xsi:type="dcterms:W3CDTF">1999-06-15T20:14:59Z</dcterms:modified>
  <cp:revision>28</cp:revision>
  <dc:subject/>
  <dc:title>Techniques of Mandibular Anesthesia</dc:title>
</cp:coreProperties>
</file>