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4A2-7029-4473-BA0B-984EA2B4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837-F167-4BED-AE28-C1F39901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C27-8F75-4152-8AC4-505145E9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2FE-FE15-4EC2-918B-FE6558BF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976-3E6B-4501-BB66-338F6A5F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4B9-A421-4B57-8CF2-44120216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DB0-09C2-4111-9648-C6990AD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5BA-9161-436D-A862-87556F03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DEA-B582-4251-AD5E-3A14533C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31E-C5A0-4A24-BFB9-97CE2A07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CE0-521F-4677-A024-8446138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BF0-900E-4711-B6A4-6F1DEB01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DAAA-7613-40C5-AD6A-CEDDA875123A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e7a8d"/>
                </a:solidFill>
                <a:latin typeface="Palatino"/>
              </a:rPr>
              <a:t>Part 1</a:t>
            </a:r>
            <a:endParaRPr b="0" lang="en-US" sz="6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bc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Marketing Channel Syste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429000"/>
            <a:ext cx="7238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3124080"/>
            <a:ext cx="0" cy="2743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What is a channel manager?</a:t>
            </a:r>
            <a:endParaRPr b="0" lang="en-US" sz="36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Times New Roman"/>
              </a:rPr>
              <a:t>Anyone in a firm or organization who is involved in marketing channel decision mak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20160" y="20016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286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32763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7040" y="135000"/>
            <a:ext cx="164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9810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67840" y="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1880" y="228600"/>
            <a:ext cx="3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How does marketing channel strategy relate to the </a:t>
            </a:r>
            <a:br>
              <a:rPr sz="2800"/>
            </a:b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rest of the marketing mix?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2286000"/>
          <a:ext cx="7772400" cy="4363920"/>
        </p:xfrm>
        <a:graphic>
          <a:graphicData uri="http://schemas.openxmlformats.org/drawingml/2006/table">
            <a:tbl>
              <a:tblPr/>
              <a:tblGrid>
                <a:gridCol w="2058840"/>
                <a:gridCol w="5713560"/>
              </a:tblGrid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arketing Mix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or 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the four Ps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          </a:t>
                      </a:r>
                      <a:r>
                        <a:rPr b="1" i="1" lang="en-US" sz="28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Challenges</a:t>
                      </a:r>
                      <a:endParaRPr b="0" lang="en-US" sz="2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Limited ability to gain and hold competitive advantag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ice wars erode profitability &amp; provide unstable basis for sustaining competitive advantage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romotion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Expensive and short-lived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Place (Distribution)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6b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Geneva"/>
                        </a:rPr>
                        <a:t>Marketing channels support &amp; enhance other Ps to meet demands of target markets</a:t>
                      </a:r>
                      <a:endParaRPr b="0" lang="en-US" sz="20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8305920" y="38088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17760" y="7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1000" y="3808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29600" y="2700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0040" y="154944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2160" y="4724280"/>
            <a:ext cx="11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Times New Roman"/>
              </a:rPr>
              <a:t>The change of focus to channel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ea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reates competitive advantage with long-term viabil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uilds strong relationships between manufacturers and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d on trust, confidence,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d people pow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7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7a8d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Channel Strategy and Logistics Management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447920"/>
            <a:ext cx="0" cy="228600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1523880"/>
            <a:ext cx="0" cy="2667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2209680"/>
            <a:ext cx="4114800" cy="4597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rt of distribution vari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886200"/>
            <a:ext cx="3276720" cy="247896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cerned with entire process of starting and operating contactual organiz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rmulated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logistics 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4267080"/>
            <a:ext cx="3353040" cy="15570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cused specifically on providing product availability at appropriate time &amp; pl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808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37160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8320" y="304920"/>
            <a:ext cx="33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52240" y="1463400"/>
            <a:ext cx="477000" cy="6544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179680" y="1491480"/>
            <a:ext cx="334080" cy="61740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22860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80560" y="6984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7840" y="104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8320" y="-2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Marketing Channel Flow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7400" y="174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272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676520"/>
            <a:ext cx="3733920" cy="91440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1905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duct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666880"/>
            <a:ext cx="3733920" cy="83844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657600"/>
            <a:ext cx="3733920" cy="83808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4724280"/>
            <a:ext cx="3733920" cy="83844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3733920" cy="838080"/>
          </a:xfrm>
          <a:prstGeom prst="flowChartPunchedTape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mo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form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3809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wnership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2819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Negoti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550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26668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ransportation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33720" y="37339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4800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5791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925600">
            <a:off x="4483440" y="267876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925600">
            <a:off x="5550480" y="37458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925600">
            <a:off x="3569760" y="168768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925600">
            <a:off x="6693480" y="4812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3716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550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3207200">
            <a:off x="-152280" y="3199680"/>
            <a:ext cx="2057400" cy="73332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925600">
            <a:off x="5702760" y="3669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2925600">
            <a:off x="3550680" y="2062080"/>
            <a:ext cx="2209680" cy="73332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2925600">
            <a:off x="684540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gotia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4075400">
            <a:off x="135936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4075400">
            <a:off x="2578680" y="5883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Ownership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752480"/>
            <a:ext cx="304776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2925600">
            <a:off x="5627160" y="366876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925600">
            <a:off x="3703320" y="20620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925600">
            <a:off x="669312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4075400">
            <a:off x="1892880" y="48117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4075400">
            <a:off x="3111840" y="588384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forma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12952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167652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3657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4724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5791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2925600">
            <a:off x="6388560" y="37458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925600">
            <a:off x="7378920" y="4736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4075400">
            <a:off x="3795480" y="5805360"/>
            <a:ext cx="914400" cy="885960"/>
          </a:xfrm>
          <a:custGeom>
            <a:avLst/>
            <a:gdLst>
              <a:gd name="textAreaLeft" fmla="*/ 159840 w 914400"/>
              <a:gd name="textAreaRight" fmla="*/ 663120 w 914400"/>
              <a:gd name="textAreaTop" fmla="*/ 118440 h 885960"/>
              <a:gd name="textAreaBottom" fmla="*/ 7675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25909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ransportation Compan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925600">
            <a:off x="5321520" y="267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925600">
            <a:off x="4331160" y="16120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4075400">
            <a:off x="2793600" y="4825800"/>
            <a:ext cx="936720" cy="885600"/>
          </a:xfrm>
          <a:custGeom>
            <a:avLst/>
            <a:gdLst>
              <a:gd name="textAreaLeft" fmla="*/ 163800 w 936720"/>
              <a:gd name="textAreaRight" fmla="*/ 679320 w 93672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4075400">
            <a:off x="1738080" y="3747960"/>
            <a:ext cx="914400" cy="885960"/>
          </a:xfrm>
          <a:custGeom>
            <a:avLst/>
            <a:gdLst>
              <a:gd name="textAreaLeft" fmla="*/ 159840 w 914400"/>
              <a:gd name="textAreaRight" fmla="*/ 663120 w 914400"/>
              <a:gd name="textAreaTop" fmla="*/ 118440 h 885960"/>
              <a:gd name="textAreaBottom" fmla="*/ 7675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4075400">
            <a:off x="825840" y="2602440"/>
            <a:ext cx="757440" cy="885600"/>
          </a:xfrm>
          <a:custGeom>
            <a:avLst/>
            <a:gdLst>
              <a:gd name="textAreaLeft" fmla="*/ 132480 w 757440"/>
              <a:gd name="textAreaRight" fmla="*/ 549360 w 75744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80880" y="2133720"/>
            <a:ext cx="60984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133720"/>
            <a:ext cx="0" cy="4267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4343400"/>
            <a:ext cx="12952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5410080"/>
            <a:ext cx="228600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172200"/>
            <a:ext cx="28954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 Flow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5328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772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1600200"/>
            <a:ext cx="3048120" cy="685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3581280"/>
            <a:ext cx="3200400" cy="83844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holesa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464832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57800" y="57150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2925600">
            <a:off x="6464520" y="35931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925600">
            <a:off x="7531560" y="46602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4075400">
            <a:off x="3917520" y="5759280"/>
            <a:ext cx="974880" cy="885600"/>
          </a:xfrm>
          <a:custGeom>
            <a:avLst/>
            <a:gdLst>
              <a:gd name="textAreaLeft" fmla="*/ 170640 w 974880"/>
              <a:gd name="textAreaRight" fmla="*/ 707040 w 97488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2514600"/>
            <a:ext cx="3200400" cy="83808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dvertising Agenc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925600">
            <a:off x="5474160" y="25264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925600">
            <a:off x="4407120" y="1535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4075400">
            <a:off x="1856880" y="3552120"/>
            <a:ext cx="885960" cy="942840"/>
          </a:xfrm>
          <a:custGeom>
            <a:avLst/>
            <a:gdLst>
              <a:gd name="textAreaLeft" fmla="*/ 154800 w 885960"/>
              <a:gd name="textAreaRight" fmla="*/ 642240 w 885960"/>
              <a:gd name="textAreaTop" fmla="*/ 126360 h 942840"/>
              <a:gd name="textAreaBottom" fmla="*/ 816480 h 94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1981080"/>
            <a:ext cx="0" cy="441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28240" y="1981080"/>
            <a:ext cx="685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6400800"/>
            <a:ext cx="34290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85440" y="3048120"/>
            <a:ext cx="10666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3048120"/>
            <a:ext cx="0" cy="3124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4191120"/>
            <a:ext cx="9907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181480"/>
            <a:ext cx="28195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6172200"/>
            <a:ext cx="29718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590920"/>
            <a:ext cx="8686800" cy="38426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5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600200"/>
            <a:ext cx="81536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i="1" lang="en-US" sz="3600" spc="-1" strike="noStrike">
                <a:solidFill>
                  <a:srgbClr val="000080"/>
                </a:solidFill>
                <a:latin typeface="Geneva"/>
              </a:rPr>
              <a:t>Marketing Channel Concepts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2447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Distribution through intermediaries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04840"/>
            <a:ext cx="1447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13716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55080" y="304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2743200"/>
            <a:ext cx="80517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80"/>
                </a:solidFill>
                <a:latin typeface="Geneva"/>
              </a:rPr>
              <a:t>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Technology   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the Interne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Economic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     Specialization &amp;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Considerations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Division of Labo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Didot"/>
              </a:rPr>
              <a:t>       </a:t>
            </a:r>
            <a:r>
              <a:rPr b="0" lang="en-US" sz="2800" spc="-1" strike="noStrike">
                <a:solidFill>
                  <a:srgbClr val="000080"/>
                </a:solidFill>
                <a:latin typeface="Didot"/>
              </a:rPr>
              <a:t>Contactual 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36576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47242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676520"/>
            <a:ext cx="6553440" cy="1676160"/>
          </a:xfrm>
          <a:prstGeom prst="horizontalScroll">
            <a:avLst>
              <a:gd name="adj" fmla="val 12500"/>
            </a:avLst>
          </a:prstGeom>
          <a:solidFill>
            <a:srgbClr val="ff8000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 Chancery"/>
              </a:rPr>
              <a:t>Factors that determine the role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16765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296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3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Times New Roman"/>
              </a:rPr>
              <a:t>Specialization &amp; Division of Labor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2057400"/>
            <a:ext cx="3276360" cy="838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ion Task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2057400"/>
            <a:ext cx="3352680" cy="838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duction Task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200400"/>
            <a:ext cx="335268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ed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interorganizationall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3200400"/>
            <a:ext cx="3352680" cy="99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tributed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intraorganizationall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105520" y="4419720"/>
            <a:ext cx="2590560" cy="21398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09680" y="30481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48520" y="304812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66680" y="4495680"/>
            <a:ext cx="266724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Contactual Efficiency</a:t>
            </a:r>
            <a:br>
              <a:rPr sz="2800"/>
            </a:br>
            <a:r>
              <a:rPr b="1" lang="en-US" sz="2800" spc="-1" strike="noStrike">
                <a:solidFill>
                  <a:srgbClr val="6e7a8d"/>
                </a:solidFill>
                <a:latin typeface="Times New Roman"/>
              </a:rPr>
              <a:t> Granada Guitar Co. 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11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3764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0100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99720" y="2491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28600" y="1828800"/>
          <a:ext cx="8458200" cy="4824360"/>
        </p:xfrm>
        <a:graphic>
          <a:graphicData uri="http://schemas.openxmlformats.org/drawingml/2006/table">
            <a:tbl>
              <a:tblPr/>
              <a:tblGrid>
                <a:gridCol w="2344680"/>
                <a:gridCol w="2684520"/>
                <a:gridCol w="1676520"/>
                <a:gridCol w="1752480"/>
              </a:tblGrid>
              <a:tr h="14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Negotiation Effort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Estimated Dollar Costs of Inpu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Distribution Objectiv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(Output)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Contactual Efficiency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100 sales visit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100 phone call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20 magazine 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ads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 $50   =  $5,0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     3   =       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@1,000 =  </a:t>
                      </a:r>
                      <a:r>
                        <a:rPr b="0" lang="en-US" sz="24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20,0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$25,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Get 500 music stores to carry new guitar line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Times New Roman"/>
                        </a:rPr>
                        <a:t>Negotiation effort in dollar terms relative to achieving the distribution objective = $25,300</a:t>
                      </a:r>
                      <a:endParaRPr b="0" lang="en-US" sz="24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ee1a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 flipH="1">
            <a:off x="304200" y="228600"/>
            <a:ext cx="145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78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152388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18320" y="11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22860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28000" y="3049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Channel Structure </a:t>
            </a:r>
            <a:r>
              <a:rPr b="1" i="1" lang="en-US" sz="2800" spc="-1" strike="noStrike">
                <a:solidFill>
                  <a:srgbClr val="6e7a8d"/>
                </a:solidFill>
                <a:latin typeface="Palatino"/>
              </a:rPr>
              <a:t>v.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Ancillary Structure</a:t>
            </a:r>
            <a:endParaRPr b="0" lang="en-US" sz="28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7720" y="19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1828800"/>
            <a:ext cx="4496040" cy="161856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Channel Structur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The group of channel members to which 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set of distribution tasks has been allocated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4038480"/>
            <a:ext cx="4495680" cy="192348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Ancillary Structur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The group of institutions that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assist channel members in performing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distribution task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2057400"/>
            <a:ext cx="2484360" cy="131364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Why are single-chann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tructures currentl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exception?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62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58000" y="40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4120" y="4114800"/>
            <a:ext cx="2484360" cy="19234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Why is managing the ancillary structure most likely to be less complex than managing the channel structure?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97600" y="47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5029200"/>
            <a:ext cx="38088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e7a8d"/>
                </a:solidFill>
                <a:latin typeface="Palatino"/>
              </a:rPr>
              <a:t>Objectives</a:t>
            </a: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696080" cy="4495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ea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growing importance of marke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definition of marketing channel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How marketing channels relate to strategic variables in the marketing mix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flows in the marketing channels and their relationship to channel mana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principles of specialization, division of labor, and contactual efficienc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difference between the concepts of channel structure and of ancillary structu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77320" y="304920"/>
            <a:ext cx="0" cy="1447560"/>
          </a:xfrm>
          <a:prstGeom prst="line">
            <a:avLst/>
          </a:prstGeom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05920" y="304920"/>
            <a:ext cx="3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1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2952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80"/>
                </a:solidFill>
                <a:latin typeface="Geneva"/>
              </a:rPr>
              <a:t>Y</a:t>
            </a: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ou will learn abou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e7a8d"/>
                </a:solidFill>
                <a:latin typeface="Palatino"/>
              </a:rPr>
              <a:t>Why</a:t>
            </a:r>
            <a:r>
              <a:rPr b="1" lang="en-US" sz="2800" spc="-1" strike="noStrike">
                <a:solidFill>
                  <a:srgbClr val="6e7a8d"/>
                </a:solidFill>
                <a:latin typeface="Palatino"/>
              </a:rPr>
              <a:t> the growing importance of marketing channels?</a:t>
            </a:r>
            <a:r>
              <a:rPr b="1" i="1" lang="en-US" sz="2400" spc="-1" strike="noStrike">
                <a:solidFill>
                  <a:srgbClr val="6e7a8d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6002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3808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7480" y="18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55080" y="38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09680"/>
            <a:ext cx="6934320" cy="41173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db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explosion of information technology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-commer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 greater difficulty in gaining a sustainab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mpetitive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growing power of distributors, especially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tailers in marketing channe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need to reduce distribution cos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8288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440" y="1674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4000" y="285840"/>
            <a:ext cx="6790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 greater difficulty in gaining a sustainable competitiv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dvantag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growing power of distributors, especially retaile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in marketing channel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4680" y="533520"/>
            <a:ext cx="0" cy="2133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0240" y="32868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3040" y="2514600"/>
            <a:ext cx="437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Yahoo!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B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mazon.co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7080" y="21002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predic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Disintermediati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— reduction of number of intermediar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080" y="2328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320" y="34592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realit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8560" y="37288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Times New Roman"/>
              </a:rPr>
              <a:t>Reintermediati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—evolution of a new type of intermedia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explosion of information technology and E-commerce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4419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380880"/>
            <a:ext cx="67057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     The growing power of distributors, especially retailers in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marketing channel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     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53280" y="228600"/>
            <a:ext cx="0" cy="2438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20240" y="27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A greater difficulty in gaining a sustainable competitive advantage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2895480"/>
            <a:ext cx="374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Place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distribution</a:t>
            </a: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), or Marketing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Channel Strategy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124080"/>
            <a:ext cx="2361960" cy="1191240"/>
          </a:xfrm>
          <a:prstGeom prst="rect">
            <a:avLst/>
          </a:prstGeom>
          <a:solidFill>
            <a:srgbClr val="ff8000"/>
          </a:solidFill>
          <a:ln w="9360">
            <a:solidFill>
              <a:srgbClr val="6e7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ustainable competitive advan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1531000">
            <a:off x="3657600" y="3047760"/>
            <a:ext cx="960480" cy="1377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0840" y="4343400"/>
            <a:ext cx="308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Potential for gain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competitive advantag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because place is m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difficult for competi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to cop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886200"/>
            <a:ext cx="0" cy="3808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9880" y="336600"/>
            <a:ext cx="841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     A greater difficulty in gaining a sustainable competitive advantage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4.     The need to reduce distribution cos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5334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7a8d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growing power of distributors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228600"/>
            <a:ext cx="0" cy="2133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3680" y="22860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5240" y="207000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ower retailers as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of consumer marke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057400"/>
            <a:ext cx="1523880" cy="45720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0574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atekeep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2819520"/>
            <a:ext cx="0" cy="1143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45200" y="4170240"/>
            <a:ext cx="59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ct as buying agents for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customer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rather tha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 selling agents for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09800" y="325440"/>
            <a:ext cx="8410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1.     The explosion of information technology and E-commerce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2.     A greater difficulty in gaining a sustainable competitive advantage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3.     The growing power of distributo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476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7a8d"/>
                </a:solidFill>
                <a:latin typeface="Times New Roman"/>
              </a:rPr>
              <a:t>The need to reduce distribution costs</a:t>
            </a:r>
            <a:endParaRPr b="0" lang="en-US" sz="20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10480" y="228600"/>
            <a:ext cx="0" cy="2133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7524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610480" y="22860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0574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rketing channels are the most recent target fo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ducing distribution cos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39625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3341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e focus is on channel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structur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manageme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3353040" cy="222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201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What is a marketing channel?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3581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Palatino"/>
              </a:rPr>
              <a:t>External contactual organization that management operates to achieve its distribution objec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9720" y="21924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01000" y="22860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371600" y="19810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2210040" cy="45972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side the fir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76720" y="2438280"/>
            <a:ext cx="0" cy="10670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905120"/>
            <a:ext cx="5105520" cy="45972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m involved in negotiatory func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590920"/>
            <a:ext cx="4114800" cy="8254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’s involvement in the proces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4648320"/>
            <a:ext cx="4724280" cy="192276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 that change, causing vari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tactual organization &amp; the way in which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 operates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60" y="152280"/>
            <a:ext cx="1446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791320" y="3504960"/>
            <a:ext cx="0" cy="759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4343400"/>
            <a:ext cx="0" cy="2286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19:11:09Z</dcterms:created>
  <dc:creator>Kathryn Bundy</dc:creator>
  <dc:description/>
  <dc:language>en-US</dc:language>
  <cp:lastModifiedBy>TL User</cp:lastModifiedBy>
  <dcterms:modified xsi:type="dcterms:W3CDTF">2003-06-19T13:09:41Z</dcterms:modified>
  <cp:revision>159</cp:revision>
  <dc:subject/>
  <dc:title>Part 1</dc:title>
</cp:coreProperties>
</file>