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17C-996E-490B-9E37-2EB18869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F34-6EEB-43D0-A156-FE691539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0FF-62EE-406C-BDD9-D67A5584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987-398B-4FE9-BFDA-8B8F6E74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619-D7E8-411F-9F5D-CD25A046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4B-8E07-48D6-A76C-AA37FE94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FA4-AB83-4218-94B3-BB11E84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242-0449-4418-9ECB-A0C66498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720-3A2F-4611-8280-2392F9A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676-362E-4523-B16D-64CF63F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FC7-9B60-4133-A727-5C5782C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AF7-276F-431F-B568-4C99D08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F90-4221-478D-B42A-F92D9839E8E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1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rketing 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429000"/>
            <a:ext cx="7238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1240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What is a channel manager?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Anyone in a firm or organization who is involved in marketing channel decision mak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0160" y="200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3276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7040" y="135000"/>
            <a:ext cx="164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67840" y="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1880" y="22860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How does marketing channel strategy relate to the 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rest of the marketing mix?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7772400" cy="4363920"/>
        </p:xfrm>
        <a:graphic>
          <a:graphicData uri="http://schemas.openxmlformats.org/drawingml/2006/table">
            <a:tbl>
              <a:tblPr/>
              <a:tblGrid>
                <a:gridCol w="2058840"/>
                <a:gridCol w="571356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Mix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r 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the four P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   </a:t>
                      </a:r>
                      <a:r>
                        <a:rPr b="1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imited ability to gain and hold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 wars erode profitability &amp; provide unstable basis for sustaining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motion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xpensive and short-lived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lace (Distribution)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channels support &amp; enhance other Ps to meet demands of target market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8305920" y="3808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2700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The change of focus to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ates competitive advantage with long-term vi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ilds strong relationships between manufacturers and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trust, confidenc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peopl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7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7a8d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hannel Strategy and Logistics Manage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447920"/>
            <a:ext cx="0" cy="228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1523880"/>
            <a:ext cx="0" cy="2667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2209680"/>
            <a:ext cx="4114800" cy="4597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t of distribution vari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886200"/>
            <a:ext cx="3276720" cy="24789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cerned with entire process of starting and operating contactual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rmulate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267080"/>
            <a:ext cx="3353040" cy="15570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cused specifically on providing product availability at appropriate time &amp;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8320" y="304920"/>
            <a:ext cx="3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2240" y="1463400"/>
            <a:ext cx="477000" cy="654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179680" y="1491480"/>
            <a:ext cx="334080" cy="6174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0560" y="698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Marketing Channel Flow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676520"/>
            <a:ext cx="3733920" cy="91440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6668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6576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7242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form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wnership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6668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3733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00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925600">
            <a:off x="4483440" y="267876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925600">
            <a:off x="555048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925600">
            <a:off x="3569760" y="16876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925600">
            <a:off x="6693480" y="4812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207200">
            <a:off x="-152280" y="3199680"/>
            <a:ext cx="2057400" cy="73332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925600">
            <a:off x="5702760" y="3669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925600">
            <a:off x="3550680" y="2062080"/>
            <a:ext cx="2209680" cy="733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925600">
            <a:off x="684540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goti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075400">
            <a:off x="135936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075400">
            <a:off x="2578680" y="5883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wnership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752480"/>
            <a:ext cx="304776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925600">
            <a:off x="5627160" y="36687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925600">
            <a:off x="3703320" y="20620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925600">
            <a:off x="66931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075400">
            <a:off x="1892880" y="48117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4075400">
            <a:off x="3111840" y="588384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orm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67652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3657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724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925600">
            <a:off x="638856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925600">
            <a:off x="73789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075400">
            <a:off x="3795480" y="58053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590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925600">
            <a:off x="5321520" y="267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925600">
            <a:off x="4331160" y="16120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075400">
            <a:off x="2793600" y="4825800"/>
            <a:ext cx="936720" cy="885600"/>
          </a:xfrm>
          <a:custGeom>
            <a:avLst/>
            <a:gdLst>
              <a:gd name="textAreaLeft" fmla="*/ 163800 w 936720"/>
              <a:gd name="textAreaRight" fmla="*/ 679320 w 93672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4075400">
            <a:off x="1738080" y="37479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4075400">
            <a:off x="825840" y="2602440"/>
            <a:ext cx="757440" cy="885600"/>
          </a:xfrm>
          <a:custGeom>
            <a:avLst/>
            <a:gdLst>
              <a:gd name="textAreaLeft" fmla="*/ 132480 w 757440"/>
              <a:gd name="textAreaRight" fmla="*/ 549360 w 75744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880" y="2133720"/>
            <a:ext cx="6098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133720"/>
            <a:ext cx="0" cy="4267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343400"/>
            <a:ext cx="12952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5410080"/>
            <a:ext cx="22860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172200"/>
            <a:ext cx="2895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60020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925600">
            <a:off x="6464520" y="3593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925600">
            <a:off x="7531560" y="4660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4075400">
            <a:off x="3917520" y="5759280"/>
            <a:ext cx="974880" cy="885600"/>
          </a:xfrm>
          <a:custGeom>
            <a:avLst/>
            <a:gdLst>
              <a:gd name="textAreaLeft" fmla="*/ 170640 w 974880"/>
              <a:gd name="textAreaRight" fmla="*/ 707040 w 9748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2514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vertising Ag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925600">
            <a:off x="5474160" y="2526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925600">
            <a:off x="4407120" y="1535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4075400">
            <a:off x="1856880" y="3552120"/>
            <a:ext cx="885960" cy="942840"/>
          </a:xfrm>
          <a:custGeom>
            <a:avLst/>
            <a:gdLst>
              <a:gd name="textAreaLeft" fmla="*/ 154800 w 885960"/>
              <a:gd name="textAreaRight" fmla="*/ 642240 w 885960"/>
              <a:gd name="textAreaTop" fmla="*/ 126360 h 942840"/>
              <a:gd name="textAreaBottom" fmla="*/ 81648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981080"/>
            <a:ext cx="0" cy="441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240" y="1981080"/>
            <a:ext cx="685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6400800"/>
            <a:ext cx="34290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5440" y="3048120"/>
            <a:ext cx="1066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419112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181480"/>
            <a:ext cx="2819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172200"/>
            <a:ext cx="2971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590920"/>
            <a:ext cx="8686800" cy="3842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153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Marketing Channel Concept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447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Distribution through intermediarie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0484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5080" y="304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743200"/>
            <a:ext cx="8051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echnology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he Interne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Economic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     Specialization &amp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siderations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Division of Lab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657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676520"/>
            <a:ext cx="6553440" cy="1676160"/>
          </a:xfrm>
          <a:prstGeom prst="horizontalScroll">
            <a:avLst>
              <a:gd name="adj" fmla="val 12500"/>
            </a:avLst>
          </a:prstGeom>
          <a:solidFill>
            <a:srgbClr val="ff800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hancery"/>
              </a:rPr>
              <a:t>Factors that determine the rol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Specialization &amp; Division of Lab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057400"/>
            <a:ext cx="327636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2057400"/>
            <a:ext cx="335268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duc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er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ra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2590560" cy="2139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0968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672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ontactual Efficiency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Granada Guitar Co.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99720" y="2491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1828800"/>
          <a:ext cx="8458200" cy="4824360"/>
        </p:xfrm>
        <a:graphic>
          <a:graphicData uri="http://schemas.openxmlformats.org/drawingml/2006/table">
            <a:tbl>
              <a:tblPr/>
              <a:tblGrid>
                <a:gridCol w="2344680"/>
                <a:gridCol w="2684520"/>
                <a:gridCol w="1676520"/>
                <a:gridCol w="1752480"/>
              </a:tblGrid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Estimated Dollar Costs of Inpu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Distribution Objectiv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(Output)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Contactual Efficienc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sales visi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phone call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20 magazine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a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$50   =  $5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    3   =       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1,000 =  </a:t>
                      </a:r>
                      <a:r>
                        <a:rPr b="0" lang="en-US" sz="24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Get 500 music stores to carry new guitar li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 in dollar terms relative to achieving the distribution objective = 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flipH="1">
            <a:off x="304200" y="228600"/>
            <a:ext cx="145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8000" y="3049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Channel Structure </a:t>
            </a: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v.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Ancillary Structure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1828800"/>
            <a:ext cx="4496040" cy="16185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channel members to which 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set of distribution tasks has been allocated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4038480"/>
            <a:ext cx="4495680" cy="1923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ncillary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institutions that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assist channel members in performing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057400"/>
            <a:ext cx="2484360" cy="131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are single-chann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tructures currentl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exception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4120" y="4114800"/>
            <a:ext cx="2484360" cy="19234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is managing the ancillary structure most likely to be less complex than managing the channel structure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e7a8d"/>
                </a:solidFill>
                <a:latin typeface="Palatino"/>
              </a:rPr>
              <a:t>Objectives</a:t>
            </a: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95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growing importance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efinition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How marketing channels relate to strategic variables in the marketing mix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lows in the marketing channels and their relationship to channel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principles of specialization, division of labor, and 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ifference between the concepts of channel structure and of ancillary structu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304920"/>
            <a:ext cx="0" cy="144756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30492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2952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Y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u will learn abo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Wh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the growing importance of marketing channels?</a:t>
            </a:r>
            <a:r>
              <a:rPr b="1" i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002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808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508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09680"/>
            <a:ext cx="693432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b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explosion of information technology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greater difficulty in gaining a sustain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growing power of distributors, especial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 in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828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000" y="285840"/>
            <a:ext cx="679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 greater difficulty in gaining a sustainable competitiv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dvantag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growing power of distributors, especially retail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in 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533520"/>
            <a:ext cx="0" cy="2133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0240" y="32868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040" y="2514600"/>
            <a:ext cx="43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B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7080" y="21002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predic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Dis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— reduction of number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8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320" y="34592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rea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60" y="37288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Re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—evolution of a new type of intermedi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explosion of information technology and E-commerc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419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6705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, especially retailers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228600"/>
            <a:ext cx="0" cy="2438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0240" y="27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A greater difficulty in gaining a sustainable competitive advantag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895480"/>
            <a:ext cx="374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lac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distribution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), or Marketing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ategy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2361960" cy="1191240"/>
          </a:xfrm>
          <a:prstGeom prst="rect">
            <a:avLst/>
          </a:prstGeom>
          <a:solidFill>
            <a:srgbClr val="ff8000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ustainable 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1531000">
            <a:off x="3657600" y="3047760"/>
            <a:ext cx="960480" cy="13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840" y="4343400"/>
            <a:ext cx="30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Potential for gai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ompetitive advant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cause place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difficult for competi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to cop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886200"/>
            <a:ext cx="0" cy="3808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9880" y="336600"/>
            <a:ext cx="841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5334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growing power of distributor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36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240" y="20700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wer retailers as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of consumer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057400"/>
            <a:ext cx="1523880" cy="4572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0574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atekeep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819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45200" y="4170240"/>
            <a:ext cx="59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ct as buying agents for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rather th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 selling agents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09800" y="325440"/>
            <a:ext cx="8410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476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524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057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rketing channels are the most recent target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ducing distribution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focus is on channel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structu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353040" cy="222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01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at is a marketing channel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Palatino"/>
              </a:rPr>
              <a:t>External contactual organization that management operates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9720" y="2192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71600" y="19810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21004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side the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2438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510552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involved in negotiatory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590920"/>
            <a:ext cx="41148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’s involvement in the proc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648320"/>
            <a:ext cx="4724280" cy="19227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 that change, causing var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actual organization &amp; the way in whic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operates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60" y="152280"/>
            <a:ext cx="144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1320" y="350496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343400"/>
            <a:ext cx="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9:11:09Z</dcterms:created>
  <dc:creator>Kathryn Bundy</dc:creator>
  <dc:description/>
  <dc:language>en-US</dc:language>
  <cp:lastModifiedBy>TL User</cp:lastModifiedBy>
  <dcterms:modified xsi:type="dcterms:W3CDTF">2003-06-19T13:09:41Z</dcterms:modified>
  <cp:revision>159</cp:revision>
  <dc:subject/>
  <dc:title>Part 1</dc:title>
</cp:coreProperties>
</file>