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0AA5-E224-4DD5-8F69-2AEF0DC09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07F1-B681-4B77-8ED2-205DBEE3B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B201-A817-4D84-98BA-4587EF1AD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1F5C-23CE-42A4-8FBE-4EE656B98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74C5-B3AC-4A99-8E54-5601BCC38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ECF2-6C83-4DC3-9884-29D2A3490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B49D-5C17-4E7C-A5EC-AAFBF9457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7A59-DC72-4F15-8B1A-9A9988904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C1E0-29CD-4439-8CF3-6664CC8AA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10A1-76D1-42AC-944E-465C0936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0E66-001C-42C5-A323-03400BE9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80DE-B6BC-4FD8-AC7A-6EB7E273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7a8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70658-F92C-4136-B9EB-D79FF5B406F2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e7a8d"/>
                </a:solidFill>
                <a:latin typeface="Palatino"/>
              </a:rPr>
              <a:t>Part 1</a:t>
            </a:r>
            <a:endParaRPr b="0" lang="en-US" sz="60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bc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80"/>
                </a:solidFill>
                <a:latin typeface="Geneva"/>
              </a:rPr>
              <a:t>Marketing Channel System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3429000"/>
            <a:ext cx="7238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00200" y="3124080"/>
            <a:ext cx="0" cy="2743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What is a channel manager?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123720" y="1905120"/>
            <a:ext cx="5257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80"/>
                </a:solidFill>
                <a:latin typeface="Times New Roman"/>
              </a:rPr>
              <a:t>Anyone in a firm or organization who is involved in marketing channel decision making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120160" y="200160"/>
            <a:ext cx="33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001000" y="228600"/>
            <a:ext cx="0" cy="1676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47800" y="137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1523880"/>
            <a:ext cx="80769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28800" y="2286000"/>
            <a:ext cx="976320" cy="485640"/>
          </a:xfrm>
          <a:custGeom>
            <a:avLst/>
            <a:gdLst>
              <a:gd name="textAreaLeft" fmla="*/ 0 w 976320"/>
              <a:gd name="textAreaRight" fmla="*/ 976680 w 9763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33520" y="3429000"/>
            <a:ext cx="327636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57040" y="135000"/>
            <a:ext cx="1648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3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198108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67840" y="6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81880" y="228600"/>
            <a:ext cx="30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7a8d"/>
                </a:solidFill>
                <a:latin typeface="Times New Roman"/>
              </a:rPr>
              <a:t>How does marketing channel strategy relate to the </a:t>
            </a:r>
            <a:br>
              <a:rPr sz="2800"/>
            </a:br>
            <a:r>
              <a:rPr b="1" lang="en-US" sz="2800" spc="-1" strike="noStrike">
                <a:solidFill>
                  <a:srgbClr val="6e7a8d"/>
                </a:solidFill>
                <a:latin typeface="Times New Roman"/>
              </a:rPr>
              <a:t>rest of the marketing mix?</a:t>
            </a:r>
            <a:endParaRPr b="0" lang="en-US" sz="2800" spc="-1" strike="noStrike">
              <a:solidFill>
                <a:srgbClr val="6e7a8d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04920" y="2286000"/>
          <a:ext cx="7772400" cy="4363920"/>
        </p:xfrm>
        <a:graphic>
          <a:graphicData uri="http://schemas.openxmlformats.org/drawingml/2006/table">
            <a:tbl>
              <a:tblPr/>
              <a:tblGrid>
                <a:gridCol w="2058840"/>
                <a:gridCol w="5713560"/>
              </a:tblGrid>
              <a:tr h="144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Marketing Mix</a:t>
                      </a:r>
                      <a:endParaRPr b="0" lang="en-US" sz="20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or </a:t>
                      </a:r>
                      <a:endParaRPr b="0" lang="en-US" sz="20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the four Ps</a:t>
                      </a:r>
                      <a:endParaRPr b="0" lang="en-US" sz="20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ee6b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          </a:t>
                      </a:r>
                      <a:r>
                        <a:rPr b="1" i="1" lang="en-US" sz="28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Challenges</a:t>
                      </a:r>
                      <a:endParaRPr b="0" lang="en-US" sz="28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ee6b6"/>
                        </a:gs>
                      </a:gsLst>
                      <a:lin ang="5400000"/>
                    </a:gra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Product</a:t>
                      </a:r>
                      <a:endParaRPr b="0" lang="en-US" sz="20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ee6b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Limited ability to gain and hold competitive advantage</a:t>
                      </a:r>
                      <a:endParaRPr b="0" lang="en-US" sz="20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ee6b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Price wars erode profitability &amp; provide unstable basis for sustaining competitive advantage</a:t>
                      </a:r>
                      <a:endParaRPr b="0" lang="en-US" sz="20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Promotion</a:t>
                      </a:r>
                      <a:endParaRPr b="0" lang="en-US" sz="20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ee6b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Expensive and short-lived</a:t>
                      </a:r>
                      <a:endParaRPr b="0" lang="en-US" sz="20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Place (Distribution)</a:t>
                      </a:r>
                      <a:endParaRPr b="0" lang="en-US" sz="20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ee6b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Marketing channels support &amp; enhance other Ps to meet demands of target markets</a:t>
                      </a:r>
                      <a:endParaRPr b="0" lang="en-US" sz="20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8305920" y="380880"/>
            <a:ext cx="0" cy="18288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417760" y="70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3732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001000" y="380880"/>
            <a:ext cx="0" cy="1676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87280" y="107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144792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229600" y="270000"/>
            <a:ext cx="33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25680" y="1600200"/>
            <a:ext cx="18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0040" y="1549440"/>
            <a:ext cx="18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92160" y="4724280"/>
            <a:ext cx="117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19200" y="1488960"/>
            <a:ext cx="18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Times New Roman"/>
              </a:rPr>
              <a:t>The change of focus to channel strategy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dea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reates competitive advantage with long-term viabilit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uilds strong relationships between manufacturers and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ased on trust, confidence,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nd people pow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6629400" y="4114800"/>
            <a:ext cx="17114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7a8d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6e7a8d"/>
                </a:solidFill>
                <a:latin typeface="Times New Roman"/>
              </a:rPr>
              <a:t>Channel Strategy and Logistics Management</a:t>
            </a:r>
            <a:endParaRPr b="0" lang="en-US" sz="28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1447920"/>
            <a:ext cx="0" cy="2286000"/>
          </a:xfrm>
          <a:prstGeom prst="line">
            <a:avLst/>
          </a:prstGeom>
          <a:ln w="284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162920" y="1523880"/>
            <a:ext cx="0" cy="2667240"/>
          </a:xfrm>
          <a:prstGeom prst="line">
            <a:avLst/>
          </a:prstGeom>
          <a:ln w="284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09680" y="2209680"/>
            <a:ext cx="4114800" cy="4597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Part of distribution variabl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3886200"/>
            <a:ext cx="3276720" cy="247896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Concerned with entire process of starting and operating contactual organiz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Formulated </a:t>
            </a:r>
            <a:r>
              <a:rPr b="0" i="1" lang="en-US" sz="2400" spc="-1" strike="noStrike">
                <a:solidFill>
                  <a:srgbClr val="000080"/>
                </a:solidFill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logistics managemen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410080" y="4267080"/>
            <a:ext cx="3353040" cy="155700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Focused specifically on providing product availability at appropriate time &amp; pla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001000" y="380880"/>
            <a:ext cx="0" cy="1676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4920" y="137160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158320" y="304920"/>
            <a:ext cx="33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52240" y="1463400"/>
            <a:ext cx="477000" cy="654480"/>
          </a:xfrm>
          <a:prstGeom prst="line">
            <a:avLst/>
          </a:prstGeom>
          <a:ln w="284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5179680" y="1491480"/>
            <a:ext cx="334080" cy="617400"/>
          </a:xfrm>
          <a:prstGeom prst="line">
            <a:avLst/>
          </a:prstGeom>
          <a:ln w="284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04920" y="228600"/>
            <a:ext cx="1523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4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080560" y="69840"/>
            <a:ext cx="33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7840" y="1049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1523880"/>
            <a:ext cx="80769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18320" y="-2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001000" y="228600"/>
            <a:ext cx="0" cy="1676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7a8d"/>
                </a:solidFill>
                <a:latin typeface="Palatino"/>
              </a:rPr>
              <a:t>Marketing Channel Flows</a:t>
            </a:r>
            <a:endParaRPr b="0" lang="en-US" sz="28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7400" y="1749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527200" y="304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1676520"/>
            <a:ext cx="3733920" cy="914400"/>
          </a:xfrm>
          <a:prstGeom prst="flowChartPunchedTape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90720" y="19051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Product Flow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52480" y="2666880"/>
            <a:ext cx="3733920" cy="838440"/>
          </a:xfrm>
          <a:prstGeom prst="flowChartPunchedTape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3657600"/>
            <a:ext cx="3733920" cy="838080"/>
          </a:xfrm>
          <a:prstGeom prst="flowChartPunchedTape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9880" y="4724280"/>
            <a:ext cx="3733920" cy="838440"/>
          </a:xfrm>
          <a:prstGeom prst="flowChartPunchedTape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00600" y="5715000"/>
            <a:ext cx="3733920" cy="838080"/>
          </a:xfrm>
          <a:prstGeom prst="flowChartPunchedTape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029200" y="59436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Promotion Flow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62520" y="48769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Information Flow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95480" y="38098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Ownership Flow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81080" y="28195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Negotiation Flow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137160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001000" y="228600"/>
            <a:ext cx="0" cy="1676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155080" y="228600"/>
            <a:ext cx="33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roduct Flow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1752480"/>
            <a:ext cx="3048120" cy="685800"/>
          </a:xfrm>
          <a:prstGeom prst="rect">
            <a:avLst/>
          </a:prstGeom>
          <a:solidFill>
            <a:srgbClr val="b3b3b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Manufactur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143000" y="2666880"/>
            <a:ext cx="3200400" cy="838440"/>
          </a:xfrm>
          <a:prstGeom prst="rect">
            <a:avLst/>
          </a:prstGeom>
          <a:solidFill>
            <a:srgbClr val="b3b3b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Transportation Compan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133720" y="3733920"/>
            <a:ext cx="3200400" cy="838080"/>
          </a:xfrm>
          <a:prstGeom prst="rect">
            <a:avLst/>
          </a:prstGeom>
          <a:solidFill>
            <a:srgbClr val="b3b3b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Wholesal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4800600"/>
            <a:ext cx="3200400" cy="838080"/>
          </a:xfrm>
          <a:prstGeom prst="rect">
            <a:avLst/>
          </a:prstGeom>
          <a:solidFill>
            <a:srgbClr val="b3b3b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Retail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343400" y="5791320"/>
            <a:ext cx="3200400" cy="838080"/>
          </a:xfrm>
          <a:prstGeom prst="rect">
            <a:avLst/>
          </a:prstGeom>
          <a:solidFill>
            <a:srgbClr val="b3b3b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Consum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2925600">
            <a:off x="4483440" y="2678760"/>
            <a:ext cx="1214640" cy="73368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2925600">
            <a:off x="5550480" y="3745800"/>
            <a:ext cx="1214280" cy="73332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2925600">
            <a:off x="3569760" y="1687680"/>
            <a:ext cx="1214280" cy="73368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2925600">
            <a:off x="6693480" y="4812480"/>
            <a:ext cx="1214280" cy="73332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0880" y="137160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001000" y="228600"/>
            <a:ext cx="0" cy="1676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155080" y="228600"/>
            <a:ext cx="33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0880" y="1752480"/>
            <a:ext cx="3048120" cy="685800"/>
          </a:xfrm>
          <a:prstGeom prst="rect">
            <a:avLst/>
          </a:prstGeom>
          <a:solidFill>
            <a:srgbClr val="b3b3b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Manufactur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3581280"/>
            <a:ext cx="3200400" cy="838440"/>
          </a:xfrm>
          <a:prstGeom prst="rect">
            <a:avLst/>
          </a:prstGeom>
          <a:solidFill>
            <a:srgbClr val="b3b3b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Wholesal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124080" y="4648320"/>
            <a:ext cx="3200400" cy="838080"/>
          </a:xfrm>
          <a:prstGeom prst="rect">
            <a:avLst/>
          </a:prstGeom>
          <a:solidFill>
            <a:srgbClr val="b3b3b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Retail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95680" y="5715000"/>
            <a:ext cx="3200400" cy="838080"/>
          </a:xfrm>
          <a:prstGeom prst="rect">
            <a:avLst/>
          </a:prstGeom>
          <a:solidFill>
            <a:srgbClr val="b3b3b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Consum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13207200">
            <a:off x="-152280" y="3199680"/>
            <a:ext cx="2057400" cy="733320"/>
          </a:xfrm>
          <a:custGeom>
            <a:avLst/>
            <a:gdLst>
              <a:gd name="textAreaLeft" fmla="*/ 360000 w 2057400"/>
              <a:gd name="textAreaRight" fmla="*/ 1491840 w 205740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rot="2925600">
            <a:off x="5702760" y="3669480"/>
            <a:ext cx="1214280" cy="73332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rot="2925600">
            <a:off x="3550680" y="2062080"/>
            <a:ext cx="2209680" cy="733320"/>
          </a:xfrm>
          <a:custGeom>
            <a:avLst/>
            <a:gdLst>
              <a:gd name="textAreaLeft" fmla="*/ 386640 w 2209680"/>
              <a:gd name="textAreaRight" fmla="*/ 1602000 w 22096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rot="2925600">
            <a:off x="6845400" y="4736160"/>
            <a:ext cx="1214640" cy="73332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Negotiation Flow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14075400">
            <a:off x="1359360" y="4736160"/>
            <a:ext cx="1214640" cy="73332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4075400">
            <a:off x="2578680" y="5883480"/>
            <a:ext cx="1214280" cy="73332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Ownership Flow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153280" y="228600"/>
            <a:ext cx="0" cy="1676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307720" y="228600"/>
            <a:ext cx="33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3520" y="1752480"/>
            <a:ext cx="3047760" cy="685800"/>
          </a:xfrm>
          <a:prstGeom prst="rect">
            <a:avLst/>
          </a:prstGeom>
          <a:solidFill>
            <a:srgbClr val="b3b3b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Manufactur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0" y="3581280"/>
            <a:ext cx="3200400" cy="838440"/>
          </a:xfrm>
          <a:prstGeom prst="rect">
            <a:avLst/>
          </a:prstGeom>
          <a:solidFill>
            <a:srgbClr val="b3b3b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Wholesal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76720" y="4648320"/>
            <a:ext cx="3200400" cy="838080"/>
          </a:xfrm>
          <a:prstGeom prst="rect">
            <a:avLst/>
          </a:prstGeom>
          <a:solidFill>
            <a:srgbClr val="b3b3b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Retail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648320" y="5715000"/>
            <a:ext cx="3200400" cy="838080"/>
          </a:xfrm>
          <a:prstGeom prst="rect">
            <a:avLst/>
          </a:prstGeom>
          <a:solidFill>
            <a:srgbClr val="b3b3b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Consum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2925600">
            <a:off x="5627160" y="3668760"/>
            <a:ext cx="1214280" cy="73368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rot="2925600">
            <a:off x="3703320" y="2062080"/>
            <a:ext cx="2209680" cy="733680"/>
          </a:xfrm>
          <a:custGeom>
            <a:avLst/>
            <a:gdLst>
              <a:gd name="textAreaLeft" fmla="*/ 386640 w 2209680"/>
              <a:gd name="textAreaRight" fmla="*/ 1602000 w 22096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rot="2925600">
            <a:off x="6693120" y="4736160"/>
            <a:ext cx="1214640" cy="73332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14075400">
            <a:off x="1892880" y="4811760"/>
            <a:ext cx="1214280" cy="73332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14075400">
            <a:off x="3111840" y="5883840"/>
            <a:ext cx="1214280" cy="73368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nformation Flow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153280" y="228600"/>
            <a:ext cx="0" cy="1676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307720" y="228600"/>
            <a:ext cx="33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066680" y="1676520"/>
            <a:ext cx="3048120" cy="685800"/>
          </a:xfrm>
          <a:prstGeom prst="rect">
            <a:avLst/>
          </a:prstGeom>
          <a:solidFill>
            <a:srgbClr val="b3b3b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Manufactur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971800" y="3657600"/>
            <a:ext cx="3200400" cy="838080"/>
          </a:xfrm>
          <a:prstGeom prst="rect">
            <a:avLst/>
          </a:prstGeom>
          <a:solidFill>
            <a:srgbClr val="b3b3b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Wholesal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038480" y="4724280"/>
            <a:ext cx="3200400" cy="838440"/>
          </a:xfrm>
          <a:prstGeom prst="rect">
            <a:avLst/>
          </a:prstGeom>
          <a:solidFill>
            <a:srgbClr val="b3b3b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Retail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029200" y="5791320"/>
            <a:ext cx="3200400" cy="838080"/>
          </a:xfrm>
          <a:prstGeom prst="rect">
            <a:avLst/>
          </a:prstGeom>
          <a:solidFill>
            <a:srgbClr val="b3b3b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Consum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rot="2925600">
            <a:off x="6388560" y="3745800"/>
            <a:ext cx="1214280" cy="73332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rot="2925600">
            <a:off x="7378920" y="4736160"/>
            <a:ext cx="1214640" cy="73332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rot="14075400">
            <a:off x="3795480" y="5805360"/>
            <a:ext cx="914400" cy="885960"/>
          </a:xfrm>
          <a:custGeom>
            <a:avLst/>
            <a:gdLst>
              <a:gd name="textAreaLeft" fmla="*/ 159840 w 914400"/>
              <a:gd name="textAreaRight" fmla="*/ 663120 w 914400"/>
              <a:gd name="textAreaTop" fmla="*/ 118440 h 885960"/>
              <a:gd name="textAreaBottom" fmla="*/ 767520 h 885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2590920"/>
            <a:ext cx="3200400" cy="838080"/>
          </a:xfrm>
          <a:prstGeom prst="rect">
            <a:avLst/>
          </a:prstGeom>
          <a:solidFill>
            <a:srgbClr val="b3b3b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Transportation Compan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2925600">
            <a:off x="5321520" y="2678760"/>
            <a:ext cx="1214640" cy="73332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2925600">
            <a:off x="4331160" y="1612080"/>
            <a:ext cx="1214280" cy="73332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rot="14075400">
            <a:off x="2793600" y="4825800"/>
            <a:ext cx="936720" cy="885600"/>
          </a:xfrm>
          <a:custGeom>
            <a:avLst/>
            <a:gdLst>
              <a:gd name="textAreaLeft" fmla="*/ 163800 w 936720"/>
              <a:gd name="textAreaRight" fmla="*/ 679320 w 936720"/>
              <a:gd name="textAreaTop" fmla="*/ 118440 h 885600"/>
              <a:gd name="textAreaBottom" fmla="*/ 767160 h 885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rot="14075400">
            <a:off x="1738080" y="3747960"/>
            <a:ext cx="914400" cy="885960"/>
          </a:xfrm>
          <a:custGeom>
            <a:avLst/>
            <a:gdLst>
              <a:gd name="textAreaLeft" fmla="*/ 159840 w 914400"/>
              <a:gd name="textAreaRight" fmla="*/ 663120 w 914400"/>
              <a:gd name="textAreaTop" fmla="*/ 118440 h 885960"/>
              <a:gd name="textAreaBottom" fmla="*/ 767520 h 885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rot="14075400">
            <a:off x="825840" y="2602440"/>
            <a:ext cx="757440" cy="885600"/>
          </a:xfrm>
          <a:custGeom>
            <a:avLst/>
            <a:gdLst>
              <a:gd name="textAreaLeft" fmla="*/ 132480 w 757440"/>
              <a:gd name="textAreaRight" fmla="*/ 549360 w 757440"/>
              <a:gd name="textAreaTop" fmla="*/ 118440 h 885600"/>
              <a:gd name="textAreaBottom" fmla="*/ 767160 h 885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380880" y="2133720"/>
            <a:ext cx="609840" cy="0"/>
          </a:xfrm>
          <a:prstGeom prst="line">
            <a:avLst/>
          </a:prstGeom>
          <a:ln w="93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8600" y="2133720"/>
            <a:ext cx="0" cy="42670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04920" y="4343400"/>
            <a:ext cx="1295280" cy="0"/>
          </a:xfrm>
          <a:prstGeom prst="line">
            <a:avLst/>
          </a:prstGeom>
          <a:ln w="93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04920" y="5410080"/>
            <a:ext cx="2286000" cy="0"/>
          </a:xfrm>
          <a:prstGeom prst="line">
            <a:avLst/>
          </a:prstGeom>
          <a:ln w="93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04920" y="6172200"/>
            <a:ext cx="2895480" cy="0"/>
          </a:xfrm>
          <a:prstGeom prst="line">
            <a:avLst/>
          </a:prstGeom>
          <a:ln w="93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romotion Flow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1219320"/>
            <a:ext cx="80769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153280" y="228600"/>
            <a:ext cx="0" cy="1676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307720" y="228600"/>
            <a:ext cx="33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143000" y="1600200"/>
            <a:ext cx="3048120" cy="685800"/>
          </a:xfrm>
          <a:prstGeom prst="rect">
            <a:avLst/>
          </a:prstGeom>
          <a:solidFill>
            <a:srgbClr val="b3b3b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Manufactur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048120" y="3581280"/>
            <a:ext cx="3200400" cy="838440"/>
          </a:xfrm>
          <a:prstGeom prst="rect">
            <a:avLst/>
          </a:prstGeom>
          <a:solidFill>
            <a:srgbClr val="b3b3b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Wholesal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38480" y="4648320"/>
            <a:ext cx="3200400" cy="838080"/>
          </a:xfrm>
          <a:prstGeom prst="rect">
            <a:avLst/>
          </a:prstGeom>
          <a:solidFill>
            <a:srgbClr val="b3b3b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Retail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257800" y="5715000"/>
            <a:ext cx="3200400" cy="838080"/>
          </a:xfrm>
          <a:prstGeom prst="rect">
            <a:avLst/>
          </a:prstGeom>
          <a:solidFill>
            <a:srgbClr val="b3b3b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Consum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rot="2925600">
            <a:off x="6464520" y="3593160"/>
            <a:ext cx="1214640" cy="73332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2925600">
            <a:off x="7531560" y="4660200"/>
            <a:ext cx="1214280" cy="73332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rot="14075400">
            <a:off x="3917520" y="5759280"/>
            <a:ext cx="974880" cy="885600"/>
          </a:xfrm>
          <a:custGeom>
            <a:avLst/>
            <a:gdLst>
              <a:gd name="textAreaLeft" fmla="*/ 170640 w 974880"/>
              <a:gd name="textAreaRight" fmla="*/ 707040 w 974880"/>
              <a:gd name="textAreaTop" fmla="*/ 118440 h 885600"/>
              <a:gd name="textAreaBottom" fmla="*/ 767160 h 885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981080" y="2514600"/>
            <a:ext cx="3200400" cy="838080"/>
          </a:xfrm>
          <a:prstGeom prst="rect">
            <a:avLst/>
          </a:prstGeom>
          <a:solidFill>
            <a:srgbClr val="b3b3b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Advertising Agenc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rot="2925600">
            <a:off x="5474160" y="2526480"/>
            <a:ext cx="1214280" cy="73332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2925600">
            <a:off x="4407120" y="1535760"/>
            <a:ext cx="1214640" cy="73332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14075400">
            <a:off x="1856880" y="3552120"/>
            <a:ext cx="885960" cy="942840"/>
          </a:xfrm>
          <a:custGeom>
            <a:avLst/>
            <a:gdLst>
              <a:gd name="textAreaLeft" fmla="*/ 154800 w 885960"/>
              <a:gd name="textAreaRight" fmla="*/ 642240 w 885960"/>
              <a:gd name="textAreaTop" fmla="*/ 126360 h 942840"/>
              <a:gd name="textAreaBottom" fmla="*/ 816480 h 942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" y="1981080"/>
            <a:ext cx="0" cy="44197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228240" y="1981080"/>
            <a:ext cx="6858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6400800"/>
            <a:ext cx="3429000" cy="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685440" y="3048120"/>
            <a:ext cx="10666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85800" y="3048120"/>
            <a:ext cx="0" cy="31240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85800" y="4191120"/>
            <a:ext cx="990720" cy="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85800" y="5181480"/>
            <a:ext cx="2819520" cy="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85800" y="6172200"/>
            <a:ext cx="2971800" cy="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2590920"/>
            <a:ext cx="8686800" cy="38426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5b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600200"/>
            <a:ext cx="815364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Chapter 1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57240" y="462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80"/>
                </a:solidFill>
                <a:latin typeface="Geneva"/>
              </a:rPr>
              <a:t>    </a:t>
            </a:r>
            <a:r>
              <a:rPr b="0" i="1" lang="en-US" sz="3600" spc="-1" strike="noStrike">
                <a:solidFill>
                  <a:srgbClr val="000080"/>
                </a:solidFill>
                <a:latin typeface="Geneva"/>
              </a:rPr>
              <a:t>Marketing Channel Concepts</a:t>
            </a:r>
            <a:endParaRPr b="0" lang="en-US" sz="36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8120" y="2666880"/>
            <a:ext cx="24476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7a8d"/>
                </a:solidFill>
                <a:latin typeface="Palatino"/>
              </a:rPr>
              <a:t>Distribution through intermediaries</a:t>
            </a:r>
            <a:endParaRPr b="0" lang="en-US" sz="28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04920" y="204840"/>
            <a:ext cx="1447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5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08200" y="9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04920" y="1371600"/>
            <a:ext cx="80769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878600" y="16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001000" y="228600"/>
            <a:ext cx="0" cy="1676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155080" y="304920"/>
            <a:ext cx="33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04920" y="2743200"/>
            <a:ext cx="805176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80"/>
                </a:solidFill>
                <a:latin typeface="Geneva"/>
              </a:rPr>
              <a:t>  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Didot"/>
              </a:rPr>
              <a:t>Technology   </a:t>
            </a:r>
            <a:r>
              <a:rPr b="0" lang="en-US" sz="2000" spc="-1" strike="noStrike">
                <a:solidFill>
                  <a:srgbClr val="000080"/>
                </a:solidFill>
                <a:latin typeface="Didot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Didot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Didot"/>
              </a:rPr>
              <a:t>      </a:t>
            </a:r>
            <a:r>
              <a:rPr b="0" lang="en-US" sz="2800" spc="-1" strike="noStrike">
                <a:solidFill>
                  <a:srgbClr val="000080"/>
                </a:solidFill>
                <a:latin typeface="Didot"/>
              </a:rPr>
              <a:t>the Internet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Didot"/>
              </a:rPr>
              <a:t>Economic </a:t>
            </a:r>
            <a:r>
              <a:rPr b="0" lang="en-US" sz="2800" spc="-1" strike="noStrike">
                <a:solidFill>
                  <a:srgbClr val="000080"/>
                </a:solidFill>
                <a:latin typeface="Didot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Didot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Didot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Didot"/>
              </a:rPr>
              <a:t>     Specialization &amp;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Didot"/>
              </a:rPr>
              <a:t>Considerations </a:t>
            </a:r>
            <a:r>
              <a:rPr b="0" lang="en-US" sz="2800" spc="-1" strike="noStrike">
                <a:solidFill>
                  <a:srgbClr val="000080"/>
                </a:solidFill>
                <a:latin typeface="Didot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Didot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Didot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Didot"/>
              </a:rPr>
              <a:t>Division of Labor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Didot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Didot"/>
              </a:rPr>
              <a:t>	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Didot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Didot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Didot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Didot"/>
              </a:rPr>
              <a:t>         </a:t>
            </a:r>
            <a:r>
              <a:rPr b="0" lang="en-US" sz="2000" spc="-1" strike="noStrike">
                <a:solidFill>
                  <a:srgbClr val="000080"/>
                </a:solidFill>
                <a:latin typeface="Didot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Didot"/>
              </a:rPr>
              <a:t>       </a:t>
            </a:r>
            <a:r>
              <a:rPr b="0" lang="en-US" sz="2800" spc="-1" strike="noStrike">
                <a:solidFill>
                  <a:srgbClr val="000080"/>
                </a:solidFill>
                <a:latin typeface="Didot"/>
              </a:rPr>
              <a:t>Contactual Efficiency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895480" y="365760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895480" y="4724280"/>
            <a:ext cx="976320" cy="48600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38080" y="1676520"/>
            <a:ext cx="6553440" cy="1676160"/>
          </a:xfrm>
          <a:prstGeom prst="horizontalScroll">
            <a:avLst>
              <a:gd name="adj" fmla="val 12500"/>
            </a:avLst>
          </a:prstGeom>
          <a:solidFill>
            <a:srgbClr val="ff8000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pple Chancery"/>
              </a:rPr>
              <a:t>Factors that determine the role of intermediar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56844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04920" y="1676520"/>
            <a:ext cx="80769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81848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229600" y="228600"/>
            <a:ext cx="0" cy="1676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305920" y="228600"/>
            <a:ext cx="35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9860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12912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52280" y="190512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Times New Roman"/>
              </a:rPr>
              <a:t>Specialization &amp; Division of Labor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62120" y="2057400"/>
            <a:ext cx="3276360" cy="83808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Distribution Task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30856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648320" y="2057400"/>
            <a:ext cx="3352680" cy="83808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Production Task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85800" y="3200400"/>
            <a:ext cx="3352680" cy="99072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Distributed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Times New Roman"/>
              </a:rPr>
              <a:t>interorganizationally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648320" y="3200400"/>
            <a:ext cx="3352680" cy="99072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Distributed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Times New Roman"/>
              </a:rPr>
              <a:t>intraorganizationally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74848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5105520" y="4419720"/>
            <a:ext cx="2590560" cy="213984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2209680" y="3048120"/>
            <a:ext cx="0" cy="759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248520" y="3048120"/>
            <a:ext cx="0" cy="759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1066680" y="4495680"/>
            <a:ext cx="2667240" cy="21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7a8d"/>
                </a:solidFill>
                <a:latin typeface="Times New Roman"/>
              </a:rPr>
              <a:t>Contactual Efficiency</a:t>
            </a:r>
            <a:br>
              <a:rPr sz="2800"/>
            </a:br>
            <a:r>
              <a:rPr b="1" lang="en-US" sz="2800" spc="-1" strike="noStrike">
                <a:solidFill>
                  <a:srgbClr val="6e7a8d"/>
                </a:solidFill>
                <a:latin typeface="Times New Roman"/>
              </a:rPr>
              <a:t> Granada Guitar Co. </a:t>
            </a:r>
            <a:endParaRPr b="0" lang="en-US" sz="28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57480" y="11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80880" y="114300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93764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001000" y="228600"/>
            <a:ext cx="0" cy="12193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199720" y="249120"/>
            <a:ext cx="33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228600" y="1828800"/>
          <a:ext cx="8458200" cy="4824360"/>
        </p:xfrm>
        <a:graphic>
          <a:graphicData uri="http://schemas.openxmlformats.org/drawingml/2006/table">
            <a:tbl>
              <a:tblPr/>
              <a:tblGrid>
                <a:gridCol w="2344680"/>
                <a:gridCol w="2684520"/>
                <a:gridCol w="1676520"/>
                <a:gridCol w="1752480"/>
              </a:tblGrid>
              <a:tr h="143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Times New Roman"/>
                        </a:rPr>
                        <a:t>Negotiation Effort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8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80"/>
                      </a:solidFill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ee1a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Times New Roman"/>
                        </a:rPr>
                        <a:t>Estimated Dollar Costs of Inputs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80"/>
                      </a:solidFill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ee1a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Times New Roman"/>
                        </a:rPr>
                        <a:t>Distribution Objective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Times New Roman"/>
                        </a:rPr>
                        <a:t>(Output)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80"/>
                      </a:solidFill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ee1a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Times New Roman"/>
                        </a:rPr>
                        <a:t>Contactual Efficiency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8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ee1a9"/>
                        </a:gs>
                      </a:gsLst>
                      <a:lin ang="5400000"/>
                    </a:gradFill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Times New Roman"/>
                        </a:rPr>
                        <a:t>100 sales visits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Times New Roman"/>
                        </a:rPr>
                        <a:t>100 phone calls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Times New Roman"/>
                        </a:rPr>
                        <a:t>20 magazine 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Times New Roman"/>
                        </a:rPr>
                        <a:t>ads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8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ee1a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Times New Roman"/>
                        </a:rPr>
                        <a:t>@ $50   =  $5,000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Times New Roman"/>
                        </a:rPr>
                        <a:t>@     3   =       300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Times New Roman"/>
                        </a:rPr>
                        <a:t>@1,000 =  </a:t>
                      </a:r>
                      <a:r>
                        <a:rPr b="0" lang="en-US" sz="2400" spc="-1" strike="noStrike" u="sng">
                          <a:solidFill>
                            <a:srgbClr val="000080"/>
                          </a:solidFill>
                          <a:uFillTx/>
                          <a:latin typeface="Times New Roman"/>
                        </a:rPr>
                        <a:t>20,000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Times New Roman"/>
                        </a:rPr>
                        <a:t>                 </a:t>
                      </a: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Times New Roman"/>
                        </a:rPr>
                        <a:t>$25,300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ee1a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Times New Roman"/>
                        </a:rPr>
                        <a:t>Get 500 music stores to carry new guitar line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ee1a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Times New Roman"/>
                        </a:rPr>
                        <a:t>Negotiation effort in dollar terms relative to achieving the distribution objective = $25,300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ee1a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 flipH="1">
            <a:off x="304200" y="228600"/>
            <a:ext cx="1454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6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77880" y="96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04920" y="1523880"/>
            <a:ext cx="80769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618320" y="11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001000" y="228600"/>
            <a:ext cx="0" cy="1676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028000" y="30492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7a8d"/>
                </a:solidFill>
                <a:latin typeface="Palatino"/>
              </a:rPr>
              <a:t>Channel Structure </a:t>
            </a:r>
            <a:r>
              <a:rPr b="1" i="1" lang="en-US" sz="2800" spc="-1" strike="noStrike">
                <a:solidFill>
                  <a:srgbClr val="6e7a8d"/>
                </a:solidFill>
                <a:latin typeface="Palatino"/>
              </a:rPr>
              <a:t>v.</a:t>
            </a:r>
            <a:r>
              <a:rPr b="1" lang="en-US" sz="2800" spc="-1" strike="noStrike">
                <a:solidFill>
                  <a:srgbClr val="6e7a8d"/>
                </a:solidFill>
                <a:latin typeface="Palatino"/>
              </a:rPr>
              <a:t> Ancillary Structure</a:t>
            </a:r>
            <a:endParaRPr b="0" lang="en-US" sz="28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77720" y="1959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2280" y="1828800"/>
            <a:ext cx="4496040" cy="161856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Channel Structure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The group of channel members to which a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set of distribution tasks has been allocated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28600" y="4038480"/>
            <a:ext cx="4495680" cy="192348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Ancillary Structure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The group of institutions that 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assist channel members in performing 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distribution tasks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334120" y="2057400"/>
            <a:ext cx="2484360" cy="131364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Why are single-channel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structures currently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the exception?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162920" y="1905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958000" y="404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334120" y="4114800"/>
            <a:ext cx="2484360" cy="192348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Why is managing the ancillary structure most likely to be less complex than managing the channel structure?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097600" y="4759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800600" y="5029200"/>
            <a:ext cx="380880" cy="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724280" y="2666880"/>
            <a:ext cx="457200" cy="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e7a8d"/>
                </a:solidFill>
                <a:latin typeface="Palatino"/>
              </a:rPr>
              <a:t>Objectives</a:t>
            </a: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	</a:t>
            </a: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	</a:t>
            </a: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	</a:t>
            </a: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	</a:t>
            </a: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	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696080" cy="4495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dea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•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The growing importance of marketing channel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The definition of marketing channel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How marketing channels relate to strategic variables in the marketing mix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The flows in the marketing channels and their relationship to channel management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The principles of specialization, division of labor, and contactual efficiency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The difference between the concepts of channel structure and of ancillary structur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9360">
            <a:solidFill>
              <a:srgbClr val="6e7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778880" y="419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077320" y="304920"/>
            <a:ext cx="0" cy="1447560"/>
          </a:xfrm>
          <a:prstGeom prst="line">
            <a:avLst/>
          </a:prstGeom>
          <a:ln w="9360">
            <a:solidFill>
              <a:srgbClr val="6e7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05920" y="304920"/>
            <a:ext cx="3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1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129528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000080"/>
                </a:solidFill>
                <a:latin typeface="Geneva"/>
              </a:rPr>
              <a:t>Y</a:t>
            </a:r>
            <a:r>
              <a:rPr b="1" i="1" lang="en-US" sz="2400" spc="-1" strike="noStrike">
                <a:solidFill>
                  <a:srgbClr val="000080"/>
                </a:solidFill>
                <a:latin typeface="Geneva"/>
              </a:rPr>
              <a:t>ou will learn about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e7a8d"/>
                </a:solidFill>
                <a:latin typeface="Palatino"/>
              </a:rPr>
              <a:t>Why</a:t>
            </a:r>
            <a:r>
              <a:rPr b="1" lang="en-US" sz="2800" spc="-1" strike="noStrike">
                <a:solidFill>
                  <a:srgbClr val="6e7a8d"/>
                </a:solidFill>
                <a:latin typeface="Palatino"/>
              </a:rPr>
              <a:t> the growing importance of marketing channels?</a:t>
            </a:r>
            <a:r>
              <a:rPr b="1" i="1" lang="en-US" sz="2400" spc="-1" strike="noStrike">
                <a:solidFill>
                  <a:srgbClr val="6e7a8d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6e7a8d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1600200"/>
            <a:ext cx="80769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924680" y="380880"/>
            <a:ext cx="0" cy="15242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28640" y="114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167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7480" y="18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155080" y="380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2209680"/>
            <a:ext cx="6934320" cy="41173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db9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The explosion of information technology and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E-commer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A greater difficulty in gaining a sustainabl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competitive advantag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The growing power of distributors, especially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retailers in marketing channel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The need to reduce distribution cos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18288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8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1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57360" y="1079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228600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897680" y="50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8440" y="167472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4000" y="285840"/>
            <a:ext cx="6790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a8d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6e7a8d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6e7a8d"/>
                </a:solidFill>
                <a:latin typeface="Times New Roman"/>
              </a:rPr>
              <a:t>.</a:t>
            </a:r>
            <a:r>
              <a:rPr b="0" lang="en-US" sz="2000" spc="-1" strike="noStrike">
                <a:solidFill>
                  <a:srgbClr val="6e7a8d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2.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A greater difficulty in gaining a sustainable competitive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advantage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3.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The growing power of distributors, especially retailers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in marketing channels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4.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The need to reduce distribution costs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924680" y="533520"/>
            <a:ext cx="0" cy="21333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220240" y="328680"/>
            <a:ext cx="33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73040" y="2514600"/>
            <a:ext cx="4371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Yahoo!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eBa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Amazon.co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19400" y="31701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368360" y="240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7080" y="210024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The prediction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Times New Roman"/>
              </a:rPr>
              <a:t>Disintermediation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— reduction of number of intermediar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9080" y="23288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5320" y="3459240"/>
            <a:ext cx="159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The reality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3759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68560" y="3728880"/>
            <a:ext cx="75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Times New Roman"/>
              </a:rPr>
              <a:t>Reintermediation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—evolution of a new type of intermediar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a8d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6e7a8d"/>
                </a:solidFill>
                <a:latin typeface="Times New Roman"/>
              </a:rPr>
              <a:t>The explosion of information technology and E-commerce</a:t>
            </a:r>
            <a:endParaRPr b="0" lang="en-US" sz="20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00200" y="44197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8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09480" y="380880"/>
            <a:ext cx="670572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a8d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1.     The explosion of information technology and E-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commerce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e7a8d"/>
                </a:solidFill>
                <a:latin typeface="Times New Roman"/>
              </a:rPr>
              <a:t>2.</a:t>
            </a:r>
            <a:r>
              <a:rPr b="0" lang="en-US" sz="2000" spc="-1" strike="noStrike">
                <a:solidFill>
                  <a:srgbClr val="6e7a8d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3.     The growing power of distributors, especially retailers in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marketing channels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4.     The need to reduce distribution costs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91856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53280" y="228600"/>
            <a:ext cx="0" cy="2438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327880" y="1500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43828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59920" y="109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220240" y="27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762120"/>
            <a:ext cx="7696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a8d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6e7a8d"/>
                </a:solidFill>
                <a:latin typeface="Times New Roman"/>
              </a:rPr>
              <a:t>A greater difficulty in gaining a sustainable competitive advantage</a:t>
            </a:r>
            <a:endParaRPr b="0" lang="en-US" sz="20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2895480"/>
            <a:ext cx="3746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Place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distribution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), or Marketing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Channel Strategy 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3124080"/>
            <a:ext cx="2361960" cy="1191240"/>
          </a:xfrm>
          <a:prstGeom prst="rect">
            <a:avLst/>
          </a:prstGeom>
          <a:solidFill>
            <a:srgbClr val="ff8000"/>
          </a:solidFill>
          <a:ln w="9360">
            <a:solidFill>
              <a:srgbClr val="6e7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Sustainable competitive advantag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97360" y="335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68840" y="4179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68560" y="478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21531000">
            <a:off x="3657600" y="3047760"/>
            <a:ext cx="960480" cy="1377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80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18200" y="359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0840" y="4343400"/>
            <a:ext cx="3084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Times New Roman"/>
              </a:rPr>
              <a:t>Potential for gaining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Times New Roman"/>
              </a:rPr>
              <a:t>competitive advantag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Times New Roman"/>
              </a:rPr>
              <a:t>because place is mor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Times New Roman"/>
              </a:rPr>
              <a:t>difficult for competito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Times New Roman"/>
              </a:rPr>
              <a:t>to cop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05720" y="3886200"/>
            <a:ext cx="0" cy="38088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39880" y="336600"/>
            <a:ext cx="8410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1.     The explosion of information technology and E-commerce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2.     A greater difficulty in gaining a sustainable competitive advantage</a:t>
            </a:r>
            <a:r>
              <a:rPr b="0" lang="en-US" sz="2000" spc="-1" strike="noStrike">
                <a:solidFill>
                  <a:srgbClr val="6e7a8d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e7a8d"/>
                </a:solidFill>
                <a:latin typeface="Times New Roman"/>
              </a:rPr>
              <a:t>3.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4.     The need to reduce distribution costs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990720"/>
            <a:ext cx="5334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a8d"/>
                </a:solidFill>
                <a:latin typeface="Times New Roman"/>
              </a:rPr>
              <a:t>                    </a:t>
            </a:r>
            <a:r>
              <a:rPr b="0" lang="en-US" sz="2000" spc="-1" strike="noStrike">
                <a:solidFill>
                  <a:srgbClr val="6e7a8d"/>
                </a:solidFill>
                <a:latin typeface="Times New Roman"/>
              </a:rPr>
              <a:t>The growing power of distributors</a:t>
            </a:r>
            <a:endParaRPr b="0" lang="en-US" sz="20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7880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1880" y="228600"/>
            <a:ext cx="0" cy="21337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712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175248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83680" y="228600"/>
            <a:ext cx="33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85240" y="2070000"/>
            <a:ext cx="65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Power retailers as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of consumer marke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21337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0040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0388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00400" y="2057400"/>
            <a:ext cx="1523880" cy="457200"/>
          </a:xfrm>
          <a:prstGeom prst="rect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2057400"/>
            <a:ext cx="16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gatekeeper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62520" y="281952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45200" y="4170240"/>
            <a:ext cx="594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Act as buying agents for </a:t>
            </a:r>
            <a:r>
              <a:rPr b="0" i="1" lang="en-US" sz="2400" spc="-1" strike="noStrike">
                <a:solidFill>
                  <a:srgbClr val="000080"/>
                </a:solidFill>
                <a:latin typeface="Times New Roman"/>
              </a:rPr>
              <a:t>customers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rather tha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as selling agents for manufactur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009800" y="325440"/>
            <a:ext cx="841032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1.     The explosion of information technology and E-commerce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2.     A greater difficulty in gaining a sustainable competitive advantage</a:t>
            </a:r>
            <a:r>
              <a:rPr b="0" lang="en-US" sz="2000" spc="-1" strike="noStrike">
                <a:solidFill>
                  <a:srgbClr val="6e7a8d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3.     The growing power of distributors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e7a8d"/>
                </a:solidFill>
                <a:latin typeface="Times New Roman"/>
              </a:rPr>
              <a:t>4.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560" y="1066320"/>
            <a:ext cx="64767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a8d"/>
                </a:solidFill>
                <a:latin typeface="Times New Roman"/>
              </a:rPr>
              <a:t>The need to reduce distribution costs</a:t>
            </a:r>
            <a:endParaRPr b="0" lang="en-US" sz="20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67640" y="10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610480" y="228600"/>
            <a:ext cx="0" cy="21337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12808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1752480"/>
            <a:ext cx="83059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610480" y="22860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205740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Marketing channels are the most recent target for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reducing distribution cost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05320" y="39625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38480" y="53341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The focus is on channel </a:t>
            </a:r>
            <a:r>
              <a:rPr b="0" i="1" lang="en-US" sz="2400" spc="-1" strike="noStrike">
                <a:solidFill>
                  <a:srgbClr val="000080"/>
                </a:solidFill>
                <a:latin typeface="Times New Roman"/>
              </a:rPr>
              <a:t>structure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80"/>
                </a:solidFill>
                <a:latin typeface="Times New Roman"/>
              </a:rPr>
              <a:t>management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2280" y="4114800"/>
            <a:ext cx="3353040" cy="22255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562720" y="2133720"/>
            <a:ext cx="20174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What is a marketing channel?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358128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Palatino"/>
              </a:rPr>
              <a:t>External contactual organization that management operates to achieve its distribution objectiv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81880" y="792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9720" y="219240"/>
            <a:ext cx="33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27920" y="7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001000" y="22860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888320" y="11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1219320"/>
            <a:ext cx="80769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371600" y="1981080"/>
            <a:ext cx="0" cy="152424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1371600"/>
            <a:ext cx="2210040" cy="459720"/>
          </a:xfrm>
          <a:prstGeom prst="rect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side the fir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3276720" y="2438280"/>
            <a:ext cx="0" cy="106704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1905120"/>
            <a:ext cx="5105520" cy="459720"/>
          </a:xfrm>
          <a:prstGeom prst="rect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rm involved in negotiatory functi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5530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5308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33920" y="2590920"/>
            <a:ext cx="4114800" cy="825480"/>
          </a:xfrm>
          <a:prstGeom prst="rect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agement’s involvement in the proces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6720" y="4648320"/>
            <a:ext cx="4724280" cy="1922760"/>
          </a:xfrm>
          <a:prstGeom prst="rect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als that change, causing variati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contactual organization &amp; the way in which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agement operates i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60" y="152280"/>
            <a:ext cx="14461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2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791320" y="3504960"/>
            <a:ext cx="0" cy="759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562720" y="4343400"/>
            <a:ext cx="0" cy="2286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6T19:11:09Z</dcterms:created>
  <dc:creator>Kathryn Bundy</dc:creator>
  <dc:description/>
  <dc:language>en-US</dc:language>
  <cp:lastModifiedBy>TL User</cp:lastModifiedBy>
  <dcterms:modified xsi:type="dcterms:W3CDTF">2003-06-19T13:09:41Z</dcterms:modified>
  <cp:revision>159</cp:revision>
  <dc:subject/>
  <dc:title>Part 1</dc:title>
</cp:coreProperties>
</file>