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B83F-8E55-4FD8-852C-89A97B51E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FDCA-4AA1-414F-B722-0134F534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7DE7-3D2C-4B28-B6F0-3F61E30DA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5EB9-E0A7-40ED-92EA-993F238E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394C-C234-428C-94E4-E996CF06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D0DD-3711-4E5F-BE3D-C55A9BAA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16FC-509A-431C-BE62-7598A16D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C992-616C-4E93-A4CE-F9556849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D6F0-8E16-4D1A-8D43-89D28AC2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AD68-C716-4032-8FA4-77A98CB9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CB76-18EC-42B3-80AC-95A77F0B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3EB3-5C6F-40B1-9C2C-70F462B8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9226-9C27-4F10-A741-A68095FAC7DA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e7a8d"/>
                </a:solidFill>
                <a:latin typeface="Palatino"/>
              </a:rPr>
              <a:t>Part 1</a:t>
            </a:r>
            <a:endParaRPr b="0" lang="en-US" sz="60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bc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Geneva"/>
              </a:rPr>
              <a:t>Marketing Channel System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3429000"/>
            <a:ext cx="7238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0200" y="3124080"/>
            <a:ext cx="0" cy="2743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What is a channel manager?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123720" y="1905120"/>
            <a:ext cx="5257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80"/>
                </a:solidFill>
                <a:latin typeface="Times New Roman"/>
              </a:rPr>
              <a:t>Anyone in a firm or organization who is involved in marketing channel decision making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120160" y="20016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00100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152388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22860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3520" y="3429000"/>
            <a:ext cx="32763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57040" y="135000"/>
            <a:ext cx="1648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9810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67840" y="6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1880" y="228600"/>
            <a:ext cx="3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7a8d"/>
                </a:solidFill>
                <a:latin typeface="Times New Roman"/>
              </a:rPr>
              <a:t>How does marketing channel strategy relate to the </a:t>
            </a:r>
            <a:br>
              <a:rPr sz="2800"/>
            </a:br>
            <a:r>
              <a:rPr b="1" lang="en-US" sz="2800" spc="-1" strike="noStrike">
                <a:solidFill>
                  <a:srgbClr val="6e7a8d"/>
                </a:solidFill>
                <a:latin typeface="Times New Roman"/>
              </a:rPr>
              <a:t>rest of the marketing mix?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04920" y="2286000"/>
          <a:ext cx="7772400" cy="4363920"/>
        </p:xfrm>
        <a:graphic>
          <a:graphicData uri="http://schemas.openxmlformats.org/drawingml/2006/table">
            <a:tbl>
              <a:tblPr/>
              <a:tblGrid>
                <a:gridCol w="2058840"/>
                <a:gridCol w="5713560"/>
              </a:tblGrid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Marketing Mix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or 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the four Ps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6b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       </a:t>
                      </a:r>
                      <a:r>
                        <a:rPr b="1" i="1" lang="en-US" sz="28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Challenges</a:t>
                      </a:r>
                      <a:endParaRPr b="0" lang="en-US" sz="2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6b6"/>
                        </a:gs>
                      </a:gsLst>
                      <a:lin ang="5400000"/>
                    </a:gra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Product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6b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Limited ability to gain and hold competitive advantage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6b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Price wars erode profitability &amp; provide unstable basis for sustaining competitive advantage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Promotion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6b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Expensive and short-lived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Place (Distribution)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6b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Marketing channels support &amp; enhance other Ps to meet demands of target markets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8305920" y="380880"/>
            <a:ext cx="0" cy="1828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417760" y="7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3732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01000" y="38088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87280" y="10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144792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29600" y="27000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5680" y="16002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0040" y="154944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2160" y="4724280"/>
            <a:ext cx="117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19200" y="14889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Times New Roman"/>
              </a:rPr>
              <a:t>The change of focus to channel strateg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dea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reates competitive advantage with long-term viabili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uilds strong relationships between manufacturers and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ased on trust, confidence,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 people pow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629400" y="4114800"/>
            <a:ext cx="1711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7a8d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6e7a8d"/>
                </a:solidFill>
                <a:latin typeface="Times New Roman"/>
              </a:rPr>
              <a:t>Channel Strategy and Logistics Management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1447920"/>
            <a:ext cx="0" cy="228600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162920" y="1523880"/>
            <a:ext cx="0" cy="266724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09680" y="2209680"/>
            <a:ext cx="4114800" cy="4597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art of distribution variab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3886200"/>
            <a:ext cx="3276720" cy="247896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oncerned with entire process of starting and operating contactual organiz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ormulated </a:t>
            </a:r>
            <a:r>
              <a:rPr b="0" i="1" lang="en-US" sz="2400" spc="-1" strike="noStrike">
                <a:solidFill>
                  <a:srgbClr val="000080"/>
                </a:solidFill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logistics m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10080" y="4267080"/>
            <a:ext cx="3353040" cy="155700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ocused specifically on providing product availability at appropriate time &amp; pla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01000" y="38088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13716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58320" y="304920"/>
            <a:ext cx="33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52240" y="1463400"/>
            <a:ext cx="477000" cy="65448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179680" y="1491480"/>
            <a:ext cx="334080" cy="61740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4920" y="228600"/>
            <a:ext cx="152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080560" y="6984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7840" y="1049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52388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18320" y="-2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00100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Marketing Channel Flows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7400" y="174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27200" y="304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1676520"/>
            <a:ext cx="3733920" cy="914400"/>
          </a:xfrm>
          <a:prstGeom prst="flowChartPunchedTape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1905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roduct Flo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2666880"/>
            <a:ext cx="3733920" cy="838440"/>
          </a:xfrm>
          <a:prstGeom prst="flowChartPunchedTape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3657600"/>
            <a:ext cx="3733920" cy="838080"/>
          </a:xfrm>
          <a:prstGeom prst="flowChartPunchedTape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4724280"/>
            <a:ext cx="3733920" cy="838440"/>
          </a:xfrm>
          <a:prstGeom prst="flowChartPunchedTape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5715000"/>
            <a:ext cx="3733920" cy="838080"/>
          </a:xfrm>
          <a:prstGeom prst="flowChartPunchedTape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29200" y="5943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romotion Flo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4876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nformation Flo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95480" y="38098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Ownership Flo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81080" y="28195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Negotiation Flo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137160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0100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155080" y="22860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 Flow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1752480"/>
            <a:ext cx="3048120" cy="68580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2666880"/>
            <a:ext cx="3200400" cy="83844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ransportation Compan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33720" y="373392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Wholesa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480060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tai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343400" y="579132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2925600">
            <a:off x="4483440" y="2678760"/>
            <a:ext cx="1214640" cy="73368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2925600">
            <a:off x="5550480" y="374580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2925600">
            <a:off x="3569760" y="1687680"/>
            <a:ext cx="1214280" cy="73368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2925600">
            <a:off x="6693480" y="481248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137160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0100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155080" y="22860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1752480"/>
            <a:ext cx="3048120" cy="68580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3581280"/>
            <a:ext cx="3200400" cy="83844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Wholesa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24080" y="464832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tai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95680" y="571500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3207200">
            <a:off x="-152280" y="3199680"/>
            <a:ext cx="2057400" cy="733320"/>
          </a:xfrm>
          <a:custGeom>
            <a:avLst/>
            <a:gdLst>
              <a:gd name="textAreaLeft" fmla="*/ 360000 w 2057400"/>
              <a:gd name="textAreaRight" fmla="*/ 1491840 w 205740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2925600">
            <a:off x="5702760" y="366948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2925600">
            <a:off x="3550680" y="2062080"/>
            <a:ext cx="2209680" cy="73332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2925600">
            <a:off x="6845400" y="47361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Negotiation Flow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4075400">
            <a:off x="1359360" y="47361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4075400">
            <a:off x="2578680" y="588348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Ownership Flow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15328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07720" y="22860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1752480"/>
            <a:ext cx="3047760" cy="68580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0" y="3581280"/>
            <a:ext cx="3200400" cy="83844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Wholesa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76720" y="464832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tai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48320" y="571500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2925600">
            <a:off x="5627160" y="3668760"/>
            <a:ext cx="1214280" cy="73368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2925600">
            <a:off x="3703320" y="20620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2925600">
            <a:off x="6693120" y="47361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4075400">
            <a:off x="1892880" y="481176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14075400">
            <a:off x="3111840" y="5883840"/>
            <a:ext cx="1214280" cy="73368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formation Flow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15328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07720" y="22860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66680" y="1676520"/>
            <a:ext cx="3048120" cy="68580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71800" y="365760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Wholesa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38480" y="4724280"/>
            <a:ext cx="3200400" cy="83844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tai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29200" y="579132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rot="2925600">
            <a:off x="6388560" y="374580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2925600">
            <a:off x="7378920" y="47361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4075400">
            <a:off x="3795480" y="5805360"/>
            <a:ext cx="914400" cy="885960"/>
          </a:xfrm>
          <a:custGeom>
            <a:avLst/>
            <a:gdLst>
              <a:gd name="textAreaLeft" fmla="*/ 159840 w 914400"/>
              <a:gd name="textAreaRight" fmla="*/ 663120 w 914400"/>
              <a:gd name="textAreaTop" fmla="*/ 118440 h 885960"/>
              <a:gd name="textAreaBottom" fmla="*/ 767520 h 885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259092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ransportation Compan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2925600">
            <a:off x="5321520" y="26787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2925600">
            <a:off x="4331160" y="161208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4075400">
            <a:off x="2793600" y="4825800"/>
            <a:ext cx="936720" cy="885600"/>
          </a:xfrm>
          <a:custGeom>
            <a:avLst/>
            <a:gdLst>
              <a:gd name="textAreaLeft" fmla="*/ 163800 w 936720"/>
              <a:gd name="textAreaRight" fmla="*/ 679320 w 936720"/>
              <a:gd name="textAreaTop" fmla="*/ 118440 h 885600"/>
              <a:gd name="textAreaBottom" fmla="*/ 767160 h 885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4075400">
            <a:off x="1738080" y="3747960"/>
            <a:ext cx="914400" cy="885960"/>
          </a:xfrm>
          <a:custGeom>
            <a:avLst/>
            <a:gdLst>
              <a:gd name="textAreaLeft" fmla="*/ 159840 w 914400"/>
              <a:gd name="textAreaRight" fmla="*/ 663120 w 914400"/>
              <a:gd name="textAreaTop" fmla="*/ 118440 h 885960"/>
              <a:gd name="textAreaBottom" fmla="*/ 767520 h 885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4075400">
            <a:off x="825840" y="2602440"/>
            <a:ext cx="757440" cy="885600"/>
          </a:xfrm>
          <a:custGeom>
            <a:avLst/>
            <a:gdLst>
              <a:gd name="textAreaLeft" fmla="*/ 132480 w 757440"/>
              <a:gd name="textAreaRight" fmla="*/ 549360 w 757440"/>
              <a:gd name="textAreaTop" fmla="*/ 118440 h 885600"/>
              <a:gd name="textAreaBottom" fmla="*/ 767160 h 885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80880" y="2133720"/>
            <a:ext cx="60984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" y="2133720"/>
            <a:ext cx="0" cy="42670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920" y="4343400"/>
            <a:ext cx="129528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4920" y="5410080"/>
            <a:ext cx="228600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6172200"/>
            <a:ext cx="289548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motion Flow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15328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07720" y="22860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43000" y="1600200"/>
            <a:ext cx="3048120" cy="68580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48120" y="3581280"/>
            <a:ext cx="3200400" cy="83844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Wholesa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38480" y="464832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tai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257800" y="571500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2925600">
            <a:off x="6464520" y="35931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2925600">
            <a:off x="7531560" y="466020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14075400">
            <a:off x="3917520" y="5759280"/>
            <a:ext cx="974880" cy="885600"/>
          </a:xfrm>
          <a:custGeom>
            <a:avLst/>
            <a:gdLst>
              <a:gd name="textAreaLeft" fmla="*/ 170640 w 974880"/>
              <a:gd name="textAreaRight" fmla="*/ 707040 w 974880"/>
              <a:gd name="textAreaTop" fmla="*/ 118440 h 885600"/>
              <a:gd name="textAreaBottom" fmla="*/ 767160 h 885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981080" y="251460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Advertising Agenc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2925600">
            <a:off x="5474160" y="252648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2925600">
            <a:off x="4407120" y="15357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4075400">
            <a:off x="1856880" y="3552120"/>
            <a:ext cx="885960" cy="942840"/>
          </a:xfrm>
          <a:custGeom>
            <a:avLst/>
            <a:gdLst>
              <a:gd name="textAreaLeft" fmla="*/ 154800 w 885960"/>
              <a:gd name="textAreaRight" fmla="*/ 642240 w 885960"/>
              <a:gd name="textAreaTop" fmla="*/ 126360 h 942840"/>
              <a:gd name="textAreaBottom" fmla="*/ 816480 h 942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" y="1981080"/>
            <a:ext cx="0" cy="4419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228240" y="1981080"/>
            <a:ext cx="6858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6400800"/>
            <a:ext cx="342900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685440" y="3048120"/>
            <a:ext cx="10666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3048120"/>
            <a:ext cx="0" cy="31240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4191120"/>
            <a:ext cx="99072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5181480"/>
            <a:ext cx="281952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6172200"/>
            <a:ext cx="297180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2590920"/>
            <a:ext cx="8686800" cy="38426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5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600200"/>
            <a:ext cx="815364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1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i="1" lang="en-US" sz="3600" spc="-1" strike="noStrike">
                <a:solidFill>
                  <a:srgbClr val="000080"/>
                </a:solidFill>
                <a:latin typeface="Geneva"/>
              </a:rPr>
              <a:t>Marketing Channel Concepts</a:t>
            </a: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8120" y="2666880"/>
            <a:ext cx="24476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Distribution through intermediaries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204840"/>
            <a:ext cx="1447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04920" y="137160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00100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155080" y="30492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920" y="2743200"/>
            <a:ext cx="80517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80"/>
                </a:solidFill>
                <a:latin typeface="Geneva"/>
              </a:rPr>
              <a:t>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Technology   </a:t>
            </a:r>
            <a:r>
              <a:rPr b="0" lang="en-US" sz="20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Didot"/>
              </a:rPr>
              <a:t>      </a:t>
            </a: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the Interne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Economic </a:t>
            </a: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     Specialization &amp;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Considerations </a:t>
            </a: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Division of Labor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Didot"/>
              </a:rPr>
              <a:t>	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Didot"/>
              </a:rPr>
              <a:t>         </a:t>
            </a:r>
            <a:r>
              <a:rPr b="0" lang="en-US" sz="20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Didot"/>
              </a:rPr>
              <a:t>       </a:t>
            </a: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Contactual Efficiency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95480" y="365760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472428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8080" y="1676520"/>
            <a:ext cx="6553440" cy="1676160"/>
          </a:xfrm>
          <a:prstGeom prst="horizontalScroll">
            <a:avLst>
              <a:gd name="adj" fmla="val 12500"/>
            </a:avLst>
          </a:prstGeom>
          <a:solidFill>
            <a:srgbClr val="ff8000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pple Chancery"/>
              </a:rPr>
              <a:t>Factors that determine the role of 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167652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22960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05920" y="228600"/>
            <a:ext cx="3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Times New Roman"/>
              </a:rPr>
              <a:t>Specialization &amp; Division of Labor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2120" y="2057400"/>
            <a:ext cx="3276360" cy="8380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istribution Task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2057400"/>
            <a:ext cx="3352680" cy="8380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roduction Task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3200400"/>
            <a:ext cx="3352680" cy="9907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istributed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Times New Roman"/>
              </a:rPr>
              <a:t>interorganizationally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648320" y="3200400"/>
            <a:ext cx="3352680" cy="9907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istributed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Times New Roman"/>
              </a:rPr>
              <a:t>intraorganizationally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5105520" y="4419720"/>
            <a:ext cx="2590560" cy="213984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2209680" y="3048120"/>
            <a:ext cx="0" cy="759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248520" y="3048120"/>
            <a:ext cx="0" cy="759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1066680" y="4495680"/>
            <a:ext cx="2667240" cy="21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7a8d"/>
                </a:solidFill>
                <a:latin typeface="Times New Roman"/>
              </a:rPr>
              <a:t>Contactual Efficiency</a:t>
            </a:r>
            <a:br>
              <a:rPr sz="2800"/>
            </a:br>
            <a:r>
              <a:rPr b="1" lang="en-US" sz="2800" spc="-1" strike="noStrike">
                <a:solidFill>
                  <a:srgbClr val="6e7a8d"/>
                </a:solidFill>
                <a:latin typeface="Times New Roman"/>
              </a:rPr>
              <a:t> Granada Guitar Co. 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57480" y="11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0880" y="114300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93764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00100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199720" y="24912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228600" y="1828800"/>
          <a:ext cx="8458200" cy="4824360"/>
        </p:xfrm>
        <a:graphic>
          <a:graphicData uri="http://schemas.openxmlformats.org/drawingml/2006/table">
            <a:tbl>
              <a:tblPr/>
              <a:tblGrid>
                <a:gridCol w="2344680"/>
                <a:gridCol w="2684520"/>
                <a:gridCol w="1676520"/>
                <a:gridCol w="1752480"/>
              </a:tblGrid>
              <a:tr h="143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Negotiation Effort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8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1a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Estimated Dollar Costs of Input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8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1a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Distribution Objective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(Output)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8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1a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Contactual Efficiency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1a9"/>
                        </a:gs>
                      </a:gsLst>
                      <a:lin ang="5400000"/>
                    </a:gra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100 sales visit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100 phone call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20 magazine 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ad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1a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@ $50   =  $5,000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@     3   =       300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@1,000 =  </a:t>
                      </a:r>
                      <a:r>
                        <a:rPr b="0" lang="en-US" sz="2400" spc="-1" strike="noStrike" u="sng">
                          <a:solidFill>
                            <a:srgbClr val="000080"/>
                          </a:solidFill>
                          <a:uFillTx/>
                          <a:latin typeface="Times New Roman"/>
                        </a:rPr>
                        <a:t>20,000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$25,300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1a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Get 500 music stores to carry new guitar line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1a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Negotiation effort in dollar terms relative to achieving the distribution objective = $25,300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1a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 flipH="1">
            <a:off x="304200" y="228600"/>
            <a:ext cx="1454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7880" y="96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04920" y="152388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618320" y="11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00100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28000" y="30492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Channel Structure </a:t>
            </a:r>
            <a:r>
              <a:rPr b="1" i="1" lang="en-US" sz="2800" spc="-1" strike="noStrike">
                <a:solidFill>
                  <a:srgbClr val="6e7a8d"/>
                </a:solidFill>
                <a:latin typeface="Palatino"/>
              </a:rPr>
              <a:t>v.</a:t>
            </a: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 Ancillary Structure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77720" y="19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2280" y="1828800"/>
            <a:ext cx="4496040" cy="161856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Channel Structure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The group of channel members to which a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set of distribution tasks has been allocated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8600" y="4038480"/>
            <a:ext cx="4495680" cy="192348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Ancillary Structure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The group of institutions that 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assist channel members in performing 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distribution task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34120" y="2057400"/>
            <a:ext cx="2484360" cy="131364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Why are single-channel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structures currently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the exception?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162920" y="190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58000" y="404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4120" y="4114800"/>
            <a:ext cx="2484360" cy="192348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Why is managing the ancillary structure most likely to be less complex than managing the channel structure?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97600" y="475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00600" y="5029200"/>
            <a:ext cx="38088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724280" y="2666880"/>
            <a:ext cx="45720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e7a8d"/>
                </a:solidFill>
                <a:latin typeface="Palatino"/>
              </a:rPr>
              <a:t>Objectives</a:t>
            </a: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	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696080" cy="4495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dea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•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he growing importance of marketing channel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he definition of marketing channel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How marketing channels relate to strategic variables in the marketing mix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he flows in the marketing channels and their relationship to channel managemen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he principles of specialization, division of labor, and contactual efficiency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he difference between the concepts of channel structure and of ancillary structur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9360">
            <a:solidFill>
              <a:srgbClr val="6e7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77320" y="304920"/>
            <a:ext cx="0" cy="1447560"/>
          </a:xfrm>
          <a:prstGeom prst="line">
            <a:avLst/>
          </a:prstGeom>
          <a:ln w="9360">
            <a:solidFill>
              <a:srgbClr val="6e7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05920" y="304920"/>
            <a:ext cx="3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1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12952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80"/>
                </a:solidFill>
                <a:latin typeface="Geneva"/>
              </a:rPr>
              <a:t>Y</a:t>
            </a: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ou will learn abou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e7a8d"/>
                </a:solidFill>
                <a:latin typeface="Palatino"/>
              </a:rPr>
              <a:t>Why</a:t>
            </a: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 the growing importance of marketing channels?</a:t>
            </a:r>
            <a:r>
              <a:rPr b="1" i="1" lang="en-US" sz="2400" spc="-1" strike="noStrike">
                <a:solidFill>
                  <a:srgbClr val="6e7a8d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60020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924680" y="3808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7480" y="18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155080" y="380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2209680"/>
            <a:ext cx="6934320" cy="41173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db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he explosion of information technology an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-commer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A greater difficulty in gaining a sustainabl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ompetitive advanta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he growing power of distributors, especially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tailers in marketing 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he need to reduce distribution cos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8288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228600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8440" y="16747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4000" y="285840"/>
            <a:ext cx="6790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a8d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6e7a8d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2.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A greater difficulty in gaining a sustainable competitive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advantage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3.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The growing power of distributors, especially retailer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in marketing channel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4.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The need to reduce distribution cost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24680" y="533520"/>
            <a:ext cx="0" cy="21333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20240" y="32868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3040" y="2514600"/>
            <a:ext cx="4371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Yahoo!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Ba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Amazon.co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7080" y="210024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he predic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Times New Roman"/>
              </a:rPr>
              <a:t>Disintermediatio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— reduction of number of 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080" y="23288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320" y="345924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he realit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8560" y="372888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Times New Roman"/>
              </a:rPr>
              <a:t>Reintermediatio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—evolution of a new type of intermediar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The explosion of information technology and E-commerce</a:t>
            </a:r>
            <a:endParaRPr b="0" lang="en-US" sz="20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44197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380880"/>
            <a:ext cx="670572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a8d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1.     The explosion of information technology and E-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commerce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2.</a:t>
            </a: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3.     The growing power of distributors, especially retailers in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marketing channel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4.     The need to reduce distribution cost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53280" y="228600"/>
            <a:ext cx="0" cy="2438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4382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220240" y="27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a8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A greater difficulty in gaining a sustainable competitive advantage</a:t>
            </a:r>
            <a:endParaRPr b="0" lang="en-US" sz="20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2895480"/>
            <a:ext cx="374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Place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distribution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), or Marketing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Channel Strategy 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3124080"/>
            <a:ext cx="2361960" cy="1191240"/>
          </a:xfrm>
          <a:prstGeom prst="rect">
            <a:avLst/>
          </a:prstGeom>
          <a:solidFill>
            <a:srgbClr val="ff8000"/>
          </a:solidFill>
          <a:ln w="9360">
            <a:solidFill>
              <a:srgbClr val="6e7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Sustainable competitive advanta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21531000">
            <a:off x="3657600" y="3047760"/>
            <a:ext cx="960480" cy="1377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8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0840" y="4343400"/>
            <a:ext cx="308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Times New Roman"/>
              </a:rPr>
              <a:t>Potential for gain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Times New Roman"/>
              </a:rPr>
              <a:t>competitive advantag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Times New Roman"/>
              </a:rPr>
              <a:t>because place is mor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Times New Roman"/>
              </a:rPr>
              <a:t>difficult for competito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Times New Roman"/>
              </a:rPr>
              <a:t>to cop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05720" y="3886200"/>
            <a:ext cx="0" cy="38088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39880" y="336600"/>
            <a:ext cx="8410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1.     The explosion of information technology and E-commerce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2.     A greater difficulty in gaining a sustainable competitive advantage</a:t>
            </a: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3.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4.     The need to reduce distribution cost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990720"/>
            <a:ext cx="5334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a8d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The growing power of distributors</a:t>
            </a:r>
            <a:endParaRPr b="0" lang="en-US" sz="20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1880" y="228600"/>
            <a:ext cx="0" cy="2133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7524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3680" y="22860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85240" y="2070000"/>
            <a:ext cx="65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ower retailers as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of consumer 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2057400"/>
            <a:ext cx="1523880" cy="45720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205740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gatekeeper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28195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45200" y="4170240"/>
            <a:ext cx="594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Act as buying agents for </a:t>
            </a:r>
            <a:r>
              <a:rPr b="0" i="1" lang="en-US" sz="2400" spc="-1" strike="noStrike">
                <a:solidFill>
                  <a:srgbClr val="000080"/>
                </a:solidFill>
                <a:latin typeface="Times New Roman"/>
              </a:rPr>
              <a:t>customers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rather tha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as selling agents for manufactur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09800" y="325440"/>
            <a:ext cx="841032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1.     The explosion of information technology and E-commerce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2.     A greater difficulty in gaining a sustainable competitive advantage</a:t>
            </a: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3.     The growing power of distributor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4.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476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The need to reduce distribution costs</a:t>
            </a:r>
            <a:endParaRPr b="0" lang="en-US" sz="20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610480" y="228600"/>
            <a:ext cx="0" cy="2133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75248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61048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05740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arketing channels are the most recent target fo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ducing distribution cos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05320" y="39625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53341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he focus is on channel </a:t>
            </a:r>
            <a:r>
              <a:rPr b="0" i="1" lang="en-US" sz="2400" spc="-1" strike="noStrike">
                <a:solidFill>
                  <a:srgbClr val="000080"/>
                </a:solidFill>
                <a:latin typeface="Times New Roman"/>
              </a:rPr>
              <a:t>structure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80"/>
                </a:solidFill>
                <a:latin typeface="Times New Roman"/>
              </a:rPr>
              <a:t>managemen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280" y="4114800"/>
            <a:ext cx="3353040" cy="2225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562720" y="2133720"/>
            <a:ext cx="2017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What is a marketing channel?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35812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Palatino"/>
              </a:rPr>
              <a:t>External contactual organization that management operates to achieve its distribution objec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9720" y="21924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01000" y="22860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121932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371600" y="19810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371600"/>
            <a:ext cx="2210040" cy="45972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side the fir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276720" y="2438280"/>
            <a:ext cx="0" cy="10670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1905120"/>
            <a:ext cx="5105520" cy="45972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m involved in negotiatory func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33920" y="2590920"/>
            <a:ext cx="4114800" cy="82548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agement’s involvement in the proces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4648320"/>
            <a:ext cx="4724280" cy="192276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als that change, causing vari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ontactual organization &amp; the way in which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agement operates i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60" y="152280"/>
            <a:ext cx="1446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791320" y="3504960"/>
            <a:ext cx="0" cy="759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4343400"/>
            <a:ext cx="0" cy="2286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6T19:11:09Z</dcterms:created>
  <dc:creator>Kathryn Bundy</dc:creator>
  <dc:description/>
  <dc:language>en-US</dc:language>
  <cp:lastModifiedBy>TL User</cp:lastModifiedBy>
  <dcterms:modified xsi:type="dcterms:W3CDTF">2003-06-19T13:09:41Z</dcterms:modified>
  <cp:revision>159</cp:revision>
  <dc:subject/>
  <dc:title>Part 1</dc:title>
</cp:coreProperties>
</file>