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C0B-C3F8-471E-95D5-68938A92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358-AAFB-4429-9DFC-B7AAD57D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A30-C77A-435F-9D79-F5667737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631-A9A3-4D43-B108-C51B00A6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FA1-42E2-4B76-B54E-96A06616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A4E-AA8A-43AF-8BA3-C384168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AC3-24E1-47CF-BF46-185349C1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A69-9266-4CAC-95F9-A059FC16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1CF-D773-4BBE-B563-EB9B31F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928-6339-435D-BA5F-6B510BA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EAB-2843-4423-8D04-85F769F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C67-99FB-4C8F-9F30-9D151EC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A81-F530-4E6B-B277-903A60658D9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he Environment of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4768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ypes of Competi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438280"/>
            <a:ext cx="3124080" cy="12193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7d7d7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160" y="281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rizont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724280"/>
            <a:ext cx="312408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7040" y="5105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typ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905120"/>
            <a:ext cx="3124080" cy="121896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3c7c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038480"/>
            <a:ext cx="312444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0004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t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1640" y="4572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rizont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c5c5c5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0c5cd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5cad1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bdc2cb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6576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type Competition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600200"/>
            <a:ext cx="1371600" cy="129528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1240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242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8600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41008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73392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ertic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057400"/>
            <a:ext cx="838080" cy="167652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962520"/>
            <a:ext cx="838440" cy="1676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952880" y="1981080"/>
            <a:ext cx="15264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28840" y="3886200"/>
            <a:ext cx="15228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9200" y="373392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8840" y="563868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2057400"/>
            <a:ext cx="1371600" cy="3352680"/>
          </a:xfrm>
          <a:custGeom>
            <a:avLst/>
            <a:gdLst/>
            <a:ahLst/>
            <a:rect l="l" t="t" r="r" b="b"/>
            <a:pathLst>
              <a:path w="912" h="2208">
                <a:moveTo>
                  <a:pt x="912" y="0"/>
                </a:moveTo>
                <a:cubicBezTo>
                  <a:pt x="456" y="368"/>
                  <a:pt x="0" y="736"/>
                  <a:pt x="0" y="1104"/>
                </a:cubicBezTo>
                <a:cubicBezTo>
                  <a:pt x="0" y="1472"/>
                  <a:pt x="456" y="1840"/>
                  <a:pt x="912" y="2208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05740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4100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000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ystem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3733920"/>
            <a:ext cx="10670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Sociocultur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98160" y="1752480"/>
            <a:ext cx="4754160" cy="8254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0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vades all aspects of a socie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6480" y="3048120"/>
            <a:ext cx="4377960" cy="1557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6cec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both na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5400" y="5181480"/>
            <a:ext cx="5094000" cy="1191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0ded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wide variations 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s worldw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Develop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447920"/>
          <a:ext cx="7696080" cy="4952520"/>
        </p:xfrm>
        <a:graphic>
          <a:graphicData uri="http://schemas.openxmlformats.org/drawingml/2006/table">
            <a:tbl>
              <a:tblPr/>
              <a:tblGrid>
                <a:gridCol w="3848400"/>
                <a:gridCol w="3847680"/>
              </a:tblGrid>
              <a:tr h="35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opulation Ag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atter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thnic Mix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ducational Tren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Family or Househ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tructu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U.S. pop. Becom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oth younger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ld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of minority-own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usiness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evels = peopl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ore demand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maller &amp; more vari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Role of Wome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= changing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hopping nee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124080" y="1523880"/>
            <a:ext cx="838440" cy="381240"/>
          </a:xfrm>
          <a:custGeom>
            <a:avLst/>
            <a:gdLst>
              <a:gd name="textAreaLeft" fmla="*/ 131040 w 838440"/>
              <a:gd name="textAreaRight" fmla="*/ 73368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590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3276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876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1422360" cy="1625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52520" y="5715000"/>
            <a:ext cx="8035560" cy="8254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lp retailers &amp; wholesalers closely monitor success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lure of products they hand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447920"/>
            <a:ext cx="7696440" cy="2286000"/>
          </a:xfrm>
          <a:prstGeom prst="flowChartMerg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ann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uterized inventory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amp; Portable compu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371600"/>
            <a:ext cx="5029200" cy="2438280"/>
          </a:xfrm>
          <a:prstGeom prst="downArrowCallout">
            <a:avLst>
              <a:gd name="adj1" fmla="val 51570"/>
              <a:gd name="adj2" fmla="val 5156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152388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I -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47242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167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nks togethe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al-time respon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hanced by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124080"/>
            <a:ext cx="2666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=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nhanc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514600"/>
            <a:ext cx="4114800" cy="2819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704880 h 2819520"/>
              <a:gd name="textAreaBottom" fmla="*/ 211464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eler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1447920"/>
            <a:ext cx="289584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ute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opl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971800"/>
            <a:ext cx="1371600" cy="15238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bi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3276720"/>
            <a:ext cx="1676520" cy="13716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-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de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5486400"/>
            <a:ext cx="2819160" cy="10666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Ultra-wideb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3049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23880"/>
            <a:ext cx="8001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3808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600200"/>
            <a:ext cx="6324480" cy="2166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sists of all extern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ncontrollable factors within which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ing channels exi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191120"/>
            <a:ext cx="6927840" cy="22269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ffects channel members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an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nonmembers, such as facilitating agenci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ll channel participa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200400"/>
            <a:ext cx="961920" cy="1371600"/>
          </a:xfrm>
          <a:custGeom>
            <a:avLst/>
            <a:gdLst>
              <a:gd name="textAreaLeft" fmla="*/ 128880 w 961920"/>
              <a:gd name="textAreaRight" fmla="*/ 833040 w 961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Leg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92800" y="1828800"/>
            <a:ext cx="694116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t of laws that impact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5080" y="3886200"/>
            <a:ext cx="682704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inually evol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ed by changing values, norms, politic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preced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 of basics helps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serious &amp; costly leg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55000">
            <a:off x="34117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600" y="1676520"/>
            <a:ext cx="8030880" cy="4786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Sherman Antitrust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890;   Fundamental antimonopoly la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ublic welfare best served through competi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layton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Strengthen Sherman Antitrust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specific practices among competing fi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Federal Trade Commissi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Established FT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ower to investigate &amp; enfor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76520"/>
            <a:ext cx="7848720" cy="4359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Robinson-Patma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36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Allows price differentials to different custom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under specific circumsta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eller-Kefauver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50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vertical mergers &amp; acquisition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2280" y="152280"/>
            <a:ext cx="14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ual Distribution, or multi-channel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ducer or manufacturer uses 2 or more different channel structures for distributing the sam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xclusive Deal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its channel members to sell only its products or to refrain from selling directly to competitive 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ull-Line Forc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channel members to carry a full-line of its products in order to sell any particular products in supplier’s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t different prices to the same clas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Mainten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dictates prices charged by channel members to their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fusal to De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has right to refuse to deal with whomever they want as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30280" y="181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sale Restric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ufacturer attempts to stipulate to whom and in what geographical market channel members may resell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ying 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 product to a channel member on condition that the channel member also purchase another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ertical Integ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rm owns and operates organizations at other levels of the distributio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1360" y="472428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Non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47920"/>
            <a:ext cx="2514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120" y="1905120"/>
            <a:ext cx="249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1752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2133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arget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9528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lit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200400"/>
            <a:ext cx="175284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1337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133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638680"/>
            <a:ext cx="1828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9800" y="22096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 Narrow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733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03840" y="2057400"/>
            <a:ext cx="16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Locu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05740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conomic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44193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jor 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R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752480"/>
            <a:ext cx="266724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I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181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D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66520" y="3123720"/>
            <a:ext cx="381240" cy="381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123720"/>
            <a:ext cx="38088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es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76520"/>
            <a:ext cx="2971800" cy="25146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su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pora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20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36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572000"/>
            <a:ext cx="7239240" cy="2044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trategy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nufacturers provid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mber support by finan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high inventory cost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752480"/>
            <a:ext cx="4190760" cy="283680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sal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olu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it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rms caught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arge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5200" y="1092240"/>
            <a:ext cx="5787720" cy="13129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tinue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 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nding, fueling a recess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524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743200"/>
            <a:ext cx="8534520" cy="369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ossible channel 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manufacturer’s product mix from higher-pr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lower-pric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inventory burden on members wit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amlined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ter order processing &amp; delive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H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gher inventory turnover throug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371600"/>
            <a:ext cx="27432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676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240" y="2819520"/>
            <a:ext cx="7461000" cy="2715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lleng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 cost-induced price increases through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built-in cost pressures from labor contra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re negotiated several years earl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3353040" cy="173952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al interest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t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6002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419360" cy="2226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man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sts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029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962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680" y="304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3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45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371600"/>
            <a:ext cx="3192120" cy="332424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trong U.S. Dolla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ifficult to sel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s throug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028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362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029200"/>
            <a:ext cx="3200400" cy="1373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.S. produc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ess competit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Competitive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81080"/>
            <a:ext cx="7238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pple Chancery"/>
              </a:rPr>
              <a:t>Global in scop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76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19T15:38:18Z</dcterms:modified>
  <cp:revision>171</cp:revision>
  <dc:subject/>
  <dc:title>Part 1</dc:title>
</cp:coreProperties>
</file>