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045-900B-4798-BBC7-117B6FA1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22B-D643-4FCD-B8B3-3AB3BCD0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8EE-1BCF-4F19-BAB0-28F1ECAB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071-A3AC-4186-A1D1-6FA8B5FF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FDC-6798-453D-B028-15AB3428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148-F793-4FA4-998B-5C35FAC5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BC6-C21C-40FE-BD7D-07EB260A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A67-BB23-46C4-AF99-1C476061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284-7ADA-4729-8BA3-9E34C6F0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6E3-DE21-4D4B-8AFC-3ECFC3D1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7E5-E1A0-4FFB-A2AD-BF3D43F7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9DD-9325-4F3E-9BED-0D196D26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BAA8-AE5B-4A2D-A8BB-EC324A4A47F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3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he Environment of Marketing 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2047680" cy="2895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ypes of Competition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2438280"/>
            <a:ext cx="3124080" cy="12193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7d7d7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160" y="28195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rizont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724280"/>
            <a:ext cx="3124080" cy="121932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8cd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57040" y="5105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typ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1905120"/>
            <a:ext cx="3124080" cy="121896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3c7c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4038480"/>
            <a:ext cx="3124440" cy="121932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8cd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00040" y="2286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t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1640" y="45720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2160" y="4724280"/>
            <a:ext cx="11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rizontal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31240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c5c5c5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44956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0c5cd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4956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c5cad1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31240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d7dad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bdc2cb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2860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50292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657600"/>
            <a:ext cx="8384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type Competition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487692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600200"/>
            <a:ext cx="1371600" cy="129528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12408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72428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6e7a8d"/>
              </a:gs>
              <a:gs pos="100000">
                <a:srgbClr val="ccd0d6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28600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41008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3733920"/>
            <a:ext cx="8380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45820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Vertical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5238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487692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2057400"/>
            <a:ext cx="838080" cy="167652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0"/>
                </a:moveTo>
                <a:cubicBezTo>
                  <a:pt x="264" y="200"/>
                  <a:pt x="528" y="400"/>
                  <a:pt x="528" y="576"/>
                </a:cubicBezTo>
                <a:cubicBezTo>
                  <a:pt x="528" y="752"/>
                  <a:pt x="264" y="904"/>
                  <a:pt x="0" y="1056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962520"/>
            <a:ext cx="838440" cy="1676160"/>
          </a:xfrm>
          <a:custGeom>
            <a:avLst/>
            <a:gdLst/>
            <a:ahLst/>
            <a:rect l="l" t="t" r="r" b="b"/>
            <a:pathLst>
              <a:path w="528" h="1056">
                <a:moveTo>
                  <a:pt x="0" y="0"/>
                </a:moveTo>
                <a:cubicBezTo>
                  <a:pt x="264" y="200"/>
                  <a:pt x="528" y="400"/>
                  <a:pt x="528" y="576"/>
                </a:cubicBezTo>
                <a:cubicBezTo>
                  <a:pt x="528" y="752"/>
                  <a:pt x="264" y="904"/>
                  <a:pt x="0" y="1056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4952880" y="1981080"/>
            <a:ext cx="15264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028840" y="3886200"/>
            <a:ext cx="15228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029200" y="373392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028840" y="5638680"/>
            <a:ext cx="1522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2057400"/>
            <a:ext cx="1371600" cy="3352680"/>
          </a:xfrm>
          <a:custGeom>
            <a:avLst/>
            <a:gdLst/>
            <a:ahLst/>
            <a:rect l="l" t="t" r="r" b="b"/>
            <a:pathLst>
              <a:path w="912" h="2208">
                <a:moveTo>
                  <a:pt x="912" y="0"/>
                </a:moveTo>
                <a:cubicBezTo>
                  <a:pt x="456" y="368"/>
                  <a:pt x="0" y="736"/>
                  <a:pt x="0" y="1104"/>
                </a:cubicBezTo>
                <a:cubicBezTo>
                  <a:pt x="0" y="1472"/>
                  <a:pt x="456" y="1840"/>
                  <a:pt x="912" y="2208"/>
                </a:cubicBez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205740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5410080"/>
            <a:ext cx="763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6000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System 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47242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47242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200400"/>
            <a:ext cx="1447920" cy="10666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1752480"/>
            <a:ext cx="1447920" cy="10670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144792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617220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4120" y="617220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91520" y="1447920"/>
            <a:ext cx="0" cy="472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3733920"/>
            <a:ext cx="10670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188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Sociocultural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98160" y="1752480"/>
            <a:ext cx="4754160" cy="8254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a0d8d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vades all aspects of a socie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6480" y="3048120"/>
            <a:ext cx="4377960" cy="1557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86cec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both national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15400" y="5181480"/>
            <a:ext cx="5094000" cy="11912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b0ded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luences wide variations am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structures worldwi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ociocultural Develop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0666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80880" y="1447920"/>
          <a:ext cx="7696080" cy="4952520"/>
        </p:xfrm>
        <a:graphic>
          <a:graphicData uri="http://schemas.openxmlformats.org/drawingml/2006/table">
            <a:tbl>
              <a:tblPr/>
              <a:tblGrid>
                <a:gridCol w="3848400"/>
                <a:gridCol w="3847680"/>
              </a:tblGrid>
              <a:tr h="35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opulation Ag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attern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thnic Mix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ducational Tren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Family or Househol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tructur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U.S. pop. Becoming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both younger &amp;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older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# of minority-own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businesse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Levels = peopl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ore demanding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maller &amp; more varied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Role of Women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# = changing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shopping nee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124080" y="1523880"/>
            <a:ext cx="838440" cy="381240"/>
          </a:xfrm>
          <a:custGeom>
            <a:avLst/>
            <a:gdLst>
              <a:gd name="textAreaLeft" fmla="*/ 131040 w 838440"/>
              <a:gd name="textAreaRight" fmla="*/ 733680 w 8384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2590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3276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4876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059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1422360" cy="1625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52520" y="5715000"/>
            <a:ext cx="8035560" cy="82548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d7da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lp retailers &amp; wholesalers closely monitor success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lure of products they hand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447920"/>
            <a:ext cx="7696440" cy="2286000"/>
          </a:xfrm>
          <a:prstGeom prst="flowChartMerg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cann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uterized inventory mana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&amp; Portable comput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0592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371600"/>
            <a:ext cx="5029200" cy="2438280"/>
          </a:xfrm>
          <a:prstGeom prst="downArrowCallout">
            <a:avLst>
              <a:gd name="adj1" fmla="val 51570"/>
              <a:gd name="adj2" fmla="val 51565"/>
              <a:gd name="adj3" fmla="val 16667"/>
              <a:gd name="adj4" fmla="val 66667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1523880"/>
            <a:ext cx="35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I - Electron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chan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962520"/>
            <a:ext cx="472428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8167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inks together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ormation syst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real-time respon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nhanced by 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3600" y="3124080"/>
            <a:ext cx="2666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=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Enhanc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The Technological Environment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11430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532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9872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514600"/>
            <a:ext cx="4114800" cy="281952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704880 h 2819520"/>
              <a:gd name="textAreaBottom" fmla="*/ 2114640 h 28195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cceler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1447920"/>
            <a:ext cx="2895840" cy="9144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mputer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eople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2971800"/>
            <a:ext cx="1371600" cy="152388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bi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robo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3276720"/>
            <a:ext cx="1676520" cy="137160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3-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de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5486400"/>
            <a:ext cx="2819160" cy="106668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Ultra-wideb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Environment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304920"/>
            <a:ext cx="3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523880"/>
            <a:ext cx="8001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3808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600200"/>
            <a:ext cx="6324480" cy="2166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8b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nsists of all extern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uncontrollable factors within which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marketing channels exi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4191120"/>
            <a:ext cx="6927840" cy="222696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Affects channel members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and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nonmembers, such as facilitating agenci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All channel participa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200400"/>
            <a:ext cx="961920" cy="1371600"/>
          </a:xfrm>
          <a:custGeom>
            <a:avLst/>
            <a:gdLst>
              <a:gd name="textAreaLeft" fmla="*/ 128880 w 961920"/>
              <a:gd name="textAreaRight" fmla="*/ 833040 w 9619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1295280"/>
            <a:ext cx="8153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296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059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Legal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92800" y="1828800"/>
            <a:ext cx="6941160" cy="8254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set of laws that impact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55080" y="3886200"/>
            <a:ext cx="6827040" cy="265428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50000">
                <a:srgbClr val="ffcc66"/>
              </a:gs>
              <a:gs pos="100000">
                <a:srgbClr val="fe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inually evolv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ed by changing values, norms, politic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preced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 of basics helps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oid serious &amp; costly legal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55000">
            <a:off x="3411720" y="306468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Legislation Affecting Marketing Channels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732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240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0600" y="1676520"/>
            <a:ext cx="8030880" cy="4786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Sherman Antitrust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890;   Fundamental antimonopoly law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ublic welfare best served through competi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Clayton Act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14;   Strengthen Sherman Antitrust Act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specific practices among competing firm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Federal Trade Commissi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14;   Established FTC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ower to investigate &amp; enfor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Legislation Affecting Marketing Channel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676520"/>
            <a:ext cx="7848720" cy="43599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Robinson-Patma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36;   Amendment to Clayt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price discrimin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Allows price differentials to different custom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under specific circumsta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Celler-Kefauver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1950;   Amendment to Clayton Ac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Arial Narrow"/>
              </a:rPr>
              <a:t>Prohibits vertical mergers &amp; acquisition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30492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451000" y="2286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52280" y="152280"/>
            <a:ext cx="145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9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87680" y="3279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Dual Distribution, or multi-channel distribu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ducer or manufacturer uses 2 or more different channel structures for distributing the same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Exclusive Deal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requires its channel members to sell only its products or to refrain from selling directly to competitive suppli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ull-Line Forcing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requires channel members to carry a full-line of its products in order to sell any particular products in supplier’s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53452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rice Discrimin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sells at different prices to the same clas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Price Maintenan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dictates prices charged by channel members to their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Refusal to De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has right to refuse to deal with whomever they want as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 Issues in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630280" y="181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1676520"/>
            <a:ext cx="7848720" cy="449568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Resale Restriction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nufacturer attempts to stipulate to whom and in what geographical market channel members may resell the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ying Agre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plier sells a product to a channel member on condition that the channel member also purchase another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Vertical Integr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rm owns and operates organizations at other levels of the distribution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1360" y="472428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Non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articip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447920"/>
            <a:ext cx="2514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3120" y="1905120"/>
            <a:ext cx="249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nviron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ocio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mpet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eg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175248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&amp;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895480"/>
            <a:ext cx="2133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3962520"/>
            <a:ext cx="2133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arget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4952880"/>
            <a:ext cx="2133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acilit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genc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200400"/>
            <a:ext cx="175284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133720"/>
            <a:ext cx="0" cy="2286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133720"/>
            <a:ext cx="533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638680"/>
            <a:ext cx="18288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9800" y="2209680"/>
            <a:ext cx="14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 Narrow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articip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37339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03840" y="2057400"/>
            <a:ext cx="16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Locu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205740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40" y="1674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960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Economic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514600"/>
            <a:ext cx="441936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jor Econom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266688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Re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752480"/>
            <a:ext cx="266724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In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5181480"/>
            <a:ext cx="2666880" cy="1447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neva"/>
              </a:rPr>
              <a:t>De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666520" y="3123720"/>
            <a:ext cx="381240" cy="3812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86400" y="3123720"/>
            <a:ext cx="380880" cy="30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4724280"/>
            <a:ext cx="0" cy="30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cess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76520"/>
            <a:ext cx="2971800" cy="25146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sum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/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pora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nd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209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5146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36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572000"/>
            <a:ext cx="7239240" cy="2044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c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trategy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: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M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nufacturers provide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ember support by financ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high inventory cost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1752480"/>
            <a:ext cx="4190760" cy="283680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d sales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olu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fit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F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rms caught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arge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fl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5200" y="1092240"/>
            <a:ext cx="5787720" cy="13129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tinued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igh spend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nding, fueling a recess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524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743200"/>
            <a:ext cx="8534520" cy="3690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7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ossible channel 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 manufacturer’s product mix from higher-pr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lower-pric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e inventory burden on members with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eamlined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F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ter order processing &amp; delive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H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gher inventory turnover throug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onger promotional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1048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fl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1371600"/>
            <a:ext cx="2743200" cy="15570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676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5240" y="2819520"/>
            <a:ext cx="7461000" cy="2715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lleng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s cost-induced price increases through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built-in cost pressures from labor contra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re negotiated several years earli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ther Economic Facto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95280"/>
            <a:ext cx="3353040" cy="1739520"/>
          </a:xfrm>
          <a:prstGeom prst="rect">
            <a:avLst/>
          </a:prstGeom>
          <a:gradFill rotWithShape="0">
            <a:gsLst>
              <a:gs pos="0">
                <a:srgbClr val="fee6b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eal interest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rat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600200"/>
            <a:ext cx="457200" cy="762120"/>
          </a:xfrm>
          <a:prstGeom prst="upArrow">
            <a:avLst>
              <a:gd name="adj1" fmla="val 50000"/>
              <a:gd name="adj2" fmla="val 41673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038480"/>
            <a:ext cx="4419360" cy="2226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eman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osts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502920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962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49680" y="3048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3520" y="1523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45520" y="1523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9800" y="1371600"/>
            <a:ext cx="3192120" cy="3324240"/>
          </a:xfrm>
          <a:prstGeom prst="rect">
            <a:avLst/>
          </a:prstGeom>
          <a:gradFill rotWithShape="0">
            <a:gsLst>
              <a:gs pos="0">
                <a:srgbClr val="fee3a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trong U.S. Dolla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Difficult to sel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products throug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50280" y="4419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eneva"/>
              </a:rPr>
              <a:t>=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362320"/>
            <a:ext cx="0" cy="60948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029200"/>
            <a:ext cx="3200400" cy="1373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U.S. product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less competiti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Competitive Environ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981080"/>
            <a:ext cx="72388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pple Chancery"/>
              </a:rPr>
              <a:t>Global in scop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3276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6-19T15:38:18Z</dcterms:modified>
  <cp:revision>171</cp:revision>
  <dc:subject/>
  <dc:title>Part 1</dc:title>
</cp:coreProperties>
</file>