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D016-F65B-472F-8FD2-EB015A1FC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5ACB-D5B7-4C4C-8900-023F0F3C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7DE9-7068-47E5-A45A-05F512445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7C1F-02C2-4448-9A5D-01C3E8ECC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465B-2280-4F82-9BB7-C6F90369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7C11-D55B-4CEE-8442-D559D975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CF6C-2CA3-489F-9410-2A151E98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BAB8-6E76-4EB0-A49D-E9E15173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CCB0-239A-4C43-B1D6-F78B17D2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4B6A-4270-41EE-98C8-19F429D9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2BC0-0097-43FC-A26E-AF6CDDC3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B01F-7552-4C95-849F-4E2051EF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CD3A-D19E-4BDE-91AC-1DB3A3F599DC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3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191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The Environment of Marketing 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Channel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62520" y="2514600"/>
            <a:ext cx="2047680" cy="28954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0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12952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458200" y="152280"/>
            <a:ext cx="3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Types of Competition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2438280"/>
            <a:ext cx="3124080" cy="121932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7d7d7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76160" y="28195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orizont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4724280"/>
            <a:ext cx="3124080" cy="1219320"/>
          </a:xfrm>
          <a:prstGeom prst="rect">
            <a:avLst/>
          </a:prstGeom>
          <a:gradFill rotWithShape="0">
            <a:gsLst>
              <a:gs pos="0">
                <a:srgbClr val="6e7a8d"/>
              </a:gs>
              <a:gs pos="100000">
                <a:srgbClr val="c8cd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57040" y="510552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typ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1905120"/>
            <a:ext cx="3124080" cy="1218960"/>
          </a:xfrm>
          <a:prstGeom prst="rect">
            <a:avLst/>
          </a:prstGeom>
          <a:gradFill rotWithShape="0">
            <a:gsLst>
              <a:gs pos="0">
                <a:srgbClr val="6e7a8d"/>
              </a:gs>
              <a:gs pos="100000">
                <a:srgbClr val="c3c7c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4038480"/>
            <a:ext cx="3124440" cy="1219320"/>
          </a:xfrm>
          <a:prstGeom prst="rect">
            <a:avLst/>
          </a:prstGeom>
          <a:gradFill rotWithShape="0">
            <a:gsLst>
              <a:gs pos="0">
                <a:srgbClr val="6e7a8d"/>
              </a:gs>
              <a:gs pos="100000">
                <a:srgbClr val="c8cd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00040" y="22860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Vert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51640" y="4572000"/>
            <a:ext cx="24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Syste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417760" y="7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188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12952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0040" y="154944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92160" y="4724280"/>
            <a:ext cx="117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Horizontal Competi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38600" y="4329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81080" y="1752480"/>
            <a:ext cx="1447920" cy="10670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81080" y="3124080"/>
            <a:ext cx="1447920" cy="10670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c5c5c5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81080" y="4495680"/>
            <a:ext cx="1447920" cy="1067040"/>
          </a:xfrm>
          <a:prstGeom prst="rect">
            <a:avLst/>
          </a:prstGeom>
          <a:gradFill rotWithShape="0">
            <a:gsLst>
              <a:gs pos="0">
                <a:srgbClr val="6e7a8d"/>
              </a:gs>
              <a:gs pos="100000">
                <a:srgbClr val="c0c5cd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4495680"/>
            <a:ext cx="1447920" cy="1067040"/>
          </a:xfrm>
          <a:prstGeom prst="rect">
            <a:avLst/>
          </a:prstGeom>
          <a:gradFill rotWithShape="0">
            <a:gsLst>
              <a:gs pos="0">
                <a:srgbClr val="6e7a8d"/>
              </a:gs>
              <a:gs pos="100000">
                <a:srgbClr val="c5cad1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3124080"/>
            <a:ext cx="1447920" cy="1067040"/>
          </a:xfrm>
          <a:prstGeom prst="rect">
            <a:avLst/>
          </a:prstGeom>
          <a:gradFill rotWithShape="0">
            <a:gsLst>
              <a:gs pos="0">
                <a:srgbClr val="6e7a8d"/>
              </a:gs>
              <a:gs pos="100000">
                <a:srgbClr val="d7dad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1752480"/>
            <a:ext cx="1447920" cy="1067040"/>
          </a:xfrm>
          <a:prstGeom prst="rect">
            <a:avLst/>
          </a:prstGeom>
          <a:gradFill rotWithShape="0">
            <a:gsLst>
              <a:gs pos="0">
                <a:srgbClr val="6e7a8d"/>
              </a:gs>
              <a:gs pos="100000">
                <a:srgbClr val="bdc2cb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2286000"/>
            <a:ext cx="83844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5029200"/>
            <a:ext cx="83844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1280" y="3657600"/>
            <a:ext cx="83844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tertype Competition</a:t>
            </a: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05920" y="30492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45820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1752480"/>
            <a:ext cx="1447920" cy="10670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81080" y="3200400"/>
            <a:ext cx="1447920" cy="10666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81080" y="4876920"/>
            <a:ext cx="1447920" cy="10666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1600200"/>
            <a:ext cx="1371600" cy="1295280"/>
          </a:xfrm>
          <a:prstGeom prst="ellipse">
            <a:avLst/>
          </a:prstGeom>
          <a:gradFill rotWithShape="0">
            <a:gsLst>
              <a:gs pos="0">
                <a:srgbClr val="6e7a8d"/>
              </a:gs>
              <a:gs pos="100000">
                <a:srgbClr val="ccd0d6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52880" y="3124080"/>
            <a:ext cx="1371600" cy="1295640"/>
          </a:xfrm>
          <a:prstGeom prst="ellipse">
            <a:avLst/>
          </a:prstGeom>
          <a:gradFill rotWithShape="0">
            <a:gsLst>
              <a:gs pos="0">
                <a:srgbClr val="6e7a8d"/>
              </a:gs>
              <a:gs pos="100000">
                <a:srgbClr val="ccd0d6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724280"/>
            <a:ext cx="1371600" cy="1295640"/>
          </a:xfrm>
          <a:prstGeom prst="ellipse">
            <a:avLst/>
          </a:prstGeom>
          <a:gradFill rotWithShape="0">
            <a:gsLst>
              <a:gs pos="0">
                <a:srgbClr val="6e7a8d"/>
              </a:gs>
              <a:gs pos="100000">
                <a:srgbClr val="ccd0d6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2286000"/>
            <a:ext cx="83808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33920" y="5410080"/>
            <a:ext cx="83808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3733920"/>
            <a:ext cx="83808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7840" y="1049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99072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18320" y="-2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458200" y="15228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Vertical Competi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7400" y="174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27200" y="304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817640" y="20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8400" y="381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88000" y="524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23120" y="59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29000" y="1523880"/>
            <a:ext cx="1447920" cy="10670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29000" y="4876920"/>
            <a:ext cx="1447920" cy="10666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29000" y="3200400"/>
            <a:ext cx="1447920" cy="10666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05520" y="2057400"/>
            <a:ext cx="838080" cy="1676520"/>
          </a:xfrm>
          <a:custGeom>
            <a:avLst/>
            <a:gdLst/>
            <a:ahLst/>
            <a:rect l="l" t="t" r="r" b="b"/>
            <a:pathLst>
              <a:path w="528" h="1056">
                <a:moveTo>
                  <a:pt x="0" y="0"/>
                </a:moveTo>
                <a:cubicBezTo>
                  <a:pt x="264" y="200"/>
                  <a:pt x="528" y="400"/>
                  <a:pt x="528" y="576"/>
                </a:cubicBezTo>
                <a:cubicBezTo>
                  <a:pt x="528" y="752"/>
                  <a:pt x="264" y="904"/>
                  <a:pt x="0" y="1056"/>
                </a:cubicBezTo>
              </a:path>
            </a:pathLst>
          </a:custGeom>
          <a:noFill/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81480" y="3962520"/>
            <a:ext cx="838440" cy="1676160"/>
          </a:xfrm>
          <a:custGeom>
            <a:avLst/>
            <a:gdLst/>
            <a:ahLst/>
            <a:rect l="l" t="t" r="r" b="b"/>
            <a:pathLst>
              <a:path w="528" h="1056">
                <a:moveTo>
                  <a:pt x="0" y="0"/>
                </a:moveTo>
                <a:cubicBezTo>
                  <a:pt x="264" y="200"/>
                  <a:pt x="528" y="400"/>
                  <a:pt x="528" y="576"/>
                </a:cubicBezTo>
                <a:cubicBezTo>
                  <a:pt x="528" y="752"/>
                  <a:pt x="264" y="904"/>
                  <a:pt x="0" y="1056"/>
                </a:cubicBezTo>
              </a:path>
            </a:pathLst>
          </a:custGeom>
          <a:noFill/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4952880" y="1981080"/>
            <a:ext cx="152640" cy="763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5028840" y="3886200"/>
            <a:ext cx="152280" cy="763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029200" y="3733920"/>
            <a:ext cx="7632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028840" y="5638680"/>
            <a:ext cx="15228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28800" y="2057400"/>
            <a:ext cx="1371600" cy="3352680"/>
          </a:xfrm>
          <a:custGeom>
            <a:avLst/>
            <a:gdLst/>
            <a:ahLst/>
            <a:rect l="l" t="t" r="r" b="b"/>
            <a:pathLst>
              <a:path w="912" h="2208">
                <a:moveTo>
                  <a:pt x="912" y="0"/>
                </a:moveTo>
                <a:cubicBezTo>
                  <a:pt x="456" y="368"/>
                  <a:pt x="0" y="736"/>
                  <a:pt x="0" y="1104"/>
                </a:cubicBezTo>
                <a:cubicBezTo>
                  <a:pt x="0" y="1472"/>
                  <a:pt x="456" y="1840"/>
                  <a:pt x="912" y="2208"/>
                </a:cubicBezTo>
              </a:path>
            </a:pathLst>
          </a:custGeom>
          <a:noFill/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2057400"/>
            <a:ext cx="7632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5410080"/>
            <a:ext cx="7632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114300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0592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460000" y="22860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System Competi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81080" y="1752480"/>
            <a:ext cx="1447920" cy="10670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81080" y="4724280"/>
            <a:ext cx="1447920" cy="10670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81080" y="3200400"/>
            <a:ext cx="1447920" cy="10666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15000" y="4724280"/>
            <a:ext cx="1447920" cy="10670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15000" y="3200400"/>
            <a:ext cx="1447920" cy="10666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15000" y="1752480"/>
            <a:ext cx="1447920" cy="10670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52480" y="1447920"/>
            <a:ext cx="20574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1447920"/>
            <a:ext cx="20574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52480" y="1447920"/>
            <a:ext cx="0" cy="4724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34120" y="1447920"/>
            <a:ext cx="0" cy="4724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52480" y="6172200"/>
            <a:ext cx="20574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4120" y="6172200"/>
            <a:ext cx="20574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9880" y="1447920"/>
            <a:ext cx="0" cy="4724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91520" y="1447920"/>
            <a:ext cx="0" cy="4724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38480" y="3733920"/>
            <a:ext cx="106704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137160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38188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The Sociocultural Environment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98160" y="1752480"/>
            <a:ext cx="4754160" cy="8254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a0d8d8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vades all aspects of a socie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26480" y="3048120"/>
            <a:ext cx="4377960" cy="155700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86cece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fluences both national an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nation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ing 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15400" y="5181480"/>
            <a:ext cx="5094000" cy="11912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b0dede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fluences wide variations amo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structures worldwi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ociocultural Development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3520" y="106668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1532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380880" y="1447920"/>
          <a:ext cx="7696080" cy="4952520"/>
        </p:xfrm>
        <a:graphic>
          <a:graphicData uri="http://schemas.openxmlformats.org/drawingml/2006/table">
            <a:tbl>
              <a:tblPr/>
              <a:tblGrid>
                <a:gridCol w="3848400"/>
                <a:gridCol w="3847680"/>
              </a:tblGrid>
              <a:tr h="35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Population Age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Pattern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Ethnic Mix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Educational Trend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Family or Household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Structure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U.S. pop. Becoming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both younger &amp;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older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# of minority-owned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businesse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Levels = people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more demanding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Smaller &amp; more varied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Role of Women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# = changing 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shopping need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3124080" y="1523880"/>
            <a:ext cx="838440" cy="381240"/>
          </a:xfrm>
          <a:custGeom>
            <a:avLst/>
            <a:gdLst>
              <a:gd name="textAreaLeft" fmla="*/ 131040 w 838440"/>
              <a:gd name="textAreaRight" fmla="*/ 733680 w 8384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67080" y="259092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267080" y="327672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67080" y="487692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he Technological Environ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" y="12193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0592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47680" y="-5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7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581280" y="3886200"/>
            <a:ext cx="1422360" cy="16257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452520" y="5715000"/>
            <a:ext cx="8035560" cy="825480"/>
          </a:xfrm>
          <a:prstGeom prst="rect">
            <a:avLst/>
          </a:prstGeom>
          <a:gradFill rotWithShape="0">
            <a:gsLst>
              <a:gs pos="0">
                <a:srgbClr val="6e7a8d"/>
              </a:gs>
              <a:gs pos="100000">
                <a:srgbClr val="d7da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elp retailers &amp; wholesalers closely monitor success 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ailure of products they hand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1447920"/>
            <a:ext cx="7696440" cy="2286000"/>
          </a:xfrm>
          <a:prstGeom prst="flowChartMerg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canner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mputerized inventory managemen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&amp; Portable computer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he Technological Environ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305920" y="15228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3520" y="1371600"/>
            <a:ext cx="5029200" cy="2438280"/>
          </a:xfrm>
          <a:prstGeom prst="downArrowCallout">
            <a:avLst>
              <a:gd name="adj1" fmla="val 51570"/>
              <a:gd name="adj2" fmla="val 51565"/>
              <a:gd name="adj3" fmla="val 16667"/>
              <a:gd name="adj4" fmla="val 66667"/>
            </a:avLst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219320" y="1523880"/>
            <a:ext cx="352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DI - Electronic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at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chan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62120" y="3962520"/>
            <a:ext cx="4724280" cy="26542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8167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inks together channe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formation syste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vides real-time respon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nhanced by Intern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943600" y="3124080"/>
            <a:ext cx="26668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80"/>
                </a:solidFill>
                <a:latin typeface="Geneva"/>
              </a:rPr>
              <a:t>= </a:t>
            </a: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Enhanced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Distribu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Efficiency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The Technological Environment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04920" y="114300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1532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298720" y="22860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133720" y="2514600"/>
            <a:ext cx="4114800" cy="2819520"/>
          </a:xfrm>
          <a:custGeom>
            <a:avLst/>
            <a:gdLst>
              <a:gd name="textAreaLeft" fmla="*/ 1028520 w 4114800"/>
              <a:gd name="textAreaRight" fmla="*/ 3086280 w 4114800"/>
              <a:gd name="textAreaTop" fmla="*/ 704880 h 2819520"/>
              <a:gd name="textAreaBottom" fmla="*/ 2114640 h 281952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ccelera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echnolo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895480" y="1447920"/>
            <a:ext cx="2895840" cy="914400"/>
          </a:xfrm>
          <a:prstGeom prst="rect">
            <a:avLst/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omputer sa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People”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9480" y="2971800"/>
            <a:ext cx="1371600" cy="1523880"/>
          </a:xfrm>
          <a:prstGeom prst="rect">
            <a:avLst/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obi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robo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00800" y="3276720"/>
            <a:ext cx="1676520" cy="1371600"/>
          </a:xfrm>
          <a:prstGeom prst="rect">
            <a:avLst/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3-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odel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19520" y="5486400"/>
            <a:ext cx="2819160" cy="1066680"/>
          </a:xfrm>
          <a:prstGeom prst="rect">
            <a:avLst/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Ultra-wideba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echnolo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The Environment</a:t>
            </a: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05920" y="304920"/>
            <a:ext cx="3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523880"/>
            <a:ext cx="8001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77320" y="3808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1600200"/>
            <a:ext cx="6324480" cy="2166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8b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onsists of all externa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uncontrollable factors within which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marketing channels exis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4191120"/>
            <a:ext cx="6927840" cy="2226960"/>
          </a:xfrm>
          <a:prstGeom prst="rect">
            <a:avLst/>
          </a:prstGeom>
          <a:gradFill rotWithShape="0">
            <a:gsLst>
              <a:gs pos="0">
                <a:srgbClr val="fee8b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Affects channel members </a:t>
            </a: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and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nonmembers, such as facilitating agencie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=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All channel participan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3200400"/>
            <a:ext cx="961920" cy="1371600"/>
          </a:xfrm>
          <a:custGeom>
            <a:avLst/>
            <a:gdLst>
              <a:gd name="textAreaLeft" fmla="*/ 128880 w 961920"/>
              <a:gd name="textAreaRight" fmla="*/ 833040 w 96192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920" y="1295280"/>
            <a:ext cx="81532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22960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305920" y="228600"/>
            <a:ext cx="3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The Legal Environment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92800" y="1828800"/>
            <a:ext cx="6941160" cy="82548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 set of laws that impact marketing 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55080" y="3886200"/>
            <a:ext cx="6827040" cy="2654280"/>
          </a:xfrm>
          <a:prstGeom prst="rect">
            <a:avLst/>
          </a:prstGeom>
          <a:gradFill rotWithShape="0">
            <a:gsLst>
              <a:gs pos="0">
                <a:srgbClr val="fef3de"/>
              </a:gs>
              <a:gs pos="50000">
                <a:srgbClr val="ffcc66"/>
              </a:gs>
              <a:gs pos="100000">
                <a:srgbClr val="fef3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tinually evolv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ffected by changing values, norms, politics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&amp; precede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Knowledge of basics helps channel manag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void serious &amp; costly legal proble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5355000">
            <a:off x="3411720" y="306468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Legislation Affecting Marketing Channels</a:t>
            </a: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57480" y="11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0880" y="137160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93764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07732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222400" y="22860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0600" y="1676520"/>
            <a:ext cx="8030880" cy="47865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 Narrow"/>
              </a:rPr>
              <a:t>Sherman Antitrust Ac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1890;   Fundamental antimonopoly law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 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Public welfare best served through competi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 Narrow"/>
              </a:rPr>
              <a:t>Clayton Act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1914;   Strengthen Sherman Antitrust Act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 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Prohibits specific practices among competing firm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 Narrow"/>
              </a:rPr>
              <a:t>Federal Trade Commission Ac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1914;   Established FTC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 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Power to investigate &amp; enforc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77880" y="96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0880" y="12952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618320" y="11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0592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458200" y="15228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Legislation Affecting Marketing Channels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7720" y="19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162920" y="190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958000" y="404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097600" y="475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880" y="1676520"/>
            <a:ext cx="7848720" cy="43599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 Narrow"/>
              </a:rPr>
              <a:t>Robinson-Patman Ac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1936;   Amendment to Clayton Ac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 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Prohibits price discrimina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 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Allows price differentials to different customer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under specific circumstanc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 Narrow"/>
              </a:rPr>
              <a:t>Celler-Kefauver Ac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1950;   Amendment to Clayton Ac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 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Prohibits vertical mergers &amp; acquisition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Legal Issues in Channel Manage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0880" y="137160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305920" y="30492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451000" y="2286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152280" y="152280"/>
            <a:ext cx="1454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9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487680" y="32796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• 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Dual Distribution, or multi-channel distribu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roducer or manufacturer uses 2 or more different channel structures for distributing the same 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Exclusive Dealing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upplier requires its channel members to sell only its products or to refrain from selling directly to competitive suppli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•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ull-Line Forcing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upplier requires channel members to carry a full-line of its products in order to sell any particular products in supplier’s lin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Legal Issues in Channel Manage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534520" y="22860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848720" cy="449568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• 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Price Discrimina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upplier sells at different prices to the same class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Price Maintenanc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upplier dictates prices charged by channel members to their custo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• 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Refusal to Dea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upplier has right to refuse to deal with whomever they want as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Legal Issues in Channel Manage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53452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630280" y="181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09480" y="1676520"/>
            <a:ext cx="7848720" cy="449568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Narrow"/>
              </a:rPr>
              <a:t>• 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Resale Restriction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anufacturer attempts to stipulate to whom and in what geographical market channel members may resell the manufacturer’s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Tying Agreemen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upplier sells a product to a channel member on condition that the channel member also purchase another 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Narrow"/>
              </a:rPr>
              <a:t>• 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Vertical Integra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irm owns and operates organizations at other levels of the distribution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10666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58200" y="30492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7480" y="18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87400" y="201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51360" y="4724280"/>
            <a:ext cx="155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Nonme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participa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he Environ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447920"/>
            <a:ext cx="2514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3120" y="1905120"/>
            <a:ext cx="2497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nviron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conomic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ociocultur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ompetit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echnolog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Leg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81480" y="1752480"/>
            <a:ext cx="21337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oduc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&amp; Manufactur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81480" y="2895480"/>
            <a:ext cx="21337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3962520"/>
            <a:ext cx="2133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arget 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4952880"/>
            <a:ext cx="2133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acilita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genc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3200400"/>
            <a:ext cx="175284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2133720"/>
            <a:ext cx="0" cy="2286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133720"/>
            <a:ext cx="53352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4419720"/>
            <a:ext cx="53352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5638680"/>
            <a:ext cx="182880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9800" y="2209680"/>
            <a:ext cx="14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 Narrow"/>
              </a:rPr>
              <a:t>  </a:t>
            </a: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Me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participa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2743200"/>
            <a:ext cx="0" cy="763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5880" y="3733920"/>
            <a:ext cx="0" cy="759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03840" y="2057400"/>
            <a:ext cx="16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Locus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67480" y="2057400"/>
            <a:ext cx="76320" cy="1371600"/>
          </a:xfrm>
          <a:custGeom>
            <a:avLst/>
            <a:gdLst>
              <a:gd name="textAreaLeft" fmla="*/ 0 w 76320"/>
              <a:gd name="textAreaRight" fmla="*/ 2736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37160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8440" y="16747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29600" y="30492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74680" y="30636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The Economic Environment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33720" y="2514600"/>
            <a:ext cx="4419360" cy="2133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c66"/>
              </a:gs>
              <a:gs pos="100000">
                <a:srgbClr val="fee9b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jor Economic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r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752480"/>
            <a:ext cx="2666880" cy="14479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eneva"/>
              </a:rPr>
              <a:t>Recess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1752480"/>
            <a:ext cx="2667240" cy="14479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eneva"/>
              </a:rPr>
              <a:t>Infl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71800" y="5181480"/>
            <a:ext cx="2666880" cy="14479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eneva"/>
              </a:rPr>
              <a:t>Defl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2666520" y="3123720"/>
            <a:ext cx="381240" cy="3812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86400" y="3123720"/>
            <a:ext cx="380880" cy="3049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4724280"/>
            <a:ext cx="0" cy="3049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458200" y="15228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2952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Recess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676520"/>
            <a:ext cx="2971800" cy="2514600"/>
          </a:xfrm>
          <a:prstGeom prst="rect">
            <a:avLst/>
          </a:prstGeom>
          <a:gradFill rotWithShape="0">
            <a:gsLst>
              <a:gs pos="0">
                <a:srgbClr val="fee4b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nsume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/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porat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pend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22096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05320" y="25146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3600" spc="-1" strike="noStrike">
                <a:solidFill>
                  <a:srgbClr val="000080"/>
                </a:solidFill>
                <a:latin typeface="Geneva"/>
              </a:rPr>
              <a:t>=</a:t>
            </a: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2209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4572000"/>
            <a:ext cx="7239240" cy="20444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c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Chann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strategy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: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M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anufacturers provide channe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member support by financ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high inventory cost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19720" y="1752480"/>
            <a:ext cx="4190760" cy="283680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R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duced sales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volum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R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duce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fitabili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F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rms caught wi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arge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vento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99072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52732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fla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65200" y="1092240"/>
            <a:ext cx="5787720" cy="131292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ntinued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igh spend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nding, fueling a recessio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17524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2743200"/>
            <a:ext cx="8534520" cy="3690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7b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Possible channel 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R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duce manufacturer’s product mix from higher-pr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lower-price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R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duce inventory burden on members with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eamlined product lin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F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ster order processing &amp; deliver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H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gher inventory turnover through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onger promotional suppo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61048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14300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61048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efla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95480" y="1371600"/>
            <a:ext cx="2743200" cy="1557000"/>
          </a:xfrm>
          <a:prstGeom prst="rect">
            <a:avLst/>
          </a:prstGeom>
          <a:gradFill rotWithShape="0">
            <a:gsLst>
              <a:gs pos="0">
                <a:srgbClr val="fee4b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i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0400" y="1676520"/>
            <a:ext cx="457200" cy="76176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5240" y="2819520"/>
            <a:ext cx="7461000" cy="2715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9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Challenge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P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ss cost-induced price increases through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en built-in cost pressures from labor contract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ere negotiated several years earli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0592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99072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Other Economic Facto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295280"/>
            <a:ext cx="3353040" cy="1739520"/>
          </a:xfrm>
          <a:prstGeom prst="rect">
            <a:avLst/>
          </a:prstGeom>
          <a:gradFill rotWithShape="0">
            <a:gsLst>
              <a:gs pos="0">
                <a:srgbClr val="fee6b6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 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Real interest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 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rat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1600200"/>
            <a:ext cx="457200" cy="762120"/>
          </a:xfrm>
          <a:prstGeom prst="upArrow">
            <a:avLst>
              <a:gd name="adj1" fmla="val 50000"/>
              <a:gd name="adj2" fmla="val 41673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038480"/>
            <a:ext cx="4419360" cy="22269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5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 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Demand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 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 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osts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5029200"/>
            <a:ext cx="457200" cy="838080"/>
          </a:xfrm>
          <a:prstGeom prst="upArrow">
            <a:avLst>
              <a:gd name="adj1" fmla="val 50000"/>
              <a:gd name="adj2" fmla="val 45827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3962520"/>
            <a:ext cx="457200" cy="838080"/>
          </a:xfrm>
          <a:prstGeom prst="downArrow">
            <a:avLst>
              <a:gd name="adj1" fmla="val 50000"/>
              <a:gd name="adj2" fmla="val 45827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49680" y="30481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=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3520" y="152388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1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45520" y="152388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19800" y="1371600"/>
            <a:ext cx="3192120" cy="3324240"/>
          </a:xfrm>
          <a:prstGeom prst="rect">
            <a:avLst/>
          </a:prstGeom>
          <a:gradFill rotWithShape="0">
            <a:gsLst>
              <a:gs pos="0">
                <a:srgbClr val="fee3ad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Strong U.S. Dollar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Difficult to sel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products through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hannel member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50280" y="4419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=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362320"/>
            <a:ext cx="0" cy="60948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10080" y="5029200"/>
            <a:ext cx="3200400" cy="13737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9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U.S. product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less competitiv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The Competitive Environment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3716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1981080"/>
            <a:ext cx="723888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pple Chancery"/>
              </a:rPr>
              <a:t>Global in scop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114800" y="3429000"/>
            <a:ext cx="32767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6-19T15:38:18Z</dcterms:modified>
  <cp:revision>171</cp:revision>
  <dc:subject/>
  <dc:title>Part 1</dc:title>
</cp:coreProperties>
</file>