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743-D1F2-47F8-9055-03A4983C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133-22ED-43C9-A9EF-86B4918C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507-3C18-4A21-A582-62CAE089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957-D5E4-4508-868D-0734A706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EF5-D443-4182-B3DC-535AE3E5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93E-B377-4AEB-A768-5FEC56A1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76F-2545-4AF2-831A-14409263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4AF-7F42-4045-8CDE-1669F9A5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E98-1E50-4343-A87E-9787D07C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F04-9E95-4D05-B9E7-267E887A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7F6-2329-4B5D-B64F-2E38F76D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4140-6D15-4F58-B0AB-626CB518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3DBD-C0C0-42E2-B645-AE43E8281C28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3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The Environment of Marketing 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2047680" cy="28954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ypes of Competitio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2438280"/>
            <a:ext cx="3124080" cy="12193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7d7d7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160" y="28195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rizont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724280"/>
            <a:ext cx="3124080" cy="121932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8cd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57040" y="51055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typ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1905120"/>
            <a:ext cx="3124080" cy="121896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3c7c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4038480"/>
            <a:ext cx="3124440" cy="121932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8cd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00040" y="2286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ert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51640" y="457200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2160" y="4724280"/>
            <a:ext cx="11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Horizontal Competi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31240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c5c5c5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4495680"/>
            <a:ext cx="1447920" cy="106704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0c5cd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495680"/>
            <a:ext cx="1447920" cy="106704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5cad1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3124080"/>
            <a:ext cx="1447920" cy="106704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d7dad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bdc2cb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286000"/>
            <a:ext cx="8384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5029200"/>
            <a:ext cx="8384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3657600"/>
            <a:ext cx="8384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rtype Competition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320040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487692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600200"/>
            <a:ext cx="1371600" cy="1295280"/>
          </a:xfrm>
          <a:prstGeom prst="ellipse">
            <a:avLst/>
          </a:prstGeom>
          <a:gradFill rotWithShape="0">
            <a:gsLst>
              <a:gs pos="0">
                <a:srgbClr val="6e7a8d"/>
              </a:gs>
              <a:gs pos="100000">
                <a:srgbClr val="ccd0d6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3124080"/>
            <a:ext cx="1371600" cy="1295640"/>
          </a:xfrm>
          <a:prstGeom prst="ellipse">
            <a:avLst/>
          </a:prstGeom>
          <a:gradFill rotWithShape="0">
            <a:gsLst>
              <a:gs pos="0">
                <a:srgbClr val="6e7a8d"/>
              </a:gs>
              <a:gs pos="100000">
                <a:srgbClr val="ccd0d6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724280"/>
            <a:ext cx="1371600" cy="1295640"/>
          </a:xfrm>
          <a:prstGeom prst="ellipse">
            <a:avLst/>
          </a:prstGeom>
          <a:gradFill rotWithShape="0">
            <a:gsLst>
              <a:gs pos="0">
                <a:srgbClr val="6e7a8d"/>
              </a:gs>
              <a:gs pos="100000">
                <a:srgbClr val="ccd0d6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286000"/>
            <a:ext cx="8380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5410080"/>
            <a:ext cx="8380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3733920"/>
            <a:ext cx="8380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9907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458200" y="15228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Vertical Competi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5238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487692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320040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2057400"/>
            <a:ext cx="838080" cy="1676520"/>
          </a:xfrm>
          <a:custGeom>
            <a:avLst/>
            <a:gdLst/>
            <a:ahLst/>
            <a:rect l="l" t="t" r="r" b="b"/>
            <a:pathLst>
              <a:path w="528" h="1056">
                <a:moveTo>
                  <a:pt x="0" y="0"/>
                </a:moveTo>
                <a:cubicBezTo>
                  <a:pt x="264" y="200"/>
                  <a:pt x="528" y="400"/>
                  <a:pt x="528" y="576"/>
                </a:cubicBezTo>
                <a:cubicBezTo>
                  <a:pt x="528" y="752"/>
                  <a:pt x="264" y="904"/>
                  <a:pt x="0" y="1056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3962520"/>
            <a:ext cx="838440" cy="1676160"/>
          </a:xfrm>
          <a:custGeom>
            <a:avLst/>
            <a:gdLst/>
            <a:ahLst/>
            <a:rect l="l" t="t" r="r" b="b"/>
            <a:pathLst>
              <a:path w="528" h="1056">
                <a:moveTo>
                  <a:pt x="0" y="0"/>
                </a:moveTo>
                <a:cubicBezTo>
                  <a:pt x="264" y="200"/>
                  <a:pt x="528" y="400"/>
                  <a:pt x="528" y="576"/>
                </a:cubicBezTo>
                <a:cubicBezTo>
                  <a:pt x="528" y="752"/>
                  <a:pt x="264" y="904"/>
                  <a:pt x="0" y="1056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4952880" y="1981080"/>
            <a:ext cx="15264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028840" y="3886200"/>
            <a:ext cx="15228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029200" y="3733920"/>
            <a:ext cx="763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028840" y="5638680"/>
            <a:ext cx="15228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2057400"/>
            <a:ext cx="1371600" cy="3352680"/>
          </a:xfrm>
          <a:custGeom>
            <a:avLst/>
            <a:gdLst/>
            <a:ahLst/>
            <a:rect l="l" t="t" r="r" b="b"/>
            <a:pathLst>
              <a:path w="912" h="2208">
                <a:moveTo>
                  <a:pt x="912" y="0"/>
                </a:moveTo>
                <a:cubicBezTo>
                  <a:pt x="456" y="368"/>
                  <a:pt x="0" y="736"/>
                  <a:pt x="0" y="1104"/>
                </a:cubicBezTo>
                <a:cubicBezTo>
                  <a:pt x="0" y="1472"/>
                  <a:pt x="456" y="1840"/>
                  <a:pt x="912" y="2208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2057400"/>
            <a:ext cx="763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5410080"/>
            <a:ext cx="763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143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46000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ystem Competi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47242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81080" y="320040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15000" y="47242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320040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00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144792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447920"/>
            <a:ext cx="0" cy="472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1447920"/>
            <a:ext cx="0" cy="472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617220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4120" y="617220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1447920"/>
            <a:ext cx="0" cy="472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1447920"/>
            <a:ext cx="0" cy="472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38480" y="3733920"/>
            <a:ext cx="10670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188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Sociocultural Environ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98160" y="1752480"/>
            <a:ext cx="4754160" cy="8254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a0d8d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vades all aspects of a socie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26480" y="3048120"/>
            <a:ext cx="4377960" cy="1557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86cec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luences both national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nati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15400" y="5181480"/>
            <a:ext cx="5094000" cy="11912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b0ded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luences wide variations amo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structures worldwi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ociocultural Develop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10666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532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80880" y="1447920"/>
          <a:ext cx="7696080" cy="4952520"/>
        </p:xfrm>
        <a:graphic>
          <a:graphicData uri="http://schemas.openxmlformats.org/drawingml/2006/table">
            <a:tbl>
              <a:tblPr/>
              <a:tblGrid>
                <a:gridCol w="3848400"/>
                <a:gridCol w="3847680"/>
              </a:tblGrid>
              <a:tr h="35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opulation Ag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attern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Ethnic Mix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Educational Trend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Family or Househol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Structur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U.S. pop. Becoming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both younger &amp;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older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# of minority-owne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businesse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Levels = peopl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more demanding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Smaller &amp; more varie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Role of Women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# = changing 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shopping need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124080" y="1523880"/>
            <a:ext cx="838440" cy="381240"/>
          </a:xfrm>
          <a:custGeom>
            <a:avLst/>
            <a:gdLst>
              <a:gd name="textAreaLeft" fmla="*/ 131040 w 838440"/>
              <a:gd name="textAreaRight" fmla="*/ 733680 w 8384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25909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67080" y="32767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48769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Technological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059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1422360" cy="1625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52520" y="5715000"/>
            <a:ext cx="8035560" cy="82548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d7da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lp retailers &amp; wholesalers closely monitor success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ilure of products they hand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1447920"/>
            <a:ext cx="7696440" cy="2286000"/>
          </a:xfrm>
          <a:prstGeom prst="flowChartMerg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cann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puterized inventory manage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&amp; Portable comput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Technological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0592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1371600"/>
            <a:ext cx="5029200" cy="2438280"/>
          </a:xfrm>
          <a:prstGeom prst="downArrowCallout">
            <a:avLst>
              <a:gd name="adj1" fmla="val 51570"/>
              <a:gd name="adj2" fmla="val 51565"/>
              <a:gd name="adj3" fmla="val 16667"/>
              <a:gd name="adj4" fmla="val 66667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1523880"/>
            <a:ext cx="35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I - Electron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t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chan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2120" y="3962520"/>
            <a:ext cx="4724280" cy="2654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8167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inks together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ormation syst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s real-time respon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nhanced by Intern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43600" y="3124080"/>
            <a:ext cx="2666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80"/>
                </a:solidFill>
                <a:latin typeface="Geneva"/>
              </a:rPr>
              <a:t>=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Enhance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Distribu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Efficienc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The Technological Environment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11430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532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9872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2514600"/>
            <a:ext cx="4114800" cy="2819520"/>
          </a:xfrm>
          <a:custGeom>
            <a:avLst/>
            <a:gdLst>
              <a:gd name="textAreaLeft" fmla="*/ 1028520 w 4114800"/>
              <a:gd name="textAreaRight" fmla="*/ 3086280 w 4114800"/>
              <a:gd name="textAreaTop" fmla="*/ 704880 h 2819520"/>
              <a:gd name="textAreaBottom" fmla="*/ 2114640 h 28195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cceler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chnolo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95480" y="1447920"/>
            <a:ext cx="2895840" cy="91440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mputer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eople”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2971800"/>
            <a:ext cx="1371600" cy="152388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obi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robo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3276720"/>
            <a:ext cx="1676520" cy="137160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3-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ode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19520" y="5486400"/>
            <a:ext cx="2819160" cy="106668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Ultra-wideb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echnolo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Environment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05920" y="304920"/>
            <a:ext cx="3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523880"/>
            <a:ext cx="8001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3808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600200"/>
            <a:ext cx="6324480" cy="2166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8b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nsists of all extern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uncontrollable factors within which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rketing channels exis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4191120"/>
            <a:ext cx="6927840" cy="2226960"/>
          </a:xfrm>
          <a:prstGeom prst="rect">
            <a:avLst/>
          </a:prstGeom>
          <a:gradFill rotWithShape="0">
            <a:gsLst>
              <a:gs pos="0">
                <a:srgbClr val="fee8b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Affects channel members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and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nonmembers, such as facilitating agenci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All channel participa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200400"/>
            <a:ext cx="961920" cy="1371600"/>
          </a:xfrm>
          <a:custGeom>
            <a:avLst/>
            <a:gdLst>
              <a:gd name="textAreaLeft" fmla="*/ 128880 w 961920"/>
              <a:gd name="textAreaRight" fmla="*/ 833040 w 9619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1295280"/>
            <a:ext cx="8153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2296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059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Legal Environ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92800" y="1828800"/>
            <a:ext cx="6941160" cy="8254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set of laws that impact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55080" y="3886200"/>
            <a:ext cx="6827040" cy="265428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50000">
                <a:srgbClr val="ffcc66"/>
              </a:gs>
              <a:gs pos="100000">
                <a:srgbClr val="fef3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tinually evolv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ffected by changing values, norms, politic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 preced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nowledge of basics helps channel manag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oid serious &amp; costly legal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55000">
            <a:off x="3411720" y="306468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Legislation Affecting Marketing Channels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57480" y="11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3764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773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22240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0600" y="1676520"/>
            <a:ext cx="8030880" cy="4786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Sherman Antitrust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890;   Fundamental antimonopoly law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ublic welfare best served through competi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Clayton Act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914;   Strengthen Sherman Antitrust Act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rohibits specific practices among competing firm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Federal Trade Commission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914;   Established FTC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ower to investigate &amp; enforc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778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18320" y="11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5820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Legislation Affecting Marketing Channels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7720" y="19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1629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58000" y="404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97600" y="475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1676520"/>
            <a:ext cx="7848720" cy="43599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Robinson-Patman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936;   Amendment to Clayton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rohibits price discrimin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Allows price differentials to different custom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under specific circumsta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Celler-Kefauver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950;   Amendment to Clayton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rohibits vertical mergers &amp; acquisition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egal Issues in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5920" y="30492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451000" y="2286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52280" y="152280"/>
            <a:ext cx="145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9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87680" y="3279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Dual Distribution, or multi-channel distribu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oducer or manufacturer uses 2 or more different channel structures for distributing the same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Exclusive Dealing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requires its channel members to sell only its products or to refrain from selling directly to competitive suppli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•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ull-Line Forcing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requires channel members to carry a full-line of its products in order to sell any particular products in supplier’s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egal Issues in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53452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956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Price Discrimin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sells at different prices to the same clas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Price Maintenanc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dictates prices charged by channel members to their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Refusal to De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has right to refuse to deal with whomever they want as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egal Issues in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630280" y="181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1676520"/>
            <a:ext cx="7848720" cy="44956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Resale Restriction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nufacturer attempts to stipulate to whom and in what geographical market channel members may resell the manufacturer’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ying Agreem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sells a product to a channel member on condition that the channel member also purchase another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Vertical Integr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irm owns and operates organizations at other levels of the distribution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51360" y="472428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Non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articipa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447920"/>
            <a:ext cx="2514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3120" y="1905120"/>
            <a:ext cx="249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nviron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conom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ociocultu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ompet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echnolog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eg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1752480"/>
            <a:ext cx="2133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&amp;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895480"/>
            <a:ext cx="2133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3962520"/>
            <a:ext cx="2133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arget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49528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acilit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genc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3200400"/>
            <a:ext cx="175284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133720"/>
            <a:ext cx="0" cy="2286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133720"/>
            <a:ext cx="5335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4419720"/>
            <a:ext cx="5335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5638680"/>
            <a:ext cx="182880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9800" y="2209680"/>
            <a:ext cx="14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 Narrow"/>
              </a:rPr>
              <a:t>  </a:t>
            </a: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articipa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2743200"/>
            <a:ext cx="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373392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03840" y="2057400"/>
            <a:ext cx="16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Locu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205740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440" y="1674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74680" y="30636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Economic Environ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2514600"/>
            <a:ext cx="4419360" cy="2133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jor Econom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752480"/>
            <a:ext cx="2666880" cy="1447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neva"/>
              </a:rPr>
              <a:t>Reces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752480"/>
            <a:ext cx="2667240" cy="1447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neva"/>
              </a:rPr>
              <a:t>Infl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5181480"/>
            <a:ext cx="2666880" cy="1447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neva"/>
              </a:rPr>
              <a:t>Defl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666520" y="3123720"/>
            <a:ext cx="381240" cy="3812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86400" y="3123720"/>
            <a:ext cx="380880" cy="3049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4724280"/>
            <a:ext cx="0" cy="3049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cess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676520"/>
            <a:ext cx="2971800" cy="251460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sum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/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pora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end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209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25146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36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572000"/>
            <a:ext cx="7239240" cy="2044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c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Chann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strategy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: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M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nufacturers provide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ember support by financ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high inventory cost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1752480"/>
            <a:ext cx="4190760" cy="283680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ed sales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olu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fita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F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rms caught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arge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vento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2732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fl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5200" y="1092240"/>
            <a:ext cx="5787720" cy="13129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tinued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igh spend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nding, fueling a recess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7524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743200"/>
            <a:ext cx="8534520" cy="3690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7b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ossible channel 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e manufacturer’s product mix from higher-pr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lower-pric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e inventory burden on members with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eamlined product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F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ter order processing &amp; delive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H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gher inventory turnover through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onger promotional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1048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1430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fl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1371600"/>
            <a:ext cx="2743200" cy="155700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676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5240" y="2819520"/>
            <a:ext cx="7461000" cy="2715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hallenge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s cost-induced price increases through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n built-in cost pressures from labor contra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ere negotiated several years earli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99072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ther Economic Facto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295280"/>
            <a:ext cx="3353040" cy="1739520"/>
          </a:xfrm>
          <a:prstGeom prst="rect">
            <a:avLst/>
          </a:prstGeom>
          <a:gradFill rotWithShape="0">
            <a:gsLst>
              <a:gs pos="0">
                <a:srgbClr val="fee6b6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eal interest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at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600200"/>
            <a:ext cx="457200" cy="762120"/>
          </a:xfrm>
          <a:prstGeom prst="upArrow">
            <a:avLst>
              <a:gd name="adj1" fmla="val 50000"/>
              <a:gd name="adj2" fmla="val 41673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038480"/>
            <a:ext cx="4419360" cy="2226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5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Deman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sts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502920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96252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49680" y="3048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3520" y="15238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45520" y="15238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19800" y="1371600"/>
            <a:ext cx="3192120" cy="3324240"/>
          </a:xfrm>
          <a:prstGeom prst="rect">
            <a:avLst/>
          </a:prstGeom>
          <a:gradFill rotWithShape="0">
            <a:gsLst>
              <a:gs pos="0">
                <a:srgbClr val="fee3ad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trong U.S. Dolla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Difficult to sel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roducts through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hannel memb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50280" y="4419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362320"/>
            <a:ext cx="0" cy="60948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5029200"/>
            <a:ext cx="3200400" cy="1373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U.S. product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less competitiv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Competitive Environ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3716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981080"/>
            <a:ext cx="72388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pple Chancery"/>
              </a:rPr>
              <a:t>Global in scop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32767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6-19T15:38:18Z</dcterms:modified>
  <cp:revision>171</cp:revision>
  <dc:subject/>
  <dc:title>Part 1</dc:title>
</cp:coreProperties>
</file>