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745-ACEE-48D0-B7C4-5FFD7E8A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53A-6B5E-4378-8B95-D3122821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3F3-18D2-4945-828F-CC74EEC3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32A-D7C9-42DC-B75A-2BCCEFF7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93A-8385-4B41-9877-4A7931FC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CC8-F2A6-45B1-8609-B996B787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83C-41E2-4089-B315-7DD42A2D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EE9-E0C2-4FCE-8FCC-B1D227EC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3F2-4479-4753-9233-93E46EEF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8E4-1088-4AB8-B4A4-F590587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D43-0668-476F-943F-29A00589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770-CBC9-4030-BC23-066D8A31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9D64-9FE9-4FD0-833C-B93BEA6E6208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4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Behavioral Processes in Marketing 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4560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naging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1371600"/>
            <a:ext cx="2209680" cy="9144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etec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2743200"/>
            <a:ext cx="266688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ppraising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ffec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4495680"/>
            <a:ext cx="2590560" cy="1143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Resolv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362320"/>
            <a:ext cx="5257800" cy="4343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ag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nfli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tecting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523880"/>
            <a:ext cx="563868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Regularly survey other members’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rceptions of firm’s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971800"/>
            <a:ext cx="5638680" cy="990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rform marketing channel aud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4572000"/>
            <a:ext cx="563868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orm distributors’ advisory counci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r channel members’ committe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6840" y="34290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44920" y="48769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2971800"/>
            <a:ext cx="609480" cy="1523880"/>
          </a:xfrm>
          <a:custGeom>
            <a:avLst/>
            <a:gdLst>
              <a:gd name="textAreaLeft" fmla="*/ 81360 w 609480"/>
              <a:gd name="textAreaRight" fmla="*/ 528120 w 60948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495680"/>
            <a:ext cx="609480" cy="1295640"/>
          </a:xfrm>
          <a:custGeom>
            <a:avLst/>
            <a:gdLst>
              <a:gd name="textAreaLeft" fmla="*/ 81360 w 609480"/>
              <a:gd name="textAreaRight" fmla="*/ 528120 w 60948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ppraising the Effect of Conflict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1828800"/>
            <a:ext cx="594360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ubjective process that relies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nager’s judg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417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58200" y="152280"/>
            <a:ext cx="0" cy="1067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olving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295280"/>
            <a:ext cx="6933960" cy="1676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reative action on the part of some par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o the conflict is needed if the conflict i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 successfully resolv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3505320"/>
            <a:ext cx="6705720" cy="1981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versely, if conflict is simply “left alone,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t is not likely to be successfully resolv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nd may get wors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ower in the Marketing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676520"/>
            <a:ext cx="5791320" cy="1676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apacity of a particular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to control or influenc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 of another channel memb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559400"/>
            <a:ext cx="6172200" cy="155700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eys to understanding Pow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wer B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se of Power B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188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es of Power for Channel Contro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236232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ward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2133720"/>
            <a:ext cx="251460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ercive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3048120"/>
            <a:ext cx="304776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gitimate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3962520"/>
            <a:ext cx="266688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ferent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800600"/>
            <a:ext cx="28958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pert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Using Power in the Marketing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0666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532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1371600"/>
            <a:ext cx="7162920" cy="2133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Identify available power b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s are a function of size of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er or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ganization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set of circumst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57400" y="4267080"/>
            <a:ext cx="624852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Select and use appropri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wer bases to better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orsen channel relatio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33000" y="1341360"/>
            <a:ext cx="330804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0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lassic Findings  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pert and referent power in conventional channels may be more effective than direct monetary incentives or threats in inducing channel members to accept control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wer employed by manufacturers based on economic rewards or coercion provided a higher degree of control over channel members than power based on legitimacy, expertise, or refer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0666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1.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ikely to have higher mora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more likely to cooperat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franchis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terminate thei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ntra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file individual su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gainst the franchis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file class action sui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seek protective legis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ch as the “Franchise Full Disclosure Act” (1970)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4960" y="1379520"/>
            <a:ext cx="6393960" cy="825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d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Noncoercive power bases 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atisfaction in “weaker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, such as franchi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1219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1532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9872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ower must be exercised to influence member behavi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ffectiveness of power bases to influence members is situation-specifi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exercise of power and how it is used affects the degree of cooperation, conflict, and satisfaction among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use of coercive power probably promotes conflict and dissatisfaction to a greater degree than the other power bas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use of coercive power can reduce channel’s stability and viabilit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1295280"/>
            <a:ext cx="493560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neral Inferences from finding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as Social System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600200"/>
            <a:ext cx="5562720" cy="3886200"/>
          </a:xfrm>
          <a:prstGeom prst="downArrowCallout">
            <a:avLst>
              <a:gd name="adj1" fmla="val 35788"/>
              <a:gd name="adj2" fmla="val 35785"/>
              <a:gd name="adj3" fmla="val 16667"/>
              <a:gd name="adj4" fmla="val 66667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600200"/>
            <a:ext cx="533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Social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nerated by any proces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action on sociocultural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tween two or more ac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tor is individual or collectiv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638680"/>
            <a:ext cx="5867280" cy="825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b08d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ividuals or collectiv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acting within market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9160" y="3733920"/>
            <a:ext cx="2686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40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organiz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1295280"/>
            <a:ext cx="8153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458200" y="228600"/>
            <a:ext cx="35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Roles in Marketing Channel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5240" y="1828800"/>
            <a:ext cx="716076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set of prescriptions defining what the 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f a position member should b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13680" y="3886200"/>
            <a:ext cx="6741720" cy="265428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50000">
                <a:srgbClr val="ffcc66"/>
              </a:gs>
              <a:gs pos="100000">
                <a:srgbClr val="fe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s change over tim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ying far from a role may cause conflic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s help describe &amp; compare the expec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 of channel members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insight into the constrain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nder which they operat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5355000">
            <a:off x="3640320" y="306468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Roles in Marketing Channels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57480" y="11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3764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2240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What role does the channel manager expect a particular channel member to play in the channel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What role is this member expected to play by his or her peers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Do the manager’s expectations for this member conflict with those of the member’s peers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What role does this member expect the manager to play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98160" y="1457280"/>
            <a:ext cx="549936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Questions to help the 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778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18320" y="11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0592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45820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munication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7720" y="19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58000" y="40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47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5156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0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78200" y="1728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71600" y="1600200"/>
            <a:ext cx="6324480" cy="1600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al Problem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Commun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3429000"/>
            <a:ext cx="411480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fferences in goa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twee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nufacturer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ir 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3429000"/>
            <a:ext cx="426744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fference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kind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anguage they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o conve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form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munication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12952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51000" y="22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87680" y="3279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1447920"/>
            <a:ext cx="6781680" cy="1600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al Problem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Commun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3429000"/>
            <a:ext cx="304812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3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rceptu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fferenc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mo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3429000"/>
            <a:ext cx="289584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4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ecre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3429000"/>
            <a:ext cx="320040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5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adeq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requenc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mmun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820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ehavioral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219320"/>
            <a:ext cx="3048120" cy="2438280"/>
          </a:xfrm>
          <a:prstGeom prst="irregularSeal2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neva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onfli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1447920"/>
            <a:ext cx="2895480" cy="1676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P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we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4952880"/>
            <a:ext cx="2514600" cy="1570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080" y="4343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724280"/>
            <a:ext cx="4190760" cy="1524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mmunic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How Conflict Emerge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0" y="1676520"/>
            <a:ext cx="6932160" cy="137376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en a channel member perceiv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at another member’s actions impede the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ttainment of his or her goa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4200" y="3886200"/>
            <a:ext cx="4638600" cy="94716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irect, personal, and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pponent-centered behavio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360" y="4114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Behavioral trademar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447920"/>
            <a:ext cx="0" cy="1066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447920"/>
            <a:ext cx="167652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52280" y="2057400"/>
            <a:ext cx="1676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080" y="17524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Ca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657600"/>
            <a:ext cx="0" cy="16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52280" y="4343400"/>
            <a:ext cx="441972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657600"/>
            <a:ext cx="43434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38680" y="4876920"/>
            <a:ext cx="1981440" cy="1825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ause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6858000" cy="4038480"/>
          </a:xfrm>
          <a:prstGeom prst="rect">
            <a:avLst/>
          </a:prstGeom>
          <a:gradFill rotWithShape="0">
            <a:gsLst>
              <a:gs pos="0">
                <a:srgbClr val="fee6b6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ole Incongrui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esource Scarci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erceptual Differe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Expectational Differe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ecision Domain Disagree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Goal Incompatibili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mmunication Difficul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981080"/>
            <a:ext cx="533160" cy="3812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5146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9718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4290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38862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3434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8006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nflict &amp; Channel Efficienc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1295280"/>
            <a:ext cx="3353040" cy="106704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an conflict increa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fficienc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95280"/>
            <a:ext cx="2286000" cy="167652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oes 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ecrea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fficienc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5715000"/>
            <a:ext cx="3581280" cy="91440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oes conflict ha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ny affect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943600" y="2590920"/>
            <a:ext cx="22860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980720" y="3124080"/>
            <a:ext cx="30492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0292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514600"/>
            <a:ext cx="5943600" cy="3200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w does 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c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1048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1430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ffect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447920"/>
            <a:ext cx="5715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gative Effect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duced Efficienc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124080"/>
            <a:ext cx="6781680" cy="26542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 the level of conflict increas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efficiency dec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276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4495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ffect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447920"/>
            <a:ext cx="662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o Effect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Efficiency Remains Consta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3124080"/>
            <a:ext cx="6781680" cy="30200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xists in channels characterized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igh level of dependency amo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efficiency is not affec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ffect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3716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1600200"/>
            <a:ext cx="6095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itive Effect:  Efficiency Increas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3200400"/>
            <a:ext cx="6781680" cy="30200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 might be impetus for eith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r both members to reappraise thei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olic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efficiency incre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46483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30T20:46:05Z</dcterms:modified>
  <cp:revision>228</cp:revision>
  <dc:subject/>
  <dc:title>Part 1</dc:title>
</cp:coreProperties>
</file>