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03A-6C3D-47EF-8EB7-E2B08156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77F-47CF-4E91-A9C4-B77179B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400-0E53-494A-A7B7-8E0B97E5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192-E2CF-4172-B98C-8471B2F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D6D-B759-47D9-82B4-2C23FAA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D1B-114E-4BF2-8822-5841FE7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486-83E6-4F01-874E-69E1F9F0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C8A-D36E-4CA6-BF6D-A4201B9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ABA-704F-4AEA-A896-3360FE9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AD0-2EB7-472B-BCF7-672AA8F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DAE-8682-4A56-886F-1C2815B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992-AB15-480C-8011-7E54422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8DDF-6F89-40E6-ACCD-1CEF9CA94BF4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6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4a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Behavioral Processes in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Picture 19" descr="&#13;tabletalk.jpg                                                  00033F55_x000c_Macintosh HD                   BA5786A2:"/>
          <p:cNvPicPr/>
          <p:nvPr/>
        </p:nvPicPr>
        <p:blipFill>
          <a:blip r:embed="rId1"/>
          <a:stretch/>
        </p:blipFill>
        <p:spPr>
          <a:xfrm>
            <a:off x="3276720" y="3505320"/>
            <a:ext cx="45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2" name="Line 205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3" name="Rectangle 435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4" name="Rectangle 438"/>
          <p:cNvSpPr/>
          <p:nvPr/>
        </p:nvSpPr>
        <p:spPr>
          <a:xfrm>
            <a:off x="1600200" y="1371600"/>
            <a:ext cx="2209680" cy="914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tecti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5" name="Rectangle 447"/>
          <p:cNvSpPr/>
          <p:nvPr/>
        </p:nvSpPr>
        <p:spPr>
          <a:xfrm>
            <a:off x="3505320" y="2743200"/>
            <a:ext cx="266688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ppraising th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ect of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6" name="Rectangle 449"/>
          <p:cNvSpPr/>
          <p:nvPr/>
        </p:nvSpPr>
        <p:spPr>
          <a:xfrm>
            <a:off x="5791320" y="4495680"/>
            <a:ext cx="25905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solvi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7" name="AutoShape 451"/>
          <p:cNvSpPr/>
          <p:nvPr/>
        </p:nvSpPr>
        <p:spPr>
          <a:xfrm>
            <a:off x="609480" y="2362320"/>
            <a:ext cx="5257800" cy="434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ing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flict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6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1" name="Rectangle 29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ct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457200" y="152388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gularly survey other members’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ions of firm’s performanc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1" name="Rectangle 69"/>
          <p:cNvSpPr/>
          <p:nvPr/>
        </p:nvSpPr>
        <p:spPr>
          <a:xfrm>
            <a:off x="1905120" y="2971800"/>
            <a:ext cx="5638680" cy="99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form marketing channel audi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2" name="Rectangle 70"/>
          <p:cNvSpPr/>
          <p:nvPr/>
        </p:nvSpPr>
        <p:spPr>
          <a:xfrm>
            <a:off x="3200400" y="457200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rm distributors’ advisory council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channel members’ committe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3" name="Rectangle 71"/>
          <p:cNvSpPr/>
          <p:nvPr/>
        </p:nvSpPr>
        <p:spPr>
          <a:xfrm>
            <a:off x="906840" y="3429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4" name="Rectangle 72"/>
          <p:cNvSpPr/>
          <p:nvPr/>
        </p:nvSpPr>
        <p:spPr>
          <a:xfrm>
            <a:off x="1744920" y="4876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5" name="AutoShape 73"/>
          <p:cNvSpPr/>
          <p:nvPr/>
        </p:nvSpPr>
        <p:spPr>
          <a:xfrm>
            <a:off x="533520" y="29718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06" name="AutoShape 74"/>
          <p:cNvSpPr/>
          <p:nvPr/>
        </p:nvSpPr>
        <p:spPr>
          <a:xfrm>
            <a:off x="1143000" y="4495680"/>
            <a:ext cx="609480" cy="1295640"/>
          </a:xfrm>
          <a:custGeom>
            <a:avLst/>
            <a:gdLst>
              <a:gd name="textAreaLeft" fmla="*/ 81360 w 609480"/>
              <a:gd name="textAreaRight" fmla="*/ 528120 w 60948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aising the Effect of Conflict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838080" y="1828800"/>
            <a:ext cx="594360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ubjective process that relies 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r’s judgmen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215" name="Picture 38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1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845820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olving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29" name="Rectangle 108"/>
          <p:cNvSpPr/>
          <p:nvPr/>
        </p:nvSpPr>
        <p:spPr>
          <a:xfrm>
            <a:off x="304920" y="1295280"/>
            <a:ext cx="6933960" cy="1676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reative action on the part of some part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the conflict is needed if the conflict is to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 successfully resolved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0" name="Rectangle 109"/>
          <p:cNvSpPr/>
          <p:nvPr/>
        </p:nvSpPr>
        <p:spPr>
          <a:xfrm>
            <a:off x="2209680" y="3505320"/>
            <a:ext cx="6705720" cy="1981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versely, if conflict is simply “left alone,”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t is not likely to be successfully resolv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d may get worse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39" name="Rectangle 38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1" name="Rectangle 66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1600200" y="1676520"/>
            <a:ext cx="579132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apacity of a particular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to control or influence th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another channel member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3" name="Rectangle 69"/>
          <p:cNvSpPr/>
          <p:nvPr/>
        </p:nvSpPr>
        <p:spPr>
          <a:xfrm>
            <a:off x="1600200" y="4559400"/>
            <a:ext cx="6172200" cy="1557000"/>
          </a:xfrm>
          <a:prstGeom prst="rect">
            <a:avLst/>
          </a:prstGeom>
          <a:gradFill rotWithShape="0">
            <a:gsLst>
              <a:gs pos="0">
                <a:srgbClr val="ffeb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s to understanding Power: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e of 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45720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49" name="Rectangle 33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es of Power for Channel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Rectangle 52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6" name="Rectangle 60"/>
          <p:cNvSpPr/>
          <p:nvPr/>
        </p:nvSpPr>
        <p:spPr>
          <a:xfrm>
            <a:off x="1371600" y="1219320"/>
            <a:ext cx="236232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7" name="Rectangle 62"/>
          <p:cNvSpPr/>
          <p:nvPr/>
        </p:nvSpPr>
        <p:spPr>
          <a:xfrm>
            <a:off x="2362320" y="2133720"/>
            <a:ext cx="251460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ercive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8" name="Rectangle 64"/>
          <p:cNvSpPr/>
          <p:nvPr/>
        </p:nvSpPr>
        <p:spPr>
          <a:xfrm>
            <a:off x="3276720" y="3048120"/>
            <a:ext cx="304776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gitimate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4343400" y="3962520"/>
            <a:ext cx="26668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erent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0" name="Rectangle 68"/>
          <p:cNvSpPr/>
          <p:nvPr/>
        </p:nvSpPr>
        <p:spPr>
          <a:xfrm>
            <a:off x="5638680" y="4800600"/>
            <a:ext cx="28958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Pow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Using 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6" name="Rectangle 108"/>
          <p:cNvSpPr/>
          <p:nvPr/>
        </p:nvSpPr>
        <p:spPr>
          <a:xfrm>
            <a:off x="1523880" y="1371600"/>
            <a:ext cx="71629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Identify available power b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s are a function of size of: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 or manufactur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ganization of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set of circumstanc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77" name="Rectangle 109"/>
          <p:cNvSpPr/>
          <p:nvPr/>
        </p:nvSpPr>
        <p:spPr>
          <a:xfrm>
            <a:off x="2057400" y="4267080"/>
            <a:ext cx="624852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Select and use appropriat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 to better 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rsen channel relationship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033000" y="1341360"/>
            <a:ext cx="3308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1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assic Findings      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3" name="Rectangle 40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and referent power in conventional channels may be more effective than direct monetary incentives or threats in inducing channel members to accept control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employed by manufacturers based on economic rewards or coercion provided a higher degree of control over channel members than power based on legitimacy, expertise, or refer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7" name="Rectangle 41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19" name="Text Box 62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ikely to have higher mora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more likely to cooperat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terminat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tra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individual su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ainst 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class action sui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seek protective legis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ch as the “Franchise Full Disclosure Act” (1970)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1524960" y="1379520"/>
            <a:ext cx="63939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e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oncoercive power bases 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atisfaction in “weaker”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, such as franchi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2" name="AutoShape 72"/>
          <p:cNvSpPr/>
          <p:nvPr/>
        </p:nvSpPr>
        <p:spPr>
          <a:xfrm>
            <a:off x="4648320" y="1219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ower must be exercised to influence member behavi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ffectiveness of power bases to influence members is situation-specif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exercise of power and how it is used affects the degree of cooperation, conflict, and satisfaction among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probably promotes conflict and dissatisfaction to a greater degree than the other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can reduce channel’s stability and viabil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1979640" y="1295280"/>
            <a:ext cx="49356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c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l Inferences from finding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s Social System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2" name="Line 27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3" name="Line 28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4" name="AutoShape 33"/>
          <p:cNvSpPr/>
          <p:nvPr/>
        </p:nvSpPr>
        <p:spPr>
          <a:xfrm>
            <a:off x="838080" y="1600200"/>
            <a:ext cx="5562720" cy="3886200"/>
          </a:xfrm>
          <a:prstGeom prst="downArrowCallout">
            <a:avLst>
              <a:gd name="adj1" fmla="val 35788"/>
              <a:gd name="adj2" fmla="val 3578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914400" y="160020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Social System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ted by any process of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on on sociocultural lev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two or more acto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or is individual or collectivit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914400" y="5638680"/>
            <a:ext cx="586728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18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ividuals or collectiviti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ng within marketing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6329160" y="3733920"/>
            <a:ext cx="2686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organizationa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4" name="Line 6"/>
          <p:cNvSpPr/>
          <p:nvPr/>
        </p:nvSpPr>
        <p:spPr>
          <a:xfrm>
            <a:off x="83059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8458200" y="228600"/>
            <a:ext cx="3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0" name="Rectangle 33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2" name="Rectangle 43"/>
          <p:cNvSpPr/>
          <p:nvPr/>
        </p:nvSpPr>
        <p:spPr>
          <a:xfrm>
            <a:off x="885240" y="1828800"/>
            <a:ext cx="7160760" cy="11912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et of prescriptions defining what the behavi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 a position member should b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3" name="Rectangle 52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4" name="Rectangle 53"/>
          <p:cNvSpPr/>
          <p:nvPr/>
        </p:nvSpPr>
        <p:spPr>
          <a:xfrm>
            <a:off x="913680" y="3886200"/>
            <a:ext cx="6741720" cy="2654280"/>
          </a:xfrm>
          <a:prstGeom prst="rect">
            <a:avLst/>
          </a:prstGeom>
          <a:gradFill rotWithShape="0">
            <a:gsLst>
              <a:gs pos="0">
                <a:srgbClr val="fff5e0"/>
              </a:gs>
              <a:gs pos="50000">
                <a:srgbClr val="ffcc66"/>
              </a:gs>
              <a:gs pos="100000">
                <a:srgbClr val="fff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change over time.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ying far from a role may cause conflict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help describe &amp; compare the expect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channel members and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insight into the constraints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 which they operate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5" name="AutoShape 54"/>
          <p:cNvSpPr/>
          <p:nvPr/>
        </p:nvSpPr>
        <p:spPr>
          <a:xfrm rot="5355000">
            <a:off x="36403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3808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e channel manager expect a particular channel member to play in the channel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is this member expected to play by his or her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Do the manager’s expectations for this member conflict with those of the member’s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is member expect the manager to play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Rectangle 69"/>
          <p:cNvSpPr/>
          <p:nvPr/>
        </p:nvSpPr>
        <p:spPr>
          <a:xfrm>
            <a:off x="1298160" y="1457280"/>
            <a:ext cx="549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f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estions to help the channel manag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38088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4" name="Rectangle 28"/>
          <p:cNvSpPr/>
          <p:nvPr/>
        </p:nvSpPr>
        <p:spPr>
          <a:xfrm flipH="1">
            <a:off x="15156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1978200" y="1728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6" name="AutoShape 30"/>
          <p:cNvSpPr/>
          <p:nvPr/>
        </p:nvSpPr>
        <p:spPr>
          <a:xfrm>
            <a:off x="1371600" y="1600200"/>
            <a:ext cx="63244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380880" y="3429000"/>
            <a:ext cx="41148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goal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twee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ufacturers &amp;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ir retail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68" name="AutoShape 35"/>
          <p:cNvSpPr/>
          <p:nvPr/>
        </p:nvSpPr>
        <p:spPr>
          <a:xfrm>
            <a:off x="4724280" y="3429000"/>
            <a:ext cx="42674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kinds of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anguage they u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convey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formati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3" name="Rectangle 111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4" name="AutoShape 207"/>
          <p:cNvSpPr/>
          <p:nvPr/>
        </p:nvSpPr>
        <p:spPr>
          <a:xfrm>
            <a:off x="990720" y="1447920"/>
            <a:ext cx="67816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5" name="AutoShape 208"/>
          <p:cNvSpPr/>
          <p:nvPr/>
        </p:nvSpPr>
        <p:spPr>
          <a:xfrm>
            <a:off x="152280" y="3429000"/>
            <a:ext cx="304812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ual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mong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6" name="AutoShape 209"/>
          <p:cNvSpPr/>
          <p:nvPr/>
        </p:nvSpPr>
        <p:spPr>
          <a:xfrm>
            <a:off x="3124080" y="3429000"/>
            <a:ext cx="28958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ecretiv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377" name="AutoShape 210"/>
          <p:cNvSpPr/>
          <p:nvPr/>
        </p:nvSpPr>
        <p:spPr>
          <a:xfrm>
            <a:off x="5715000" y="3429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adequat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requenc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munication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59" name="Line 5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8" name="Text Box 65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69" name="Text Box 66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0" name="Text Box 67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1" name="Text Box 69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Rectangle 104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7" name="Rectangle 111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8" name="AutoShape 112"/>
          <p:cNvSpPr/>
          <p:nvPr/>
        </p:nvSpPr>
        <p:spPr>
          <a:xfrm>
            <a:off x="609480" y="1219320"/>
            <a:ext cx="3048120" cy="24382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onflict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79" name="Rectangle 115"/>
          <p:cNvSpPr/>
          <p:nvPr/>
        </p:nvSpPr>
        <p:spPr>
          <a:xfrm>
            <a:off x="5334120" y="1447920"/>
            <a:ext cx="289548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wer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80" name="Picture 117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514600" cy="1570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0"/>
          <p:cNvSpPr/>
          <p:nvPr/>
        </p:nvSpPr>
        <p:spPr>
          <a:xfrm>
            <a:off x="838080" y="4343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le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2" name="AutoShape 125"/>
          <p:cNvSpPr/>
          <p:nvPr/>
        </p:nvSpPr>
        <p:spPr>
          <a:xfrm>
            <a:off x="3733920" y="4724280"/>
            <a:ext cx="4190760" cy="1524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mmunication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4" name="Line 3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ow Conflict Emerge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5" name="Rectangle 60"/>
          <p:cNvSpPr/>
          <p:nvPr/>
        </p:nvSpPr>
        <p:spPr>
          <a:xfrm>
            <a:off x="1825200" y="1676520"/>
            <a:ext cx="6932160" cy="1373760"/>
          </a:xfrm>
          <a:prstGeom prst="rect">
            <a:avLst/>
          </a:prstGeom>
          <a:gradFill rotWithShape="0">
            <a:gsLst>
              <a:gs pos="0">
                <a:srgbClr val="ffefd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en a channel member perceive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at another member’s actions impede the 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tainment of his or her goals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4264200" y="3886200"/>
            <a:ext cx="4638600" cy="947160"/>
          </a:xfrm>
          <a:prstGeom prst="rect">
            <a:avLst/>
          </a:prstGeom>
          <a:gradFill rotWithShape="0">
            <a:gsLst>
              <a:gs pos="0">
                <a:srgbClr val="ffeb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irect, personal, and 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pponent-centered behavior</a:t>
            </a:r>
            <a:endParaRPr b="0" lang="en-US" sz="28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44360" y="4114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Behavioral trademark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8" name="Line 65"/>
          <p:cNvSpPr/>
          <p:nvPr/>
        </p:nvSpPr>
        <p:spPr>
          <a:xfrm>
            <a:off x="152280" y="1447920"/>
            <a:ext cx="0" cy="1066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99" name="Line 66"/>
          <p:cNvSpPr/>
          <p:nvPr/>
        </p:nvSpPr>
        <p:spPr>
          <a:xfrm>
            <a:off x="152280" y="1447920"/>
            <a:ext cx="167652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0" name="Line 67"/>
          <p:cNvSpPr/>
          <p:nvPr/>
        </p:nvSpPr>
        <p:spPr>
          <a:xfrm flipV="1">
            <a:off x="152280" y="2057400"/>
            <a:ext cx="1676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1" name="Rectangle 68"/>
          <p:cNvSpPr/>
          <p:nvPr/>
        </p:nvSpPr>
        <p:spPr>
          <a:xfrm>
            <a:off x="163080" y="17524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Cau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152280" y="36576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3" name="Line 71"/>
          <p:cNvSpPr/>
          <p:nvPr/>
        </p:nvSpPr>
        <p:spPr>
          <a:xfrm flipV="1">
            <a:off x="152280" y="4343400"/>
            <a:ext cx="4419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4" name="Line 72"/>
          <p:cNvSpPr/>
          <p:nvPr/>
        </p:nvSpPr>
        <p:spPr>
          <a:xfrm>
            <a:off x="152280" y="3657600"/>
            <a:ext cx="43434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pic>
        <p:nvPicPr>
          <p:cNvPr id="105" name="Picture 73" descr="_x0011_moneyconflict.jpg                                              00033F55_x000c_Macintosh HD                   BA5786A2:"/>
          <p:cNvPicPr/>
          <p:nvPr/>
        </p:nvPicPr>
        <p:blipFill>
          <a:blip r:embed="rId1"/>
          <a:stretch/>
        </p:blipFill>
        <p:spPr>
          <a:xfrm>
            <a:off x="5638680" y="4876920"/>
            <a:ext cx="1981440" cy="182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use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19" name="Rectangle 62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0" name="Rectangle 69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4038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e7b7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ole Incongru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source Scarc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erceptu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xpectation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cision Domain Dis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Goal Incompatibil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munication Difficul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AutoShape 72"/>
          <p:cNvSpPr/>
          <p:nvPr/>
        </p:nvSpPr>
        <p:spPr>
          <a:xfrm>
            <a:off x="990720" y="1981080"/>
            <a:ext cx="533160" cy="3812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3" name="AutoShape 73"/>
          <p:cNvSpPr/>
          <p:nvPr/>
        </p:nvSpPr>
        <p:spPr>
          <a:xfrm>
            <a:off x="990720" y="2514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990720" y="29718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990720" y="34290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990720" y="38862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990720" y="43434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990720" y="4800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845820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flict &amp; Channel Effici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8" name="Line 50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880" y="1295280"/>
            <a:ext cx="3353040" cy="10670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an conflict increas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0" name="Rectangle 54"/>
          <p:cNvSpPr/>
          <p:nvPr/>
        </p:nvSpPr>
        <p:spPr>
          <a:xfrm>
            <a:off x="380880" y="1295280"/>
            <a:ext cx="2286000" cy="1676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crease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429000" y="5715000"/>
            <a:ext cx="358128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 have 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y affect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2" name="Line 58"/>
          <p:cNvSpPr/>
          <p:nvPr/>
        </p:nvSpPr>
        <p:spPr>
          <a:xfrm flipV="1">
            <a:off x="5943600" y="2590920"/>
            <a:ext cx="22860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3" name="Line 59"/>
          <p:cNvSpPr/>
          <p:nvPr/>
        </p:nvSpPr>
        <p:spPr>
          <a:xfrm flipH="1" flipV="1">
            <a:off x="1980720" y="3124080"/>
            <a:ext cx="30492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4" name="Line 60"/>
          <p:cNvSpPr/>
          <p:nvPr/>
        </p:nvSpPr>
        <p:spPr>
          <a:xfrm>
            <a:off x="4952880" y="50292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5" name="AutoShape 62"/>
          <p:cNvSpPr/>
          <p:nvPr/>
        </p:nvSpPr>
        <p:spPr>
          <a:xfrm>
            <a:off x="1447920" y="2514600"/>
            <a:ext cx="5943600" cy="3200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does conflic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 channel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1447920" y="1447920"/>
            <a:ext cx="5715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gative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duced Efficienc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914400" y="312408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 the level of conflict increases,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declin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276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5" name="AutoShape 27"/>
          <p:cNvSpPr/>
          <p:nvPr/>
        </p:nvSpPr>
        <p:spPr>
          <a:xfrm>
            <a:off x="10666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5" name="Rectangle 60"/>
          <p:cNvSpPr/>
          <p:nvPr/>
        </p:nvSpPr>
        <p:spPr>
          <a:xfrm>
            <a:off x="990720" y="1447920"/>
            <a:ext cx="662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fficiency Remains Constant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914400" y="312408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ists in channels characterized by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dependency among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s not affect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3" name="Rectangle 117"/>
          <p:cNvSpPr/>
          <p:nvPr/>
        </p:nvSpPr>
        <p:spPr>
          <a:xfrm>
            <a:off x="1219320" y="160020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itive Effect:  Efficiency Increased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4" name="Rectangle 118"/>
          <p:cNvSpPr/>
          <p:nvPr/>
        </p:nvSpPr>
        <p:spPr>
          <a:xfrm>
            <a:off x="990720" y="320040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 might be impetus for eithe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both members to reappraise their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olici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ncreases</a:t>
            </a: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  <p:sp>
        <p:nvSpPr>
          <p:cNvPr id="175" name="AutoShape 119"/>
          <p:cNvSpPr/>
          <p:nvPr/>
        </p:nvSpPr>
        <p:spPr>
          <a:xfrm>
            <a:off x="121932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user</cp:lastModifiedBy>
  <dcterms:modified xsi:type="dcterms:W3CDTF">2010-12-13T05:52:18Z</dcterms:modified>
  <cp:revision>228</cp:revision>
  <dc:subject/>
  <dc:title>Part 1</dc:title>
</cp:coreProperties>
</file>