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F62-07B8-4FC4-92F1-66611CA2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103-6F1F-4ED2-A84A-18B8726E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D17-41A0-4F5C-A85E-D0D7076B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FB4-30DF-41CA-954C-C4BDD376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24F-DE81-461D-AAC1-C4EC3B75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754-4369-4C5D-922F-525CE6EC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529-10C5-492D-9390-66FF1560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234-8F30-4CCA-8AF1-5FB59B24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1D0-27C8-4651-826A-C4B43AB3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E34-C004-41D4-B9A5-E059793C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896-1EC3-4767-890F-7DB253DB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88D-82F2-4D59-AEAC-35D66C29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20A1-3F0B-4C11-B1CD-CCFA7BC55C30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124080"/>
            <a:ext cx="76964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2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6858000" cy="221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Developing the 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arget Market Demand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1600200"/>
            <a:ext cx="6095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should stress distribution when it serves customers’ needs in the target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505320"/>
            <a:ext cx="6781680" cy="26542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rketing channels are so closely linked to customer need satisfaction because it is through distribution that firms can provide the kinds and levels of service that make for satisfied custom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228600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etitive Par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1752480"/>
            <a:ext cx="6095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advantages are not easily copied by competitor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36232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733920"/>
            <a:ext cx="6781680" cy="192276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stribution advantages are based on a combination of superior strategy, organization, and human capabilit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Negle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1752480"/>
            <a:ext cx="6095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petitors’ neglect of distribution strategies provides excellent opportunitie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733920"/>
            <a:ext cx="6781680" cy="228852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channel manager must analyze target markets to determine whether competitors have neglected distribution and whether vulnerabilities exist that can be exploi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236232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and Synergy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0592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1752480"/>
            <a:ext cx="6095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oking up” with a mix of cooperative channel members will strengthen the channel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3733920"/>
            <a:ext cx="6781680" cy="155700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cause each channel member is an independent entity, rewarding opportunities exist for channel managers to cultivate cooperation among member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36232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58200" y="1522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fferential Advantage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&amp; Channel Desig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1905120"/>
            <a:ext cx="6934320" cy="2438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fferential advantage,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also called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ustain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ompetitive advantage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ccurs when a fir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ains a long-term, advantageous posi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market relative to competito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6800" y="5234040"/>
            <a:ext cx="1868040" cy="4597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terpilla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ositioning the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523880"/>
            <a:ext cx="6477120" cy="3429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firm that plans the channel and mak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cisions by viewing the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th channel members as a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artner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rategic allianc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that off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cognizable benefits to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&amp; channel members on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-term b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5715000"/>
            <a:ext cx="251460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initi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lection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3809880"/>
            <a:ext cx="7925040" cy="274320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flect channel strategies the firm has developed to achieve its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consistent with the firm’s broader marketing objectives &amp;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flect the objectives &amp; strategies of the organization as a wh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3504600" y="2971800"/>
            <a:ext cx="876600" cy="723960"/>
          </a:xfrm>
          <a:custGeom>
            <a:avLst/>
            <a:gdLst>
              <a:gd name="textAreaLeft" fmla="*/ 136800 w 876600"/>
              <a:gd name="textAreaRight" fmla="*/ 767160 w 876600"/>
              <a:gd name="textAreaTop" fmla="*/ 181080 h 723960"/>
              <a:gd name="textAreaBottom" fmla="*/ 543240 h 723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523880"/>
            <a:ext cx="731520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cause customers perceiv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 as an extension of the manufacturer’s own organization, members should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ategy &amp; Managing the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7524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152280"/>
            <a:ext cx="0" cy="198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2971800"/>
            <a:ext cx="3048120" cy="175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es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981080"/>
            <a:ext cx="2971800" cy="1752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w close a relationship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hould be develop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ith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mber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4952880"/>
            <a:ext cx="5105520" cy="1752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w should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mbers be motivated to cooper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 achieving the manufactur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istribution objective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2057400"/>
            <a:ext cx="2971800" cy="1752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w should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keting mix be used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nhanc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mber cooperation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276720" y="2971800"/>
            <a:ext cx="38088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648320" y="2971800"/>
            <a:ext cx="38088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4800600"/>
            <a:ext cx="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loseness of Channel Relationship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Distribution intensit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Targeted marke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Produc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Company poli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Middleme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Behavioral dimens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94320" y="1447920"/>
            <a:ext cx="369504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actors to conside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Mix in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0592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66880" y="2895480"/>
            <a:ext cx="2667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98680" y="167652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27680" y="32767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ic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91040" y="5105520"/>
            <a:ext cx="170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6480" y="3352680"/>
            <a:ext cx="18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41480" y="2019240"/>
            <a:ext cx="1778040" cy="11811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0213200">
            <a:off x="5105160" y="4419360"/>
            <a:ext cx="1778040" cy="11811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4642800">
            <a:off x="4882680" y="1821960"/>
            <a:ext cx="1778040" cy="11811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43200" y="2057400"/>
            <a:ext cx="1522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105160" y="5715000"/>
            <a:ext cx="1522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6476760" y="4267080"/>
            <a:ext cx="75960" cy="152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77120" y="3048120"/>
            <a:ext cx="0" cy="1522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952880" y="1905120"/>
            <a:ext cx="15264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3200400"/>
            <a:ext cx="76320" cy="1522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5973800">
            <a:off x="939600" y="4698720"/>
            <a:ext cx="1778040" cy="12189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19320" y="4343400"/>
            <a:ext cx="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14600" y="586728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5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Strategy in Marketing 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3276720"/>
            <a:ext cx="2388960" cy="2971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otivation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5328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9872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1752480"/>
            <a:ext cx="4419720" cy="8863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ortfolio concept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6520" y="2666880"/>
            <a:ext cx="1218960" cy="1676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10240" y="4572000"/>
            <a:ext cx="6990120" cy="192276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tool for motivating different typ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izes of channel members particip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various channel structures who may respo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erently to various motivation strateg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9051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458200" y="228600"/>
            <a:ext cx="0" cy="2057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valuation of Channel Member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erforman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0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21400" y="4343400"/>
            <a:ext cx="6721560" cy="2288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3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ve provisions been made in the design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of the channel to assure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 performance will b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valuated effectivel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2209680"/>
            <a:ext cx="7391160" cy="2286000"/>
          </a:xfrm>
          <a:prstGeom prst="downArrowCallout">
            <a:avLst>
              <a:gd name="adj1" fmla="val 80838"/>
              <a:gd name="adj2" fmla="val 79513"/>
              <a:gd name="adj3" fmla="val 16667"/>
              <a:gd name="adj4" fmla="val 66667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manager’s  involv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 evaluating member performance is integral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eveloping &amp; manag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Strategy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4520" y="304920"/>
            <a:ext cx="0" cy="2057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2590920"/>
            <a:ext cx="6400800" cy="362916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The broad principles by which the firm expects to achieve its distribution objectives for it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target market(s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720" y="2082960"/>
            <a:ext cx="278244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Decis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724640"/>
          </a:xfrm>
          <a:prstGeom prst="rect">
            <a:avLst/>
          </a:prstGeom>
          <a:gradFill rotWithShape="0">
            <a:gsLst>
              <a:gs pos="0">
                <a:srgbClr val="fee6b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ole of distribution in the firm’s overall objectives &amp;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ole distribution should play in the marketing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design of the firm’s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election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agement of the marketing channel in order to implement the firm’s channel design effectively &amp; efficiently on a continuing b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evaluation of channel member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810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304920"/>
            <a:ext cx="0" cy="2209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ategy as Overal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rporate Objectiv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962520"/>
            <a:ext cx="609588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higher the priority given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, the higher the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which it should be consider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formulating the organization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verall objectives and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355000">
            <a:off x="3717720" y="2530440"/>
            <a:ext cx="1220760" cy="8841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Value Chai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600200"/>
            <a:ext cx="457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rm infra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Human resource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echnology develop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Human resource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0680" y="4876920"/>
            <a:ext cx="68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bound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    Operations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  Outbound    Marketing    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gistics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    logistics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&amp;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9187400">
            <a:off x="7239240" y="5028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g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926200">
            <a:off x="7296120" y="2304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g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44792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4832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01992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1371600"/>
            <a:ext cx="221004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019920" y="4114440"/>
            <a:ext cx="2514600" cy="2057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057400"/>
            <a:ext cx="64771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819520"/>
            <a:ext cx="7086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505320"/>
            <a:ext cx="76964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343400"/>
            <a:ext cx="7848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82880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6240" y="2362320"/>
            <a:ext cx="11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Activ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6400800"/>
            <a:ext cx="27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Primary Activ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391600">
            <a:off x="2974680" y="4340160"/>
            <a:ext cx="374760" cy="3886200"/>
          </a:xfrm>
          <a:custGeom>
            <a:avLst/>
            <a:gdLst>
              <a:gd name="textAreaLeft" fmla="*/ 0 w 374760"/>
              <a:gd name="textAreaRight" fmla="*/ 135360 w 3747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5820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termining the Priority Given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o Distribu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447920"/>
            <a:ext cx="6934320" cy="2438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o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increasingly warra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attention of top management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competition has mad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sue of distribution too important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 management to ignor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45000" y="4724280"/>
            <a:ext cx="4365720" cy="192276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ayovac Cor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D-4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ca-Col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cter &amp; Gamble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452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6002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ategy &amp; the Marketing Mix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2960" y="1828800"/>
            <a:ext cx="5891040" cy="13737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The essence of modern market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agement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200400"/>
            <a:ext cx="1800360" cy="22813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99240 h 2281320"/>
              <a:gd name="textAreaBottom" fmla="*/ 1654200 h 22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0200" y="4572000"/>
            <a:ext cx="4438800" cy="180036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To develop a marketing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ix of product, price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romotion, &amp; distribu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(place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2952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mphasis on Distribution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350532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stribution is the most relevant variable for satisfying target market demands.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arity exists among competitors in the other three variables of the marketing mix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high degree of vulnerability exists because of competitors’ neglect of distribution.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stribution can enhance the firm by creating synergy from marketing channels.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2057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F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3680" y="57913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2819520"/>
            <a:ext cx="685800" cy="48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3657600"/>
            <a:ext cx="685800" cy="48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4495680"/>
            <a:ext cx="685800" cy="48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92480" y="5791320"/>
            <a:ext cx="5366880" cy="8254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firm should choose distribu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trategy for strategic emph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30T21:07:50Z</dcterms:modified>
  <cp:revision>283</cp:revision>
  <dc:subject/>
  <dc:title>Part 1</dc:title>
</cp:coreProperties>
</file>