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5B1-82B8-4D17-98FC-FA8ACA30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A4E-0BD7-4C4C-BD5D-8679F66D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D0-7C8C-4F20-B849-6D28BE5F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82D-BC8B-4FAA-9743-DF581C3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874-EAAB-46DB-A9BE-DCF549A0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EC2-8BFC-4E44-9696-8BF150C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9AD-BCB6-497B-9EDF-74037DA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688-4868-4DBD-825B-4BF5893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6E2-5057-423E-A571-32CC89FD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35C-9300-4391-B38E-0E927AC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73E-AF55-4CD1-880C-7B03EBD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A39-D2DC-466D-A154-0F90E9A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BF32-52F1-465A-B3FD-FC49C8DFCCA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2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Develop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arget Market Deman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600200"/>
            <a:ext cx="6095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hould stress distribution when it serves customers’ needs in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0532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rketing channels are so closely linked to customer need satisfaction because it is through distribution that firms can provide the kinds and levels of service that make for satisfied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Pa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6095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advantages are not easily copied by competitor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733920"/>
            <a:ext cx="6781680" cy="1922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advantages are based on a combination of superior strategy, organization, and human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Negle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etitors’ neglect of distribution strategies provides excellent opportunitie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733920"/>
            <a:ext cx="6781680" cy="22885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 must analyze target markets to determine whether competitors have neglected distribution and whether vulnerabilities exist that can be exploi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and Synergy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oking up” with a mix of cooperative channel members will strengthen the channel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733920"/>
            <a:ext cx="678168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each channel member is an independent entity, rewarding opportunities exist for channel managers to cultivate cooperation among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erential Advantage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9051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ial advantage,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lso called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ustain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etitive advantag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rs when a fir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ains a long-term, advantageous posi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market relative to competi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6800" y="5234040"/>
            <a:ext cx="1868040" cy="4597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terpil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sition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23880"/>
            <a:ext cx="6477120" cy="3429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firm that plans the channel and mak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cisions by viewing th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channel members as a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art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that off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cognizable benefits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&amp; channel members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715000"/>
            <a:ext cx="25146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init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7925040" cy="274320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channel strategies the firm has developed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sistent with the firm’s broader marketing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the objectives &amp; strategies of the organization as a wh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3504600" y="2971800"/>
            <a:ext cx="876600" cy="723960"/>
          </a:xfrm>
          <a:custGeom>
            <a:avLst/>
            <a:gdLst>
              <a:gd name="textAreaLeft" fmla="*/ 136800 w 876600"/>
              <a:gd name="textAreaRight" fmla="*/ 767160 w 8766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523880"/>
            <a:ext cx="73152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customers perceiv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as an extension of the manufacturer’s own organization, members shoul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Manag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152280"/>
            <a:ext cx="0" cy="198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971800"/>
            <a:ext cx="3048120" cy="175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es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981080"/>
            <a:ext cx="297180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close a relationshi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uld be 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10552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 be motivated to cooper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achiev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ion objective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2057400"/>
            <a:ext cx="2971800" cy="1752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ing mix be us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hanc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 cooperation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2767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6483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8006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loseness of Channel Relationship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Distribution intensit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Targeted marke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roduc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ompany poli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Middleme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Behavioral dimens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4320" y="1447920"/>
            <a:ext cx="3695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actors to conside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Mix i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8954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98680" y="16765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27680" y="32767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91040" y="510552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6480" y="3352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1480" y="201924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0213200">
            <a:off x="5105160" y="44193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42800">
            <a:off x="4882680" y="18219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20574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105160" y="57150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76760" y="4267080"/>
            <a:ext cx="75960" cy="152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3048120"/>
            <a:ext cx="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52880" y="1905120"/>
            <a:ext cx="15264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200400"/>
            <a:ext cx="7632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5973800">
            <a:off x="939600" y="4698720"/>
            <a:ext cx="1778040" cy="12189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19320" y="43434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58672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trategy i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2388960" cy="2971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752480"/>
            <a:ext cx="4419720" cy="8863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ortfolio concep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666880"/>
            <a:ext cx="1218960" cy="1676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10240" y="4572000"/>
            <a:ext cx="6990120" cy="19227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ool for motivating different typ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zes of channel members particip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various channel structures who may respo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tly to various motivation strateg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05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of Channel Member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21400" y="4343400"/>
            <a:ext cx="672156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ve provisions been made in the design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of the channel to as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 performance will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ed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209680"/>
            <a:ext cx="7391160" cy="2286000"/>
          </a:xfrm>
          <a:prstGeom prst="downArrowCallout">
            <a:avLst>
              <a:gd name="adj1" fmla="val 80838"/>
              <a:gd name="adj2" fmla="val 79513"/>
              <a:gd name="adj3" fmla="val 16667"/>
              <a:gd name="adj4" fmla="val 66667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manager’s  involv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 evaluating member performance is integral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veloping &amp; manag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Strateg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590920"/>
            <a:ext cx="6400800" cy="362916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he broad principles by which the firm expects to achieve its distribution objectives for i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arget market(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720" y="2082960"/>
            <a:ext cx="278244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Decis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of distribution in the firm’s overall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distribution should play in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design of the firm’s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agement of the marketing channel in order to implement the firm’s channel design effectively &amp; efficiently on a continuing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evaluation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81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as Overal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porate Objectiv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962520"/>
            <a:ext cx="60958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igher the priority given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, the higher th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which it should be consider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formulating the organization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objectives and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55000">
            <a:off x="3717720" y="25304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Value Chai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00200"/>
            <a:ext cx="457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 infra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y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" y="4876920"/>
            <a:ext cx="68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bound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Operation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Outbound    Marketing    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187400">
            <a:off x="7239240" y="5028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26200">
            <a:off x="7296120" y="2304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19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1371600"/>
            <a:ext cx="221004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4114440"/>
            <a:ext cx="251460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057400"/>
            <a:ext cx="64771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819520"/>
            <a:ext cx="7086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76964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7848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8288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240" y="236232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640080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imary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391600">
            <a:off x="2974680" y="4340160"/>
            <a:ext cx="374760" cy="3886200"/>
          </a:xfrm>
          <a:custGeom>
            <a:avLst/>
            <a:gdLst>
              <a:gd name="textAreaLeft" fmla="*/ 0 w 374760"/>
              <a:gd name="textAreaRight" fmla="*/ 135360 w 3747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rmining the Priority Give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 Distribu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o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increasingly warr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ttention of top management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ompetition has mad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 of distribution too important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to igno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5000" y="4724280"/>
            <a:ext cx="4365720" cy="19227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yovac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D-4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ca-Col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ter &amp; Gambl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2960" y="1828800"/>
            <a:ext cx="5891040" cy="1373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he essence of modern market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ment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200400"/>
            <a:ext cx="1800360" cy="22813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99240 h 2281320"/>
              <a:gd name="textAreaBottom" fmla="*/ 165420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0200" y="4572000"/>
            <a:ext cx="4438800" cy="180036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o develop a marketing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ix of product, pric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motion, &amp;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(plac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mphasis on Distribution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35053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is the most relevant variable for satisfying target market demand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arity exists among competitors in the other three variables of the marketing mix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high degree of vulnerability exists because of competitors’ neglect of distribution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can enhance the firm by creating synergy from marketing channel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05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3680" y="5791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1952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65760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495680"/>
            <a:ext cx="685800" cy="48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2480" y="5791320"/>
            <a:ext cx="536688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firm should choose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ategy for strategic emph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07:50Z</dcterms:modified>
  <cp:revision>283</cp:revision>
  <dc:subject/>
  <dc:title>Part 1</dc:title>
</cp:coreProperties>
</file>