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41E3-4B16-47B1-B5CB-8C0F8EC34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8178-4F38-4132-A753-687B849D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E7CF-734B-416E-843B-C502E0F14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AF31-ADD6-4D7A-8A96-A700C61DD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593E-349D-4183-8DF4-6EC8638C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B3B6-BA8F-4D90-ACCA-4B17A962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D82E-9240-4FE4-9345-3F6B7644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3BE6-850F-4BFF-B561-2C6DF3D5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0923-4B34-4D31-BD1B-B987AE52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A121-96F2-4314-81E1-111AEFD4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0295-156E-4312-B060-ACD07B7B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5548-4DD4-4B72-A2BE-499CF184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AEAA-9BEB-44E1-8E30-746989CE9E65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124080"/>
            <a:ext cx="769644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e7a8d"/>
                </a:solidFill>
                <a:latin typeface="Palatino"/>
              </a:rPr>
              <a:t>Part 2</a:t>
            </a:r>
            <a:endParaRPr b="0" lang="en-US" sz="60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3581280"/>
            <a:ext cx="6858000" cy="2210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b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Geneva"/>
              </a:rPr>
              <a:t>Developing the Marketing Chann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895480"/>
            <a:ext cx="0" cy="2743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arget Market Demand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12952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1600200"/>
            <a:ext cx="60958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6e7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irms should stress distribution when it serves customers’ needs in the target marke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3505320"/>
            <a:ext cx="6781680" cy="265428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arketing channels are so closely linked to customer need satisfaction because it is through distribution that firms can provide the kinds and levels of service that make for satisfied custome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2286000"/>
            <a:ext cx="733320" cy="1828800"/>
          </a:xfrm>
          <a:custGeom>
            <a:avLst/>
            <a:gdLst>
              <a:gd name="textAreaLeft" fmla="*/ 98280 w 733320"/>
              <a:gd name="textAreaRight" fmla="*/ 635040 w 7333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66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114300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458200" y="152280"/>
            <a:ext cx="3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mpetitive Parit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1752480"/>
            <a:ext cx="60958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6e7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tribution advantages are not easily copied by competitors.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2362320"/>
            <a:ext cx="733320" cy="1828800"/>
          </a:xfrm>
          <a:custGeom>
            <a:avLst/>
            <a:gdLst>
              <a:gd name="textAreaLeft" fmla="*/ 98280 w 733320"/>
              <a:gd name="textAreaRight" fmla="*/ 635040 w 7333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66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733920"/>
            <a:ext cx="6781680" cy="192276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Distribution advantages are based on a combination of superior strategy, organization, and human capabiliti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417760" y="7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3732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1880" y="304920"/>
            <a:ext cx="0" cy="1447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87280" y="107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12952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451000" y="23004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5680" y="160020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0040" y="154944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19200" y="148896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stribution Neglec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38600" y="4329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71600" y="1752480"/>
            <a:ext cx="60958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6e7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mpetitors’ neglect of distribution strategies provides excellent opportunities.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3733920"/>
            <a:ext cx="6781680" cy="228852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e channel manager must analyze target markets to determine whether competitors have neglected distribution and whether vulnerabilities exist that can be exploited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2362320"/>
            <a:ext cx="733320" cy="1828800"/>
          </a:xfrm>
          <a:custGeom>
            <a:avLst/>
            <a:gdLst>
              <a:gd name="textAreaLeft" fmla="*/ 98280 w 733320"/>
              <a:gd name="textAreaRight" fmla="*/ 635040 w 7333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66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stribution and Synergy</a:t>
            </a:r>
            <a:r>
              <a:rPr b="1" lang="en-US" sz="2800" spc="-1" strike="noStrike">
                <a:solidFill>
                  <a:srgbClr val="6e7a8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05920" y="30492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45820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71600" y="1752480"/>
            <a:ext cx="60958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6e7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ooking up” with a mix of cooperative channel members will strengthen the channel.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43000" y="3733920"/>
            <a:ext cx="6781680" cy="155700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Because each channel member is an independent entity, rewarding opportunities exist for channel managers to cultivate cooperation among members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2362320"/>
            <a:ext cx="733320" cy="1828800"/>
          </a:xfrm>
          <a:custGeom>
            <a:avLst/>
            <a:gdLst>
              <a:gd name="textAreaLeft" fmla="*/ 98280 w 733320"/>
              <a:gd name="textAreaRight" fmla="*/ 635040 w 7333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66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7840" y="1049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15238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18320" y="-2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458200" y="152280"/>
            <a:ext cx="0" cy="1828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fferential Advantage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&amp; Channel Desig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7400" y="174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27200" y="304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17640" y="20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98400" y="381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88000" y="524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23120" y="59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1905120"/>
            <a:ext cx="6934320" cy="2438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Differential advantage,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also called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sustainab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competitive advantage,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ccurs when a firm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ttains a long-term, advantageous positio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 the market relative to competito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726800" y="5234040"/>
            <a:ext cx="1868040" cy="45972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aterpilla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12952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0592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451000" y="23004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ositioning the Channel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1523880"/>
            <a:ext cx="6477120" cy="3429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 firm that plans the channel and mak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ecisions by viewing the relationship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ith channel members as a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partnership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strategic alliance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that off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cognizable benefits to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&amp; channel members on a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ong-term basi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5715000"/>
            <a:ext cx="2514600" cy="459720"/>
          </a:xfrm>
          <a:prstGeom prst="rect">
            <a:avLst/>
          </a:prstGeom>
          <a:gradFill rotWithShape="0">
            <a:gsLst>
              <a:gs pos="0">
                <a:srgbClr val="feeac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finiti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5820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election of Channel Memb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7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3809880"/>
            <a:ext cx="7925040" cy="274320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flect channel strategies the firm has developed to achieve its distribution objecti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 consistent with the firm’s broader marketing objectives &amp; strateg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flect the objectives &amp; strategies of the organization as a who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5400000">
            <a:off x="3504600" y="2971800"/>
            <a:ext cx="876600" cy="723960"/>
          </a:xfrm>
          <a:custGeom>
            <a:avLst/>
            <a:gdLst>
              <a:gd name="textAreaLeft" fmla="*/ 136800 w 876600"/>
              <a:gd name="textAreaRight" fmla="*/ 767160 w 876600"/>
              <a:gd name="textAreaTop" fmla="*/ 181080 h 723960"/>
              <a:gd name="textAreaBottom" fmla="*/ 543240 h 723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1523880"/>
            <a:ext cx="7315200" cy="119124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Because customers perceiv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embers as an extension of the manufacturer’s own organization, members should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Strategy &amp; Managing the Channel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17524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381880" y="152280"/>
            <a:ext cx="0" cy="19814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8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66880" y="2971800"/>
            <a:ext cx="3048120" cy="1752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ic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Ques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1981080"/>
            <a:ext cx="2971800" cy="17528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ow close a relationship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hould be develop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with th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embers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52480" y="4952880"/>
            <a:ext cx="5105520" cy="17528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ow should th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embers be motivated to cooperat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n achieving the manufacturer’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istribution objectives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81480" y="2057400"/>
            <a:ext cx="2971800" cy="17524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ow should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arketing mix be used 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enhanc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ember cooperation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3276720" y="2971800"/>
            <a:ext cx="380880" cy="4572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4648320" y="2971800"/>
            <a:ext cx="380880" cy="4572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14800" y="4800600"/>
            <a:ext cx="0" cy="763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loseness of Channel Relationship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121932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30592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7680" y="-5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Distribution intensit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Targeted marke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Produc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Company polici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Middleme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Environmen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Behavioral dimensio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94320" y="1447920"/>
            <a:ext cx="3695040" cy="4597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b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Factors to consider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ing Mix in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Manage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137160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305920" y="228600"/>
            <a:ext cx="0" cy="15238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66880" y="2895480"/>
            <a:ext cx="266724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ix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98680" y="1676520"/>
            <a:ext cx="138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duc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827680" y="3276720"/>
            <a:ext cx="135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ic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91040" y="5105520"/>
            <a:ext cx="170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mo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6480" y="3352680"/>
            <a:ext cx="18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tribu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41480" y="2019240"/>
            <a:ext cx="1778040" cy="1181160"/>
          </a:xfrm>
          <a:custGeom>
            <a:avLst/>
            <a:gdLst/>
            <a:ahLst/>
            <a:rect l="l" t="t" r="r" b="b"/>
            <a:pathLst>
              <a:path w="1120" h="744">
                <a:moveTo>
                  <a:pt x="160" y="744"/>
                </a:moveTo>
                <a:cubicBezTo>
                  <a:pt x="80" y="492"/>
                  <a:pt x="0" y="240"/>
                  <a:pt x="160" y="120"/>
                </a:cubicBezTo>
                <a:cubicBezTo>
                  <a:pt x="320" y="0"/>
                  <a:pt x="720" y="12"/>
                  <a:pt x="1120" y="24"/>
                </a:cubicBezTo>
              </a:path>
            </a:pathLst>
          </a:custGeom>
          <a:noFill/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0213200">
            <a:off x="5105160" y="4419360"/>
            <a:ext cx="1778040" cy="1181160"/>
          </a:xfrm>
          <a:custGeom>
            <a:avLst/>
            <a:gdLst/>
            <a:ahLst/>
            <a:rect l="l" t="t" r="r" b="b"/>
            <a:pathLst>
              <a:path w="1120" h="744">
                <a:moveTo>
                  <a:pt x="160" y="744"/>
                </a:moveTo>
                <a:cubicBezTo>
                  <a:pt x="80" y="492"/>
                  <a:pt x="0" y="240"/>
                  <a:pt x="160" y="120"/>
                </a:cubicBezTo>
                <a:cubicBezTo>
                  <a:pt x="320" y="0"/>
                  <a:pt x="720" y="12"/>
                  <a:pt x="1120" y="24"/>
                </a:cubicBezTo>
              </a:path>
            </a:pathLst>
          </a:custGeom>
          <a:noFill/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4642800">
            <a:off x="4882680" y="1821960"/>
            <a:ext cx="1778040" cy="1181160"/>
          </a:xfrm>
          <a:custGeom>
            <a:avLst/>
            <a:gdLst/>
            <a:ahLst/>
            <a:rect l="l" t="t" r="r" b="b"/>
            <a:pathLst>
              <a:path w="1120" h="744">
                <a:moveTo>
                  <a:pt x="160" y="744"/>
                </a:moveTo>
                <a:cubicBezTo>
                  <a:pt x="80" y="492"/>
                  <a:pt x="0" y="240"/>
                  <a:pt x="160" y="120"/>
                </a:cubicBezTo>
                <a:cubicBezTo>
                  <a:pt x="320" y="0"/>
                  <a:pt x="720" y="12"/>
                  <a:pt x="1120" y="24"/>
                </a:cubicBezTo>
              </a:path>
            </a:pathLst>
          </a:custGeom>
          <a:noFill/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743200" y="2057400"/>
            <a:ext cx="15228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5105160" y="5715000"/>
            <a:ext cx="15228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6476760" y="4267080"/>
            <a:ext cx="75960" cy="1526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477120" y="3048120"/>
            <a:ext cx="0" cy="15228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952880" y="1905120"/>
            <a:ext cx="152640" cy="759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5280" y="3200400"/>
            <a:ext cx="76320" cy="15228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rot="15973800">
            <a:off x="939600" y="4698720"/>
            <a:ext cx="1778040" cy="1218960"/>
          </a:xfrm>
          <a:custGeom>
            <a:avLst/>
            <a:gdLst/>
            <a:ahLst/>
            <a:rect l="l" t="t" r="r" b="b"/>
            <a:pathLst>
              <a:path w="1120" h="744">
                <a:moveTo>
                  <a:pt x="160" y="744"/>
                </a:moveTo>
                <a:cubicBezTo>
                  <a:pt x="80" y="492"/>
                  <a:pt x="0" y="240"/>
                  <a:pt x="160" y="120"/>
                </a:cubicBezTo>
                <a:cubicBezTo>
                  <a:pt x="320" y="0"/>
                  <a:pt x="720" y="12"/>
                  <a:pt x="1120" y="24"/>
                </a:cubicBezTo>
              </a:path>
            </a:pathLst>
          </a:custGeom>
          <a:noFill/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219320" y="4343400"/>
            <a:ext cx="0" cy="763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514600" y="5867280"/>
            <a:ext cx="7632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5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620120" cy="41911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     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Strategy in Marketing Channel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8320" y="3276720"/>
            <a:ext cx="2388960" cy="29718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0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otivation of Channel Memb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4920" y="137160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153280" y="22860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298720" y="22860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9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28800" y="1752480"/>
            <a:ext cx="4419720" cy="88632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  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Portfolio concept: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76520" y="2666880"/>
            <a:ext cx="1218960" cy="167652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293400 h 1676520"/>
              <a:gd name="textAreaBottom" fmla="*/ 121572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110240" y="4572000"/>
            <a:ext cx="6990120" cy="1922760"/>
          </a:xfrm>
          <a:prstGeom prst="rect">
            <a:avLst/>
          </a:prstGeom>
          <a:gradFill rotWithShape="0">
            <a:gsLst>
              <a:gs pos="0">
                <a:srgbClr val="fee8b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 tool for motivating different typ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d sizes of channel members participa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 various channel structures who may respon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fferently to various motivation strategi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4920" y="19051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458200" y="228600"/>
            <a:ext cx="0" cy="2057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534520" y="228600"/>
            <a:ext cx="3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Evaluation of Channel Member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erformanc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8600" y="15228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0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121400" y="4343400"/>
            <a:ext cx="6721560" cy="22885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f3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ave provisions been made in the design an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agement of the channel to assure tha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ember performance will b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valuated effectively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3520" y="2209680"/>
            <a:ext cx="7391160" cy="2286000"/>
          </a:xfrm>
          <a:prstGeom prst="downArrowCallout">
            <a:avLst>
              <a:gd name="adj1" fmla="val 80838"/>
              <a:gd name="adj2" fmla="val 79513"/>
              <a:gd name="adj3" fmla="val 16667"/>
              <a:gd name="adj4" fmla="val 66667"/>
            </a:avLst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hannel manager’s  involv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in evaluating member performance is integral t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developing &amp; managing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ing Channel Strategy</a:t>
            </a: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 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610480" y="1522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534520" y="304920"/>
            <a:ext cx="0" cy="2057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2590920"/>
            <a:ext cx="6400800" cy="3629160"/>
          </a:xfrm>
          <a:prstGeom prst="rect">
            <a:avLst/>
          </a:prstGeom>
          <a:gradFill rotWithShape="0">
            <a:gsLst>
              <a:gs pos="0">
                <a:srgbClr val="fee7b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The broad principles by which the firm expects to achieve its distribution objectives for its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target market(s)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0720" y="2082960"/>
            <a:ext cx="2782440" cy="52056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annel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S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ateg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13716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58200" y="228600"/>
            <a:ext cx="0" cy="15238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7480" y="18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87400" y="201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stribution Decision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848360" cy="4724640"/>
          </a:xfrm>
          <a:prstGeom prst="rect">
            <a:avLst/>
          </a:prstGeom>
          <a:gradFill rotWithShape="0">
            <a:gsLst>
              <a:gs pos="0">
                <a:srgbClr val="fee6b6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role of distribution in the firm’s overall objectives &amp; strateg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role distribution should play in the marketing mix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design of the firm’s marketing chann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selection of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management of the marketing channel in order to implement the firm’s channel design effectively &amp; efficiently on a continuing basi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evaluation of channel member performa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9810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304920"/>
            <a:ext cx="0" cy="2209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74680" y="30636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Strategy as Overall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rporate Objectiv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3962520"/>
            <a:ext cx="6095880" cy="26542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e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higher the priority given t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tribution, the higher the lev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t which it should be consider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 formulating the organization’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verall objectives and strateg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355000">
            <a:off x="3717720" y="2530440"/>
            <a:ext cx="1220760" cy="88416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45820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2788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The Value Chain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1600200"/>
            <a:ext cx="4576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irm infrastructu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Human resource manag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echnology develop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Human resource manag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0680" y="4876920"/>
            <a:ext cx="68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Inbound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     Operations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   Outbound    Marketing     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logistics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     logistics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&amp; sa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9187400">
            <a:off x="7239240" y="50288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rgi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926200">
            <a:off x="7296120" y="23040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rgi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419720"/>
            <a:ext cx="0" cy="17524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4419720"/>
            <a:ext cx="0" cy="17524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4419720"/>
            <a:ext cx="0" cy="17524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419720"/>
            <a:ext cx="0" cy="17524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447920" y="1447560"/>
            <a:ext cx="0" cy="289548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200400" y="1447560"/>
            <a:ext cx="0" cy="289548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648320" y="1447560"/>
            <a:ext cx="0" cy="289548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019920" y="1447560"/>
            <a:ext cx="0" cy="289548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4480" y="1371600"/>
            <a:ext cx="2210040" cy="2743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019920" y="4114440"/>
            <a:ext cx="2514600" cy="2057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057400"/>
            <a:ext cx="64771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2819520"/>
            <a:ext cx="7086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3505320"/>
            <a:ext cx="76964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4343400"/>
            <a:ext cx="78487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1828800"/>
            <a:ext cx="304920" cy="2057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6240" y="2362320"/>
            <a:ext cx="116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 Narrow"/>
              </a:rPr>
              <a:t>Suppor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 Narrow"/>
              </a:rPr>
              <a:t>Activit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6400800"/>
            <a:ext cx="27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 Narrow"/>
              </a:rPr>
              <a:t>Primary Activit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391600">
            <a:off x="2974680" y="4340160"/>
            <a:ext cx="374760" cy="3886200"/>
          </a:xfrm>
          <a:custGeom>
            <a:avLst/>
            <a:gdLst>
              <a:gd name="textAreaLeft" fmla="*/ 0 w 374760"/>
              <a:gd name="textAreaRight" fmla="*/ 135360 w 37476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458200" y="4572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52732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etermining the Priority Given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o Distribu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1447920"/>
            <a:ext cx="6934320" cy="2438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tribution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does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increasingly warra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attention of top management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cause competition has made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ssue of distribution too important f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p management to ignor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45000" y="4724280"/>
            <a:ext cx="4365720" cy="192276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ayovac Corp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D-4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ca-Col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cter &amp; Gamble Compan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53452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160020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61048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Strategy &amp; the Marketing Mix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2960" y="1828800"/>
            <a:ext cx="5891040" cy="137376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The essence of modern marketing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management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3200400"/>
            <a:ext cx="1800360" cy="2281320"/>
          </a:xfrm>
          <a:custGeom>
            <a:avLst/>
            <a:gdLst>
              <a:gd name="textAreaLeft" fmla="*/ 241200 w 1800360"/>
              <a:gd name="textAreaRight" fmla="*/ 1559160 w 1800360"/>
              <a:gd name="textAreaTop" fmla="*/ 399240 h 2281320"/>
              <a:gd name="textAreaBottom" fmla="*/ 1654200 h 228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00200" y="4572000"/>
            <a:ext cx="4438800" cy="180036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To develop a marketing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mix of product, price,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promotion, &amp; distributi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(place)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0592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29528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Emphasis on Distribution Strateg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350532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Distribution is the most relevant variable for satisfying target market demands.  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Parity exists among competitors in the other three variables of the marketing mix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A high degree of vulnerability exists because of competitors’ neglect of distribution.  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Distribution can enhance the firm by creating synergy from marketing channels.  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2057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IF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3680" y="579132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THE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2819520"/>
            <a:ext cx="685800" cy="485640"/>
          </a:xfrm>
          <a:custGeom>
            <a:avLst/>
            <a:gdLst>
              <a:gd name="textAreaLeft" fmla="*/ 0 w 685800"/>
              <a:gd name="textAreaRight" fmla="*/ 686160 w 6858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2280" y="3657600"/>
            <a:ext cx="685800" cy="485640"/>
          </a:xfrm>
          <a:custGeom>
            <a:avLst/>
            <a:gdLst>
              <a:gd name="textAreaLeft" fmla="*/ 0 w 685800"/>
              <a:gd name="textAreaRight" fmla="*/ 686160 w 6858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4495680"/>
            <a:ext cx="685800" cy="486000"/>
          </a:xfrm>
          <a:custGeom>
            <a:avLst/>
            <a:gdLst>
              <a:gd name="textAreaLeft" fmla="*/ 0 w 685800"/>
              <a:gd name="textAreaRight" fmla="*/ 686160 w 68580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92480" y="5791320"/>
            <a:ext cx="5366880" cy="82548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e firm should choose distributio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strategy for strategic emphasi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6-30T21:07:50Z</dcterms:modified>
  <cp:revision>283</cp:revision>
  <dc:subject/>
  <dc:title>Part 1</dc:title>
</cp:coreProperties>
</file>