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C3E-E851-4207-813A-1A25AA65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7DD-10A0-4937-BE5B-719F5A3A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AFB-A1F0-4B9E-AB3B-75E732C2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D06-182D-42BD-A737-9D748E1A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A35-C54C-4B14-84CC-36E2F473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D58-AC2D-4BA3-AE68-CF4B4109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DB8-7C25-45C8-B0D1-F78BAC79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EBB-8FCC-4C44-B30E-BB6FD66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2BC-B120-4811-81D1-4FCD3515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7FB-3244-4B21-A2F8-BF1EA0EC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C33-89D4-4539-8ABB-1A3B15A3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62C-E7A3-4539-8724-ECCCF905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D64F-ED2A-4CF0-870D-BCF1E864CF25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6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Designing the 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1562040" cy="2438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Structure Dimension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600200"/>
            <a:ext cx="3429000" cy="1219320"/>
          </a:xfrm>
          <a:prstGeom prst="rect">
            <a:avLst/>
          </a:prstGeom>
          <a:gradFill rotWithShape="0">
            <a:gsLst>
              <a:gs pos="0">
                <a:srgbClr val="ececec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Number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vels in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2362320"/>
            <a:ext cx="3124440" cy="121896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Intensity at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ous lev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4952880"/>
            <a:ext cx="3657600" cy="1447920"/>
          </a:xfrm>
          <a:prstGeom prst="rect">
            <a:avLst/>
          </a:prstGeom>
          <a:gradFill rotWithShape="0">
            <a:gsLst>
              <a:gs pos="0">
                <a:srgbClr val="e4e4e4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Type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each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4800" y="3962520"/>
            <a:ext cx="6581520" cy="52056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1" i="1" lang="en-US" sz="2800" spc="-1" strike="noStrike">
                <a:solidFill>
                  <a:srgbClr val="000080"/>
                </a:solidFill>
                <a:latin typeface="Geneva"/>
              </a:rPr>
              <a:t>Allocation Alternatives</a:t>
            </a:r>
            <a:r>
              <a:rPr b="1" i="1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1" i="1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Number of Level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153280" cy="4952880"/>
          </a:xfrm>
          <a:prstGeom prst="rect">
            <a:avLst/>
          </a:prstGeom>
          <a:gradFill rotWithShape="0">
            <a:gsLst>
              <a:gs pos="0">
                <a:srgbClr val="bababa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ange from two to five or mo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Number of alternatives is limited to two or three choi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Limitations result from the following factor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industry pract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ature &amp; size of the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ailability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nsity at the Various Levels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0960" y="3962520"/>
            <a:ext cx="7547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ntensiv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Selectiv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Exclusiv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5867280"/>
            <a:ext cx="7661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y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  Few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   On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32860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ntensity Dimen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1400" y="5105520"/>
            <a:ext cx="58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bers of Intermediaries (retail leve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200" y="1523880"/>
            <a:ext cx="751104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Relationship between the intensity of distribu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mension &amp; number of retail intermediaries used in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given market are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58200" y="1522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ypes of Intermediar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4724280"/>
          </a:xfrm>
          <a:prstGeom prst="rect">
            <a:avLst/>
          </a:prstGeom>
          <a:gradFill rotWithShape="0">
            <a:gsLst>
              <a:gs pos="0">
                <a:srgbClr val="ccd0d6"/>
              </a:gs>
              <a:gs pos="100000">
                <a:srgbClr val="6e7a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Numerous typ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ager’s emphasis on types of distribution tasks performed by these intermediar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Watch emerging typ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lectronic online auction firms (eBay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products sold in B2B marke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(Chemdex, Converge.com)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Variables Affecting Channel Structur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solidFill>
            <a:srgbClr val="e6e6e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rket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roduct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mpany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ntermediary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Environmental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Behavioral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83000" y="1600200"/>
            <a:ext cx="566712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eneva"/>
              </a:rPr>
              <a:t>Categories of Variables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5820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8380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371600"/>
            <a:ext cx="8372520" cy="48488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Geograph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ion, geographical size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distance from produc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umber of customers in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Dens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umber of buying uni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(consumers or industrial firms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 unit of land are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Behavio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 buys, &amp; how, when,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re customers bu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167652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266688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403848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548640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151500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Bulk &amp; Weigh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Perishabilit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Unit Val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Degree of Standardiz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Technical versus Nontechnic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Newne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any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8380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34520" y="15228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219320"/>
            <a:ext cx="8305920" cy="5214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ange of option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ve to a firm’s 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ancial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greater the capital,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pac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wer the dependence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rial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mediaries are necessa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pertis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managerial experi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lack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bjectiv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 &amp; objectives m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Strategi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imit use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6880" y="137160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266688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419112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556272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mediary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040" y="1371600"/>
            <a:ext cx="7081560" cy="119124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ailabil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ailability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luences channel structur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4800" y="2971800"/>
            <a:ext cx="6628680" cy="119124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s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st is always a consideration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structur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4572000"/>
            <a:ext cx="7648560" cy="155700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ic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Services that intermediaries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fer are closely related to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ection of channel members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17524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5105520"/>
            <a:ext cx="685800" cy="53316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nvironmental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78400" y="3124080"/>
            <a:ext cx="525852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impact of environmental force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 common reason for mak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hannel design decis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6920" y="1752480"/>
            <a:ext cx="156456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2640" y="2133720"/>
            <a:ext cx="203256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ociocultu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22520" y="1600200"/>
            <a:ext cx="190728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mpet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4000" y="5181480"/>
            <a:ext cx="215748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echno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97800" y="5181480"/>
            <a:ext cx="95040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eg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590920"/>
            <a:ext cx="6400800" cy="326340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Decisions involving the development of new marketing channels either where none had previously existed or to the modification of existing channe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760" y="2082960"/>
            <a:ext cx="258876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sig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ehavioral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6520" y="1600200"/>
            <a:ext cx="696096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velop congruent roles for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2680" y="4876920"/>
            <a:ext cx="687708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end to the influence of behavioral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at can distort communic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52480" y="3048120"/>
            <a:ext cx="51962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aware of available power bas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Heuristics in Channel Desig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1880" y="5335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527320" y="15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Benefi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irly simple prescriptions for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Limit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stly useful as rough guide to decision mak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2666880"/>
            <a:ext cx="6858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7432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oosing an Optima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uctur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52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0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527320" y="22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676520"/>
            <a:ext cx="7732800" cy="338580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y is choosing an optimal channel struct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ot possibl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is incapable of knowing 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sible alternativ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ecise methods for calculating the exact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offs associated with each alternative structures do not exis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5486400"/>
            <a:ext cx="62485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Techniques exist for develop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ore exact method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952880"/>
            <a:ext cx="1447920" cy="1600200"/>
          </a:xfrm>
          <a:prstGeom prst="irregularSeal1">
            <a:avLst/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8600" y="152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pproaches for Choosing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uctur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188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58200" y="2286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7925040" cy="419076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racteristics of Goods &amp; Parallel Systems”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inancial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ransaction Cost Analysis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nagement Science Approach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Judgmental-Heuristic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152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Judgmental-Heuristic Approach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188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27320" y="304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1600200"/>
            <a:ext cx="518148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’s ability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e sharp judgments is hi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86400" y="3048120"/>
            <a:ext cx="52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 empirical data on cos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revenues is avail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22280" y="28195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+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50292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’s possible to make highly satisfactory channel-choice decisions using judgmental-heuristic approach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4191120"/>
            <a:ext cx="790560" cy="976320"/>
          </a:xfrm>
          <a:prstGeom prst="downArrow">
            <a:avLst>
              <a:gd name="adj1" fmla="val 50000"/>
              <a:gd name="adj2" fmla="val 30874"/>
            </a:avLst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77640" y="16002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Geneva"/>
              </a:rPr>
              <a:t>I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001000" cy="434340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decision made by the market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creation or modification of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active allocation of distribution tasks in an attempt to develop an efficient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selection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strategic tool for gaining a differential advan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8440" y="1295280"/>
            <a:ext cx="687852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c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stinguishing points of the definition include: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Engages in Channel Design?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3733920"/>
            <a:ext cx="2743200" cy="289548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er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s,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viders, franchis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ok down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ward the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3581280"/>
            <a:ext cx="2210040" cy="312444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ok up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sec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ppli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3733920"/>
            <a:ext cx="2210040" cy="297180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ok both up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ow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00200"/>
            <a:ext cx="2514600" cy="1905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r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1600200"/>
            <a:ext cx="3200400" cy="19810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1600200"/>
            <a:ext cx="2666880" cy="1828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Design Paradigm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1447920"/>
            <a:ext cx="3353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cognize the need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design deci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743200"/>
            <a:ext cx="3047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 Sel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5562720"/>
            <a:ext cx="3048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 Eval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levant variab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8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 Choose the “best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274320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Set &amp; coordin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191120"/>
            <a:ext cx="30477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3. Specif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ion tas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563868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4. Develop alterna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struct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981080"/>
            <a:ext cx="609840" cy="7621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3809880"/>
            <a:ext cx="30492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5257800"/>
            <a:ext cx="3049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733920" y="6172200"/>
            <a:ext cx="17524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8080" y="5257440"/>
            <a:ext cx="304920" cy="304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47920" y="3809520"/>
            <a:ext cx="30456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n to Make a Channel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sign Decis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91120" cy="4876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veloping a new product or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iming an existing product at a new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king a major change in some other component of the marketing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stablishing a new fi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dapting to changing intermediary policies that may inhibit attainment of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4190760" cy="4953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8b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aling with changes in availability of particular kinds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pening up new geographic marketing are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acing the occurrence of major environmental cha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eeting the challenge of conflict or other behavioral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viewing and evalu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3452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6002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Objec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040" y="2438280"/>
            <a:ext cx="5507280" cy="39333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etting distribution objectiv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equires knowledge of which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f any, existing objectiv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&amp; strategies may imping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n these distribution objective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184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059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8380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Need for Congruenc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990720"/>
            <a:ext cx="19051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rm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ver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200400"/>
            <a:ext cx="1752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Gene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ic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5943600"/>
            <a:ext cx="3808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943600"/>
            <a:ext cx="3808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5943600"/>
            <a:ext cx="3808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95280" y="4419360"/>
            <a:ext cx="2057400" cy="6094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743200" y="4800240"/>
            <a:ext cx="60948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181120" y="4800240"/>
            <a:ext cx="68580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181120" y="4343040"/>
            <a:ext cx="2057400" cy="685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267080" y="3047760"/>
            <a:ext cx="0" cy="152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Task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2200" y="1447920"/>
            <a:ext cx="5953680" cy="82548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utlining distribution tasks is specific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ituationally dependent on the firm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080" y="3276720"/>
            <a:ext cx="5482800" cy="1557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example: Distribution tasks for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f consumer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ers from those for products sol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industrial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2438280"/>
            <a:ext cx="129528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5410080"/>
            <a:ext cx="6507000" cy="119124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tasks are a function of the distribution objectives and the types of firms involv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472428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30T21:57:57Z</dcterms:modified>
  <cp:revision>349</cp:revision>
  <dc:subject/>
  <dc:title>Part 1</dc:title>
</cp:coreProperties>
</file>