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EB8-A5C6-454A-92E4-4D31AA58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1D4-CBF7-4C73-AED1-819C64AA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1C8-B11B-4EE1-AE45-E897B568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438-2BBF-46DE-8E88-68AE6FD1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082-4CB6-46C8-9AC6-4B525066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882-C089-4373-976E-7A4471F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14A-E81B-42FE-B79D-E0EC3787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F33-F109-4600-868D-DBD6374A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442-BBC5-4DAF-B7C4-2709224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77B-EA7C-4289-AC46-A755946B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4E5-A8A7-4B08-8E43-7286BA3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B04-37D4-4C93-A72E-3AF8E0B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C301-B165-4788-BD39-9D8931934553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6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Design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1562040" cy="2438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Structure Dimension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00200"/>
            <a:ext cx="3429000" cy="1219320"/>
          </a:xfrm>
          <a:prstGeom prst="rect">
            <a:avLst/>
          </a:prstGeom>
          <a:gradFill rotWithShape="0">
            <a:gsLst>
              <a:gs pos="0">
                <a:srgbClr val="ececec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Number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2362320"/>
            <a:ext cx="3124440" cy="121896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Intensity 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ous lev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952880"/>
            <a:ext cx="3657600" cy="1447920"/>
          </a:xfrm>
          <a:prstGeom prst="rect">
            <a:avLst/>
          </a:prstGeom>
          <a:gradFill rotWithShape="0">
            <a:gsLst>
              <a:gs pos="0">
                <a:srgbClr val="e4e4e4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Type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each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4800" y="3962520"/>
            <a:ext cx="6581520" cy="52056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Allocation Alternatives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1" i="1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Number of Level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952880"/>
          </a:xfrm>
          <a:prstGeom prst="rect">
            <a:avLst/>
          </a:prstGeom>
          <a:gradFill rotWithShape="0">
            <a:gsLst>
              <a:gs pos="0">
                <a:srgbClr val="bababa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nge from two to five or mo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ber of alternatives is limited to two or three choi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s result from the following factor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industry pract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ature &amp; size of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nsity at the Various Lev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0960" y="3962520"/>
            <a:ext cx="7547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ns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Selectiv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Exclus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867280"/>
            <a:ext cx="766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y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Fe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   On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2860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nsity Dimen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1400" y="510552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umbers of Intermediaries (retail le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200" y="1523880"/>
            <a:ext cx="7511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elationship between the intensity of distribu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mension &amp; number of retail intermediaries used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iven market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ypes of Intermedia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724280"/>
          </a:xfrm>
          <a:prstGeom prst="rect">
            <a:avLst/>
          </a:prstGeom>
          <a:gradFill rotWithShape="0">
            <a:gsLst>
              <a:gs pos="0">
                <a:srgbClr val="ccd0d6"/>
              </a:gs>
              <a:gs pos="100000">
                <a:srgbClr val="6e7a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Numerous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nager’s emphasis on types of distribution tasks performed by these intermedia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Watch emerging typ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ronic online auction firms (eBa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products sold in B2B marke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hemdex, Converge.com)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ariables Affecting 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solidFill>
            <a:srgbClr val="e6e6e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mpan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ntermediary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Environment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havioral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83000" y="1600200"/>
            <a:ext cx="566712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eneva"/>
              </a:rPr>
              <a:t>Categories of Variables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371600"/>
            <a:ext cx="8372520" cy="48488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, geographical size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istance from produc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customers in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umber of buying uni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(consumers or industrial firms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 unit of land are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 buys, &amp; how, when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re customers bu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16765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0384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54864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151500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Bulk &amp; Weigh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Perishabilit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Unit Val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Degree of Standardiz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Technical versus Nontechnic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New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an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8380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219320"/>
            <a:ext cx="8305920" cy="5214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ange of option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ve to a firm’s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greater the capital,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c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wer the dependence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ial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mediaries are necess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pertis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managerial experi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lac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&amp; objectives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Strategi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mit us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37160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666880"/>
            <a:ext cx="685800" cy="60984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41911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5562720"/>
            <a:ext cx="685800" cy="609480"/>
          </a:xfrm>
          <a:custGeom>
            <a:avLst/>
            <a:gdLst>
              <a:gd name="textAreaLeft" fmla="*/ 10692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mediary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40" y="1371600"/>
            <a:ext cx="708156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ailability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4800" y="2971800"/>
            <a:ext cx="662868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st is always a consid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76485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ice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Services that intermediari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are closely related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ection of channel members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17524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105520"/>
            <a:ext cx="685800" cy="53316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vironment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78400" y="3124080"/>
            <a:ext cx="525852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impact of environmental force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 common reason for mak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design decis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6920" y="1752480"/>
            <a:ext cx="1564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2640" y="2133720"/>
            <a:ext cx="203256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22520" y="1600200"/>
            <a:ext cx="19072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4000" y="5181480"/>
            <a:ext cx="215748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181480"/>
            <a:ext cx="950400" cy="459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590920"/>
            <a:ext cx="6400800" cy="326340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ecisions involving the development of new marketing channels either where none had previously existed or to the modification of exis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760" y="2082960"/>
            <a:ext cx="25887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ig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Variabl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6520" y="1600200"/>
            <a:ext cx="69609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 congruent roles for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2680" y="4876920"/>
            <a:ext cx="68770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 to the influence of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at can distort communi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52480" y="3048120"/>
            <a:ext cx="51962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aware of available power bas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Heuristics in 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1880" y="533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Benefi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ly simple prescriptions for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imit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ly useful as rough guide to decision mak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6668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7432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oosing an Optim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0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2732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676520"/>
            <a:ext cx="7732800" cy="33858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y is choosing an optimal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ot possibl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is incapable of knowing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ible alternativ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3716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cise methods for calculating the exact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offs associated with each alternative structures do not exi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5486400"/>
            <a:ext cx="62485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Techniques exist for develo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ore exact metho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952880"/>
            <a:ext cx="1447920" cy="1600200"/>
          </a:xfrm>
          <a:prstGeom prst="irregularSeal1">
            <a:avLst/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roaches for Choos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tructur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2286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925040" cy="419076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haracteristics of Goods &amp; Parallel Systems”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inancial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ransaction Cost Analysis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anagement Science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Judgmental-Heuristic Approa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28600" y="152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Judgmental-Heuristic Approach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188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27320" y="304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600200"/>
            <a:ext cx="51814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’s ability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e sharp judgments is hi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86400" y="3048120"/>
            <a:ext cx="52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empirical data 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revenues is avail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22280" y="2819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+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029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’s possible to make highly satisfactory channel-choice decisions using judgmental-heuristic 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4191120"/>
            <a:ext cx="790560" cy="976320"/>
          </a:xfrm>
          <a:prstGeom prst="downArrow">
            <a:avLst>
              <a:gd name="adj1" fmla="val 50000"/>
              <a:gd name="adj2" fmla="val 30874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77640" y="16002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Geneva"/>
              </a:rPr>
              <a:t>I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43434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decision made by the market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reation or modification of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active allocation of distribution tasks in an attempt to develop an efficient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lection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 strategic tool for gaining a differential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440" y="1295280"/>
            <a:ext cx="6878520" cy="459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inguishing points of the definition include: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Engages in Channel Design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733920"/>
            <a:ext cx="2743200" cy="289548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s,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viders, franchis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dow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ward the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3581280"/>
            <a:ext cx="2210040" cy="312444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up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sec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733920"/>
            <a:ext cx="221004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ook both up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w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00200"/>
            <a:ext cx="2514600" cy="19051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00200"/>
            <a:ext cx="3200400" cy="1981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600200"/>
            <a:ext cx="2666880" cy="182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Design Paradigm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cognize the need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design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Sel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5627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Eval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levant variab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Choose the “best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Set &amp; coordin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191120"/>
            <a:ext cx="3047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pecif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Develop altern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struc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981080"/>
            <a:ext cx="609840" cy="7621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3809880"/>
            <a:ext cx="30492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33920" y="6172200"/>
            <a:ext cx="17524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5257440"/>
            <a:ext cx="30492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3809520"/>
            <a:ext cx="30456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o Make a 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sign Deci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8769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veloping a new product or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iming an existing product at a new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king a major change in some other component of the marketing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stablishing a new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apting to changing intermediary policies that may inhibit attainment of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aling with changes in availability of particular kinds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ening up new geographic marketing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ng the occurrence of major environmental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eeting the challenge of conflict or other behavior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eviewing and evalu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6002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Obj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2438280"/>
            <a:ext cx="5507280" cy="39333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etting distribution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quires knowledge of which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f any, existing objectiv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&amp; strategies may imping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on these distribution objectiv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184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Need for Congruenc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990720"/>
            <a:ext cx="19051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200400"/>
            <a:ext cx="1752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ene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i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029200"/>
            <a:ext cx="16002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bjectiv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5943600"/>
            <a:ext cx="380880" cy="0"/>
          </a:xfrm>
          <a:prstGeom prst="line">
            <a:avLst/>
          </a:prstGeom>
          <a:ln w="381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95280" y="4419360"/>
            <a:ext cx="2057400" cy="6094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43200" y="4800240"/>
            <a:ext cx="60948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4800240"/>
            <a:ext cx="685800" cy="2286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181120" y="4343040"/>
            <a:ext cx="2057400" cy="685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67080" y="3047760"/>
            <a:ext cx="0" cy="152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Task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2200" y="1447920"/>
            <a:ext cx="5953680" cy="82548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ining distribution tasks is specif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ituationally dependent on the fir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080" y="3276720"/>
            <a:ext cx="54828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example: Distribution tasks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 consumer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ers from those for products sol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industrial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5410080"/>
            <a:ext cx="6507000" cy="119124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tasks are a function of the distribution objectives and the types of firm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30T21:57:57Z</dcterms:modified>
  <cp:revision>349</cp:revision>
  <dc:subject/>
  <dc:title>Part 1</dc:title>
</cp:coreProperties>
</file>