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0A9-046B-4D87-81B9-0863FB33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63A-63FA-47AC-8843-0CAC7F47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507-31C8-42EE-9078-1F664915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501-E289-4965-B2FC-B8F23018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DB9-1B7F-43F7-B28B-E61023E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BB1-F27B-40D6-8E8E-963B0333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52E-32D7-41C7-AD29-2E8F3CE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A82-2546-42C6-A9CF-4A4C83A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B12-462A-4F36-8E19-257963B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BF4-E20C-4EE0-9619-B0BF68F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651-ACF9-4533-9D65-67567AA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569-DD0D-4AE4-AD6E-5CD8D9C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B237-A755-48BD-85B1-4F19ACEA846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7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41907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Selecting the Channel Memb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62520" y="4173480"/>
            <a:ext cx="46735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15228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Advertising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475000"/>
            <a:ext cx="2438640" cy="1714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59840" y="1752480"/>
            <a:ext cx="4359600" cy="19227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magazin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n generate a large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from 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733920"/>
            <a:ext cx="838080" cy="1066680"/>
          </a:xfrm>
          <a:prstGeom prst="downArrow">
            <a:avLst>
              <a:gd name="adj1" fmla="val 50000"/>
              <a:gd name="adj2" fmla="val 31819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3480" y="5257800"/>
            <a:ext cx="5348520" cy="119124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therefore can provide a lar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ol from which to make sel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1880" y="304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451000" y="23004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9440" y="1600200"/>
            <a:ext cx="585756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and retail trade association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ld annual conven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666880"/>
            <a:ext cx="9907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5560" y="3886200"/>
            <a:ext cx="6387840" cy="82548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ending manufacturers have access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de variety of potential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280" y="5334120"/>
            <a:ext cx="7058520" cy="10083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neva"/>
              </a:rPr>
              <a:t>**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mall manufacturers meet face-to-fac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rs &amp; retail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30492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0666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820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ther Sources</a:t>
            </a: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6483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mbers of commerce, banks, &amp; local real estate de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assified telephone directories or the yellow p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-mail solici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tacts from previous app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dependent consul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st brokers that sell lists of names of busine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siness databa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7640" y="20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8400" y="38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88000" y="524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23120" y="593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dit &amp; Financial Cond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Streng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pu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ales Perform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Suc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ttitu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apting Selection Criteria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64200" y="1600200"/>
            <a:ext cx="552384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cause no list of criteria is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a firm under all condition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69120" y="5181480"/>
            <a:ext cx="6802560" cy="11912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b6b6b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should be flexible wh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using selection criteria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666880"/>
            <a:ext cx="1523880" cy="251460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8200" y="228600"/>
            <a:ext cx="0" cy="990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o Selects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5680" y="1752480"/>
            <a:ext cx="393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Who does the selecting?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" y="3124080"/>
            <a:ext cx="414144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ers &amp;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35360" y="4114800"/>
            <a:ext cx="38566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olesale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360" y="4800600"/>
            <a:ext cx="31798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251" name=""/>
          <p:cNvCxnSpPr/>
          <p:nvPr/>
        </p:nvCxnSpPr>
        <p:spPr>
          <a:xfrm rot="5400000">
            <a:off x="1333080" y="2171520"/>
            <a:ext cx="99108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2"/>
            <a:endCxn id="249" idx="3"/>
          </p:cNvCxnSpPr>
          <p:nvPr/>
        </p:nvCxnSpPr>
        <p:spPr>
          <a:xfrm rot="5400000">
            <a:off x="2801520" y="3263760"/>
            <a:ext cx="2748600" cy="79920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8" idx="0"/>
          </p:cNvCxnSpPr>
          <p:nvPr/>
        </p:nvCxnSpPr>
        <p:spPr>
          <a:xfrm flipH="1">
            <a:off x="6563880" y="2021040"/>
            <a:ext cx="223200" cy="2094480"/>
          </a:xfrm>
          <a:prstGeom prst="curvedConnector5">
            <a:avLst>
              <a:gd name="adj1" fmla="val -102746"/>
              <a:gd name="adj2" fmla="val 28193"/>
              <a:gd name="adj3" fmla="val -102746"/>
            </a:avLst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ecur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193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451000" y="1540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2382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" y="1905120"/>
            <a:ext cx="7119360" cy="369000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. . . The supplier produces, the distribut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ells, and each is dependent upon the othe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Together they form a team, and teamwork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is essential if the association is to prov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mutually benefici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—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59480" y="5116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ffering Induc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3452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610480" y="15228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71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371600"/>
            <a:ext cx="5639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od, profitable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590920"/>
            <a:ext cx="556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vertising &amp;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09880"/>
            <a:ext cx="5257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 assista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5029200"/>
            <a:ext cx="51818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ir dealing policies 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riendly relationsh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2732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371600"/>
            <a:ext cx="457200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duct lin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4880" y="2362320"/>
            <a:ext cx="73922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Manufacturer offers good product line wi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ong sales &amp; profi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32040" y="4724280"/>
            <a:ext cx="659052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ess value of good product line fr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5820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vertising &amp;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440" y="2286000"/>
            <a:ext cx="79347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sumer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immediate credibility by using a strong progra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national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9240" y="1371600"/>
            <a:ext cx="5298480" cy="45972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Advertising &amp; promotion induce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2120" y="4648320"/>
            <a:ext cx="69289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dustrial Marke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in recognition by using a strong program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aper advertis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election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152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304920"/>
            <a:ext cx="0" cy="1676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8120"/>
            <a:ext cx="883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lection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or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y not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be the result of channel desig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720" y="1905120"/>
            <a:ext cx="4865400" cy="45972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last phase of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0200" y="3886200"/>
            <a:ext cx="3987720" cy="825480"/>
          </a:xfrm>
          <a:prstGeom prst="rect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 may need addition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utlets to allow for 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724280"/>
            <a:ext cx="3886200" cy="119124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replace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that have lef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>
            <a:off x="1980720" y="2437920"/>
            <a:ext cx="1080" cy="53424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endCxn id="57" idx="0"/>
          </p:cNvCxnSpPr>
          <p:nvPr/>
        </p:nvCxnSpPr>
        <p:spPr>
          <a:xfrm flipH="1">
            <a:off x="2552400" y="3580920"/>
            <a:ext cx="876960" cy="114372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endCxn id="56" idx="1"/>
          </p:cNvCxnSpPr>
          <p:nvPr/>
        </p:nvCxnSpPr>
        <p:spPr>
          <a:xfrm>
            <a:off x="3809520" y="3580920"/>
            <a:ext cx="686520" cy="732600"/>
          </a:xfrm>
          <a:prstGeom prst="straightConnector1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Assistanc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3049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7200" y="6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1120" y="2362320"/>
            <a:ext cx="7300800" cy="3751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spective members want to know whethe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will help with the following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nancial analysis &amp;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rket analys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ventory control proced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metho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67080" y="12002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3760" y="1371600"/>
            <a:ext cx="5339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agement assistance inducement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air Dealing &amp; </a:t>
            </a:r>
            <a:br>
              <a:rPr sz="3600"/>
            </a:b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riendly Relationship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1880" y="38088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27320" y="15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600" y="2362320"/>
            <a:ext cx="706320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Manufacturer’s Responsibi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onvey to prospective channel member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e or she is genuinely interested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stablishing a good relationship based on tr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concern for their welfare as both busin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ntities and as peo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Selection &amp; Distribution Intensity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81080"/>
            <a:ext cx="6581520" cy="45972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greater the intensity of distribu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124080"/>
            <a:ext cx="1295280" cy="19051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7800" y="5334120"/>
            <a:ext cx="658152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The less the emphasis on selection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Selection Proces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133720"/>
            <a:ext cx="2743200" cy="25146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nding 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2133720"/>
            <a:ext cx="2590920" cy="281916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Securing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s actu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057400"/>
            <a:ext cx="2514600" cy="2971800"/>
          </a:xfrm>
          <a:prstGeom prst="flowChartProcess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Appl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ection criteri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determin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itability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2193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7320" y="2300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Finding Members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447920"/>
            <a:ext cx="3353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Field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74320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7. Other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63868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5.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91120"/>
            <a:ext cx="30481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6. 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27432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2. Trade sour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267080"/>
            <a:ext cx="3047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3. Reseller 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3048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4. Custo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905120"/>
            <a:ext cx="761760" cy="7617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733920"/>
            <a:ext cx="38088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525780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05320" y="6172200"/>
            <a:ext cx="22860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8080" y="5181120"/>
            <a:ext cx="381240" cy="381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23880" y="3733920"/>
            <a:ext cx="304920" cy="380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0328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ield Sales Organiz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3810240" cy="29718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are often able to pick up information about likely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y may have lined up prospective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4190760" cy="28195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 must adequately reward salespeople for their time &amp; effort establishing connec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6120" y="1295280"/>
            <a:ext cx="3071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alespeople ar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est positioned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know about potent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intermedia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14479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04812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3048120"/>
            <a:ext cx="761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our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publ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o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selling simi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“grapevine”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       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For Example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dustrial Distribution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magaz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Verified Directory of Manufacturers’ Representa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Association of Wholesaler-Distribu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National Retail Feder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Encyclopedia of Assoc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3408200">
            <a:off x="2895480" y="2590200"/>
            <a:ext cx="1633680" cy="17478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03280" y="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45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Reseller Inquir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295280"/>
            <a:ext cx="6095880" cy="1143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y firms learn about dire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 from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terested in handling their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666880"/>
            <a:ext cx="6553440" cy="1219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is is the main sourc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formation about potential new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s for some manufactur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191120"/>
            <a:ext cx="5639040" cy="1295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s receiving the highest nu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inquiries are the mo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tigious in their industr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00400"/>
            <a:ext cx="2133360" cy="35053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ll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qui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ustom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51000" y="152280"/>
            <a:ext cx="3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7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360" y="1371600"/>
            <a:ext cx="649152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 are willing to give frank opin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e intermediaries who call on them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9920" y="3581280"/>
            <a:ext cx="7787160" cy="82548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conducts formal or informal survey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ustomers’ views of various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2438280"/>
            <a:ext cx="129528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507000" cy="82548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btains information abou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intermedia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72428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2T21:17:58Z</dcterms:modified>
  <cp:revision>384</cp:revision>
  <dc:subject/>
  <dc:title>Part 1</dc:title>
</cp:coreProperties>
</file>