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208-02DE-4073-86AE-6940F19A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8F9-5838-40BD-90D4-D268AE38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2739-F461-473E-BE9F-950F0E3E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DEF-5CE4-44AD-9053-3503160E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6E9-BAE4-44FD-ABEF-BA12048A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FA4-49D9-4923-AC0B-1E3451FF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1CF-309C-49B9-9723-A055FE4E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917-A098-4B5C-8DF9-B8360CF9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1AE-31E9-442F-9442-673A895C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F7DF-FACF-4E13-A541-2E64F0D4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35D-0C77-4232-953E-E5E79789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264-0453-418D-A3C9-87072EC3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70FB-EDF1-452F-BD7D-E55BD306E825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7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620120" cy="4190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Selecting the Channel Memb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4173480"/>
            <a:ext cx="46735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Advertising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2475000"/>
            <a:ext cx="2438640" cy="1714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59840" y="1752480"/>
            <a:ext cx="4359600" cy="19227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magazine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n generate a large nu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inquiries from pro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3733920"/>
            <a:ext cx="838080" cy="1066680"/>
          </a:xfrm>
          <a:prstGeom prst="downArrow">
            <a:avLst>
              <a:gd name="adj1" fmla="val 50000"/>
              <a:gd name="adj2" fmla="val 31819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03480" y="5257800"/>
            <a:ext cx="5348520" cy="119124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therefore can provide a lar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ol from which to make selec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rade Show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9440" y="1600200"/>
            <a:ext cx="5857560" cy="82548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 and retail trade association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ld annual conven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666880"/>
            <a:ext cx="9907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5560" y="3886200"/>
            <a:ext cx="6387840" cy="8254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ending manufacturers have access to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de variety of potential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280" y="5334120"/>
            <a:ext cx="7058520" cy="10083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eneva"/>
              </a:rPr>
              <a:t>**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mall manufacturers meet face-to-fac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rs &amp; retail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ther Sources</a:t>
            </a: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6483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mbers of commerce, banks, &amp; local real estate de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lassified telephone directories or the yellow pa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-mail solicit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tacts from previous appl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dependent consult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ist brokers that sell lists of names of busine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siness datab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Intern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lection Criteria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redit &amp; Financial Condi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 Streng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put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Cover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Succ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itu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345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apting Selection Criteria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64200" y="1600200"/>
            <a:ext cx="5523840" cy="11912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no list of criteria is adeq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a firm under all condition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69120" y="5181480"/>
            <a:ext cx="6802560" cy="11912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b6b6b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 manager should be flexible whe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sing selection criteri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666880"/>
            <a:ext cx="1523880" cy="251460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5820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Selects?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05680" y="1752480"/>
            <a:ext cx="393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o does the selecting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440" y="3124080"/>
            <a:ext cx="414144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ers &amp;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35360" y="4114800"/>
            <a:ext cx="385668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3360" y="4800600"/>
            <a:ext cx="317988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51" name=""/>
          <p:cNvCxnSpPr/>
          <p:nvPr/>
        </p:nvCxnSpPr>
        <p:spPr>
          <a:xfrm rot="5400000">
            <a:off x="1333080" y="2171520"/>
            <a:ext cx="99108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6" idx="2"/>
            <a:endCxn id="249" idx="3"/>
          </p:cNvCxnSpPr>
          <p:nvPr/>
        </p:nvCxnSpPr>
        <p:spPr>
          <a:xfrm rot="5400000">
            <a:off x="2801520" y="3263760"/>
            <a:ext cx="2748600" cy="79920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8" idx="0"/>
          </p:cNvCxnSpPr>
          <p:nvPr/>
        </p:nvCxnSpPr>
        <p:spPr>
          <a:xfrm flipH="1">
            <a:off x="6563880" y="2021040"/>
            <a:ext cx="223200" cy="2094480"/>
          </a:xfrm>
          <a:prstGeom prst="curvedConnector5">
            <a:avLst>
              <a:gd name="adj1" fmla="val -102746"/>
              <a:gd name="adj2" fmla="val 28193"/>
              <a:gd name="adj3" fmla="val -102746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cur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96880" y="2382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9280" y="1905120"/>
            <a:ext cx="7119360" cy="3690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. . . The supplier produces, the distributo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sells, and each is dependent upon the other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Together they form a team, and teamwork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is essential if the association is to prov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mutually beneficial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—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gra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59480" y="5116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ffering Induc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3452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371600"/>
            <a:ext cx="5639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, profitable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590920"/>
            <a:ext cx="5562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vertising &amp; promotional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3809880"/>
            <a:ext cx="5257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assist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5029200"/>
            <a:ext cx="51818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ir dealing policies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riendly relatio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Lin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1371600"/>
            <a:ext cx="457200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roduct line inducemen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4880" y="2362320"/>
            <a:ext cx="73922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Manufacturer offers good product lin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ong sales &amp; profit potent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32040" y="4724280"/>
            <a:ext cx="659052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ess value of good product line fr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’ per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vertising &amp; Promo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440" y="2286000"/>
            <a:ext cx="793476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sumer Marke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in immediate credibility by using a strong progra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national advertis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9240" y="1371600"/>
            <a:ext cx="529848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dvertising &amp; promotion induce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62120" y="4648320"/>
            <a:ext cx="69289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Marke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in recognition by using a strong program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paper advertis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ember Selection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048120"/>
            <a:ext cx="883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lection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or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y no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be the result of channel desig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720" y="1905120"/>
            <a:ext cx="4865400" cy="45972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last phase of channel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0200" y="3886200"/>
            <a:ext cx="3987720" cy="82548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 may need addition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utlets to allow for grow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724280"/>
            <a:ext cx="3886200" cy="119124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replace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s that have lef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58" name=""/>
          <p:cNvCxnSpPr/>
          <p:nvPr/>
        </p:nvCxnSpPr>
        <p:spPr>
          <a:xfrm flipV="1">
            <a:off x="1980720" y="2437920"/>
            <a:ext cx="1080" cy="5342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endCxn id="57" idx="0"/>
          </p:cNvCxnSpPr>
          <p:nvPr/>
        </p:nvCxnSpPr>
        <p:spPr>
          <a:xfrm flipH="1">
            <a:off x="2552400" y="3580920"/>
            <a:ext cx="876960" cy="11437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endCxn id="56" idx="1"/>
          </p:cNvCxnSpPr>
          <p:nvPr/>
        </p:nvCxnSpPr>
        <p:spPr>
          <a:xfrm>
            <a:off x="3809520" y="3580920"/>
            <a:ext cx="686520" cy="7326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nagement Assistan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1120" y="2362320"/>
            <a:ext cx="7300800" cy="3751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spective members want to know whethe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will help with the follow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ining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ancial analysis &amp; plan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analy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y control proced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metho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33760" y="1371600"/>
            <a:ext cx="533952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nagement assistance inducemen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air Dealing &amp; </a:t>
            </a:r>
            <a:br>
              <a:rPr sz="3600"/>
            </a:b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riendly Relationship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527320" y="15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600" y="2362320"/>
            <a:ext cx="7063200" cy="3385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nufacturer’s Responsibilit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onvey to prospective channel member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is genuinely interested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stablishing a good relationship based on tru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concern for their welfare as both busin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ntities and as 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Selection &amp; Distribution Intensity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981080"/>
            <a:ext cx="658152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greater the intensity of distribution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124080"/>
            <a:ext cx="1295280" cy="19051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7800" y="5334120"/>
            <a:ext cx="658152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less the emphasis on selection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Selection Proces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133720"/>
            <a:ext cx="2743200" cy="251460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nding prospec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2133720"/>
            <a:ext cx="2590920" cy="281916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3. Securing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spec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s actu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2057400"/>
            <a:ext cx="2514600" cy="297180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Apply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ection crite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determin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itability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inding Member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1447920"/>
            <a:ext cx="3353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eld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rgan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743200"/>
            <a:ext cx="3047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 Other sour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563868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191120"/>
            <a:ext cx="3048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 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274320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Trade sour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4267080"/>
            <a:ext cx="3047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3. Reseller inqui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71500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4.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1905120"/>
            <a:ext cx="761760" cy="7617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3733920"/>
            <a:ext cx="38088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5257800"/>
            <a:ext cx="3049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505320" y="6172200"/>
            <a:ext cx="22860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38080" y="5181120"/>
            <a:ext cx="381240" cy="381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523880" y="3733920"/>
            <a:ext cx="3049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ield Sales Organiz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3657240"/>
            <a:ext cx="3810240" cy="297180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are often able to pick up information about likely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may have lined up prospective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3657600"/>
            <a:ext cx="4190760" cy="28195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ufacturer must adequately reward salespeople for their time &amp; effort establishing connec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6120" y="1295280"/>
            <a:ext cx="30718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alespeople ar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est positioned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know about potent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media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1447920"/>
            <a:ext cx="129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048120"/>
            <a:ext cx="7621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3048120"/>
            <a:ext cx="7617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345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e Sour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associ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publ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o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selling simila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“grapevine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     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or Example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Industrial Distribution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magaz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Verified Directory of Manufacturers’ Representa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National Association of Wholesaler-Distribu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National Retail Feder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Encyclopedia of Associ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3408200">
            <a:off x="2895480" y="2590200"/>
            <a:ext cx="1633680" cy="17478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03280" y="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345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8380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eller Inquir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1295280"/>
            <a:ext cx="6095880" cy="11430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y firms learn about dir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quiries from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ested in handling their produc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2666880"/>
            <a:ext cx="6553440" cy="12193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is is the main sourc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ormation about potential new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s for some manufactur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4191120"/>
            <a:ext cx="5639040" cy="1295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receiving the highest nu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inquiries are the mo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estigious in their industr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200400"/>
            <a:ext cx="2133360" cy="35053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ll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qui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ustom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9360" y="1371600"/>
            <a:ext cx="649152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s are willing to give frank opin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bout the intermediaries who call on them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9920" y="3581280"/>
            <a:ext cx="7787160" cy="82548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conducts formal or informal survey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s’ views of various distributo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2438280"/>
            <a:ext cx="129528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5486400"/>
            <a:ext cx="6507000" cy="82548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btains information abo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tential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72428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17:58Z</dcterms:modified>
  <cp:revision>384</cp:revision>
  <dc:subject/>
  <dc:title>Part 1</dc:title>
</cp:coreProperties>
</file>