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E9B-AC11-4AFE-A6D5-329AC79A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84F-6C45-4283-A4E0-0FE465A8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8084-6A50-412A-A046-AE6DFF0C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488-D470-4DA2-93C8-92823C26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3C6-558D-4C46-8357-2D2C9E4D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43B-45F1-4C70-A0F8-638FE3F4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FEF-736C-44B9-851B-852EEC34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FA1-4721-4930-B548-2D24CA62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7C7-666E-4958-9FBC-057367FC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DF1-E184-481B-B82D-41FDCF1D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804-5E7C-46DE-B815-DBDF1110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27D-11E4-4946-A700-4B6DA077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0B54-596E-414A-9508-2FF204743322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7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620120" cy="4190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Selecting the Channel Member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4173480"/>
            <a:ext cx="467352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Advertising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2475000"/>
            <a:ext cx="2438640" cy="1714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759840" y="1752480"/>
            <a:ext cx="4359600" cy="19227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magazine adverti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n generate a large nu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inquiries from prospec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3733920"/>
            <a:ext cx="838080" cy="1066680"/>
          </a:xfrm>
          <a:prstGeom prst="downArrow">
            <a:avLst>
              <a:gd name="adj1" fmla="val 50000"/>
              <a:gd name="adj2" fmla="val 31819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03480" y="5257800"/>
            <a:ext cx="5348520" cy="119124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 therefore can provide a lar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ol from which to make selec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1880" y="304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rade Show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9440" y="1600200"/>
            <a:ext cx="5857560" cy="82548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olesale and retail trade association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old annual conven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666880"/>
            <a:ext cx="9907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5560" y="3886200"/>
            <a:ext cx="6387840" cy="82548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tending manufacturers have access to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ide variety of potential channel 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6280" y="5334120"/>
            <a:ext cx="7058520" cy="10083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Geneva"/>
              </a:rPr>
              <a:t>**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mall manufacturers meet face-to-face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olesalers &amp; retail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05920" y="30492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ther Sources</a:t>
            </a: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46483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mbers of commerce, banks, &amp; local real estate de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lassified telephone directories or the yellow pag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rect-mail solicit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tacts from previous applic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dependent consult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ist brokers that sell lists of names of busines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usiness datab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Intern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45820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election Criteria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redit &amp; Financial Condi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ales Streng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 Lin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put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Cover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ales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 Succes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 Abil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titu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12952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5345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dapting Selection Criteria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64200" y="1600200"/>
            <a:ext cx="5523840" cy="11912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cdcdc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cause no list of criteria is adequ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 a firm under all condition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69120" y="5181480"/>
            <a:ext cx="6802560" cy="11912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b6b6b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hannel manager should be flexible whe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using selection criteria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666880"/>
            <a:ext cx="1523880" cy="2514600"/>
          </a:xfrm>
          <a:custGeom>
            <a:avLst/>
            <a:gdLst>
              <a:gd name="textAreaLeft" fmla="*/ 204120 w 1523880"/>
              <a:gd name="textAreaRight" fmla="*/ 1319760 w 152388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86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458200" y="22860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o Selects?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05680" y="1752480"/>
            <a:ext cx="393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o does the selecting?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3440" y="3124080"/>
            <a:ext cx="4141440" cy="45972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ers &amp;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35360" y="4114800"/>
            <a:ext cx="3856680" cy="45972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olesale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3360" y="4800600"/>
            <a:ext cx="3179880" cy="45972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51" name=""/>
          <p:cNvCxnSpPr/>
          <p:nvPr/>
        </p:nvCxnSpPr>
        <p:spPr>
          <a:xfrm rot="5400000">
            <a:off x="1333080" y="2171520"/>
            <a:ext cx="99108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6" idx="2"/>
            <a:endCxn id="249" idx="3"/>
          </p:cNvCxnSpPr>
          <p:nvPr/>
        </p:nvCxnSpPr>
        <p:spPr>
          <a:xfrm rot="5400000">
            <a:off x="2801520" y="3263760"/>
            <a:ext cx="2748600" cy="799200"/>
          </a:xfrm>
          <a:prstGeom prst="curved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6" idx="3"/>
            <a:endCxn id="248" idx="0"/>
          </p:cNvCxnSpPr>
          <p:nvPr/>
        </p:nvCxnSpPr>
        <p:spPr>
          <a:xfrm flipH="1">
            <a:off x="6563880" y="2021040"/>
            <a:ext cx="223200" cy="2094480"/>
          </a:xfrm>
          <a:prstGeom prst="curvedConnector5">
            <a:avLst>
              <a:gd name="adj1" fmla="val -102746"/>
              <a:gd name="adj2" fmla="val 28193"/>
              <a:gd name="adj3" fmla="val -102746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ecuring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96880" y="2382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9280" y="1905120"/>
            <a:ext cx="7119360" cy="369000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. . . The supplier produces, the distributor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sells, and each is dependent upon the other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Together they form a team, and teamwork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is essential if the association is to prov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mutually beneficial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—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gra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59480" y="5116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ffering Inducemen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53452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1371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371600"/>
            <a:ext cx="5639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ood, profitable product 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2590920"/>
            <a:ext cx="5562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vertising &amp; promotional suppor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4600" y="3809880"/>
            <a:ext cx="5257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 assist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5029200"/>
            <a:ext cx="51818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air dealing policies &amp;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riendly relationship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Lin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1371600"/>
            <a:ext cx="457200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Product line inducement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4880" y="2362320"/>
            <a:ext cx="73922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Manufacturer offers good product line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ong sales &amp; profit potent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32040" y="4724280"/>
            <a:ext cx="659052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ess value of good product line fro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’ perspec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45820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dvertising &amp; Promo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440" y="2286000"/>
            <a:ext cx="793476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sumer Marke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ain immediate credibility by using a strong program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national advertis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9240" y="1371600"/>
            <a:ext cx="5298480" cy="45972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Advertising &amp; promotion inducem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62120" y="4648320"/>
            <a:ext cx="692892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Marke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ain recognition by using a strong program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paper advertis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Member Selection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304920"/>
            <a:ext cx="0" cy="16761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3048120"/>
            <a:ext cx="883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lection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ma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or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may not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be the result of channel desig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720" y="1905120"/>
            <a:ext cx="4865400" cy="45972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last phase of channel des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0200" y="3886200"/>
            <a:ext cx="3987720" cy="82548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rm may need addition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utlets to allow for grow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4724280"/>
            <a:ext cx="3886200" cy="119124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replace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s that have lef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58" name=""/>
          <p:cNvCxnSpPr/>
          <p:nvPr/>
        </p:nvCxnSpPr>
        <p:spPr>
          <a:xfrm flipV="1">
            <a:off x="1980720" y="2437920"/>
            <a:ext cx="1080" cy="53424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endCxn id="57" idx="0"/>
          </p:cNvCxnSpPr>
          <p:nvPr/>
        </p:nvCxnSpPr>
        <p:spPr>
          <a:xfrm flipH="1">
            <a:off x="2552400" y="3580920"/>
            <a:ext cx="876960" cy="114372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endCxn id="56" idx="1"/>
          </p:cNvCxnSpPr>
          <p:nvPr/>
        </p:nvCxnSpPr>
        <p:spPr>
          <a:xfrm>
            <a:off x="3809520" y="3580920"/>
            <a:ext cx="686520" cy="73260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nagement Assistanc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1120" y="2362320"/>
            <a:ext cx="7300800" cy="37515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spective members want to know whether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will help with the following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ining progra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nancial analysis &amp; plann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analys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ventory control procedu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al metho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33760" y="1371600"/>
            <a:ext cx="5339520" cy="4597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Management assistance inducement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Fair Dealing &amp; </a:t>
            </a:r>
            <a:br>
              <a:rPr sz="3600"/>
            </a:b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Friendly Relationship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15238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527320" y="15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600" y="2362320"/>
            <a:ext cx="7063200" cy="3385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Manufacturer’s Responsibilit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onvey to prospective channel members th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 or she is genuinely interested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stablishing a good relationship based on trus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concern for their welfare as both busines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ntities and as 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5820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Selection &amp; Distribution Intensity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981080"/>
            <a:ext cx="6581520" cy="4597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greater the intensity of distribution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3124080"/>
            <a:ext cx="1295280" cy="190512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7800" y="5334120"/>
            <a:ext cx="6581520" cy="45972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less the emphasis on selection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5820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Selection Proces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133720"/>
            <a:ext cx="2743200" cy="251460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inding prospec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2133720"/>
            <a:ext cx="2590920" cy="281916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3. Securing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spec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s actu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2057400"/>
            <a:ext cx="2514600" cy="297180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2. Apply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election criteri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o determine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uitability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spec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Finding Member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1447920"/>
            <a:ext cx="33530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ield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rganiz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743200"/>
            <a:ext cx="30477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7. Other sour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5638680"/>
            <a:ext cx="3048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5. Adverti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191120"/>
            <a:ext cx="30481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6. Trade sh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2743200"/>
            <a:ext cx="3048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2. Trade sour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4267080"/>
            <a:ext cx="30477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3. Reseller inqui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5715000"/>
            <a:ext cx="3048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4.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1905120"/>
            <a:ext cx="761760" cy="7617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3733920"/>
            <a:ext cx="380880" cy="4572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96080" y="5257800"/>
            <a:ext cx="304920" cy="380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505320" y="6172200"/>
            <a:ext cx="22860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38080" y="5181120"/>
            <a:ext cx="381240" cy="381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523880" y="3733920"/>
            <a:ext cx="304920" cy="380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Field Sales Organiz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3657240"/>
            <a:ext cx="3810240" cy="297180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y are often able to pick up information about likely intermediar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y may have lined up prospective intermediar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960" y="3657600"/>
            <a:ext cx="4190760" cy="281952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manufacturer must adequately reward salespeople for their time &amp; effort establishing connec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6120" y="1295280"/>
            <a:ext cx="30718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alespeople are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est positioned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know about potent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termediar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62720" y="1447920"/>
            <a:ext cx="129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U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3048120"/>
            <a:ext cx="7621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3048120"/>
            <a:ext cx="7617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345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0666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de Sour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associ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public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recto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sh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rms selling similar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“grapevine”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24280" y="13716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      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For Example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Industrial Distribution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magaz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Verified Directory of Manufacturers’ Representa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National Association of Wholesaler-Distribut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National Retail Feder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Encyclopedia of Associ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3408200">
            <a:off x="2895480" y="2590200"/>
            <a:ext cx="1633680" cy="17478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603280" y="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53452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8380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seller Inquir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1295280"/>
            <a:ext cx="6095880" cy="11430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y firms learn about dire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quiries from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ested in handling their produc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2666880"/>
            <a:ext cx="6553440" cy="12193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is is the main sourc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ormation about potential new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s for some manufactur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4191120"/>
            <a:ext cx="5639040" cy="1295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rms receiving the highest nu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inquiries are the mo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estigious in their industr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3200400"/>
            <a:ext cx="2133360" cy="35053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sell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qui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ustom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9360" y="1371600"/>
            <a:ext cx="6491520" cy="119124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ustomers are willing to give frank opin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bout the intermediaries who call on them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9920" y="3581280"/>
            <a:ext cx="7787160" cy="82548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conducts formal or informal survey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ustomers’ views of various distributo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2438280"/>
            <a:ext cx="129528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5486400"/>
            <a:ext cx="6507000" cy="82548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obtains information abou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tential intermediar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4724280"/>
            <a:ext cx="4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Geneva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2T21:17:58Z</dcterms:modified>
  <cp:revision>384</cp:revision>
  <dc:subject/>
  <dc:title>Part 1</dc:title>
</cp:coreProperties>
</file>