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676-7822-4040-B296-E72EBDEF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B5D-FD3A-4049-AC64-996C5FD4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C0C-949B-4FF9-8F7F-85F68DC9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7D4-6C0A-4503-BDC5-1A23C7B6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AEB-9D93-4B89-A562-DA91CD45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132-FE33-4C82-B03B-30CF6D79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711-C8E9-4C84-95EB-33D5CDCC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283-18AC-4F63-B431-5CB053A3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79B-FC5B-47DE-970B-ED3C5A93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C71-66C6-4F12-A80D-C4BCAC08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DE3-64CF-4633-915A-3B41A1F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B38-16D9-4B87-9F7A-3D05EBCE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DB16-BA41-478B-81A5-11D9252A0356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8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57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arget Markets and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Design Strate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36576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752480"/>
            <a:ext cx="2438640" cy="13716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0160" y="1676520"/>
            <a:ext cx="5223600" cy="1557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opportunity to achieve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customer access 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ow cost is higher in dens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an in more dispersed on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2720" y="3505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3360" y="4724280"/>
            <a:ext cx="630720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of a wide array of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ek out distributors and retailers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perate in dense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8880" y="1676520"/>
            <a:ext cx="485316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consists of fo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bdimens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048120"/>
            <a:ext cx="6324840" cy="29984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n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r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Ho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he Market Buy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ason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i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ek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295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9600" y="1219320"/>
            <a:ext cx="246204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Variations occu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733920"/>
            <a:ext cx="7238880" cy="27151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tions create peaks &amp; valleys in the manufacturer’s production schedu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attempt to select channel members who are in tune with these changing 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89548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re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2600" y="1066680"/>
            <a:ext cx="2238120" cy="4597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termined b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600200"/>
            <a:ext cx="7086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ypes of outlets from which fi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choose to make their purc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895480"/>
            <a:ext cx="7086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 The location of those outl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8098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8040" y="50292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95680"/>
            <a:ext cx="8076960" cy="198360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 He or she should know where customers gener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 particular types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know whether these patter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be chan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w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arge quant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ne-stop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mpulse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s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h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substantial effort through comparison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extensiv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mall quant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sistance by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uying from several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tensive decision making prior to purcha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d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little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litt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3480" y="304812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Versu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2320" y="1422360"/>
            <a:ext cx="488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makes the physical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600" y="2819520"/>
            <a:ext cx="327600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s the typ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chosen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onsumer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3200" y="2438280"/>
            <a:ext cx="402408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influence the kind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used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e industrial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1"/>
            <a:endCxn id="241" idx="0"/>
          </p:cNvCxnSpPr>
          <p:nvPr/>
        </p:nvCxnSpPr>
        <p:spPr>
          <a:xfrm flipH="1" flipV="1" rot="10800000">
            <a:off x="608400" y="1658520"/>
            <a:ext cx="1213560" cy="1161360"/>
          </a:xfrm>
          <a:prstGeom prst="curvedConnector5">
            <a:avLst>
              <a:gd name="adj1" fmla="val -18842"/>
              <a:gd name="adj2" fmla="val 30077"/>
              <a:gd name="adj3" fmla="val -18842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3"/>
            <a:endCxn id="242" idx="0"/>
          </p:cNvCxnSpPr>
          <p:nvPr/>
        </p:nvCxnSpPr>
        <p:spPr>
          <a:xfrm>
            <a:off x="5943600" y="1658520"/>
            <a:ext cx="162720" cy="78012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081240" y="4572000"/>
            <a:ext cx="501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decides to make the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160" y="5486400"/>
            <a:ext cx="367380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context of family uni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consumer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1"/>
            <a:endCxn id="246" idx="0"/>
          </p:cNvCxnSpPr>
          <p:nvPr/>
        </p:nvCxnSpPr>
        <p:spPr>
          <a:xfrm flipV="1" rot="10800000">
            <a:off x="2216880" y="4807440"/>
            <a:ext cx="602640" cy="6786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218560" y="5475240"/>
            <a:ext cx="252756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center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5" idx="3"/>
            <a:endCxn id="248" idx="3"/>
          </p:cNvCxnSpPr>
          <p:nvPr/>
        </p:nvCxnSpPr>
        <p:spPr>
          <a:xfrm flipH="1">
            <a:off x="7869960" y="4808520"/>
            <a:ext cx="492840" cy="1094400"/>
          </a:xfrm>
          <a:prstGeom prst="curvedConnector5">
            <a:avLst>
              <a:gd name="adj1" fmla="val -46418"/>
              <a:gd name="adj2" fmla="val 49983"/>
              <a:gd name="adj3" fmla="val -46418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uying Cent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3200040"/>
            <a:ext cx="5562720" cy="33526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Influen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Dec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Appro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Buy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Gatekeep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3800" y="1295280"/>
            <a:ext cx="63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ts of people who participate in industr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decisions and who are responsible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consequences resulting from the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ges in 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048120"/>
            <a:ext cx="388620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320" y="1674720"/>
            <a:ext cx="2702880" cy="119124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st be tuned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ge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likely to occ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971800" y="3124080"/>
            <a:ext cx="457200" cy="9907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6520" y="1752480"/>
            <a:ext cx="30366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s to determ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temporary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257800" y="3124080"/>
            <a:ext cx="30492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701028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pers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89920" y="4495680"/>
            <a:ext cx="5167080" cy="192276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ing a comeback in depart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pecialty store sectors due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reasing consumer demand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able and help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8862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219320"/>
            <a:ext cx="8686800" cy="289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stores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artan surrounding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nimum service 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y low 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45720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410080"/>
            <a:ext cx="74170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s demanding membership in wareho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ubs (Sam’s Clu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648320"/>
            <a:ext cx="7239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arget market’s needs and w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uld drive the manner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ich the channel manager shapes the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the firm’s marketing channel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668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il-order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ppers are trying to save time and avoi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nconvenience of shopping at crowded stores and fighting traffic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onal computers are a means for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upplement their in-store shop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219320"/>
            <a:ext cx="716292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uto retailing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eign au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03848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029200"/>
            <a:ext cx="81536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 buyers demanding fewer hassl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frontations typically common when buying a ca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et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rowing in all sectors, especially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or B2B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nov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take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ohl’s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acetrack layou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xposes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maximum amount of merchandi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shortest tim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amework for Market Analysi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200400"/>
            <a:ext cx="236196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ns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200400"/>
            <a:ext cx="236232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51055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Targ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3"/>
          </p:cNvCxnSpPr>
          <p:nvPr/>
        </p:nvCxnSpPr>
        <p:spPr>
          <a:xfrm>
            <a:off x="2742840" y="2400480"/>
            <a:ext cx="152460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80" idx="1"/>
          </p:cNvCxnSpPr>
          <p:nvPr/>
        </p:nvCxnSpPr>
        <p:spPr>
          <a:xfrm flipV="1" rot="10800000">
            <a:off x="4494960" y="2400120"/>
            <a:ext cx="160092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7" idx="1"/>
          </p:cNvCxnSpPr>
          <p:nvPr/>
        </p:nvCxnSpPr>
        <p:spPr>
          <a:xfrm flipV="1" rot="10800000">
            <a:off x="4647600" y="369540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3"/>
          </p:cNvCxnSpPr>
          <p:nvPr/>
        </p:nvCxnSpPr>
        <p:spPr>
          <a:xfrm>
            <a:off x="3885840" y="369576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5160" y="1828800"/>
            <a:ext cx="67874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tent of markets and where they are loca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4320" y="3429000"/>
            <a:ext cx="6067800" cy="23493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evaluate market geography rel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structure to en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tructure is able to serve th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ly and effici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Locating Market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360" y="1371600"/>
            <a:ext cx="6260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delineates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s of target markets by using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bination of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7600" y="3733920"/>
            <a:ext cx="7968240" cy="2654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Bureau of Cens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 for geographical entities such a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tes, regions/divisions, counti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ropolitan statistical areas, town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al ZIP co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438280"/>
            <a:ext cx="761760" cy="1067040"/>
          </a:xfrm>
          <a:custGeom>
            <a:avLst/>
            <a:gdLst>
              <a:gd name="textAreaLeft" fmla="*/ 101880 w 761760"/>
              <a:gd name="textAreaRight" fmla="*/ 659880 w 7617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cking Changes in 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3809880" cy="26668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high degree of mobility within the U.S. means that market geography changes frequ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4190760" cy="25909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utheast Asian countries &amp; former Eastern bloc countries of central &amp; eastern Europe have become key lo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3880"/>
            <a:ext cx="2066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 the U.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2388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lob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1240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Siz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523880"/>
            <a:ext cx="7315200" cy="119124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 buyers or potential buyers (consumer or industrial) in a given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276720"/>
            <a:ext cx="6629400" cy="27151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using Bucklin’s model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 data, it is important also to consider the peculiarities of particular situations and other relevant variable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685800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or potential buyers per uni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ical are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91800" y="3657600"/>
            <a:ext cx="4876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market dimension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 to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illustrated in the concept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fficient congestion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74320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1447920"/>
            <a:ext cx="3886200" cy="1523880"/>
          </a:xfrm>
          <a:prstGeom prst="downArrowCallout">
            <a:avLst>
              <a:gd name="adj1" fmla="val 63761"/>
              <a:gd name="adj2" fmla="val 63755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t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1240" y="3276720"/>
            <a:ext cx="5185800" cy="30200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gested (high-densit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s can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 in the performan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veral basic distribution task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ly those of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ransportation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rage, communication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goti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25:05Z</dcterms:modified>
  <cp:revision>418</cp:revision>
  <dc:subject/>
  <dc:title>Part 1</dc:title>
</cp:coreProperties>
</file>