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AF2-AF9F-488D-8DEB-FB0B7172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108-5DE8-41FC-8AAE-840A6AFF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795-5AC9-48DA-ACC6-DBA961C3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D93-1A91-4550-B5F1-622C6101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85D-DC27-40DC-9D60-D9518516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738-E1EA-4A87-A6E9-852BC116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8177-C4A0-4FCC-BFB8-19E7120E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DE0-BBE7-4159-AAD0-4EB35179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AF75-F39E-4D51-9E5C-FB1FA641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86B4-FE84-4649-897D-9AC3F764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A12-EA0A-478F-9491-DC513FD2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8308-068A-4CEF-8124-536DAC6F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1760-1A50-47C9-B531-59FCB5DBFF0E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8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572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Target Markets and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 Design Strate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3657600"/>
            <a:ext cx="36576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9907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 &amp; Channel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752480"/>
            <a:ext cx="2438640" cy="13716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rateg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mpli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0160" y="1676520"/>
            <a:ext cx="5223600" cy="1557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e opportunity to achieve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high level of customer access 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low cost is higher in dense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han in more dispersed on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62720" y="35053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33360" y="4724280"/>
            <a:ext cx="6307200" cy="119124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 of a wide array of produc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ek out distributors and retailers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perate in dense marke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188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Behavio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58880" y="1676520"/>
            <a:ext cx="485316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behavior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consists of fou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bdimension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3048120"/>
            <a:ext cx="6324840" cy="29984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en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ere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How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the market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o</a:t>
            </a: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 bu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592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en the Market Buys</a:t>
            </a: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ason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ai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190512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eek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1295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9600" y="1219320"/>
            <a:ext cx="2462040" cy="45972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Variations occu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733920"/>
            <a:ext cx="7238880" cy="271512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plications for the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ariations create peaks &amp; valleys in the manufacturer’s production schedul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 or she should attempt to select channel members who are in tune with these changing patter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895480"/>
            <a:ext cx="83808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9144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ere the Market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72600" y="1066680"/>
            <a:ext cx="2238120" cy="45972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etermined b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1600200"/>
            <a:ext cx="7086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types of outlets from which fin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ers choose to make their purch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2895480"/>
            <a:ext cx="7086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 The location of those outl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3809880"/>
            <a:ext cx="76212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08040" y="50292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95680"/>
            <a:ext cx="8076960" cy="1983600"/>
          </a:xfrm>
          <a:prstGeom prst="rect">
            <a:avLst/>
          </a:prstGeom>
          <a:gradFill rotWithShape="0">
            <a:gsLst>
              <a:gs pos="0">
                <a:srgbClr val="fef2db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plications for the channel manager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 He or she should know where customers gener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 particular types of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 or she should know whether these patter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y be chang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9907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15228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How the Market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Large quantit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elf-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ne-stop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mpulse buy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5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s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6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hopping at ho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7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ding substantial effort through comparison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8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manding extensive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mall quant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ssistance by sales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Buying from several sto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tensive decision making prior to purcha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red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hopping at sto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ding little eff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8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manding little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3480" y="3048120"/>
            <a:ext cx="1209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Versu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582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o Buy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2320" y="1422360"/>
            <a:ext cx="488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Who makes the physical purchas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600" y="2819520"/>
            <a:ext cx="3276000" cy="119124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ffects the typ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s chosen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onsumer mark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93200" y="2438280"/>
            <a:ext cx="4024080" cy="119124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y influence the kind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 used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rve industrial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0" idx="1"/>
            <a:endCxn id="241" idx="0"/>
          </p:cNvCxnSpPr>
          <p:nvPr/>
        </p:nvCxnSpPr>
        <p:spPr>
          <a:xfrm flipH="1" flipV="1" rot="10800000">
            <a:off x="608400" y="1658520"/>
            <a:ext cx="1213560" cy="1161360"/>
          </a:xfrm>
          <a:prstGeom prst="curvedConnector5">
            <a:avLst>
              <a:gd name="adj1" fmla="val -18842"/>
              <a:gd name="adj2" fmla="val 30077"/>
              <a:gd name="adj3" fmla="val -18842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40" idx="3"/>
            <a:endCxn id="242" idx="0"/>
          </p:cNvCxnSpPr>
          <p:nvPr/>
        </p:nvCxnSpPr>
        <p:spPr>
          <a:xfrm>
            <a:off x="5943600" y="1658520"/>
            <a:ext cx="162720" cy="78012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081240" y="4572000"/>
            <a:ext cx="501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Who decides to make the purchase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160" y="5486400"/>
            <a:ext cx="367380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context of family uni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 consumer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5" idx="1"/>
            <a:endCxn id="246" idx="0"/>
          </p:cNvCxnSpPr>
          <p:nvPr/>
        </p:nvCxnSpPr>
        <p:spPr>
          <a:xfrm flipV="1" rot="10800000">
            <a:off x="2216880" y="4807440"/>
            <a:ext cx="602640" cy="67860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5218560" y="5475240"/>
            <a:ext cx="2527560" cy="82548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uying center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5" idx="3"/>
            <a:endCxn id="248" idx="3"/>
          </p:cNvCxnSpPr>
          <p:nvPr/>
        </p:nvCxnSpPr>
        <p:spPr>
          <a:xfrm flipH="1">
            <a:off x="7869960" y="4808520"/>
            <a:ext cx="492840" cy="1094400"/>
          </a:xfrm>
          <a:prstGeom prst="curvedConnector5">
            <a:avLst>
              <a:gd name="adj1" fmla="val -46418"/>
              <a:gd name="adj2" fmla="val 49983"/>
              <a:gd name="adj3" fmla="val -46418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uying Cent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0666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96880" y="2382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59480" y="5116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3880" y="3200040"/>
            <a:ext cx="5562720" cy="33526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Us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Influenc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Decid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Approv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Buy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Gatekeep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43800" y="1295280"/>
            <a:ext cx="63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ets of people who participate in industr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uying decisions and who are responsible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consequences resulting from the deci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ges in Market Behavio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53452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371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62320" y="3048120"/>
            <a:ext cx="388620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r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o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320" y="1674720"/>
            <a:ext cx="2702880" cy="1191240"/>
          </a:xfrm>
          <a:prstGeom prst="rect">
            <a:avLst/>
          </a:prstGeom>
          <a:gradFill rotWithShape="0">
            <a:gsLst>
              <a:gs pos="0">
                <a:srgbClr val="fef4e1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ust be tuned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ges th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re likely to occu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2971800" y="3124080"/>
            <a:ext cx="457200" cy="9907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66520" y="1752480"/>
            <a:ext cx="3036600" cy="155700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eds to determ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ther chan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re temporary 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ng ter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257800" y="3124080"/>
            <a:ext cx="304920" cy="10670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059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19320"/>
            <a:ext cx="701028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ood pers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lling 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etai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89920" y="4495680"/>
            <a:ext cx="5167080" cy="192276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king a comeback in depart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specialty store sectors due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reasing consumer demand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nowledgeable and helpfu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ales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388620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45820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219320"/>
            <a:ext cx="8686800" cy="2895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 stores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artan surrounding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nimum service bu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ery low pr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9880" y="457200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5410080"/>
            <a:ext cx="741708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sumers demanding membership in wareho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lubs (Sam’s Club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Market Variables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304920"/>
            <a:ext cx="0" cy="16761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648320"/>
            <a:ext cx="72392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target market’s needs and wa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uld drive the manner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ich the channel manager shapes the des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the firm’s marketing channels.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2668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il-order buy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3200" y="4572000"/>
            <a:ext cx="741672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ppers are trying to save time and avoi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inconvenience of shopping at crowded stores and fighting traffic conges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line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3200" y="4572000"/>
            <a:ext cx="741672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sonal computers are a means for 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supplement their in-store shopp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1219320"/>
            <a:ext cx="7162920" cy="2438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uto retailing &amp;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eign au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4038480"/>
            <a:ext cx="13716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5029200"/>
            <a:ext cx="815364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r buyers demanding fewer hassle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frontations typically common when buying a ca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net Shop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3200" y="4572000"/>
            <a:ext cx="741672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rowing in all sectors, especially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or B2B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1219320"/>
            <a:ext cx="68580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nov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ndertaken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81280" y="3733920"/>
            <a:ext cx="13716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3200" y="4572000"/>
            <a:ext cx="7416720" cy="11912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Kohl’s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racetrack layout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exposes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the maximum amount of merchandi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 the shortest time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Chang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5820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Framework for Market Analysi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9051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ograph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3200400"/>
            <a:ext cx="236196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ns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3200400"/>
            <a:ext cx="236232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51055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Targ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Geneva"/>
              </a:rPr>
              <a:t>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1905120"/>
            <a:ext cx="2362320" cy="990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havi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6" idx="3"/>
          </p:cNvCxnSpPr>
          <p:nvPr/>
        </p:nvCxnSpPr>
        <p:spPr>
          <a:xfrm>
            <a:off x="2742840" y="2400480"/>
            <a:ext cx="1524600" cy="255312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80" idx="1"/>
          </p:cNvCxnSpPr>
          <p:nvPr/>
        </p:nvCxnSpPr>
        <p:spPr>
          <a:xfrm flipV="1" rot="10800000">
            <a:off x="4494960" y="2400120"/>
            <a:ext cx="1600920" cy="255312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7" idx="1"/>
          </p:cNvCxnSpPr>
          <p:nvPr/>
        </p:nvCxnSpPr>
        <p:spPr>
          <a:xfrm flipV="1" rot="10800000">
            <a:off x="4647600" y="3695400"/>
            <a:ext cx="229320" cy="125784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8" idx="3"/>
          </p:cNvCxnSpPr>
          <p:nvPr/>
        </p:nvCxnSpPr>
        <p:spPr>
          <a:xfrm>
            <a:off x="3885840" y="3695760"/>
            <a:ext cx="229320" cy="1257840"/>
          </a:xfrm>
          <a:prstGeom prst="bent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5820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Geograph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55160" y="1828800"/>
            <a:ext cx="678744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geograph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geograph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xtent of markets and where they are locat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4320" y="3429000"/>
            <a:ext cx="6067800" cy="234936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manager’s task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evaluate market geography rela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nel structure to ensure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structure is able to serve the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ectively and efficient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Locating Market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68360" y="1371600"/>
            <a:ext cx="626004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anager delineates geograph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cations of target markets by using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bination of the following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67600" y="3733920"/>
            <a:ext cx="7968240" cy="26542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Bureau of Cens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ata for geographical entities such a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ates, regions/divisions, counti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tropolitan statistical areas, town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wnship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stal ZIP cod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2438280"/>
            <a:ext cx="761760" cy="1067040"/>
          </a:xfrm>
          <a:custGeom>
            <a:avLst/>
            <a:gdLst>
              <a:gd name="textAreaLeft" fmla="*/ 101880 w 761760"/>
              <a:gd name="textAreaRight" fmla="*/ 659880 w 76176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cking Changes in Market Geograph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3886200"/>
            <a:ext cx="3809880" cy="266688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high degree of mobility within the U.S. means that market geography changes frequent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3885840"/>
            <a:ext cx="4190760" cy="259092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outheast Asian countries &amp; former Eastern bloc countries of central &amp; eastern Europe have become key loca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523880"/>
            <a:ext cx="2066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 the U.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1523880"/>
            <a:ext cx="2057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Glob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124080"/>
            <a:ext cx="76212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3048120"/>
            <a:ext cx="7617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345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Siz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523880"/>
            <a:ext cx="7315200" cy="1191240"/>
          </a:xfrm>
          <a:prstGeom prst="rect">
            <a:avLst/>
          </a:prstGeom>
          <a:gradFill rotWithShape="0">
            <a:gsLst>
              <a:gs pos="0">
                <a:srgbClr val="fef1d8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size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number of buyers or potential buyers (consumer or industrial) in a given marke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3276720"/>
            <a:ext cx="6629400" cy="271512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nnel manager’s task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n using Bucklin’s model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size data, it is important also to consider the peculiarities of particular situations and other relevant variable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53452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99072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3880"/>
            <a:ext cx="685800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Market densit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refers to the number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yers or potential buyers per unit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eographical area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91800" y="3657600"/>
            <a:ext cx="48762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is market dimension’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lationship to channel stru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 illustrated in the concept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efficient congestion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74320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 Density &amp; Channel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1447920"/>
            <a:ext cx="3886200" cy="1523880"/>
          </a:xfrm>
          <a:prstGeom prst="downArrowCallout">
            <a:avLst>
              <a:gd name="adj1" fmla="val 63761"/>
              <a:gd name="adj2" fmla="val 63755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icient conges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1240" y="3276720"/>
            <a:ext cx="5185800" cy="30200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gested (high-density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s can promot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iciency in the performanc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veral basic distribution task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ly those of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ransportation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orage, communication,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negotia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2T21:25:05Z</dcterms:modified>
  <cp:revision>418</cp:revision>
  <dc:subject/>
  <dc:title>Part 1</dc:title>
</cp:coreProperties>
</file>