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A4DC2-E5A1-4DCD-A9E7-F5E0BC8CE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39926-0AAF-428E-8E8C-F4B9B1923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A15D9-EF4D-440A-9788-70B7A3236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04AEE-D04E-46CA-A285-FF72BA790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D6383-C2B1-4ABC-B29E-148212055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F8C9C-C970-4BB7-BC33-21089C03B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5656A-1613-497B-8F64-925D341E4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DEE16-3FA9-478E-BB72-5E8EDC2A6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B7611-C6EF-4904-B304-F318255E0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03B86-D6ED-4500-9262-F46A1E3A5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9C429-9DD6-4F91-9E22-BB94DC64F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0F7B7-F6AE-4AA4-8407-125873D6D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e7a8d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8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8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8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8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8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8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8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8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62095-0A5C-4F73-98F4-751477BD2339}" type="slidenum"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90720" y="1371600"/>
            <a:ext cx="7086600" cy="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419720" y="228240"/>
            <a:ext cx="403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e7a8d"/>
                </a:solidFill>
                <a:latin typeface="Palatino"/>
              </a:rPr>
              <a:t>Chapter 8</a:t>
            </a: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957240" y="4629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05120"/>
            <a:ext cx="8001000" cy="457200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fee3ad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80"/>
                </a:solidFill>
                <a:latin typeface="Geneva"/>
              </a:rPr>
              <a:t>Target Markets and 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i="1" lang="en-US" sz="32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i="1" lang="en-US" sz="3200" spc="-1" strike="noStrike">
                <a:solidFill>
                  <a:srgbClr val="000080"/>
                </a:solidFill>
                <a:latin typeface="Geneva"/>
              </a:rPr>
              <a:t>Channel Design Strategy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962520" y="3657600"/>
            <a:ext cx="3657600" cy="27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57200" y="990720"/>
            <a:ext cx="838188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458200" y="152280"/>
            <a:ext cx="304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8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Market Density &amp; Channel Strategy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8381880" y="228600"/>
            <a:ext cx="0" cy="106668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80880" y="1752480"/>
            <a:ext cx="2438640" cy="1371600"/>
          </a:xfrm>
          <a:custGeom>
            <a:avLst/>
            <a:gdLst>
              <a:gd name="textAreaLeft" fmla="*/ 0 w 2438640"/>
              <a:gd name="textAreaRight" fmla="*/ 2438640 w 2438640"/>
              <a:gd name="textAreaTop" fmla="*/ 0 h 1371600"/>
              <a:gd name="textAreaBottom" fmla="*/ 137196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Strategic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Implication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350160" y="1676520"/>
            <a:ext cx="5223600" cy="155700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The opportunity to achieve a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high level of customer access at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low cost is higher in dense market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than in more dispersed ones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762720" y="3505320"/>
            <a:ext cx="500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Geneva"/>
              </a:rPr>
              <a:t>=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233360" y="4724280"/>
            <a:ext cx="6307200" cy="1191240"/>
          </a:xfrm>
          <a:prstGeom prst="rect">
            <a:avLst/>
          </a:prstGeom>
          <a:gradFill rotWithShape="0">
            <a:gsLst>
              <a:gs pos="0">
                <a:srgbClr val="feeac2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Manufacturers of a wide array of products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seek out distributors and retailers that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operate in dense markets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2417760" y="700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53732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381880" y="304920"/>
            <a:ext cx="0" cy="121896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187280" y="1079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04920" y="1143000"/>
            <a:ext cx="838188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8451000" y="230040"/>
            <a:ext cx="35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8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525680" y="1600200"/>
            <a:ext cx="180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00040" y="1549440"/>
            <a:ext cx="180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519200" y="1488960"/>
            <a:ext cx="180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Market Behavior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04920" y="228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738600" y="432900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28600" y="152280"/>
            <a:ext cx="1447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Objective 6: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658880" y="1676520"/>
            <a:ext cx="4853160" cy="825480"/>
          </a:xfrm>
          <a:prstGeom prst="rect">
            <a:avLst/>
          </a:prstGeom>
          <a:gradFill rotWithShape="0">
            <a:gsLst>
              <a:gs pos="0">
                <a:srgbClr val="feedcc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Geneva"/>
              </a:rPr>
              <a:t>Market behavior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 consists of four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subdimensions: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295280" y="3048120"/>
            <a:ext cx="6324840" cy="2998440"/>
          </a:xfrm>
          <a:prstGeom prst="rect">
            <a:avLst/>
          </a:prstGeom>
          <a:solidFill>
            <a:srgbClr val="e6e6e6"/>
          </a:solidFill>
          <a:ln w="0">
            <a:noFill/>
          </a:ln>
          <a:effectLst>
            <a:outerShdw dist="153753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80"/>
              </a:buClr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80"/>
              </a:buClr>
              <a:buFont typeface="Genev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80"/>
                </a:solidFill>
                <a:latin typeface="Geneva"/>
              </a:rPr>
              <a:t>When</a:t>
            </a: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 the market buys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80"/>
              </a:buClr>
              <a:buFont typeface="Genev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80"/>
                </a:solidFill>
                <a:latin typeface="Geneva"/>
              </a:rPr>
              <a:t>Where</a:t>
            </a: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 the market buys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80"/>
              </a:buClr>
              <a:buFont typeface="Genev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80"/>
                </a:solidFill>
                <a:latin typeface="Geneva"/>
              </a:rPr>
              <a:t>How</a:t>
            </a: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 the market buys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80"/>
              </a:buClr>
              <a:buFont typeface="Genev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80"/>
                </a:solidFill>
                <a:latin typeface="Geneva"/>
              </a:rPr>
              <a:t>Who</a:t>
            </a: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 buys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80"/>
              </a:buClr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8305920" y="304920"/>
            <a:ext cx="0" cy="106668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1066680"/>
            <a:ext cx="838224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8458200" y="228600"/>
            <a:ext cx="33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8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When the Market Buys</a:t>
            </a:r>
            <a:r>
              <a:rPr b="0" lang="en-US" sz="4400" spc="-1" strike="noStrike">
                <a:solidFill>
                  <a:srgbClr val="6e7a8d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28600" y="1905120"/>
            <a:ext cx="259092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Seasonally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172200" y="1905120"/>
            <a:ext cx="259092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Daily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200400" y="1905120"/>
            <a:ext cx="259092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Weekly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209680" y="129528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919600" y="1219320"/>
            <a:ext cx="2462040" cy="459720"/>
          </a:xfrm>
          <a:prstGeom prst="rect">
            <a:avLst/>
          </a:prstGeom>
          <a:gradFill rotWithShape="0">
            <a:gsLst>
              <a:gs pos="0">
                <a:srgbClr val="feefd2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Variations occur: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990720" y="3733920"/>
            <a:ext cx="7238880" cy="2715120"/>
          </a:xfrm>
          <a:prstGeom prst="rect">
            <a:avLst/>
          </a:prstGeom>
          <a:gradFill rotWithShape="0">
            <a:gsLst>
              <a:gs pos="0">
                <a:srgbClr val="fef0d5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I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mplications for the channel manager: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80"/>
              </a:buClr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Variations create peaks &amp; valleys in the manufacturer’s production schedule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80"/>
              </a:buClr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He or she should attempt to select channel members who are in tune with these changing patterns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114800" y="2895480"/>
            <a:ext cx="838080" cy="6098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66cc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8527320" y="152280"/>
            <a:ext cx="35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8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47840" y="10494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80880" y="914400"/>
            <a:ext cx="838224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618320" y="-20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8458200" y="152280"/>
            <a:ext cx="0" cy="13716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286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Where the Market Buys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17400" y="1749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527200" y="3040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817640" y="2009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98400" y="3819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57200" y="32767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688000" y="5249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23120" y="5935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072600" y="1066680"/>
            <a:ext cx="2238120" cy="459720"/>
          </a:xfrm>
          <a:prstGeom prst="rect">
            <a:avLst/>
          </a:prstGeom>
          <a:gradFill rotWithShape="0">
            <a:gsLst>
              <a:gs pos="0">
                <a:srgbClr val="feecc9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Determined by: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838080" y="1600200"/>
            <a:ext cx="708660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buClr>
                <a:srgbClr val="000080"/>
              </a:buClr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he types of outlets from which final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buyers choose to make their purchas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838080" y="2895480"/>
            <a:ext cx="70866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2.  The location of those outlet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886200" y="3809880"/>
            <a:ext cx="762120" cy="6098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66cc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08040" y="502920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33520" y="4495680"/>
            <a:ext cx="8076960" cy="1983600"/>
          </a:xfrm>
          <a:prstGeom prst="rect">
            <a:avLst/>
          </a:prstGeom>
          <a:gradFill rotWithShape="0">
            <a:gsLst>
              <a:gs pos="0">
                <a:srgbClr val="fef2db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I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mplications for the channel manager: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1.  He or she should know where customers generally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     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buy particular types of product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80"/>
              </a:buClr>
              <a:buFont typeface="Genev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He or she should know whether these pattern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 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may be changing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33520" y="990720"/>
            <a:ext cx="82296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534520" y="152280"/>
            <a:ext cx="0" cy="11430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603280" y="152280"/>
            <a:ext cx="35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8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How the Market Buys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038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8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Large quantities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8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Self-servic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8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One-stop shopping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8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Impulse buying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5.</a:t>
            </a: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Cash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6.</a:t>
            </a: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Shopping at hom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7.</a:t>
            </a: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Expending substantial effort through comparison shopping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8.</a:t>
            </a: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Demanding extensive servic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8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Small quantiti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8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Assistance by salespeopl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8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Buying from several stor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8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Extensive decision making prior to purchas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8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Credit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8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Shopping at stor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8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Expending little effort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8.</a:t>
            </a: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Demanding little servic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273480" y="3048120"/>
            <a:ext cx="12096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80"/>
                </a:solidFill>
                <a:latin typeface="Geneva"/>
              </a:rPr>
              <a:t>Versus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228600" y="0"/>
            <a:ext cx="77724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8458200" y="228600"/>
            <a:ext cx="0" cy="121932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33520" y="1066680"/>
            <a:ext cx="82296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8527320" y="152280"/>
            <a:ext cx="35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8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Who Buys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832320" y="1422360"/>
            <a:ext cx="48884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Who makes the physical purchase?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83600" y="2819520"/>
            <a:ext cx="3276000" cy="1191240"/>
          </a:xfrm>
          <a:prstGeom prst="rect">
            <a:avLst/>
          </a:prstGeom>
          <a:gradFill rotWithShape="0">
            <a:gsLst>
              <a:gs pos="0">
                <a:srgbClr val="fee9bf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Affects the type of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retailers chosen in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he consumer market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093200" y="2438280"/>
            <a:ext cx="4024080" cy="1191240"/>
          </a:xfrm>
          <a:prstGeom prst="rect">
            <a:avLst/>
          </a:prstGeom>
          <a:gradFill rotWithShape="0">
            <a:gsLst>
              <a:gs pos="0">
                <a:srgbClr val="fee9bf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May influence the kinds of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channel members used to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serve industrial market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cxnSp>
        <p:nvCxnSpPr>
          <p:cNvPr id="243" name=""/>
          <p:cNvCxnSpPr>
            <a:stCxn id="240" idx="1"/>
            <a:endCxn id="241" idx="0"/>
          </p:cNvCxnSpPr>
          <p:nvPr/>
        </p:nvCxnSpPr>
        <p:spPr>
          <a:xfrm flipH="1" flipV="1" rot="10800000">
            <a:off x="608400" y="1658520"/>
            <a:ext cx="1213560" cy="1161360"/>
          </a:xfrm>
          <a:prstGeom prst="curvedConnector5">
            <a:avLst>
              <a:gd name="adj1" fmla="val -18842"/>
              <a:gd name="adj2" fmla="val 30077"/>
              <a:gd name="adj3" fmla="val -18842"/>
            </a:avLst>
          </a:prstGeom>
          <a:ln w="9360">
            <a:solidFill>
              <a:srgbClr val="000080"/>
            </a:solidFill>
            <a:miter/>
            <a:tailEnd len="med" type="triangle" w="med"/>
          </a:ln>
        </p:spPr>
      </p:cxnSp>
      <p:cxnSp>
        <p:nvCxnSpPr>
          <p:cNvPr id="244" name=""/>
          <p:cNvCxnSpPr>
            <a:stCxn id="240" idx="3"/>
            <a:endCxn id="242" idx="0"/>
          </p:cNvCxnSpPr>
          <p:nvPr/>
        </p:nvCxnSpPr>
        <p:spPr>
          <a:xfrm>
            <a:off x="5943600" y="1658520"/>
            <a:ext cx="162720" cy="780120"/>
          </a:xfrm>
          <a:prstGeom prst="curvedConnector2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081240" y="4572000"/>
            <a:ext cx="50194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Who decides to make the purchase?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80160" y="5486400"/>
            <a:ext cx="3673800" cy="825480"/>
          </a:xfrm>
          <a:prstGeom prst="rect">
            <a:avLst/>
          </a:prstGeom>
          <a:gradFill rotWithShape="0">
            <a:gsLst>
              <a:gs pos="0">
                <a:srgbClr val="feedcc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In context of family unit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at consumer level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45" idx="1"/>
            <a:endCxn id="246" idx="0"/>
          </p:cNvCxnSpPr>
          <p:nvPr/>
        </p:nvCxnSpPr>
        <p:spPr>
          <a:xfrm flipV="1" rot="10800000">
            <a:off x="2216880" y="4807440"/>
            <a:ext cx="602640" cy="678600"/>
          </a:xfrm>
          <a:prstGeom prst="curvedConnector2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</p:cxnSp>
      <p:sp>
        <p:nvSpPr>
          <p:cNvPr id="248" name=""/>
          <p:cNvSpPr/>
          <p:nvPr/>
        </p:nvSpPr>
        <p:spPr>
          <a:xfrm>
            <a:off x="5218560" y="5475240"/>
            <a:ext cx="2527560" cy="825480"/>
          </a:xfrm>
          <a:prstGeom prst="rect">
            <a:avLst/>
          </a:prstGeom>
          <a:gradFill rotWithShape="0">
            <a:gsLst>
              <a:gs pos="0">
                <a:srgbClr val="fef0d5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Buying centers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 at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industrial level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cxnSp>
        <p:nvCxnSpPr>
          <p:cNvPr id="249" name=""/>
          <p:cNvCxnSpPr>
            <a:stCxn id="245" idx="3"/>
            <a:endCxn id="248" idx="3"/>
          </p:cNvCxnSpPr>
          <p:nvPr/>
        </p:nvCxnSpPr>
        <p:spPr>
          <a:xfrm flipH="1">
            <a:off x="7869960" y="4808520"/>
            <a:ext cx="492840" cy="1094400"/>
          </a:xfrm>
          <a:prstGeom prst="curvedConnector5">
            <a:avLst>
              <a:gd name="adj1" fmla="val -46418"/>
              <a:gd name="adj2" fmla="val 49983"/>
              <a:gd name="adj3" fmla="val -46418"/>
            </a:avLst>
          </a:prstGeom>
          <a:ln w="9360">
            <a:solidFill>
              <a:srgbClr val="00008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Buying Centers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217520" y="1170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7709040" y="16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168800" y="313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390840" y="231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7989840" y="158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060640" y="125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3008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09480" y="1066680"/>
            <a:ext cx="807732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101080" y="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8381880" y="152280"/>
            <a:ext cx="0" cy="16002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8451000" y="154080"/>
            <a:ext cx="35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8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430280" y="758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53972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496880" y="238284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659480" y="511668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523880" y="3200040"/>
            <a:ext cx="5562720" cy="3352680"/>
          </a:xfrm>
          <a:prstGeom prst="rect">
            <a:avLst/>
          </a:prstGeom>
          <a:solidFill>
            <a:srgbClr val="e6e6e6"/>
          </a:solidFill>
          <a:ln w="0">
            <a:noFill/>
          </a:ln>
          <a:effectLst>
            <a:outerShdw dist="153753" dir="2700000" blurRad="0" rotWithShape="0">
              <a:srgbClr val="000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Geneva"/>
              </a:rPr>
              <a:t>User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Geneva"/>
              </a:rPr>
              <a:t>Influencer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Geneva"/>
              </a:rPr>
              <a:t>Decider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Geneva"/>
              </a:rPr>
              <a:t>Approver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Geneva"/>
              </a:rPr>
              <a:t>Buyer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Geneva"/>
              </a:rPr>
              <a:t>Gatekeeper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243800" y="1295280"/>
            <a:ext cx="638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Sets of people who participate in industrial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buying decisions and who are responsible for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the consequences resulting from the decision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4048200" y="313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Changes in Market Behavior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108160" y="1239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758000" y="228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17480" y="1139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7867800" y="209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927600" y="3129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390840" y="231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989840" y="158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060640" y="125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3008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33520" y="1219320"/>
            <a:ext cx="82296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8101080" y="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8534520" y="152280"/>
            <a:ext cx="0" cy="13716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8610480" y="152280"/>
            <a:ext cx="33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8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430280" y="758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53972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98520" y="5049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193840" y="292572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85800" y="137160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" y="152280"/>
            <a:ext cx="1447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Objective 8: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362320" y="3048120"/>
            <a:ext cx="3886200" cy="24382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Channel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Manager’s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Rol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70320" y="1674720"/>
            <a:ext cx="2702880" cy="1191240"/>
          </a:xfrm>
          <a:prstGeom prst="rect">
            <a:avLst/>
          </a:prstGeom>
          <a:gradFill rotWithShape="0">
            <a:gsLst>
              <a:gs pos="0">
                <a:srgbClr val="fef4e1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Must be tuned in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o changes that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are likely to occur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flipH="1" flipV="1">
            <a:off x="2971800" y="3124080"/>
            <a:ext cx="457200" cy="99072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366520" y="1752480"/>
            <a:ext cx="3036600" cy="1557000"/>
          </a:xfrm>
          <a:prstGeom prst="rect">
            <a:avLst/>
          </a:prstGeom>
          <a:gradFill rotWithShape="0">
            <a:gsLst>
              <a:gs pos="0">
                <a:srgbClr val="feebc5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Needs to determin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whether chang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are temporary or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long term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5257800" y="3124080"/>
            <a:ext cx="304920" cy="106704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Implications of Changes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808200" y="9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04920" y="1066680"/>
            <a:ext cx="82296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7878600" y="169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8305920" y="228600"/>
            <a:ext cx="0" cy="11430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8527320" y="152280"/>
            <a:ext cx="35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8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85800" y="1219320"/>
            <a:ext cx="7010280" cy="24382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Good personal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selling at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he retail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level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89920" y="4495680"/>
            <a:ext cx="5167080" cy="1922760"/>
          </a:xfrm>
          <a:prstGeom prst="rect">
            <a:avLst/>
          </a:prstGeom>
          <a:gradFill rotWithShape="0">
            <a:gsLst>
              <a:gs pos="0">
                <a:srgbClr val="feedcc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Making a comeback in department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and specialty store sectors due to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increasing consumer demand for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knowledgeable and helpful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salespeopl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505320" y="3886200"/>
            <a:ext cx="1371600" cy="5335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66cc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568440" y="1219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04920" y="1066680"/>
            <a:ext cx="84582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818480" y="49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8458200" y="228600"/>
            <a:ext cx="0" cy="13716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8534520" y="228600"/>
            <a:ext cx="35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8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98600" y="177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129120" y="23004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280" y="1905120"/>
            <a:ext cx="522360" cy="4572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76176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Implications of Change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308560" y="212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748480" y="484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52280" y="1219320"/>
            <a:ext cx="8686800" cy="28954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Retail stores with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spartan surroundings &amp;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minimum service but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very low pric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809880" y="4572000"/>
            <a:ext cx="1371600" cy="5335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66cc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838080" y="5410080"/>
            <a:ext cx="7417080" cy="1191240"/>
          </a:xfrm>
          <a:prstGeom prst="rect">
            <a:avLst/>
          </a:prstGeom>
          <a:gradFill rotWithShape="0">
            <a:gsLst>
              <a:gs pos="0">
                <a:srgbClr val="feedcc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Consumers demanding membership in warehous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clubs (Sam’s Club)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e7a8d"/>
                </a:solidFill>
                <a:latin typeface="Palatino"/>
              </a:rPr>
              <a:t>Market Variables</a:t>
            </a:r>
            <a:r>
              <a:rPr b="1" lang="en-US" sz="2800" spc="-1" strike="noStrike">
                <a:solidFill>
                  <a:srgbClr val="6e7a8d"/>
                </a:solidFill>
                <a:latin typeface="Palatino"/>
              </a:rPr>
              <a:t> </a:t>
            </a:r>
            <a:r>
              <a:rPr b="1" lang="en-US" sz="4400" spc="-1" strike="noStrike">
                <a:solidFill>
                  <a:srgbClr val="6e7a8d"/>
                </a:solidFill>
                <a:latin typeface="Palatino"/>
              </a:rPr>
              <a:t>	</a:t>
            </a: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78880" y="4190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610480" y="152280"/>
            <a:ext cx="3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8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57320" y="-130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8600" y="152280"/>
            <a:ext cx="1447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Objective 1: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08200" y="5799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990720"/>
            <a:ext cx="838224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534520" y="304920"/>
            <a:ext cx="0" cy="167616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066680" y="4648320"/>
            <a:ext cx="7239240" cy="155700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he target market’s needs and want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should drive the manner in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which the channel manager shapes the design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of the firm’s marketing channels. 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124080" y="1371600"/>
            <a:ext cx="266868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Implications of Change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28600" y="990720"/>
            <a:ext cx="84582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8381880" y="304920"/>
            <a:ext cx="0" cy="11430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8557200" y="6840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8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2467080" y="1200240"/>
            <a:ext cx="1839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914400" y="1219320"/>
            <a:ext cx="6858000" cy="22096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Mail-order buying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581280" y="3733920"/>
            <a:ext cx="1371600" cy="5331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66cc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73200" y="4572000"/>
            <a:ext cx="7416720" cy="1191240"/>
          </a:xfrm>
          <a:prstGeom prst="rect">
            <a:avLst/>
          </a:prstGeom>
          <a:gradFill rotWithShape="0">
            <a:gsLst>
              <a:gs pos="0">
                <a:srgbClr val="feedcc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Shoppers are trying to save time and avoid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he inconvenience of shopping at crowded stores and fighting traffic congestion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8381880" y="380880"/>
            <a:ext cx="0" cy="144792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228600" y="990720"/>
            <a:ext cx="84582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8381880" y="304920"/>
            <a:ext cx="0" cy="11430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557200" y="6840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8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467080" y="1200240"/>
            <a:ext cx="1839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914400" y="1219320"/>
            <a:ext cx="6858000" cy="22096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Online shopping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581280" y="3733920"/>
            <a:ext cx="1371600" cy="5331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66cc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73200" y="4572000"/>
            <a:ext cx="7416720" cy="825480"/>
          </a:xfrm>
          <a:prstGeom prst="rect">
            <a:avLst/>
          </a:prstGeom>
          <a:gradFill rotWithShape="0">
            <a:gsLst>
              <a:gs pos="0">
                <a:srgbClr val="feedcc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Personal computers are a means for consumer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o supplement their in-store shopping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Implications of Change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/>
          <p:nvPr/>
        </p:nvSpPr>
        <p:spPr>
          <a:xfrm>
            <a:off x="8381880" y="380880"/>
            <a:ext cx="0" cy="144792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28600" y="990720"/>
            <a:ext cx="84582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8381880" y="304920"/>
            <a:ext cx="0" cy="11430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8557200" y="6840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8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467080" y="1200240"/>
            <a:ext cx="1839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914400" y="1219320"/>
            <a:ext cx="7162920" cy="24382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Auto retailing &amp;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foreign auto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manufacturer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733920" y="4038480"/>
            <a:ext cx="1371600" cy="5335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66cc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80880" y="5029200"/>
            <a:ext cx="8153640" cy="825480"/>
          </a:xfrm>
          <a:prstGeom prst="rect">
            <a:avLst/>
          </a:prstGeom>
          <a:gradFill rotWithShape="0">
            <a:gsLst>
              <a:gs pos="0">
                <a:srgbClr val="feedcc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Car buyers demanding fewer hassles &amp;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confrontations typically common when buying a car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Implications of Change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8381880" y="380880"/>
            <a:ext cx="0" cy="144792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28600" y="990720"/>
            <a:ext cx="84582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381880" y="304920"/>
            <a:ext cx="0" cy="11430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8557200" y="6840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8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467080" y="1200240"/>
            <a:ext cx="1839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1219320"/>
            <a:ext cx="6858000" cy="22096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Internet Shopping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581280" y="3733920"/>
            <a:ext cx="1371600" cy="5331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66cc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73200" y="4572000"/>
            <a:ext cx="7416720" cy="825480"/>
          </a:xfrm>
          <a:prstGeom prst="rect">
            <a:avLst/>
          </a:prstGeom>
          <a:gradFill rotWithShape="0">
            <a:gsLst>
              <a:gs pos="0">
                <a:srgbClr val="feedcc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Growing in all sectors, especially in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industrial or B2B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Implications of Change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8381880" y="380880"/>
            <a:ext cx="0" cy="144792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28600" y="990720"/>
            <a:ext cx="84582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8381880" y="304920"/>
            <a:ext cx="0" cy="11430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8557200" y="6840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8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467080" y="1200240"/>
            <a:ext cx="1839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914400" y="1219320"/>
            <a:ext cx="6858000" cy="22096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Innovation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undertaken by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channel member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581280" y="3733920"/>
            <a:ext cx="1371600" cy="5331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66cc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73200" y="4572000"/>
            <a:ext cx="7416720" cy="1191240"/>
          </a:xfrm>
          <a:prstGeom prst="rect">
            <a:avLst/>
          </a:prstGeom>
          <a:gradFill rotWithShape="0">
            <a:gsLst>
              <a:gs pos="0">
                <a:srgbClr val="feedcc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Kohl’s </a:t>
            </a: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racetrack layout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 exposes customer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o the maximum amount of merchandis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in the shortest time.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Implications of Change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80880" y="1447920"/>
            <a:ext cx="838224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8458200" y="304920"/>
            <a:ext cx="0" cy="144756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28640" y="114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62120" y="1676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17480" y="18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527320" y="23004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8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7760" y="79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38280" y="1949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334120" y="3352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87400" y="2019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17880" y="6537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279440" y="6308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27360" y="6537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124080" y="6629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765520" y="6858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346480" y="6384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17680" y="5775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e7a8d"/>
                </a:solidFill>
                <a:latin typeface="Palatino"/>
              </a:rPr>
              <a:t>Framework for Market Analysis</a:t>
            </a:r>
            <a:endParaRPr b="0" lang="en-US" sz="36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76720" y="5867280"/>
            <a:ext cx="1839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28600" y="152280"/>
            <a:ext cx="1447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Objective 2: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80880" y="1905120"/>
            <a:ext cx="2362320" cy="990360"/>
          </a:xfrm>
          <a:prstGeom prst="rect">
            <a:avLst/>
          </a:prstGeom>
          <a:solidFill>
            <a:srgbClr val="e6e6e6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Market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geography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76920" y="3200400"/>
            <a:ext cx="2361960" cy="990720"/>
          </a:xfrm>
          <a:prstGeom prst="rect">
            <a:avLst/>
          </a:prstGeom>
          <a:solidFill>
            <a:srgbClr val="e6e6e6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Market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density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523880" y="3200400"/>
            <a:ext cx="2362320" cy="990720"/>
          </a:xfrm>
          <a:prstGeom prst="rect">
            <a:avLst/>
          </a:prstGeom>
          <a:solidFill>
            <a:srgbClr val="e6e6e6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Market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siz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124080" y="5105520"/>
            <a:ext cx="2362320" cy="990360"/>
          </a:xfrm>
          <a:prstGeom prst="rect">
            <a:avLst/>
          </a:prstGeom>
          <a:solidFill>
            <a:srgbClr val="e6e6e6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Geneva"/>
              </a:rPr>
              <a:t>Target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Geneva"/>
              </a:rPr>
              <a:t>Market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095880" y="1905120"/>
            <a:ext cx="2362320" cy="990360"/>
          </a:xfrm>
          <a:prstGeom prst="rect">
            <a:avLst/>
          </a:prstGeom>
          <a:solidFill>
            <a:srgbClr val="e6e6e6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Market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behavior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cxnSp>
        <p:nvCxnSpPr>
          <p:cNvPr id="81" name=""/>
          <p:cNvCxnSpPr>
            <a:stCxn id="76" idx="3"/>
          </p:cNvCxnSpPr>
          <p:nvPr/>
        </p:nvCxnSpPr>
        <p:spPr>
          <a:xfrm>
            <a:off x="2742840" y="2400480"/>
            <a:ext cx="1524600" cy="2553120"/>
          </a:xfrm>
          <a:prstGeom prst="bentConnector2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80" idx="1"/>
          </p:cNvCxnSpPr>
          <p:nvPr/>
        </p:nvCxnSpPr>
        <p:spPr>
          <a:xfrm flipV="1" rot="10800000">
            <a:off x="4494960" y="2400120"/>
            <a:ext cx="1600920" cy="2553120"/>
          </a:xfrm>
          <a:prstGeom prst="bentConnector2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</p:cxnSp>
      <p:cxnSp>
        <p:nvCxnSpPr>
          <p:cNvPr id="83" name=""/>
          <p:cNvCxnSpPr>
            <a:stCxn id="77" idx="1"/>
          </p:cNvCxnSpPr>
          <p:nvPr/>
        </p:nvCxnSpPr>
        <p:spPr>
          <a:xfrm flipV="1" rot="10800000">
            <a:off x="4647600" y="3695400"/>
            <a:ext cx="229320" cy="1257840"/>
          </a:xfrm>
          <a:prstGeom prst="bentConnector2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</p:cxnSp>
      <p:cxnSp>
        <p:nvCxnSpPr>
          <p:cNvPr id="84" name=""/>
          <p:cNvCxnSpPr>
            <a:stCxn id="78" idx="3"/>
          </p:cNvCxnSpPr>
          <p:nvPr/>
        </p:nvCxnSpPr>
        <p:spPr>
          <a:xfrm>
            <a:off x="3885840" y="3695760"/>
            <a:ext cx="229320" cy="1257840"/>
          </a:xfrm>
          <a:prstGeom prst="bentConnector2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657360" y="1079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09480" y="1295280"/>
            <a:ext cx="807732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897680" y="509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458200" y="152280"/>
            <a:ext cx="0" cy="152424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8603280" y="152280"/>
            <a:ext cx="35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8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319400" y="317016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368360" y="2409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525680" y="274320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57200" y="3759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Market Geography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37960" y="-130320"/>
            <a:ext cx="18432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152280"/>
            <a:ext cx="1447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Objective 3: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055160" y="1828800"/>
            <a:ext cx="6787440" cy="825480"/>
          </a:xfrm>
          <a:prstGeom prst="rect">
            <a:avLst/>
          </a:prstGeom>
          <a:gradFill rotWithShape="0">
            <a:gsLst>
              <a:gs pos="0">
                <a:srgbClr val="feedcc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Geneva"/>
              </a:rPr>
              <a:t>Market geography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 refers to the geographical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extent of markets and where they are located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444320" y="3429000"/>
            <a:ext cx="6067800" cy="2349360"/>
          </a:xfrm>
          <a:prstGeom prst="rect">
            <a:avLst/>
          </a:prstGeom>
          <a:solidFill>
            <a:srgbClr val="e6e6e6"/>
          </a:solidFill>
          <a:ln w="0">
            <a:noFill/>
          </a:ln>
          <a:effectLst>
            <a:outerShdw dist="153753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C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hannel manager’s task: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o evaluate market geography relative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o channel structure to ensure that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he structure is able to serve the market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effectively and efficiently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7918560" y="49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458200" y="152280"/>
            <a:ext cx="0" cy="129564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327880" y="1500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09480" y="1066680"/>
            <a:ext cx="82296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359920" y="1094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527320" y="23004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8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897360" y="3359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768840" y="4179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68560" y="4780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18200" y="359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286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e7a8d"/>
                </a:solidFill>
                <a:latin typeface="Palatino"/>
              </a:rPr>
              <a:t>Locating Markets</a:t>
            </a:r>
            <a:endParaRPr b="0" lang="en-US" sz="36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914400" y="205740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914400" y="358128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368360" y="1371600"/>
            <a:ext cx="6260040" cy="1191240"/>
          </a:xfrm>
          <a:prstGeom prst="rect">
            <a:avLst/>
          </a:prstGeom>
          <a:gradFill rotWithShape="0">
            <a:gsLst>
              <a:gs pos="0">
                <a:srgbClr val="feebc5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Channel manager delineates geographical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locations of target markets by using a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combination of the following: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867600" y="3733920"/>
            <a:ext cx="7968240" cy="2654280"/>
          </a:xfrm>
          <a:prstGeom prst="rect">
            <a:avLst/>
          </a:prstGeom>
          <a:solidFill>
            <a:srgbClr val="e6e6e6"/>
          </a:solidFill>
          <a:ln w="0">
            <a:noFill/>
          </a:ln>
          <a:effectLst>
            <a:outerShdw dist="153753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80"/>
              </a:buClr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he Bureau of Censu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data for geographical entities such as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states, regions/divisions, counties,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metropolitan statistical areas, towns &amp;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ownship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2.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Postal ZIP cod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219320" y="2438280"/>
            <a:ext cx="761760" cy="1067040"/>
          </a:xfrm>
          <a:custGeom>
            <a:avLst/>
            <a:gdLst>
              <a:gd name="textAreaLeft" fmla="*/ 101880 w 761760"/>
              <a:gd name="textAreaRight" fmla="*/ 659880 w 761760"/>
              <a:gd name="textAreaTop" fmla="*/ 186480 h 1067040"/>
              <a:gd name="textAreaBottom" fmla="*/ 77364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cc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7678800" y="49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534520" y="228600"/>
            <a:ext cx="0" cy="129528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7120" y="14000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603280" y="152280"/>
            <a:ext cx="35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8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124080" y="2133720"/>
            <a:ext cx="1524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200400" y="213372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403880" y="2270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Tracking Changes in Market Geography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04920" y="1143000"/>
            <a:ext cx="84582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4560" y="3886200"/>
            <a:ext cx="3809880" cy="2666880"/>
          </a:xfrm>
          <a:prstGeom prst="rect">
            <a:avLst/>
          </a:prstGeom>
          <a:gradFill rotWithShape="0">
            <a:gsLst>
              <a:gs pos="0">
                <a:srgbClr val="fef0d5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8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A high degree of mobility within the U.S. means that market geography changes frequently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47960" y="3885840"/>
            <a:ext cx="4190760" cy="2590920"/>
          </a:xfrm>
          <a:prstGeom prst="rect">
            <a:avLst/>
          </a:prstGeom>
          <a:gradFill rotWithShape="0">
            <a:gsLst>
              <a:gs pos="0">
                <a:srgbClr val="feedcc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8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Southeast Asian countries &amp; former Eastern bloc countries of central &amp; eastern Europe have become key locations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990720" y="1523880"/>
            <a:ext cx="206676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In the U.S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334120" y="1523880"/>
            <a:ext cx="205740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  </a:t>
            </a: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Globally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600200" y="3124080"/>
            <a:ext cx="762120" cy="6098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66cc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791320" y="3048120"/>
            <a:ext cx="76176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66cc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7667640" y="100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534520" y="228600"/>
            <a:ext cx="0" cy="11430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8128080" y="1289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33520" y="1066680"/>
            <a:ext cx="830556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610480" y="228600"/>
            <a:ext cx="33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8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Market Size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" y="152280"/>
            <a:ext cx="1447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Objective 4: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62120" y="1523880"/>
            <a:ext cx="7315200" cy="1191240"/>
          </a:xfrm>
          <a:prstGeom prst="rect">
            <a:avLst/>
          </a:prstGeom>
          <a:gradFill rotWithShape="0">
            <a:gsLst>
              <a:gs pos="0">
                <a:srgbClr val="fef1d8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Geneva"/>
              </a:rPr>
              <a:t>Market size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 refers to the number of buyers or potential buyers (consumer or industrial) in a given market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523880" y="3276720"/>
            <a:ext cx="6629400" cy="2715120"/>
          </a:xfrm>
          <a:prstGeom prst="rect">
            <a:avLst/>
          </a:prstGeom>
          <a:solidFill>
            <a:srgbClr val="e6e6e6"/>
          </a:solidFill>
          <a:ln w="0">
            <a:noFill/>
          </a:ln>
          <a:effectLst>
            <a:outerShdw dist="153753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C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hannel manager’s task: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When using Bucklin’s model for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market size data, it is important also to consider the peculiarities of particular situations and other relevant variables.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8381880" y="7920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610480" y="152280"/>
            <a:ext cx="33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8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927920" y="79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8534520" y="228600"/>
            <a:ext cx="0" cy="121932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888320" y="1128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57200" y="990720"/>
            <a:ext cx="830592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553080" y="4343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553080" y="4343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Market Density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990720" y="1295280"/>
            <a:ext cx="1839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219320" y="5943600"/>
            <a:ext cx="1839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828800" y="563868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28600" y="152280"/>
            <a:ext cx="1447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Objective 5: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990720" y="1523880"/>
            <a:ext cx="6858000" cy="1191240"/>
          </a:xfrm>
          <a:prstGeom prst="rect">
            <a:avLst/>
          </a:prstGeom>
          <a:gradFill rotWithShape="0">
            <a:gsLst>
              <a:gs pos="0">
                <a:srgbClr val="feebc5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Geneva"/>
              </a:rPr>
              <a:t>Market density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 refers to the number of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buyers or potential buyers per unit of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geographical area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791800" y="3657600"/>
            <a:ext cx="4876200" cy="22885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his market dimension’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relationship to channel structur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is illustrated in the concept of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efficient congestion.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447920" y="2743200"/>
            <a:ext cx="914400" cy="1143000"/>
          </a:xfrm>
          <a:custGeom>
            <a:avLst/>
            <a:gdLst>
              <a:gd name="textAreaLeft" fmla="*/ 122400 w 914400"/>
              <a:gd name="textAreaRight" fmla="*/ 792000 w 91440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cc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Market Density &amp; Channel Strategy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8451000" y="152280"/>
            <a:ext cx="35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8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8381880" y="228600"/>
            <a:ext cx="0" cy="13716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47800" y="1379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04920" y="1143000"/>
            <a:ext cx="838188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04920" y="228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209680" y="1447920"/>
            <a:ext cx="3886200" cy="1523880"/>
          </a:xfrm>
          <a:prstGeom prst="downArrowCallout">
            <a:avLst>
              <a:gd name="adj1" fmla="val 63761"/>
              <a:gd name="adj2" fmla="val 63755"/>
              <a:gd name="adj3" fmla="val 16667"/>
              <a:gd name="adj4" fmla="val 66667"/>
            </a:avLst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Efficient congestion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731240" y="3276720"/>
            <a:ext cx="5185800" cy="3020040"/>
          </a:xfrm>
          <a:prstGeom prst="rect">
            <a:avLst/>
          </a:prstGeom>
          <a:gradFill rotWithShape="0">
            <a:gsLst>
              <a:gs pos="0">
                <a:srgbClr val="feefd2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Congested (high-density)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markets can promote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efficiency in the performance of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several basic distribution tasks,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particularly those of </a:t>
            </a: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transportation,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storage, communication, 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and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negotiation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2T18:47:24Z</dcterms:created>
  <dc:creator>Kathryn Bundy</dc:creator>
  <dc:description/>
  <dc:language>en-US</dc:language>
  <cp:lastModifiedBy>TL User</cp:lastModifiedBy>
  <dcterms:modified xsi:type="dcterms:W3CDTF">2003-07-02T21:25:05Z</dcterms:modified>
  <cp:revision>418</cp:revision>
  <dc:subject/>
  <dc:title>Part 1</dc:title>
</cp:coreProperties>
</file>