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1C52-DC48-4E22-8C12-1F70B23D1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4F66-FC30-4373-A7F4-0E953CCBD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6538-A002-4700-9A2F-4EBB5A609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BA25-0E6B-4750-9A49-AF11259C7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BF99-C92A-4FDC-A29F-63928C423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9916-B947-486F-A2EE-15FE4BED6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B5DF-E79F-4EA9-B85E-5B284BA1B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42F0-2469-44F0-8AA3-90A23F50D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6EBA-CD2B-4A14-9120-28401F790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6808-59CE-4566-95AD-FCC665435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9684-ECB5-4FC1-90D5-0BC6C91D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2763-7507-4A44-9DBE-0A79643C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7a8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8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8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F3761-8DA9-4313-97B6-288200DB36AE}" type="slidenum"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124080"/>
            <a:ext cx="769644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e7a8d"/>
                </a:solidFill>
                <a:latin typeface="Palatino"/>
              </a:rPr>
              <a:t>Part 3</a:t>
            </a:r>
            <a:endParaRPr b="0" lang="en-US" sz="60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57240" y="4629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66680" y="3581280"/>
            <a:ext cx="6858000" cy="22100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b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80"/>
                </a:solidFill>
                <a:latin typeface="Geneva"/>
              </a:rPr>
              <a:t>Managing the Marketing Chann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2895480"/>
            <a:ext cx="0" cy="2743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Marketing Channel Audit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45100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9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381880" y="22860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47800" y="137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920" y="106668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58640" y="1447920"/>
            <a:ext cx="5693040" cy="8254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Focus of channel manager’s approach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31440" y="2666880"/>
            <a:ext cx="6968520" cy="3751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Gather data on how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erceive the manufacturer’s market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ogram and its component part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Locate the strengths and weakness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 the relationship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Learn what is expected of manufactur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 make the channel relationship viabl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nd optimal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99072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458200" y="152280"/>
            <a:ext cx="30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9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Marketing Channel Audit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81880" y="228600"/>
            <a:ext cx="0" cy="9907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7520" y="1397160"/>
            <a:ext cx="7511040" cy="520560"/>
          </a:xfrm>
          <a:prstGeom prst="rect">
            <a:avLst/>
          </a:prstGeom>
          <a:gradFill rotWithShape="0">
            <a:gsLst>
              <a:gs pos="0">
                <a:srgbClr val="fef0d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800000"/>
                </a:solidFill>
                <a:latin typeface="Geneva"/>
              </a:rPr>
              <a:t>W</a:t>
            </a:r>
            <a:r>
              <a:rPr b="0" i="1" lang="en-US" sz="2400" spc="-1" strike="noStrike">
                <a:solidFill>
                  <a:srgbClr val="800000"/>
                </a:solidFill>
                <a:latin typeface="Geneva"/>
              </a:rPr>
              <a:t>hat makes marketing channel audits most effective?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2280" y="2514600"/>
            <a:ext cx="3353040" cy="3751560"/>
          </a:xfrm>
          <a:prstGeom prst="rect">
            <a:avLst/>
          </a:prstGeom>
          <a:gradFill rotWithShape="0">
            <a:gsLst>
              <a:gs pos="0">
                <a:srgbClr val="feecc9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t should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dentify and defin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 detail the issu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elevant to th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ufacturer-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holesal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nd/or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ufacturer-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etailer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elationship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429000" y="4267080"/>
            <a:ext cx="2871720" cy="1922760"/>
          </a:xfrm>
          <a:prstGeom prst="rect">
            <a:avLst/>
          </a:prstGeom>
          <a:gradFill rotWithShape="0">
            <a:gsLst>
              <a:gs pos="0">
                <a:srgbClr val="fef0d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ssues chosen fo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audit should be cross-referenced to any relevant variable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262920" y="2514600"/>
            <a:ext cx="2238120" cy="2288520"/>
          </a:xfrm>
          <a:prstGeom prst="rect">
            <a:avLst/>
          </a:prstGeom>
          <a:gradFill rotWithShape="0">
            <a:gsLst>
              <a:gs pos="0">
                <a:srgbClr val="feeac2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t mus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e conducte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eriodically s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s to captur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rends &amp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attern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rot="10825800">
            <a:off x="3809880" y="2514600"/>
            <a:ext cx="1905120" cy="1447920"/>
          </a:xfrm>
          <a:custGeom>
            <a:avLst/>
            <a:gdLst>
              <a:gd name="textAreaLeft" fmla="*/ 0 w 1905120"/>
              <a:gd name="textAreaRight" fmla="*/ 1905480 w 190512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2417760" y="700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53732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381880" y="304920"/>
            <a:ext cx="0" cy="14475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187280" y="1079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4920" y="106668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451000" y="23004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9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25680" y="1600200"/>
            <a:ext cx="18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19200" y="1488960"/>
            <a:ext cx="18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Distributor Advisory Council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49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738600" y="43290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25520" y="1244520"/>
            <a:ext cx="2452680" cy="520560"/>
          </a:xfrm>
          <a:prstGeom prst="rect">
            <a:avLst/>
          </a:prstGeom>
          <a:gradFill rotWithShape="0">
            <a:gsLst>
              <a:gs pos="0">
                <a:srgbClr val="feecc9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800000"/>
                </a:solidFill>
                <a:latin typeface="Geneva"/>
              </a:rPr>
              <a:t>W</a:t>
            </a:r>
            <a:r>
              <a:rPr b="0" i="1" lang="en-US" sz="2400" spc="-1" strike="noStrike">
                <a:solidFill>
                  <a:srgbClr val="800000"/>
                </a:solidFill>
                <a:latin typeface="Geneva"/>
              </a:rPr>
              <a:t>ho is involved?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481400" y="1905120"/>
            <a:ext cx="678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p management representatives from th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ufacturer and from the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18680" y="3200400"/>
            <a:ext cx="3246840" cy="520560"/>
          </a:xfrm>
          <a:prstGeom prst="rect">
            <a:avLst/>
          </a:prstGeom>
          <a:gradFill rotWithShape="0">
            <a:gsLst>
              <a:gs pos="0">
                <a:srgbClr val="fef1d8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800000"/>
                </a:solidFill>
                <a:latin typeface="Geneva"/>
              </a:rPr>
              <a:t>W</a:t>
            </a:r>
            <a:r>
              <a:rPr b="0" i="1" lang="en-US" sz="2400" spc="-1" strike="noStrike">
                <a:solidFill>
                  <a:srgbClr val="800000"/>
                </a:solidFill>
                <a:latin typeface="Geneva"/>
              </a:rPr>
              <a:t>hat are the benefits?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278000" y="3962520"/>
            <a:ext cx="724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ovides recognition for the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ovides a vehicle for identifying and discuss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utual needs and problem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esults in an overall improvement of 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ommunication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" y="1981080"/>
            <a:ext cx="838080" cy="685800"/>
          </a:xfrm>
          <a:prstGeom prst="rightArrow">
            <a:avLst>
              <a:gd name="adj1" fmla="val 50000"/>
              <a:gd name="adj2" fmla="val 30551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" y="3962520"/>
            <a:ext cx="838080" cy="685800"/>
          </a:xfrm>
          <a:prstGeom prst="rightArrow">
            <a:avLst>
              <a:gd name="adj1" fmla="val 50000"/>
              <a:gd name="adj2" fmla="val 30551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Supporting Channel Member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381880" y="30492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0880" y="114300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458200" y="228600"/>
            <a:ext cx="3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9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5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172200" y="1447920"/>
            <a:ext cx="2057400" cy="1557000"/>
          </a:xfrm>
          <a:prstGeom prst="rect">
            <a:avLst/>
          </a:prstGeom>
          <a:gradFill rotWithShape="0">
            <a:gsLst>
              <a:gs pos="0">
                <a:srgbClr val="fef3de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Geneva"/>
              </a:rPr>
              <a:t>3 Type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Geneva"/>
              </a:rPr>
              <a:t>of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Geneva"/>
              </a:rPr>
              <a:t>Program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833840" y="3809880"/>
            <a:ext cx="2912040" cy="8254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2. Partnership o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trategic allian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440160" y="5334120"/>
            <a:ext cx="2506680" cy="8254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3. Distribu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ogramm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82120" y="2666880"/>
            <a:ext cx="2250360" cy="4597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1. Cooperativ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852732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9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47840" y="1049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0880" y="99072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618320" y="-2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458200" y="152280"/>
            <a:ext cx="0" cy="18288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ooperative Arrangement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17400" y="1749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27200" y="3040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817640" y="200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98400" y="3819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327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688000" y="524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23120" y="593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7280" y="2590920"/>
            <a:ext cx="6994440" cy="4597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Focuses on channel member needs &amp; problem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36680" y="3657600"/>
            <a:ext cx="3791160" cy="4597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imple &amp; straightforwar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405800" y="5029200"/>
            <a:ext cx="5868360" cy="4597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onveys a clear sense of mutual benefi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0880" y="83808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305920" y="152280"/>
            <a:ext cx="0" cy="1600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451000" y="23004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9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ooperative Arrangement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1143000"/>
            <a:ext cx="7315200" cy="825480"/>
          </a:xfrm>
          <a:prstGeom prst="rect">
            <a:avLst/>
          </a:prstGeom>
          <a:gradFill rotWithShape="0">
            <a:gsLst>
              <a:gs pos="0">
                <a:srgbClr val="fef2db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ypical types of cooperative program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ovided by Manufacturers to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80880" y="2438280"/>
            <a:ext cx="7772400" cy="411480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ooperative advertising allowanc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ayments for interior display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ontests for buyers, salespeople, etc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llowances for warehousing function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ayments for window display spa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etail men who check inventor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emonstrato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oupon-handling allowan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Free good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3520" y="121932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458200" y="228600"/>
            <a:ext cx="0" cy="144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52732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9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artnerships &amp; Strategic Allianc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980640" y="1752480"/>
            <a:ext cx="6939720" cy="1922760"/>
          </a:xfrm>
          <a:prstGeom prst="rect">
            <a:avLst/>
          </a:prstGeom>
          <a:gradFill rotWithShape="0">
            <a:gsLst>
              <a:gs pos="0">
                <a:srgbClr val="feeecf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Focus on a continuing and mutuall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upportive relationship between th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ufacturer and its channel members in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n effort to provide a more highly motivate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eam, network, or alliance of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3124080" y="4038480"/>
            <a:ext cx="2576520" cy="26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artnerships &amp; Strategic Allianc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9480" y="99072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381880" y="152280"/>
            <a:ext cx="0" cy="1600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451000" y="1540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9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39080" y="1295280"/>
            <a:ext cx="2736360" cy="459720"/>
          </a:xfrm>
          <a:prstGeom prst="rect">
            <a:avLst/>
          </a:prstGeom>
          <a:gradFill rotWithShape="0">
            <a:gsLst>
              <a:gs pos="0">
                <a:srgbClr val="fef4e1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0000"/>
                </a:solidFill>
                <a:latin typeface="Geneva"/>
              </a:rPr>
              <a:t>Three basic phas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16000" y="2209680"/>
            <a:ext cx="7873920" cy="119124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ufacturer should make explicit statement of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olicies in areas such as product availability,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echnical support, pricing, etc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17920" y="4038480"/>
            <a:ext cx="8033760" cy="8254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ufacturer should assess all existing distributo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s to their capabilities for fulfilling their rol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06680" y="5486400"/>
            <a:ext cx="7083000" cy="119124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3. Manufacturer should continually appraise th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ppropriateness of the policies guiding hi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r her relationship with the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Distribution Programming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381880" y="15228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45100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9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47680" y="-50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59880" y="1676520"/>
            <a:ext cx="7345080" cy="1191240"/>
          </a:xfrm>
          <a:prstGeom prst="rect">
            <a:avLst/>
          </a:prstGeom>
          <a:gradFill rotWithShape="0">
            <a:gsLst>
              <a:gs pos="0">
                <a:srgbClr val="feefd2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 comprehensive set of policies for the promo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f a product through the 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rot="5361600">
            <a:off x="3488040" y="3064680"/>
            <a:ext cx="976320" cy="942840"/>
          </a:xfrm>
          <a:custGeom>
            <a:avLst/>
            <a:gdLst>
              <a:gd name="textAreaLeft" fmla="*/ 0 w 976320"/>
              <a:gd name="textAreaRight" fmla="*/ 976680 w 976320"/>
              <a:gd name="textAreaTop" fmla="*/ 0 h 942840"/>
              <a:gd name="textAreaBottom" fmla="*/ 943200 h 94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155600" y="4343400"/>
            <a:ext cx="6005520" cy="1557000"/>
          </a:xfrm>
          <a:prstGeom prst="rect">
            <a:avLst/>
          </a:prstGeom>
          <a:gradFill rotWithShape="0">
            <a:gsLst>
              <a:gs pos="0">
                <a:srgbClr val="feefd2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eveloped as a joint effort between th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ufacturer and the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 incorporate the needs of both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40482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Distribution Programming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08160" y="123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75800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580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990720"/>
            <a:ext cx="80769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381880" y="152280"/>
            <a:ext cx="0" cy="15242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45100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9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523880" y="16765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193840" y="29257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" y="1295280"/>
            <a:ext cx="8077320" cy="5275440"/>
          </a:xfrm>
          <a:prstGeom prst="rect">
            <a:avLst/>
          </a:prstGeom>
          <a:gradFill rotWithShape="0">
            <a:gsLst>
              <a:gs pos="0">
                <a:srgbClr val="fef2db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800000"/>
                </a:solidFill>
                <a:latin typeface="Geneva"/>
              </a:rPr>
              <a:t>	</a:t>
            </a:r>
            <a:r>
              <a:rPr b="0" i="1" lang="en-US" sz="2800" spc="-1" strike="noStrike">
                <a:solidFill>
                  <a:srgbClr val="800000"/>
                </a:solidFill>
                <a:latin typeface="Geneva"/>
              </a:rPr>
              <a:t>	</a:t>
            </a:r>
            <a:r>
              <a:rPr b="0" i="1" lang="en-US" sz="2800" spc="-1" strike="noStrike">
                <a:solidFill>
                  <a:srgbClr val="800000"/>
                </a:solidFill>
                <a:latin typeface="Geneva"/>
              </a:rPr>
              <a:t>	</a:t>
            </a:r>
            <a:r>
              <a:rPr b="0" i="1" lang="en-US" sz="2800" spc="-1" strike="noStrike">
                <a:solidFill>
                  <a:srgbClr val="800000"/>
                </a:solidFill>
                <a:latin typeface="Geneva"/>
              </a:rPr>
              <a:t>S</a:t>
            </a:r>
            <a:r>
              <a:rPr b="0" i="1" lang="en-US" sz="2400" spc="-1" strike="noStrike">
                <a:solidFill>
                  <a:srgbClr val="800000"/>
                </a:solidFill>
                <a:latin typeface="Geneva"/>
              </a:rPr>
              <a:t>teps for developing a program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ufacturer develops analysis of market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bjectives &amp; the kinds of levels of support neede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from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scertains channel members’ needs &amp;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  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oblem area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Formulate specific channel policies that offer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ice concessions to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Financial advi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ome kind of protection for channel members  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rot="10786200">
            <a:off x="1066320" y="1523520"/>
            <a:ext cx="852480" cy="733680"/>
          </a:xfrm>
          <a:custGeom>
            <a:avLst/>
            <a:gdLst>
              <a:gd name="textAreaLeft" fmla="*/ 284040 w 852480"/>
              <a:gd name="textAreaRight" fmla="*/ 730440 w 852480"/>
              <a:gd name="textAreaTop" fmla="*/ 422640 h 733680"/>
              <a:gd name="textAreaBottom" fmla="*/ 628560 h 7336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90720" y="1371600"/>
            <a:ext cx="708660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19720" y="22824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e7a8d"/>
                </a:solidFill>
                <a:latin typeface="Palatino"/>
              </a:rPr>
              <a:t>Chapter 9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57240" y="4629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620120" cy="41911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3a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     </a:t>
            </a: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Motivating the Channel Member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895480" y="3276720"/>
            <a:ext cx="2979720" cy="29559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000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Relationship Differenc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08200" y="9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04920" y="121932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878600" y="16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305920" y="152280"/>
            <a:ext cx="0" cy="1600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37468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9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6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55760" y="1442880"/>
            <a:ext cx="7573680" cy="1557000"/>
          </a:xfrm>
          <a:prstGeom prst="rect">
            <a:avLst/>
          </a:prstGeom>
          <a:gradFill rotWithShape="0">
            <a:gsLst>
              <a:gs pos="0">
                <a:srgbClr val="feefd2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ooperative Arrangemen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Intermittent interactions between manufactur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&amp;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355760" y="3429000"/>
            <a:ext cx="7355880" cy="1191240"/>
          </a:xfrm>
          <a:prstGeom prst="rect">
            <a:avLst/>
          </a:prstGeom>
          <a:gradFill rotWithShape="0">
            <a:gsLst>
              <a:gs pos="0">
                <a:srgbClr val="feed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artnerships &amp; Strategic Allianc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Continuing &amp; mutually supportive relationship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90680" y="4952880"/>
            <a:ext cx="6096960" cy="1557000"/>
          </a:xfrm>
          <a:prstGeom prst="rect">
            <a:avLst/>
          </a:prstGeom>
          <a:gradFill rotWithShape="0">
            <a:gsLst>
              <a:gs pos="0">
                <a:srgbClr val="feeecf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istribution Programm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Deals with virtually all aspects of th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channel relationship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33520" y="2057400"/>
            <a:ext cx="380880" cy="533520"/>
          </a:xfrm>
          <a:custGeom>
            <a:avLst/>
            <a:gdLst>
              <a:gd name="textAreaLeft" fmla="*/ 50760 w 380880"/>
              <a:gd name="textAreaRight" fmla="*/ 330120 w 380880"/>
              <a:gd name="textAreaTop" fmla="*/ 93240 h 533520"/>
              <a:gd name="textAreaBottom" fmla="*/ 38700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57200" y="5562720"/>
            <a:ext cx="380880" cy="533160"/>
          </a:xfrm>
          <a:custGeom>
            <a:avLst/>
            <a:gdLst>
              <a:gd name="textAreaLeft" fmla="*/ 50760 w 380880"/>
              <a:gd name="textAreaRight" fmla="*/ 330120 w 380880"/>
              <a:gd name="textAreaTop" fmla="*/ 93240 h 533160"/>
              <a:gd name="textAreaBottom" fmla="*/ 386640 h 53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371600" y="4038480"/>
            <a:ext cx="380880" cy="533520"/>
          </a:xfrm>
          <a:custGeom>
            <a:avLst/>
            <a:gdLst>
              <a:gd name="textAreaLeft" fmla="*/ 50760 w 380880"/>
              <a:gd name="textAreaRight" fmla="*/ 330120 w 380880"/>
              <a:gd name="textAreaTop" fmla="*/ 93240 h 533520"/>
              <a:gd name="textAreaBottom" fmla="*/ 38700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04920" y="3276720"/>
            <a:ext cx="75438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28600" y="4800600"/>
            <a:ext cx="76960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56844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04920" y="129528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81848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458200" y="228600"/>
            <a:ext cx="0" cy="16765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534520" y="228600"/>
            <a:ext cx="35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9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9860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129120" y="230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52280" y="1905120"/>
            <a:ext cx="52236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The Selective Use of Power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30856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74848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" y="152280"/>
            <a:ext cx="1600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7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21560" y="2362320"/>
            <a:ext cx="6264360" cy="2288520"/>
          </a:xfrm>
          <a:prstGeom prst="rect">
            <a:avLst/>
          </a:prstGeom>
          <a:solidFill>
            <a:srgbClr val="6e7a8d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The channel manag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must exercise effective leadership on a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continuing basis to attain a well-motivate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team of members.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56844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04920" y="91440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81848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458200" y="228600"/>
            <a:ext cx="0" cy="16765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534520" y="228600"/>
            <a:ext cx="35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9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9860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129120" y="230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52280" y="1905120"/>
            <a:ext cx="52236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85800" y="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Limited Contro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30856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74848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28600" y="152280"/>
            <a:ext cx="1600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8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111760" y="3276720"/>
            <a:ext cx="3849120" cy="11912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d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Interorganizational System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103040" y="1143000"/>
            <a:ext cx="709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Loosely arranged firms = few advantages from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entral direc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20120" y="2362320"/>
            <a:ext cx="555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eward &amp; penalty system not precis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866400" y="4724280"/>
            <a:ext cx="474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verall planning uncoordinate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53760" y="5562720"/>
            <a:ext cx="653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iffused perspective necessary to maximiz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tal system effor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cxnSp>
        <p:nvCxnSpPr>
          <p:cNvPr id="353" name=""/>
          <p:cNvCxnSpPr>
            <a:stCxn id="348" idx="3"/>
          </p:cNvCxnSpPr>
          <p:nvPr/>
        </p:nvCxnSpPr>
        <p:spPr>
          <a:xfrm flipV="1">
            <a:off x="5938920" y="2037960"/>
            <a:ext cx="457920" cy="1837440"/>
          </a:xfrm>
          <a:prstGeom prst="bentConnector2">
            <a:avLst/>
          </a:prstGeom>
          <a:ln w="19080">
            <a:solidFill>
              <a:srgbClr val="000080"/>
            </a:solidFill>
            <a:miter/>
            <a:tailEnd len="med" type="triangle" w="med"/>
          </a:ln>
        </p:spPr>
      </p:cxnSp>
      <p:cxnSp>
        <p:nvCxnSpPr>
          <p:cNvPr id="354" name=""/>
          <p:cNvCxnSpPr>
            <a:stCxn id="348" idx="0"/>
            <a:endCxn id="350" idx="1"/>
          </p:cNvCxnSpPr>
          <p:nvPr/>
        </p:nvCxnSpPr>
        <p:spPr>
          <a:xfrm flipV="1" rot="16200000">
            <a:off x="1831320" y="1071000"/>
            <a:ext cx="678600" cy="3732840"/>
          </a:xfrm>
          <a:prstGeom prst="bentConnector4">
            <a:avLst>
              <a:gd name="adj1" fmla="val 32537"/>
              <a:gd name="adj2" fmla="val 106124"/>
            </a:avLst>
          </a:prstGeom>
          <a:ln w="19080">
            <a:solidFill>
              <a:srgbClr val="000080"/>
            </a:solidFill>
            <a:miter/>
            <a:tailEnd len="med" type="triangle" w="med"/>
          </a:ln>
        </p:spPr>
      </p:cxnSp>
      <p:cxnSp>
        <p:nvCxnSpPr>
          <p:cNvPr id="355" name=""/>
          <p:cNvCxnSpPr>
            <a:stCxn id="348" idx="1"/>
            <a:endCxn id="352" idx="1"/>
          </p:cNvCxnSpPr>
          <p:nvPr/>
        </p:nvCxnSpPr>
        <p:spPr>
          <a:xfrm flipV="1" rot="10800000">
            <a:off x="532800" y="3874680"/>
            <a:ext cx="1600920" cy="2115360"/>
          </a:xfrm>
          <a:prstGeom prst="bentConnector3">
            <a:avLst>
              <a:gd name="adj1" fmla="val 114282"/>
            </a:avLst>
          </a:prstGeom>
          <a:ln w="19080">
            <a:solidFill>
              <a:srgbClr val="000080"/>
            </a:solidFill>
            <a:miter/>
            <a:tailEnd len="med" type="triangle" w="med"/>
          </a:ln>
        </p:spPr>
      </p:cxnSp>
      <p:cxnSp>
        <p:nvCxnSpPr>
          <p:cNvPr id="356" name=""/>
          <p:cNvCxnSpPr>
            <a:stCxn id="348" idx="2"/>
            <a:endCxn id="351" idx="1"/>
          </p:cNvCxnSpPr>
          <p:nvPr/>
        </p:nvCxnSpPr>
        <p:spPr>
          <a:xfrm rot="5400000">
            <a:off x="3717360" y="4641480"/>
            <a:ext cx="487800" cy="151560"/>
          </a:xfrm>
          <a:prstGeom prst="bentConnector4">
            <a:avLst>
              <a:gd name="adj1" fmla="val 25701"/>
              <a:gd name="adj2" fmla="val 251428"/>
            </a:avLst>
          </a:prstGeom>
          <a:ln w="19080">
            <a:solidFill>
              <a:srgbClr val="00008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Channel Management</a:t>
            </a:r>
            <a:r>
              <a:rPr b="1" lang="en-US" sz="2800" spc="-1" strike="noStrike">
                <a:solidFill>
                  <a:srgbClr val="6e7a8d"/>
                </a:solidFill>
                <a:latin typeface="Palatino"/>
              </a:rPr>
              <a:t> </a:t>
            </a:r>
            <a:r>
              <a:rPr b="1" lang="en-US" sz="4400" spc="-1" strike="noStrike">
                <a:solidFill>
                  <a:srgbClr val="6e7a8d"/>
                </a:solidFill>
                <a:latin typeface="Palatino"/>
              </a:rPr>
              <a:t>	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778880" y="419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610480" y="152280"/>
            <a:ext cx="3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9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7320" y="-130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1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08200" y="579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14300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534520" y="304920"/>
            <a:ext cx="0" cy="15238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3962520"/>
            <a:ext cx="8305920" cy="2288520"/>
          </a:xfrm>
          <a:prstGeom prst="rect">
            <a:avLst/>
          </a:prstGeom>
          <a:gradFill rotWithShape="0">
            <a:gsLst>
              <a:gs pos="0">
                <a:srgbClr val="fee7b9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The administration of existing channels to secure the cooperation of channel members in achieving the firm’s distribution objectiv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44560" y="3429000"/>
            <a:ext cx="3522960" cy="520560"/>
          </a:xfrm>
          <a:prstGeom prst="rect">
            <a:avLst/>
          </a:prstGeom>
          <a:gradFill rotWithShape="0">
            <a:gsLst>
              <a:gs pos="0">
                <a:srgbClr val="feecc9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Geneva"/>
              </a:rPr>
              <a:t>C</a:t>
            </a:r>
            <a:r>
              <a:rPr b="0" lang="en-US" sz="2400" spc="-1" strike="noStrike">
                <a:solidFill>
                  <a:srgbClr val="800000"/>
                </a:solidFill>
                <a:latin typeface="Geneva"/>
              </a:rPr>
              <a:t>hannel </a:t>
            </a:r>
            <a:r>
              <a:rPr b="0" lang="en-US" sz="2800" spc="-1" strike="noStrike">
                <a:solidFill>
                  <a:srgbClr val="800000"/>
                </a:solidFill>
                <a:latin typeface="Geneva"/>
              </a:rPr>
              <a:t>M</a:t>
            </a:r>
            <a:r>
              <a:rPr b="0" lang="en-US" sz="2400" spc="-1" strike="noStrike">
                <a:solidFill>
                  <a:srgbClr val="800000"/>
                </a:solidFill>
                <a:latin typeface="Geneva"/>
              </a:rPr>
              <a:t>anagement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429000" y="1371600"/>
            <a:ext cx="1757520" cy="17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80880" y="121932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458200" y="228600"/>
            <a:ext cx="0" cy="15238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28640" y="114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76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4080" y="1676520"/>
            <a:ext cx="3890160" cy="520560"/>
          </a:xfrm>
          <a:prstGeom prst="rect">
            <a:avLst/>
          </a:prstGeom>
          <a:gradFill rotWithShape="0">
            <a:gsLst>
              <a:gs pos="0">
                <a:srgbClr val="feecc9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Geneva"/>
              </a:rPr>
              <a:t>M</a:t>
            </a:r>
            <a:r>
              <a:rPr b="0" lang="en-US" sz="2400" spc="-1" strike="noStrike">
                <a:solidFill>
                  <a:srgbClr val="800000"/>
                </a:solidFill>
                <a:latin typeface="Geneva"/>
              </a:rPr>
              <a:t>otivation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800000"/>
                </a:solidFill>
                <a:latin typeface="Geneva"/>
              </a:rPr>
              <a:t>M</a:t>
            </a:r>
            <a:r>
              <a:rPr b="0" lang="en-US" sz="2400" spc="-1" strike="noStrike">
                <a:solidFill>
                  <a:srgbClr val="800000"/>
                </a:solidFill>
                <a:latin typeface="Geneva"/>
              </a:rPr>
              <a:t>anagement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527320" y="2300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9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7760" y="79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38280" y="1949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4120" y="335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87400" y="2019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117880" y="653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279440" y="630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727360" y="653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6629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765520" y="6858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346480" y="638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17680" y="5775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Motivation Management</a:t>
            </a:r>
            <a:endParaRPr b="0" lang="en-US" sz="36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5867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75680" y="3657600"/>
            <a:ext cx="5894280" cy="1922760"/>
          </a:xfrm>
          <a:prstGeom prst="rect">
            <a:avLst/>
          </a:prstGeom>
          <a:gradFill rotWithShape="0">
            <a:gsLst>
              <a:gs pos="0">
                <a:srgbClr val="fef0d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The actions taken by the manufacturers t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foster channel member cooperation i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implementing the manufacturer’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distribution objectiv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800600" y="2286000"/>
            <a:ext cx="2895480" cy="13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57360" y="1079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897680" y="50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229600" y="304920"/>
            <a:ext cx="0" cy="22096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374680" y="30636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9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19400" y="31701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68360" y="240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5680" y="2743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3759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hannel Management versus</a:t>
            </a:r>
            <a:br>
              <a:rPr sz="3200"/>
            </a:b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hannel Design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7960" y="-13032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2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90720" y="4876920"/>
            <a:ext cx="2438280" cy="11912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ec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“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etting up”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5355000">
            <a:off x="1584000" y="3291840"/>
            <a:ext cx="1220760" cy="884520"/>
          </a:xfrm>
          <a:custGeom>
            <a:avLst/>
            <a:gdLst>
              <a:gd name="textAreaLeft" fmla="*/ 0 w 1220760"/>
              <a:gd name="textAreaRight" fmla="*/ 1221120 w 1220760"/>
              <a:gd name="textAreaTop" fmla="*/ 0 h 884520"/>
              <a:gd name="textAreaBottom" fmla="*/ 884880 h 884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02880" y="2209680"/>
            <a:ext cx="2437920" cy="459720"/>
          </a:xfrm>
          <a:prstGeom prst="rect">
            <a:avLst/>
          </a:prstGeom>
          <a:gradFill rotWithShape="0">
            <a:gsLst>
              <a:gs pos="0">
                <a:srgbClr val="feebc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hannel Desig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70120" y="2209680"/>
            <a:ext cx="3362760" cy="459720"/>
          </a:xfrm>
          <a:prstGeom prst="rect">
            <a:avLst/>
          </a:prstGeom>
          <a:gradFill rotWithShape="0">
            <a:gsLst>
              <a:gs pos="0">
                <a:srgbClr val="feebc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hannel Managemen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5355000">
            <a:off x="5241600" y="3291840"/>
            <a:ext cx="1220760" cy="884520"/>
          </a:xfrm>
          <a:custGeom>
            <a:avLst/>
            <a:gdLst>
              <a:gd name="textAreaLeft" fmla="*/ 0 w 1220760"/>
              <a:gd name="textAreaRight" fmla="*/ 1221120 w 1220760"/>
              <a:gd name="textAreaTop" fmla="*/ 0 h 884520"/>
              <a:gd name="textAreaBottom" fmla="*/ 884880 h 884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76920" y="4876920"/>
            <a:ext cx="2438280" cy="11912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ec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“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unning”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91856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458200" y="152280"/>
            <a:ext cx="0" cy="1600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27880" y="1500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137160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59920" y="109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527320" y="2300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9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97360" y="335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68840" y="4179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68560" y="478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8200" y="359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Motivating Channel Members</a:t>
            </a:r>
            <a:endParaRPr b="0" lang="en-US" sz="36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205740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35812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3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7772400" cy="396216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bc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   </a:t>
            </a:r>
            <a:r>
              <a:rPr b="0" i="1" lang="en-US" sz="2400" spc="-1" strike="noStrike">
                <a:solidFill>
                  <a:srgbClr val="800000"/>
                </a:solidFill>
                <a:latin typeface="Geneva"/>
              </a:rPr>
              <a:t>Basic Framework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1.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Find out the needs and problems of channel member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2.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ffer support to the channel members that is consistent with their needs and problem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3.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ovide leadership through the effective use of power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767880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58200" y="304920"/>
            <a:ext cx="0" cy="14475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712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527320" y="1540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9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213372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0040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0388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hannel Member </a:t>
            </a:r>
            <a:br>
              <a:rPr sz="3200"/>
            </a:b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Needs &amp; Problem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144792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4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3352680"/>
            <a:ext cx="7315200" cy="28958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esearch studies of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esearch studies by outside part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rketing channel audi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istributor advisory council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15160" y="1905120"/>
            <a:ext cx="5554440" cy="8254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Approaches for learning about memb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 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needs &amp; problems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7667640" y="100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534520" y="228600"/>
            <a:ext cx="0" cy="12952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28080" y="12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1066680"/>
            <a:ext cx="83059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610480" y="228600"/>
            <a:ext cx="3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9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Research Studies of Channel Member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12240" y="1752480"/>
            <a:ext cx="6935040" cy="8254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Less than 1 percent of manufacturers’ research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udgets is spent on channel member research!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3429000"/>
            <a:ext cx="723888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UT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ufacturer-initiated research can be usefu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ecause certain types of needs or problems may not be at all obviou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7520" y="2984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8381880" y="7920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451000" y="1540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9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927920" y="7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81880" y="152280"/>
            <a:ext cx="0" cy="12956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888320" y="11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1066680"/>
            <a:ext cx="83055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553080" y="434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553080" y="4343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Research Studies by Outside Parti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90720" y="1295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19320" y="594360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28800" y="56386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13480" y="1295280"/>
            <a:ext cx="6273720" cy="1191240"/>
          </a:xfrm>
          <a:prstGeom prst="rect">
            <a:avLst/>
          </a:prstGeom>
          <a:gradFill rotWithShape="0">
            <a:gsLst>
              <a:gs pos="0">
                <a:srgbClr val="feeecf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i="1" lang="en-US" sz="2400" spc="-1" strike="noStrike">
                <a:solidFill>
                  <a:srgbClr val="800000"/>
                </a:solidFill>
                <a:latin typeface="Geneva"/>
              </a:rPr>
              <a:t>Why use outside parties to conduct research?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4920" y="4191120"/>
            <a:ext cx="3733560" cy="192276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f0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y provide a higher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ssurance of objectivity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0" y="4114800"/>
            <a:ext cx="3780000" cy="22885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7b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y provide a level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f expertise that th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ufacturer may no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osses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5355000">
            <a:off x="5698800" y="2834640"/>
            <a:ext cx="1220760" cy="884520"/>
          </a:xfrm>
          <a:custGeom>
            <a:avLst/>
            <a:gdLst>
              <a:gd name="textAreaLeft" fmla="*/ 0 w 1220760"/>
              <a:gd name="textAreaRight" fmla="*/ 1221120 w 1220760"/>
              <a:gd name="textAreaTop" fmla="*/ 0 h 884520"/>
              <a:gd name="textAreaBottom" fmla="*/ 884880 h 884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5355000">
            <a:off x="1736640" y="2759040"/>
            <a:ext cx="1220760" cy="884160"/>
          </a:xfrm>
          <a:custGeom>
            <a:avLst/>
            <a:gdLst>
              <a:gd name="textAreaLeft" fmla="*/ 0 w 1220760"/>
              <a:gd name="textAreaRight" fmla="*/ 1221120 w 1220760"/>
              <a:gd name="textAreaTop" fmla="*/ 0 h 884160"/>
              <a:gd name="textAreaBottom" fmla="*/ 884520 h 88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2T18:47:24Z</dcterms:created>
  <dc:creator>Kathryn Bundy</dc:creator>
  <dc:description/>
  <dc:language>en-US</dc:language>
  <cp:lastModifiedBy>TL User</cp:lastModifiedBy>
  <dcterms:modified xsi:type="dcterms:W3CDTF">2003-07-02T21:34:52Z</dcterms:modified>
  <cp:revision>318</cp:revision>
  <dc:subject/>
  <dc:title>Part 1</dc:title>
</cp:coreProperties>
</file>