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BB1-50B4-418A-9F80-0DAE6D9E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481-12EF-486D-8522-6D9E5BA6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783-73A4-4E23-BC9D-AA5263F4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CE4-D034-4FBF-ADE2-F0AE3FCD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B63-8E88-4D15-8DA9-E908F1C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F7C-56A0-4F39-95F3-9879E529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7BB-F8B0-4758-A2B5-F0C865DB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7DD-5BD7-4026-A0D5-F443296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58C-4DBE-482F-902B-C3FE8D9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7E8-7D82-4785-827F-813BD16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554-FAFE-49E9-A67B-1C30569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A71-25E2-486D-B67D-F6583AC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40A-EDE7-4666-8415-9CD3EDE1DAC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3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nag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8640" y="1447920"/>
            <a:ext cx="5693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f channel manager’s approac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1440" y="2666880"/>
            <a:ext cx="69685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data on how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ive the manufacturer’s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and its component par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e the strengths and weak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relationship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arn what is expected of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make the channel relationship vi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optim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520" y="1397160"/>
            <a:ext cx="7511040" cy="5205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makes marketing channel audits most effectiv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514600"/>
            <a:ext cx="3353040" cy="3751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shou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dentify and def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detail the issu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evant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4267080"/>
            <a:ext cx="287172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s chosen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udit should be cross-referenced to any relevant variabl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2920" y="2514600"/>
            <a:ext cx="2238120" cy="22885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m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du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iodically 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cap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nd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25800">
            <a:off x="3809880" y="251460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or Advisory Counci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520" y="1244520"/>
            <a:ext cx="245268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o is involved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81400" y="1905120"/>
            <a:ext cx="67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representatives from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from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8680" y="3200400"/>
            <a:ext cx="3246840" cy="52056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are the benefi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8000" y="3962520"/>
            <a:ext cx="72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cognition for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a vehicle for identifying and discu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tual needs and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ults in an overall improvement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9810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9625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uppor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447920"/>
            <a:ext cx="205740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3 Typ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3840" y="3809880"/>
            <a:ext cx="2912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Partnership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5334120"/>
            <a:ext cx="25066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2120" y="2666880"/>
            <a:ext cx="2250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Coopera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7280" y="2590920"/>
            <a:ext cx="69944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es on channel member 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6680" y="3657600"/>
            <a:ext cx="3791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mple &amp; straightforw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5800" y="5029200"/>
            <a:ext cx="5868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veys a clear sense of mutual benef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143000"/>
            <a:ext cx="7315200" cy="82548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 types of cooperative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d by Manufacturer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interior displ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for buyers, salespeople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owances for warehousing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window display sp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tail men who check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monstra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upon-handling allow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ee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0640" y="1752480"/>
            <a:ext cx="6939720" cy="192276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n a continuing and mutu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ive relationship betwee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its channel member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 effort to provide a more highly 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am, network, or alli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57652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080" y="1295280"/>
            <a:ext cx="2736360" cy="45972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hree basic p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6000" y="2209680"/>
            <a:ext cx="78739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make explicit stateme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licies in areas such as product availability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cal support, pricing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920" y="4038480"/>
            <a:ext cx="80337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assess all existing 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their capabilities for fulfilling their ro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6680" y="5486400"/>
            <a:ext cx="7083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Manufacturer should continually apprais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ppropriateness of the policies guiding h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her relationship with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9880" y="1676520"/>
            <a:ext cx="73450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comprehensive set of policies for the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 product throug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361600">
            <a:off x="3488040" y="3064680"/>
            <a:ext cx="976320" cy="942840"/>
          </a:xfrm>
          <a:custGeom>
            <a:avLst/>
            <a:gdLst>
              <a:gd name="textAreaLeft" fmla="*/ 0 w 976320"/>
              <a:gd name="textAreaRight" fmla="*/ 976680 w 976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5600" y="4343400"/>
            <a:ext cx="600552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ed as a joint effort betwee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incorporate the needs of bo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295280"/>
            <a:ext cx="8077320" cy="527544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eps for developing a program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develops analysis of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 &amp; the kinds of levels of support nee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certains channel members’ need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blem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mulate specific channel policies that off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 concession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d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me kind of protection for channel members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86200">
            <a:off x="1066320" y="152352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9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otiva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2979720" cy="2955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lationship Differe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746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5760" y="1442880"/>
            <a:ext cx="757368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rrang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ittent interactions between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&amp;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55760" y="3429000"/>
            <a:ext cx="73558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nerships &amp; Strategic Alli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ntinuing &amp; mutually supportiv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0680" y="4952880"/>
            <a:ext cx="60969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als with virtually all aspects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205740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562720"/>
            <a:ext cx="380880" cy="53316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038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276720"/>
            <a:ext cx="7543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4800600"/>
            <a:ext cx="76960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ve Use of Powe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21560" y="2362320"/>
            <a:ext cx="6264360" cy="2288520"/>
          </a:xfrm>
          <a:prstGeom prst="rect">
            <a:avLst/>
          </a:prstGeom>
          <a:solidFill>
            <a:srgbClr val="6e7a8d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ust exercise effective leadership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tinuing basis to attain a well-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am of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imited Contro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11760" y="3276720"/>
            <a:ext cx="384912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d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organizationa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3040" y="1143000"/>
            <a:ext cx="70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osely arranged firms = few advantag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entral dir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0120" y="23623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&amp; penalty system not prec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6400" y="47242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planning uncoordin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3760" y="5562720"/>
            <a:ext cx="65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used perspective necessary to maximiz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system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8" idx="3"/>
          </p:cNvCxnSpPr>
          <p:nvPr/>
        </p:nvCxnSpPr>
        <p:spPr>
          <a:xfrm flipV="1">
            <a:off x="5938920" y="2037960"/>
            <a:ext cx="457920" cy="18374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8" idx="0"/>
            <a:endCxn id="350" idx="1"/>
          </p:cNvCxnSpPr>
          <p:nvPr/>
        </p:nvCxnSpPr>
        <p:spPr>
          <a:xfrm flipV="1" rot="16200000">
            <a:off x="1831320" y="1071000"/>
            <a:ext cx="678600" cy="3732840"/>
          </a:xfrm>
          <a:prstGeom prst="bentConnector4">
            <a:avLst>
              <a:gd name="adj1" fmla="val 32537"/>
              <a:gd name="adj2" fmla="val 106124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8" idx="1"/>
            <a:endCxn id="352" idx="1"/>
          </p:cNvCxnSpPr>
          <p:nvPr/>
        </p:nvCxnSpPr>
        <p:spPr>
          <a:xfrm flipV="1" rot="10800000">
            <a:off x="532800" y="3874680"/>
            <a:ext cx="1600920" cy="2115360"/>
          </a:xfrm>
          <a:prstGeom prst="bentConnector3">
            <a:avLst>
              <a:gd name="adj1" fmla="val 114282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8" idx="2"/>
            <a:endCxn id="351" idx="1"/>
          </p:cNvCxnSpPr>
          <p:nvPr/>
        </p:nvCxnSpPr>
        <p:spPr>
          <a:xfrm rot="5400000">
            <a:off x="3717360" y="4641480"/>
            <a:ext cx="487800" cy="151560"/>
          </a:xfrm>
          <a:prstGeom prst="bentConnector4">
            <a:avLst>
              <a:gd name="adj1" fmla="val 25701"/>
              <a:gd name="adj2" fmla="val 251428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962520"/>
            <a:ext cx="8305920" cy="22885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dministration of existing channels to secure the cooperation of channel members in achieving the firm’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4560" y="3429000"/>
            <a:ext cx="35229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757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80" y="1676520"/>
            <a:ext cx="38901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otivatio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on Manage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75680" y="3657600"/>
            <a:ext cx="589428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ctions taken by the manufacturer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ster channel member coop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ement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28954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 versu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tting up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55000">
            <a:off x="15840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2880" y="2209680"/>
            <a:ext cx="243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0120" y="2209680"/>
            <a:ext cx="336276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355000">
            <a:off x="52416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unning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ng Channel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3962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Basic Framewor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d out the needs and problems of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support to the channel members that is consistent with their needs and proble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 leadership through the effective use of pow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eds &amp; Proble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31520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by outside par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 aud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or advisory counc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5160" y="1905120"/>
            <a:ext cx="55544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pproaches for learning about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eds &amp; problem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2240" y="1752480"/>
            <a:ext cx="6935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ss than 1 percent of manufacturers’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dgets is spent on channel member research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29000"/>
            <a:ext cx="7238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initiated research can be use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ertain types of needs or problems may not be at all obviou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by Outside Part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3480" y="1295280"/>
            <a:ext cx="6273720" cy="119124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Why use outside parties to conduct research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191120"/>
            <a:ext cx="37335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0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high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urance of objectiv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114800"/>
            <a:ext cx="37800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lev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expertise th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may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es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355000">
            <a:off x="5698800" y="28346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355000">
            <a:off x="1736640" y="27590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34:52Z</dcterms:modified>
  <cp:revision>318</cp:revision>
  <dc:subject/>
  <dc:title>Part 1</dc:title>
</cp:coreProperties>
</file>