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ED5-D8C3-491B-AC4A-E7EFD9E6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6E6-AF59-4E85-B8F4-D7F3869C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23F-3320-428A-A29C-D75CAB06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6E2-C31F-4C09-835E-E00BB5E8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8FB-DC5A-4B25-9882-CF83D1AA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F506-A5C1-47E0-B13C-20BCA6C1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AEC-537D-4ABF-9656-D107A1FD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EF6-D1E8-4616-BDDA-29D2D439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2EA9-9BF1-4676-AE57-1341A5E3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7C8-FCF5-4A6E-B989-8887223D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C2A-FD33-49CE-9F01-42C568E9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8E8-B78F-4DE9-A59D-0AF23537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B1DF-4465-4FB2-A2F6-77E27E1F043A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124080"/>
            <a:ext cx="76964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e7a8d"/>
                </a:solidFill>
                <a:latin typeface="Palatino"/>
              </a:rPr>
              <a:t>Part 3</a:t>
            </a:r>
            <a:endParaRPr b="0" lang="en-US" sz="6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581280"/>
            <a:ext cx="6858000" cy="2210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Managing the 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 Audi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8640" y="1447920"/>
            <a:ext cx="56930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cus of channel manager’s approach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1440" y="2666880"/>
            <a:ext cx="696852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ther data on how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ive the manufacturer’s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gram and its component par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cate the strengths and weaknes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relationship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arn what is expected of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make the channel relationship viabl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optima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 Audi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2860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7520" y="1397160"/>
            <a:ext cx="7511040" cy="5205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W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hat makes marketing channel audits most effectiv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2514600"/>
            <a:ext cx="3353040" cy="3751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 shoul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dentify and def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detail the issu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evant to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-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lesal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/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-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ationship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4267080"/>
            <a:ext cx="2871720" cy="19227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sues chosen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audit should be cross-referenced to any relevant variabl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62920" y="2514600"/>
            <a:ext cx="2238120" cy="22885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 mu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 conduc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iodically s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 to captu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end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tter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0825800">
            <a:off x="3809880" y="2514600"/>
            <a:ext cx="1905120" cy="144792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or Advisory Council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5520" y="1244520"/>
            <a:ext cx="245268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W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ho is involved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81400" y="1905120"/>
            <a:ext cx="67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p management representatives from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and from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8680" y="3200400"/>
            <a:ext cx="3246840" cy="520560"/>
          </a:xfrm>
          <a:prstGeom prst="rect">
            <a:avLst/>
          </a:prstGeom>
          <a:gradFill rotWithShape="0">
            <a:gsLst>
              <a:gs pos="0">
                <a:srgbClr val="fef1d8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W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hat are the benefit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78000" y="3962520"/>
            <a:ext cx="72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s recognition for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s a vehicle for identifying and discus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utual needs and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ults in an overall improvement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mun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98108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96252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upporting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1447920"/>
            <a:ext cx="2057400" cy="155700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3 Typ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33840" y="3809880"/>
            <a:ext cx="29120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Partnership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c alli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40160" y="5334120"/>
            <a:ext cx="250668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gramm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2120" y="2666880"/>
            <a:ext cx="22503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Coopera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8200" y="15228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operative Arrange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7280" y="2590920"/>
            <a:ext cx="69944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cuses on channel member needs &amp;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36680" y="3657600"/>
            <a:ext cx="37911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mple &amp; straightforwar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05800" y="5029200"/>
            <a:ext cx="58683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veys a clear sense of mutual benef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8380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operative Arrange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1143000"/>
            <a:ext cx="7315200" cy="825480"/>
          </a:xfrm>
          <a:prstGeom prst="rect">
            <a:avLst/>
          </a:prstGeom>
          <a:gradFill rotWithShape="0">
            <a:gsLst>
              <a:gs pos="0">
                <a:srgbClr val="fef2db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 types of cooperative 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d by Manufacturers to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77240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ve advertising allow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ments for interior display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tests for buyers, salespeople, et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llowances for warehousing func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ments for window display sp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tail men who check inven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monstra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upon-handling allow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ree goo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artnerships &amp; Strategic Allia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80640" y="1752480"/>
            <a:ext cx="6939720" cy="192276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cus on a continuing and mutu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pportive relationship between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and its channel members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 effort to provide a more highly motiv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am, network, or alliance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124080" y="4038480"/>
            <a:ext cx="257652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artnerships &amp; Strategic Allia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9907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080" y="1295280"/>
            <a:ext cx="2736360" cy="459720"/>
          </a:xfrm>
          <a:prstGeom prst="rect">
            <a:avLst/>
          </a:prstGeom>
          <a:gradFill rotWithShape="0">
            <a:gsLst>
              <a:gs pos="0">
                <a:srgbClr val="fef4e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Three basic ph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6000" y="2209680"/>
            <a:ext cx="78739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make explicit statemen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licies in areas such as product availability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chnical support, pricing, et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7920" y="4038480"/>
            <a:ext cx="803376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assess all existing distribu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 to their capabilities for fulfilling their ro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6680" y="5486400"/>
            <a:ext cx="70830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Manufacturer should continually appraise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ppropriateness of the policies guiding h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her relationship with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Programm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188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9880" y="1676520"/>
            <a:ext cx="7345080" cy="11912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comprehensive set of policies for the 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a product through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5361600">
            <a:off x="3488040" y="3064680"/>
            <a:ext cx="976320" cy="942840"/>
          </a:xfrm>
          <a:custGeom>
            <a:avLst/>
            <a:gdLst>
              <a:gd name="textAreaLeft" fmla="*/ 0 w 976320"/>
              <a:gd name="textAreaRight" fmla="*/ 976680 w 97632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55600" y="4343400"/>
            <a:ext cx="6005520" cy="155700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veloped as a joint effort between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and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incorporate the needs of bo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Programm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1295280"/>
            <a:ext cx="8077320" cy="5275440"/>
          </a:xfrm>
          <a:prstGeom prst="rect">
            <a:avLst/>
          </a:prstGeom>
          <a:gradFill rotWithShape="0">
            <a:gsLst>
              <a:gs pos="0">
                <a:srgbClr val="fef2db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	</a:t>
            </a: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	</a:t>
            </a: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	</a:t>
            </a: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S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teps for developing a program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develops analysis of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bjectives &amp; the kinds of levels of support need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rom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certains channel members’ needs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blem are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mulate specific channel policies that off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ice concessions to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nancial ad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ome kind of protection for channel members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86200">
            <a:off x="1066320" y="1523520"/>
            <a:ext cx="852480" cy="7336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9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Motivating the Channel Member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2979720" cy="2955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lationship Differe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746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5760" y="1442880"/>
            <a:ext cx="7573680" cy="155700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ve Arrange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termittent interactions between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&amp;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55760" y="3429000"/>
            <a:ext cx="735588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nerships &amp; Strategic Alli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ontinuing &amp; mutually supportive relation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0680" y="4952880"/>
            <a:ext cx="6096960" cy="155700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Programm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eals with virtually all aspects of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hannel relation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2057400"/>
            <a:ext cx="380880" cy="53352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5562720"/>
            <a:ext cx="380880" cy="53316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4038480"/>
            <a:ext cx="380880" cy="53352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3276720"/>
            <a:ext cx="7543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4800600"/>
            <a:ext cx="76960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4582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Selective Use of Powe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21560" y="2362320"/>
            <a:ext cx="6264360" cy="2288520"/>
          </a:xfrm>
          <a:prstGeom prst="rect">
            <a:avLst/>
          </a:prstGeom>
          <a:solidFill>
            <a:srgbClr val="6e7a8d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channel manag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ust exercise effective leadership on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tinuing basis to attain a well-motiv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eam of member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4582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imited Contro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11760" y="3276720"/>
            <a:ext cx="3849120" cy="1191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d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terorganizational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03040" y="1143000"/>
            <a:ext cx="709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osely arranged firms = few advantages fro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entral dire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0120" y="236232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ward &amp; penalty system not precis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66400" y="4724280"/>
            <a:ext cx="47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verall planning uncoordin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3760" y="5562720"/>
            <a:ext cx="65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ffused perspective necessary to maximiz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tal system eff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353" name=""/>
          <p:cNvCxnSpPr>
            <a:stCxn id="348" idx="3"/>
          </p:cNvCxnSpPr>
          <p:nvPr/>
        </p:nvCxnSpPr>
        <p:spPr>
          <a:xfrm flipV="1">
            <a:off x="5938920" y="2037960"/>
            <a:ext cx="457920" cy="1837440"/>
          </a:xfrm>
          <a:prstGeom prst="bentConnector2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48" idx="0"/>
            <a:endCxn id="350" idx="1"/>
          </p:cNvCxnSpPr>
          <p:nvPr/>
        </p:nvCxnSpPr>
        <p:spPr>
          <a:xfrm flipV="1" rot="16200000">
            <a:off x="1831320" y="1071000"/>
            <a:ext cx="678600" cy="3732840"/>
          </a:xfrm>
          <a:prstGeom prst="bentConnector4">
            <a:avLst>
              <a:gd name="adj1" fmla="val 32537"/>
              <a:gd name="adj2" fmla="val 106124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48" idx="1"/>
            <a:endCxn id="352" idx="1"/>
          </p:cNvCxnSpPr>
          <p:nvPr/>
        </p:nvCxnSpPr>
        <p:spPr>
          <a:xfrm flipV="1" rot="10800000">
            <a:off x="532800" y="3874680"/>
            <a:ext cx="1600920" cy="2115360"/>
          </a:xfrm>
          <a:prstGeom prst="bentConnector3">
            <a:avLst>
              <a:gd name="adj1" fmla="val 114282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48" idx="2"/>
            <a:endCxn id="351" idx="1"/>
          </p:cNvCxnSpPr>
          <p:nvPr/>
        </p:nvCxnSpPr>
        <p:spPr>
          <a:xfrm rot="5400000">
            <a:off x="3717360" y="4641480"/>
            <a:ext cx="487800" cy="151560"/>
          </a:xfrm>
          <a:prstGeom prst="bentConnector4">
            <a:avLst>
              <a:gd name="adj1" fmla="val 25701"/>
              <a:gd name="adj2" fmla="val 251428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Management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452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962520"/>
            <a:ext cx="8305920" cy="228852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administration of existing channels to secure the cooperation of channel members in achieving the firm’s 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44560" y="3429000"/>
            <a:ext cx="352296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hannel </a:t>
            </a: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M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17575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5820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4080" y="1676520"/>
            <a:ext cx="389016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M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otivation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M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otivation Manage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75680" y="3657600"/>
            <a:ext cx="5894280" cy="19227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actions taken by the manufacturers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foster channel member cooperation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mplementing the manufacturer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289548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9600" y="304920"/>
            <a:ext cx="0" cy="2209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74680" y="30636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anagement versus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Desig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4876920"/>
            <a:ext cx="2438280" cy="1191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tting up”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355000">
            <a:off x="1584000" y="3291840"/>
            <a:ext cx="1220760" cy="88452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520"/>
              <a:gd name="textAreaBottom" fmla="*/ 884880 h 8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2880" y="2209680"/>
            <a:ext cx="243792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70120" y="2209680"/>
            <a:ext cx="336276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355000">
            <a:off x="5241600" y="3291840"/>
            <a:ext cx="1220760" cy="88452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520"/>
              <a:gd name="textAreaBottom" fmla="*/ 884880 h 8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4876920"/>
            <a:ext cx="2438280" cy="1191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unning”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otivating Channel Member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39621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Basic Framewor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nd out the needs and problems of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fer support to the channel members that is consistent with their needs and problem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 leadership through the effective use of powe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2732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ember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eeds &amp; Problem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3352680"/>
            <a:ext cx="7315200" cy="2895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arch studie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arch studies by outside par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 channel audi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or advisory counci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15160" y="1905120"/>
            <a:ext cx="55544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pproaches for learning about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needs &amp; problem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0666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search Studies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2240" y="1752480"/>
            <a:ext cx="69350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ss than 1 percent of manufacturers’ resea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dgets is spent on channel member research!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429000"/>
            <a:ext cx="72388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-initiated research can be use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cause certain types of needs or problems may not be at all obviou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188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search Studies by Outside Part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13480" y="1295280"/>
            <a:ext cx="6273720" cy="119124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Why use outside parties to conduct research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4191120"/>
            <a:ext cx="373356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0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y provide a high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surance of objectivit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4114800"/>
            <a:ext cx="3780000" cy="2288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7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y provide a lev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expertise that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may no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ses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355000">
            <a:off x="5698800" y="2834640"/>
            <a:ext cx="1220760" cy="88452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520"/>
              <a:gd name="textAreaBottom" fmla="*/ 884880 h 8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355000">
            <a:off x="1736640" y="2759040"/>
            <a:ext cx="1220760" cy="8841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2T21:34:52Z</dcterms:modified>
  <cp:revision>318</cp:revision>
  <dc:subject/>
  <dc:title>Part 1</dc:title>
</cp:coreProperties>
</file>