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41D-9887-41BF-AA47-26B2E0A2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15B-A5A3-4D04-A0FA-8A35F5B9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AB1-5D54-4695-A9D4-934EECDA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99A-AA1F-46F1-8902-E0D69CC2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064-EA18-4B53-BA81-7A734896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690-4976-4E22-87C4-038B5832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2F5-F051-4B0E-8633-50448807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53D-F1FA-4ADA-9A05-83EE032F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2A2-53A8-435C-81B5-73292479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5A2-A967-4B1C-AB96-09903645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625-1F41-4014-AC1E-CD6B320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A44-4445-4132-BDFF-7EA364A2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AC3C-18CB-461E-9EC2-3657DAAE5A69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3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Manag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ud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8640" y="1447920"/>
            <a:ext cx="5693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 of channel manager’s approach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1440" y="2666880"/>
            <a:ext cx="696852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ther data on how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ive the manufacturer’s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and its component par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e the strengths and weak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relationship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arn what is expected of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make the channel relationship viab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optim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ud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7520" y="1397160"/>
            <a:ext cx="7511040" cy="5205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at makes marketing channel audits most effectiv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514600"/>
            <a:ext cx="3353040" cy="3751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shou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dentify and def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detail the issu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evant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/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4267080"/>
            <a:ext cx="2871720" cy="1922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sues chosen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audit should be cross-referenced to any relevant variabl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2920" y="2514600"/>
            <a:ext cx="2238120" cy="22885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m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onduc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iodically s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 to cap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end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25800">
            <a:off x="3809880" y="251460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or Advisory Counci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5520" y="1244520"/>
            <a:ext cx="245268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o is involved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81400" y="1905120"/>
            <a:ext cx="67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 management representatives from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from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8680" y="3200400"/>
            <a:ext cx="3246840" cy="52056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at are the benefi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78000" y="3962520"/>
            <a:ext cx="72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recognition for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a vehicle for identifying and discu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tual needs and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ults in an overall improvement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9810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9625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uppor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1447920"/>
            <a:ext cx="205740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3 Typ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3840" y="3809880"/>
            <a:ext cx="2912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Partnership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alli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5334120"/>
            <a:ext cx="25066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2120" y="2666880"/>
            <a:ext cx="22503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Coopera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7280" y="2590920"/>
            <a:ext cx="69944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es on channel member needs &amp;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36680" y="3657600"/>
            <a:ext cx="37911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mple &amp; straightforw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05800" y="5029200"/>
            <a:ext cx="58683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veys a clear sense of mutual benef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838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143000"/>
            <a:ext cx="7315200" cy="82548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 types of cooperative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d by Manufacturers to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for interior displ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for buyers, salespeople, et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owances for warehousing fun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for window display sp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tail men who check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monstra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upon-handling allow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ee go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rtnerships &amp; Strategic Alli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80640" y="1752480"/>
            <a:ext cx="6939720" cy="192276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 on a continuing and mutu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ive relationship betwee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its channel member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 effort to provide a more highly motiv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am, network, or alli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257652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rtnerships &amp; Strategic Alli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080" y="1295280"/>
            <a:ext cx="2736360" cy="45972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Three basic p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6000" y="2209680"/>
            <a:ext cx="78739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make explicit statemen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licies in areas such as product availability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cal support, pricing, et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920" y="4038480"/>
            <a:ext cx="803376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assess all existing distribu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 to their capabilities for fulfilling their ro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6680" y="5486400"/>
            <a:ext cx="7083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Manufacturer should continually apprais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ppropriateness of the policies guiding h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her relationship with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Programm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188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9880" y="1676520"/>
            <a:ext cx="73450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comprehensive set of policies for the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 product throug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361600">
            <a:off x="3488040" y="3064680"/>
            <a:ext cx="976320" cy="942840"/>
          </a:xfrm>
          <a:custGeom>
            <a:avLst/>
            <a:gdLst>
              <a:gd name="textAreaLeft" fmla="*/ 0 w 976320"/>
              <a:gd name="textAreaRight" fmla="*/ 976680 w 9763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55600" y="4343400"/>
            <a:ext cx="6005520" cy="15570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ed as a joint effort betwee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incorporate the needs of bo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Programm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1295280"/>
            <a:ext cx="8077320" cy="527544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S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teps for developing a program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develops analysis of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bjectives &amp; the kinds of levels of support need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certains channel members’ need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blem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mulate specific channel policies that off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e concessions to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 ad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me kind of protection for channel members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86200">
            <a:off x="1066320" y="152352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9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otivating the Channel Memb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2979720" cy="2955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lationship Differe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746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5760" y="1442880"/>
            <a:ext cx="7573680" cy="15570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rrang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mittent interactions between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&amp;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55760" y="3429000"/>
            <a:ext cx="73558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nerships &amp; Strategic Alli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ntinuing &amp; mutually supportive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0680" y="4952880"/>
            <a:ext cx="6096960" cy="15570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Program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als with virtually all aspects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nnel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205740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562720"/>
            <a:ext cx="380880" cy="53316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03848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276720"/>
            <a:ext cx="7543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4800600"/>
            <a:ext cx="76960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582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Selective Use of Powe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21560" y="2362320"/>
            <a:ext cx="6264360" cy="2288520"/>
          </a:xfrm>
          <a:prstGeom prst="rect">
            <a:avLst/>
          </a:prstGeom>
          <a:solidFill>
            <a:srgbClr val="6e7a8d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ust exercise effective leadership on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tinuing basis to attain a well-motiv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am of member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4582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imited Contro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11760" y="3276720"/>
            <a:ext cx="384912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d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organizationa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03040" y="1143000"/>
            <a:ext cx="70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osely arranged firms = few advantag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entral dire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0120" y="23623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ward &amp; penalty system not preci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66400" y="472428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verall planning uncoordin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3760" y="5562720"/>
            <a:ext cx="65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used perspective necessary to maximiz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system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48" idx="3"/>
          </p:cNvCxnSpPr>
          <p:nvPr/>
        </p:nvCxnSpPr>
        <p:spPr>
          <a:xfrm flipV="1">
            <a:off x="5938920" y="2037960"/>
            <a:ext cx="457920" cy="183744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48" idx="0"/>
            <a:endCxn id="350" idx="1"/>
          </p:cNvCxnSpPr>
          <p:nvPr/>
        </p:nvCxnSpPr>
        <p:spPr>
          <a:xfrm flipV="1" rot="16200000">
            <a:off x="1831320" y="1071000"/>
            <a:ext cx="678600" cy="3732840"/>
          </a:xfrm>
          <a:prstGeom prst="bentConnector4">
            <a:avLst>
              <a:gd name="adj1" fmla="val 32537"/>
              <a:gd name="adj2" fmla="val 106124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48" idx="1"/>
            <a:endCxn id="352" idx="1"/>
          </p:cNvCxnSpPr>
          <p:nvPr/>
        </p:nvCxnSpPr>
        <p:spPr>
          <a:xfrm flipV="1" rot="10800000">
            <a:off x="532800" y="3874680"/>
            <a:ext cx="1600920" cy="2115360"/>
          </a:xfrm>
          <a:prstGeom prst="bentConnector3">
            <a:avLst>
              <a:gd name="adj1" fmla="val 114282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8" idx="2"/>
            <a:endCxn id="351" idx="1"/>
          </p:cNvCxnSpPr>
          <p:nvPr/>
        </p:nvCxnSpPr>
        <p:spPr>
          <a:xfrm rot="5400000">
            <a:off x="3717360" y="4641480"/>
            <a:ext cx="487800" cy="151560"/>
          </a:xfrm>
          <a:prstGeom prst="bentConnector4">
            <a:avLst>
              <a:gd name="adj1" fmla="val 25701"/>
              <a:gd name="adj2" fmla="val 251428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962520"/>
            <a:ext cx="8305920" cy="228852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administration of existing channels to secure the cooperation of channel members in achieving the firm’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44560" y="3429000"/>
            <a:ext cx="35229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17575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4080" y="1676520"/>
            <a:ext cx="38901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otivation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otivation Manage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75680" y="3657600"/>
            <a:ext cx="5894280" cy="1922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actions taken by the manufacturers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oster channel member cooperation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ementing the manufactur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28954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304920"/>
            <a:ext cx="0" cy="2209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 versu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4876920"/>
            <a:ext cx="243828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tting up”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55000">
            <a:off x="1584000" y="32918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2880" y="2209680"/>
            <a:ext cx="243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70120" y="2209680"/>
            <a:ext cx="336276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355000">
            <a:off x="5241600" y="32918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4876920"/>
            <a:ext cx="243828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unning”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otivating Channel Member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3962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Basic Framewor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d out the needs and problems of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fer support to the channel members that is consistent with their needs and problem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 leadership through the effective use of pow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eds &amp; Proble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3352680"/>
            <a:ext cx="731520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stud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studies by outside par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channel aud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or advisory counc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5160" y="1905120"/>
            <a:ext cx="55544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pproaches for learning about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eds &amp; problem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arch Studies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2240" y="1752480"/>
            <a:ext cx="6935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ss than 1 percent of manufacturers’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dgets is spent on channel member research!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29000"/>
            <a:ext cx="72388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initiated research can be use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certain types of needs or problems may not be at all obviou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188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arch Studies by Outside Part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3480" y="1295280"/>
            <a:ext cx="6273720" cy="119124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Why use outside parties to conduct research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191120"/>
            <a:ext cx="37335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0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provide a high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surance of objectivit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4114800"/>
            <a:ext cx="378000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7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provide a lev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expertise that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may no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ses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355000">
            <a:off x="5698800" y="28346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355000">
            <a:off x="1736640" y="2759040"/>
            <a:ext cx="1220760" cy="8841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34:52Z</dcterms:modified>
  <cp:revision>318</cp:revision>
  <dc:subject/>
  <dc:title>Part 1</dc:title>
</cp:coreProperties>
</file>