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223-A559-4546-BF97-B1D7F44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F8-9406-420F-B229-4C43AF0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00D-B400-4F80-88FA-D1279FC4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ADD-4565-47F4-8038-3C48535C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6DB-AE11-4CAD-82FB-4FDFC8A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87A-F780-4B9E-B69A-DFF845C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4CE-F287-4994-9702-5CAE35EF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568-B9DA-4D59-9F89-4B43120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EAE-CE2C-471F-9344-C3A4510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6C8-BA04-4A94-9FDD-7B29A2F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A1E-3ABE-4E03-9460-DCFF451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8CA-D68B-47F8-92B1-3740E1A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D7D6-9207-417A-BC5C-3ADEA9E5B9E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0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duct Issues i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Channel Manage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4038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fe Cycl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1828800"/>
            <a:ext cx="0" cy="4191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019920"/>
            <a:ext cx="6934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876920"/>
            <a:ext cx="4876560" cy="1168200"/>
          </a:xfrm>
          <a:custGeom>
            <a:avLst/>
            <a:gdLst/>
            <a:ahLst/>
            <a:rect l="l" t="t" r="r" b="b"/>
            <a:pathLst>
              <a:path w="3072" h="736">
                <a:moveTo>
                  <a:pt x="0" y="720"/>
                </a:moveTo>
                <a:cubicBezTo>
                  <a:pt x="56" y="728"/>
                  <a:pt x="112" y="736"/>
                  <a:pt x="192" y="720"/>
                </a:cubicBezTo>
                <a:cubicBezTo>
                  <a:pt x="272" y="704"/>
                  <a:pt x="336" y="696"/>
                  <a:pt x="480" y="624"/>
                </a:cubicBezTo>
                <a:cubicBezTo>
                  <a:pt x="624" y="552"/>
                  <a:pt x="824" y="384"/>
                  <a:pt x="1056" y="288"/>
                </a:cubicBezTo>
                <a:cubicBezTo>
                  <a:pt x="1288" y="192"/>
                  <a:pt x="1608" y="0"/>
                  <a:pt x="1872" y="48"/>
                </a:cubicBezTo>
                <a:cubicBezTo>
                  <a:pt x="2136" y="96"/>
                  <a:pt x="2440" y="464"/>
                  <a:pt x="2640" y="576"/>
                </a:cubicBezTo>
                <a:cubicBezTo>
                  <a:pt x="2840" y="688"/>
                  <a:pt x="3000" y="696"/>
                  <a:pt x="3072" y="72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645000"/>
            <a:ext cx="6172200" cy="2374920"/>
          </a:xfrm>
          <a:custGeom>
            <a:avLst/>
            <a:gdLst/>
            <a:ahLst/>
            <a:rect l="l" t="t" r="r" b="b"/>
            <a:pathLst>
              <a:path w="3888" h="1496">
                <a:moveTo>
                  <a:pt x="0" y="1496"/>
                </a:moveTo>
                <a:cubicBezTo>
                  <a:pt x="128" y="1464"/>
                  <a:pt x="256" y="1432"/>
                  <a:pt x="384" y="1352"/>
                </a:cubicBezTo>
                <a:cubicBezTo>
                  <a:pt x="512" y="1272"/>
                  <a:pt x="608" y="1160"/>
                  <a:pt x="768" y="1016"/>
                </a:cubicBezTo>
                <a:cubicBezTo>
                  <a:pt x="928" y="872"/>
                  <a:pt x="1168" y="632"/>
                  <a:pt x="1344" y="488"/>
                </a:cubicBezTo>
                <a:cubicBezTo>
                  <a:pt x="1520" y="344"/>
                  <a:pt x="1624" y="232"/>
                  <a:pt x="1824" y="152"/>
                </a:cubicBezTo>
                <a:cubicBezTo>
                  <a:pt x="2024" y="72"/>
                  <a:pt x="2312" y="16"/>
                  <a:pt x="2544" y="8"/>
                </a:cubicBezTo>
                <a:cubicBezTo>
                  <a:pt x="2776" y="0"/>
                  <a:pt x="3024" y="24"/>
                  <a:pt x="3216" y="104"/>
                </a:cubicBezTo>
                <a:cubicBezTo>
                  <a:pt x="3408" y="184"/>
                  <a:pt x="3584" y="384"/>
                  <a:pt x="3696" y="488"/>
                </a:cubicBezTo>
                <a:cubicBezTo>
                  <a:pt x="3808" y="592"/>
                  <a:pt x="3848" y="660"/>
                  <a:pt x="3888" y="72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05120" y="571464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24080" y="44956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72200" y="3733920"/>
            <a:ext cx="0" cy="22860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3640" y="43434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ntrodu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6240" y="62485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Growt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5880" y="1523880"/>
            <a:ext cx="8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($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29718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Sales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9240" y="6248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turit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76000" y="43210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 Narrow"/>
              </a:rPr>
              <a:t>Profit cur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2428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3160" y="609588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Tim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7760" y="6248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ec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57150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3732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0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16002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19200" y="14889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43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19320" y="1447920"/>
            <a:ext cx="0" cy="1218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666880"/>
            <a:ext cx="52578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828800"/>
            <a:ext cx="4114800" cy="851040"/>
          </a:xfrm>
          <a:custGeom>
            <a:avLst/>
            <a:gdLst/>
            <a:ahLst/>
            <a:rect l="l" t="t" r="r" b="b"/>
            <a:pathLst>
              <a:path w="2592" h="536">
                <a:moveTo>
                  <a:pt x="0" y="528"/>
                </a:moveTo>
                <a:cubicBezTo>
                  <a:pt x="68" y="532"/>
                  <a:pt x="136" y="536"/>
                  <a:pt x="240" y="528"/>
                </a:cubicBezTo>
                <a:cubicBezTo>
                  <a:pt x="344" y="520"/>
                  <a:pt x="472" y="504"/>
                  <a:pt x="624" y="480"/>
                </a:cubicBezTo>
                <a:cubicBezTo>
                  <a:pt x="776" y="456"/>
                  <a:pt x="928" y="424"/>
                  <a:pt x="1152" y="384"/>
                </a:cubicBezTo>
                <a:cubicBezTo>
                  <a:pt x="1376" y="344"/>
                  <a:pt x="1792" y="272"/>
                  <a:pt x="1968" y="240"/>
                </a:cubicBezTo>
                <a:cubicBezTo>
                  <a:pt x="2144" y="208"/>
                  <a:pt x="2144" y="208"/>
                  <a:pt x="2208" y="192"/>
                </a:cubicBezTo>
                <a:cubicBezTo>
                  <a:pt x="2272" y="176"/>
                  <a:pt x="2288" y="176"/>
                  <a:pt x="2352" y="144"/>
                </a:cubicBezTo>
                <a:cubicBezTo>
                  <a:pt x="2416" y="112"/>
                  <a:pt x="2504" y="56"/>
                  <a:pt x="259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280" y="3276720"/>
            <a:ext cx="73616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adequate supply on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embers’ shel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Growth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1880" y="30492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1371600"/>
            <a:ext cx="2590560" cy="1523880"/>
          </a:xfrm>
          <a:custGeom>
            <a:avLst/>
            <a:gdLst/>
            <a:ahLst/>
            <a:rect l="l" t="t" r="r" b="b"/>
            <a:pathLst>
              <a:path w="1632" h="960">
                <a:moveTo>
                  <a:pt x="0" y="960"/>
                </a:moveTo>
                <a:cubicBezTo>
                  <a:pt x="32" y="960"/>
                  <a:pt x="64" y="960"/>
                  <a:pt x="144" y="912"/>
                </a:cubicBezTo>
                <a:cubicBezTo>
                  <a:pt x="224" y="864"/>
                  <a:pt x="376" y="752"/>
                  <a:pt x="480" y="672"/>
                </a:cubicBezTo>
                <a:cubicBezTo>
                  <a:pt x="584" y="592"/>
                  <a:pt x="688" y="496"/>
                  <a:pt x="768" y="432"/>
                </a:cubicBezTo>
                <a:cubicBezTo>
                  <a:pt x="848" y="368"/>
                  <a:pt x="888" y="336"/>
                  <a:pt x="960" y="288"/>
                </a:cubicBezTo>
                <a:cubicBezTo>
                  <a:pt x="1032" y="240"/>
                  <a:pt x="1120" y="184"/>
                  <a:pt x="1200" y="144"/>
                </a:cubicBezTo>
                <a:cubicBezTo>
                  <a:pt x="1280" y="104"/>
                  <a:pt x="1368" y="72"/>
                  <a:pt x="1440" y="48"/>
                </a:cubicBezTo>
                <a:cubicBezTo>
                  <a:pt x="1512" y="24"/>
                  <a:pt x="1572" y="12"/>
                  <a:pt x="1632" y="0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3276720"/>
            <a:ext cx="4952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080" y="3733920"/>
            <a:ext cx="7590240" cy="19227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Assure sufficient number of channel memb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ntories for adequate market cover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Monitor the effects of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441640" y="230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turit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117440"/>
            <a:ext cx="5410440" cy="1016280"/>
          </a:xfrm>
          <a:custGeom>
            <a:avLst/>
            <a:gdLst/>
            <a:ahLst/>
            <a:rect l="l" t="t" r="r" b="b"/>
            <a:pathLst>
              <a:path w="3408" h="640">
                <a:moveTo>
                  <a:pt x="0" y="640"/>
                </a:moveTo>
                <a:cubicBezTo>
                  <a:pt x="40" y="612"/>
                  <a:pt x="80" y="584"/>
                  <a:pt x="144" y="544"/>
                </a:cubicBezTo>
                <a:cubicBezTo>
                  <a:pt x="208" y="504"/>
                  <a:pt x="312" y="440"/>
                  <a:pt x="384" y="400"/>
                </a:cubicBezTo>
                <a:cubicBezTo>
                  <a:pt x="456" y="360"/>
                  <a:pt x="512" y="336"/>
                  <a:pt x="576" y="304"/>
                </a:cubicBezTo>
                <a:cubicBezTo>
                  <a:pt x="640" y="272"/>
                  <a:pt x="672" y="240"/>
                  <a:pt x="768" y="208"/>
                </a:cubicBezTo>
                <a:cubicBezTo>
                  <a:pt x="864" y="176"/>
                  <a:pt x="1032" y="136"/>
                  <a:pt x="1152" y="112"/>
                </a:cubicBezTo>
                <a:cubicBezTo>
                  <a:pt x="1272" y="88"/>
                  <a:pt x="1360" y="80"/>
                  <a:pt x="1488" y="64"/>
                </a:cubicBezTo>
                <a:cubicBezTo>
                  <a:pt x="1616" y="48"/>
                  <a:pt x="1792" y="24"/>
                  <a:pt x="1920" y="16"/>
                </a:cubicBezTo>
                <a:cubicBezTo>
                  <a:pt x="2048" y="8"/>
                  <a:pt x="2152" y="16"/>
                  <a:pt x="2256" y="16"/>
                </a:cubicBezTo>
                <a:cubicBezTo>
                  <a:pt x="2360" y="16"/>
                  <a:pt x="2408" y="0"/>
                  <a:pt x="2544" y="16"/>
                </a:cubicBezTo>
                <a:cubicBezTo>
                  <a:pt x="2680" y="32"/>
                  <a:pt x="2928" y="80"/>
                  <a:pt x="3072" y="112"/>
                </a:cubicBezTo>
                <a:cubicBezTo>
                  <a:pt x="3216" y="144"/>
                  <a:pt x="3352" y="192"/>
                  <a:pt x="3408" y="208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124080"/>
            <a:ext cx="67053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2680" y="3624120"/>
            <a:ext cx="8029440" cy="22885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Extra emphasis on motivating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to mitigate competitive impa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possibility for changes in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structure to extend maturity stage &amp; possib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foster new growth st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99072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1796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ecline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282680"/>
            <a:ext cx="2743200" cy="1689120"/>
          </a:xfrm>
          <a:custGeom>
            <a:avLst/>
            <a:gdLst/>
            <a:ahLst/>
            <a:rect l="l" t="t" r="r" b="b"/>
            <a:pathLst>
              <a:path w="1728" h="1064">
                <a:moveTo>
                  <a:pt x="0" y="8"/>
                </a:moveTo>
                <a:cubicBezTo>
                  <a:pt x="56" y="4"/>
                  <a:pt x="112" y="0"/>
                  <a:pt x="192" y="8"/>
                </a:cubicBezTo>
                <a:cubicBezTo>
                  <a:pt x="272" y="16"/>
                  <a:pt x="376" y="16"/>
                  <a:pt x="480" y="56"/>
                </a:cubicBezTo>
                <a:cubicBezTo>
                  <a:pt x="584" y="96"/>
                  <a:pt x="736" y="200"/>
                  <a:pt x="816" y="248"/>
                </a:cubicBezTo>
                <a:cubicBezTo>
                  <a:pt x="896" y="296"/>
                  <a:pt x="888" y="288"/>
                  <a:pt x="960" y="344"/>
                </a:cubicBezTo>
                <a:cubicBezTo>
                  <a:pt x="1032" y="400"/>
                  <a:pt x="1168" y="512"/>
                  <a:pt x="1248" y="584"/>
                </a:cubicBezTo>
                <a:cubicBezTo>
                  <a:pt x="1328" y="656"/>
                  <a:pt x="1360" y="696"/>
                  <a:pt x="1440" y="776"/>
                </a:cubicBezTo>
                <a:cubicBezTo>
                  <a:pt x="1520" y="856"/>
                  <a:pt x="1680" y="1016"/>
                  <a:pt x="1728" y="1064"/>
                </a:cubicBez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3429000"/>
            <a:ext cx="56386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8480" y="4114800"/>
            <a:ext cx="6202080" cy="1607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Phase out marginal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Investigate impact of product deleti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neva"/>
              </a:rPr>
              <a:t>on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c Product Manage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7772400" cy="4114800"/>
          </a:xfrm>
          <a:prstGeom prst="rect">
            <a:avLst/>
          </a:prstGeom>
          <a:solidFill>
            <a:srgbClr val="e6e6e6"/>
          </a:soli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 quality, innovativeness, or technological sophist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pabilities of managers overseeing product lin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irm’s financial capacity &amp; willingness to provide promotional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’ role in implementing product strateg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2000" y="1397160"/>
            <a:ext cx="5722200" cy="52056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S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uccessful product strategies depend 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41640" y="15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828800"/>
            <a:ext cx="54115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positio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line expansion &amp; contra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ing up &amp; trading dow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 brand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Differenti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9907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1880" y="20304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41640" y="20304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362320"/>
            <a:ext cx="830592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try to select &amp; help develop members wh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f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mage when product differentiation strategy is affect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who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will be selling the produc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anagers should provide retailers with the kind of support needed to properly present the product when this strategy is influenced by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product is sold at retail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94840" y="1228680"/>
            <a:ext cx="636192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reating a differential product involves get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nsumers to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erceiv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a differenc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Positio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6568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143000"/>
            <a:ext cx="7467480" cy="119124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ttempt to have consumers perceive the product in a particular way relative to competitiv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2590920"/>
            <a:ext cx="8229600" cy="4117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ossible interfaces between the product positioning strategy and where the product will be displayed and sold to consumers should be considered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the strategy is implement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licit retailer support before attempting to implement strateg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intain backup supply of retailer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05920" y="228600"/>
            <a:ext cx="0" cy="12193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Line Expansion &amp; Contrac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1523880"/>
            <a:ext cx="6095880" cy="82548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often engage in both expansion and contraction simultaneously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2640" y="2895480"/>
            <a:ext cx="7773120" cy="3020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fficult to balance channel member satisfaction 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upport for reshaped product lin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 are making increasing demand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to have the right mix of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Marketing Mix Resources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057400"/>
            <a:ext cx="7162560" cy="33858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understanding how the other 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x variables interface with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variable, and the implications of such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channel manager could coordinate 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components to create th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ynergy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eded to meet customers’ need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188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ing Down, Trading Up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9960" y="1219320"/>
            <a:ext cx="63788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ing low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r higher-priced products or product lin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a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0280" y="2819520"/>
            <a:ext cx="758736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existing channel members provide adequ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overage of high-end or low-end market segment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ich trade-up or trade-down product is aim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ther the channel members have confidence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manufacturer’s ability to successfully market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rade-up or trade-down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143000"/>
            <a:ext cx="7925040" cy="1191240"/>
          </a:xfrm>
          <a:prstGeom prst="rect">
            <a:avLst/>
          </a:prstGeom>
          <a:gradFill rotWithShape="0">
            <a:gsLst>
              <a:gs pos="0">
                <a:srgbClr val="feeac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When manufacturers sell under both national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ivate brands, direct competition wit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y resul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800" y="2743200"/>
            <a:ext cx="7436520" cy="375156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mplications for channel management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o not sell both national &amp; private brand versions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roducts to the same channel memb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ll national and private brand versions in differ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eographical territorie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hysically vary products enough to minim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rect competition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Brand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1680" y="9144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79000" y="152280"/>
            <a:ext cx="0" cy="1676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496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 Service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8840" y="1219320"/>
            <a:ext cx="713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t is the role of the marketing channel to provi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cessary service along with the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the final us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2209680"/>
            <a:ext cx="1295640" cy="144792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5400" y="3886200"/>
            <a:ext cx="7313040" cy="2654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9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should provide after-sale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offering it directly at the factor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ir own network of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authorized independent service cent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y some combination of the abo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7400" y="201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duct-Channel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anagement Interfa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81080"/>
            <a:ext cx="403884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lann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 develop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8120" y="3429000"/>
            <a:ext cx="321516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roduct life cyc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4343400"/>
            <a:ext cx="358128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c produc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33920"/>
            <a:ext cx="4495680" cy="2819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3 Maj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reas of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agem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30492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 Plann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input, if any, can channel members provide into new product planning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hat has been done to assure that new products will be acceptable to the channel member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Do the new products fit into the present channel members’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any special education or training be necessary to prepare the channel members to sell the new products effectively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Will the product cause the channel members any special problem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ncouraging Member Inpu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523880"/>
            <a:ext cx="3048120" cy="1600200"/>
          </a:xfrm>
          <a:prstGeom prst="wedgeEllipseCallout">
            <a:avLst>
              <a:gd name="adj1" fmla="val -38226"/>
              <a:gd name="adj2" fmla="val 89185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6240" y="19051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licit ideas f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w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886200"/>
            <a:ext cx="5486400" cy="2133720"/>
          </a:xfrm>
          <a:prstGeom prst="wedgeEllipseCallout">
            <a:avLst>
              <a:gd name="adj1" fmla="val -42532"/>
              <a:gd name="adj2" fmla="val 66370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olicit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uring the test-marke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commercialization sta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1523880"/>
            <a:ext cx="4114800" cy="2133720"/>
          </a:xfrm>
          <a:prstGeom prst="wedgeEllipseCallout">
            <a:avLst>
              <a:gd name="adj1" fmla="val 45175"/>
              <a:gd name="adj2" fmla="val 77231"/>
            </a:avLst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9320" y="193500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ather feedbac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product siz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r on packaging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304920"/>
            <a:ext cx="0" cy="1447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ember Acceptance of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600" y="1905120"/>
            <a:ext cx="3129840" cy="825480"/>
          </a:xfrm>
          <a:prstGeom prst="rect">
            <a:avLst/>
          </a:prstGeom>
          <a:gradFill rotWithShape="0">
            <a:gsLst>
              <a:gs pos="0">
                <a:srgbClr val="fee9b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Geneva"/>
              </a:rPr>
              <a:t>Determining Facto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3352680"/>
            <a:ext cx="8001000" cy="28958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How the product will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e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is easy to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stock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&amp;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displa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ether the product will be 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profi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34520" y="228600"/>
            <a:ext cx="0" cy="1295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Adding Products to the Assortment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666880"/>
            <a:ext cx="7162920" cy="15570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existing channel members view the new product as appropriate to add to their assortments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473120"/>
            <a:ext cx="2884320" cy="520560"/>
          </a:xfrm>
          <a:prstGeom prst="rect">
            <a:avLst/>
          </a:prstGeom>
          <a:gradFill rotWithShape="0">
            <a:gsLst>
              <a:gs pos="0">
                <a:srgbClr val="feecc9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K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ey </a:t>
            </a:r>
            <a:r>
              <a:rPr b="0" i="1" lang="en-US" sz="2800" spc="-1" strike="noStrike">
                <a:solidFill>
                  <a:srgbClr val="000080"/>
                </a:solidFill>
                <a:latin typeface="Geneva"/>
              </a:rPr>
              <a:t>C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onsiderations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4720" y="4876920"/>
            <a:ext cx="569304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80"/>
            </a:solidFill>
            <a:miter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ill channel members feel compet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handle the new product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164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152280"/>
            <a:ext cx="0" cy="1295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Educating 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828800"/>
            <a:ext cx="29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oal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9760" y="1828800"/>
            <a:ext cx="31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ell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ccessfu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" y="3809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thod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39040" y="3581280"/>
            <a:ext cx="36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ducate or tra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 in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duct’s use and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feature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mphasize in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esenta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3885480"/>
            <a:ext cx="976320" cy="1066680"/>
          </a:xfrm>
          <a:custGeom>
            <a:avLst/>
            <a:gdLst>
              <a:gd name="textAreaLeft" fmla="*/ 122040 w 976320"/>
              <a:gd name="textAreaRight" fmla="*/ 854280 w 976320"/>
              <a:gd name="textAreaTop" fmla="*/ 266400 h 1066680"/>
              <a:gd name="textAreaBottom" fmla="*/ 799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905120"/>
            <a:ext cx="976320" cy="914400"/>
          </a:xfrm>
          <a:custGeom>
            <a:avLst/>
            <a:gdLst>
              <a:gd name="textAreaLeft" fmla="*/ 122040 w 976320"/>
              <a:gd name="textAreaRight" fmla="*/ 854280 w 9763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ouble-Free New Product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1640" y="1522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26240" y="4572000"/>
            <a:ext cx="3481560" cy="459720"/>
          </a:xfrm>
          <a:prstGeom prst="rect">
            <a:avLst/>
          </a:prstGeom>
          <a:gradFill rotWithShape="0">
            <a:gsLst>
              <a:gs pos="0">
                <a:srgbClr val="feefd2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New product proble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1981080"/>
            <a:ext cx="4429800" cy="459720"/>
          </a:xfrm>
          <a:prstGeom prst="rect">
            <a:avLst/>
          </a:prstGeom>
          <a:gradFill rotWithShape="0">
            <a:gsLst>
              <a:gs pos="0">
                <a:srgbClr val="feed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 in new product plan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752480"/>
            <a:ext cx="685800" cy="838440"/>
          </a:xfrm>
          <a:prstGeom prst="up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495680"/>
            <a:ext cx="685800" cy="838440"/>
          </a:xfrm>
          <a:prstGeom prst="downArrow">
            <a:avLst>
              <a:gd name="adj1" fmla="val 50000"/>
              <a:gd name="adj2" fmla="val 30564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1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Geneva"/>
              </a:rPr>
              <a:t>=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3T16:45:23Z</dcterms:modified>
  <cp:revision>361</cp:revision>
  <dc:subject/>
  <dc:title>Part 1</dc:title>
</cp:coreProperties>
</file>