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2A2-4A73-4D01-A3A4-13E9B42F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48F-7B87-4029-827C-3CA51973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FE0-33AB-48C1-83E6-2BFF158A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92F-F31B-4DE0-A3A5-EF9CD7EB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E7DC-59D6-4A4A-A1EF-35367BE5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46B-6E94-4173-B59F-AA1FCFCD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F3A-34D4-4B26-BEC0-8A5FE560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3C5-356F-4DDD-9E0A-C7227A46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301-E815-41E6-A4A0-44357F8E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7780-35E1-438D-8F33-B585E4A1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DFE-010D-4C03-BBA5-754B1572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644-9883-4534-96FA-47110B67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1E4C-8725-4BAE-9A46-2A22DEBB59F0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0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61976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Product Issues in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 Manage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67080" y="3809880"/>
            <a:ext cx="40388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Life Cycl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1828800"/>
            <a:ext cx="0" cy="4191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6019920"/>
            <a:ext cx="6934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4876920"/>
            <a:ext cx="4876560" cy="1168200"/>
          </a:xfrm>
          <a:custGeom>
            <a:avLst/>
            <a:gdLst/>
            <a:ahLst/>
            <a:rect l="l" t="t" r="r" b="b"/>
            <a:pathLst>
              <a:path w="3072" h="736">
                <a:moveTo>
                  <a:pt x="0" y="720"/>
                </a:moveTo>
                <a:cubicBezTo>
                  <a:pt x="56" y="728"/>
                  <a:pt x="112" y="736"/>
                  <a:pt x="192" y="720"/>
                </a:cubicBezTo>
                <a:cubicBezTo>
                  <a:pt x="272" y="704"/>
                  <a:pt x="336" y="696"/>
                  <a:pt x="480" y="624"/>
                </a:cubicBezTo>
                <a:cubicBezTo>
                  <a:pt x="624" y="552"/>
                  <a:pt x="824" y="384"/>
                  <a:pt x="1056" y="288"/>
                </a:cubicBezTo>
                <a:cubicBezTo>
                  <a:pt x="1288" y="192"/>
                  <a:pt x="1608" y="0"/>
                  <a:pt x="1872" y="48"/>
                </a:cubicBezTo>
                <a:cubicBezTo>
                  <a:pt x="2136" y="96"/>
                  <a:pt x="2440" y="464"/>
                  <a:pt x="2640" y="576"/>
                </a:cubicBezTo>
                <a:cubicBezTo>
                  <a:pt x="2840" y="688"/>
                  <a:pt x="3000" y="696"/>
                  <a:pt x="3072" y="720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3645000"/>
            <a:ext cx="6172200" cy="2374920"/>
          </a:xfrm>
          <a:custGeom>
            <a:avLst/>
            <a:gdLst/>
            <a:ahLst/>
            <a:rect l="l" t="t" r="r" b="b"/>
            <a:pathLst>
              <a:path w="3888" h="1496">
                <a:moveTo>
                  <a:pt x="0" y="1496"/>
                </a:moveTo>
                <a:cubicBezTo>
                  <a:pt x="128" y="1464"/>
                  <a:pt x="256" y="1432"/>
                  <a:pt x="384" y="1352"/>
                </a:cubicBezTo>
                <a:cubicBezTo>
                  <a:pt x="512" y="1272"/>
                  <a:pt x="608" y="1160"/>
                  <a:pt x="768" y="1016"/>
                </a:cubicBezTo>
                <a:cubicBezTo>
                  <a:pt x="928" y="872"/>
                  <a:pt x="1168" y="632"/>
                  <a:pt x="1344" y="488"/>
                </a:cubicBezTo>
                <a:cubicBezTo>
                  <a:pt x="1520" y="344"/>
                  <a:pt x="1624" y="232"/>
                  <a:pt x="1824" y="152"/>
                </a:cubicBezTo>
                <a:cubicBezTo>
                  <a:pt x="2024" y="72"/>
                  <a:pt x="2312" y="16"/>
                  <a:pt x="2544" y="8"/>
                </a:cubicBezTo>
                <a:cubicBezTo>
                  <a:pt x="2776" y="0"/>
                  <a:pt x="3024" y="24"/>
                  <a:pt x="3216" y="104"/>
                </a:cubicBezTo>
                <a:cubicBezTo>
                  <a:pt x="3408" y="184"/>
                  <a:pt x="3584" y="384"/>
                  <a:pt x="3696" y="488"/>
                </a:cubicBezTo>
                <a:cubicBezTo>
                  <a:pt x="3808" y="592"/>
                  <a:pt x="3848" y="660"/>
                  <a:pt x="3888" y="728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05120" y="5714640"/>
            <a:ext cx="0" cy="3049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24080" y="44956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172200" y="3733920"/>
            <a:ext cx="0" cy="228600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23640" y="43434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ntrodu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0" cy="7621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6240" y="624852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Grow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14600" y="57150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5880" y="1523880"/>
            <a:ext cx="8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($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5080" y="29718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Sales cur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9240" y="6248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tur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76000" y="432108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Profit cur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24280" y="57150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03160" y="609588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Ti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7760" y="6248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c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086600" y="57150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41640" y="230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roduc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19320" y="1447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666880"/>
            <a:ext cx="5257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1828800"/>
            <a:ext cx="4114800" cy="851040"/>
          </a:xfrm>
          <a:custGeom>
            <a:avLst/>
            <a:gdLst/>
            <a:ahLst/>
            <a:rect l="l" t="t" r="r" b="b"/>
            <a:pathLst>
              <a:path w="2592" h="536">
                <a:moveTo>
                  <a:pt x="0" y="528"/>
                </a:moveTo>
                <a:cubicBezTo>
                  <a:pt x="68" y="532"/>
                  <a:pt x="136" y="536"/>
                  <a:pt x="240" y="528"/>
                </a:cubicBezTo>
                <a:cubicBezTo>
                  <a:pt x="344" y="520"/>
                  <a:pt x="472" y="504"/>
                  <a:pt x="624" y="480"/>
                </a:cubicBezTo>
                <a:cubicBezTo>
                  <a:pt x="776" y="456"/>
                  <a:pt x="928" y="424"/>
                  <a:pt x="1152" y="384"/>
                </a:cubicBezTo>
                <a:cubicBezTo>
                  <a:pt x="1376" y="344"/>
                  <a:pt x="1792" y="272"/>
                  <a:pt x="1968" y="240"/>
                </a:cubicBezTo>
                <a:cubicBezTo>
                  <a:pt x="2144" y="208"/>
                  <a:pt x="2144" y="208"/>
                  <a:pt x="2208" y="192"/>
                </a:cubicBezTo>
                <a:cubicBezTo>
                  <a:pt x="2272" y="176"/>
                  <a:pt x="2288" y="176"/>
                  <a:pt x="2352" y="144"/>
                </a:cubicBezTo>
                <a:cubicBezTo>
                  <a:pt x="2416" y="112"/>
                  <a:pt x="2504" y="56"/>
                  <a:pt x="2592" y="0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280" y="3276720"/>
            <a:ext cx="7361640" cy="192276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ssure sufficient number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 for adequate market cover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ssure adequate supply on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’ shel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Growth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188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1371600"/>
            <a:ext cx="2590560" cy="1523880"/>
          </a:xfrm>
          <a:custGeom>
            <a:avLst/>
            <a:gdLst/>
            <a:ahLst/>
            <a:rect l="l" t="t" r="r" b="b"/>
            <a:pathLst>
              <a:path w="1632" h="960">
                <a:moveTo>
                  <a:pt x="0" y="960"/>
                </a:moveTo>
                <a:cubicBezTo>
                  <a:pt x="32" y="960"/>
                  <a:pt x="64" y="960"/>
                  <a:pt x="144" y="912"/>
                </a:cubicBezTo>
                <a:cubicBezTo>
                  <a:pt x="224" y="864"/>
                  <a:pt x="376" y="752"/>
                  <a:pt x="480" y="672"/>
                </a:cubicBezTo>
                <a:cubicBezTo>
                  <a:pt x="584" y="592"/>
                  <a:pt x="688" y="496"/>
                  <a:pt x="768" y="432"/>
                </a:cubicBezTo>
                <a:cubicBezTo>
                  <a:pt x="848" y="368"/>
                  <a:pt x="888" y="336"/>
                  <a:pt x="960" y="288"/>
                </a:cubicBezTo>
                <a:cubicBezTo>
                  <a:pt x="1032" y="240"/>
                  <a:pt x="1120" y="184"/>
                  <a:pt x="1200" y="144"/>
                </a:cubicBezTo>
                <a:cubicBezTo>
                  <a:pt x="1280" y="104"/>
                  <a:pt x="1368" y="72"/>
                  <a:pt x="1440" y="48"/>
                </a:cubicBezTo>
                <a:cubicBezTo>
                  <a:pt x="1512" y="24"/>
                  <a:pt x="1572" y="12"/>
                  <a:pt x="1632" y="0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3276720"/>
            <a:ext cx="4952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9080" y="3733920"/>
            <a:ext cx="7590240" cy="192276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ssure sufficient number of channel memb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ventories for adequate market cover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onitor the effects of competitiv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n channel member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8380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441640" y="230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turit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1117440"/>
            <a:ext cx="5410440" cy="1016280"/>
          </a:xfrm>
          <a:custGeom>
            <a:avLst/>
            <a:gdLst/>
            <a:ahLst/>
            <a:rect l="l" t="t" r="r" b="b"/>
            <a:pathLst>
              <a:path w="3408" h="640">
                <a:moveTo>
                  <a:pt x="0" y="640"/>
                </a:moveTo>
                <a:cubicBezTo>
                  <a:pt x="40" y="612"/>
                  <a:pt x="80" y="584"/>
                  <a:pt x="144" y="544"/>
                </a:cubicBezTo>
                <a:cubicBezTo>
                  <a:pt x="208" y="504"/>
                  <a:pt x="312" y="440"/>
                  <a:pt x="384" y="400"/>
                </a:cubicBezTo>
                <a:cubicBezTo>
                  <a:pt x="456" y="360"/>
                  <a:pt x="512" y="336"/>
                  <a:pt x="576" y="304"/>
                </a:cubicBezTo>
                <a:cubicBezTo>
                  <a:pt x="640" y="272"/>
                  <a:pt x="672" y="240"/>
                  <a:pt x="768" y="208"/>
                </a:cubicBezTo>
                <a:cubicBezTo>
                  <a:pt x="864" y="176"/>
                  <a:pt x="1032" y="136"/>
                  <a:pt x="1152" y="112"/>
                </a:cubicBezTo>
                <a:cubicBezTo>
                  <a:pt x="1272" y="88"/>
                  <a:pt x="1360" y="80"/>
                  <a:pt x="1488" y="64"/>
                </a:cubicBezTo>
                <a:cubicBezTo>
                  <a:pt x="1616" y="48"/>
                  <a:pt x="1792" y="24"/>
                  <a:pt x="1920" y="16"/>
                </a:cubicBezTo>
                <a:cubicBezTo>
                  <a:pt x="2048" y="8"/>
                  <a:pt x="2152" y="16"/>
                  <a:pt x="2256" y="16"/>
                </a:cubicBezTo>
                <a:cubicBezTo>
                  <a:pt x="2360" y="16"/>
                  <a:pt x="2408" y="0"/>
                  <a:pt x="2544" y="16"/>
                </a:cubicBezTo>
                <a:cubicBezTo>
                  <a:pt x="2680" y="32"/>
                  <a:pt x="2928" y="80"/>
                  <a:pt x="3072" y="112"/>
                </a:cubicBezTo>
                <a:cubicBezTo>
                  <a:pt x="3216" y="144"/>
                  <a:pt x="3352" y="192"/>
                  <a:pt x="3408" y="208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3124080"/>
            <a:ext cx="67053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2680" y="3624120"/>
            <a:ext cx="8029440" cy="22885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xtra emphasis on motivating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o mitigate competitive impa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vestigate possibility for changes in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tructure to extend maturity stage &amp; possib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foster new growth st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9907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clin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1282680"/>
            <a:ext cx="2743200" cy="1689120"/>
          </a:xfrm>
          <a:custGeom>
            <a:avLst/>
            <a:gdLst/>
            <a:ahLst/>
            <a:rect l="l" t="t" r="r" b="b"/>
            <a:pathLst>
              <a:path w="1728" h="1064">
                <a:moveTo>
                  <a:pt x="0" y="8"/>
                </a:moveTo>
                <a:cubicBezTo>
                  <a:pt x="56" y="4"/>
                  <a:pt x="112" y="0"/>
                  <a:pt x="192" y="8"/>
                </a:cubicBezTo>
                <a:cubicBezTo>
                  <a:pt x="272" y="16"/>
                  <a:pt x="376" y="16"/>
                  <a:pt x="480" y="56"/>
                </a:cubicBezTo>
                <a:cubicBezTo>
                  <a:pt x="584" y="96"/>
                  <a:pt x="736" y="200"/>
                  <a:pt x="816" y="248"/>
                </a:cubicBezTo>
                <a:cubicBezTo>
                  <a:pt x="896" y="296"/>
                  <a:pt x="888" y="288"/>
                  <a:pt x="960" y="344"/>
                </a:cubicBezTo>
                <a:cubicBezTo>
                  <a:pt x="1032" y="400"/>
                  <a:pt x="1168" y="512"/>
                  <a:pt x="1248" y="584"/>
                </a:cubicBezTo>
                <a:cubicBezTo>
                  <a:pt x="1328" y="656"/>
                  <a:pt x="1360" y="696"/>
                  <a:pt x="1440" y="776"/>
                </a:cubicBezTo>
                <a:cubicBezTo>
                  <a:pt x="1520" y="856"/>
                  <a:pt x="1680" y="1016"/>
                  <a:pt x="1728" y="1064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3429000"/>
            <a:ext cx="56386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8480" y="4114800"/>
            <a:ext cx="6202080" cy="1607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hase out marginal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vestigate impact of product dele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n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ategic Product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44164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777240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 quality, innovativeness, or technological sophist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pabilities of managers overseeing product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’s financial capacity &amp; willingness to provide promotional suppo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’ role in implementing product 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2000" y="1397160"/>
            <a:ext cx="5722200" cy="52056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uccessful product strategies depend 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114300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1880" y="20304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41640" y="1522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Strateg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7360" y="1828800"/>
            <a:ext cx="5411520" cy="4117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positio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line expansion &amp; contra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rading up &amp; trading dow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brand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Differenti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81880" y="20304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441640" y="203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362320"/>
            <a:ext cx="8305920" cy="4117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rs should try to select &amp; help develop members who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fit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the product image when product differentiation strategy is affected by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who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will be selling the produc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rs should provide retailers with the kind of support needed to properly present the product when this strategy is influenced by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how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the product is sold at retai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94840" y="1228680"/>
            <a:ext cx="63619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reating a differential product involves get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s to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erceive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a differenc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Position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9144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6568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1143000"/>
            <a:ext cx="7467480" cy="11912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manufacturer’s attempt to have consumers perceive the product in a particular way relative to competitiv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2590920"/>
            <a:ext cx="8229600" cy="4117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ossible interfaces between the product positioning strategy and where the product will be displayed and sold to consumers should be considered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the strategy is implement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licit retailer support before attempting to implement strateg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intain backup supply of retailer incen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059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1880" y="152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Line Expansion &amp; Contrac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1523880"/>
            <a:ext cx="609588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s often engage in both expansion and contraction simultaneous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2640" y="2895480"/>
            <a:ext cx="7773120" cy="30200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fficult to balance channel member satisfaction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upport for reshaped product lin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 are making increasing demands 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s to have the right mix of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arketing Mix Resources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057400"/>
            <a:ext cx="7162560" cy="33858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y understanding how the other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x variables interface with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ariable, and the implications of such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 manager could coordinate 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c components to create the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ynergy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eded to meet customers’ need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188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45820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ding Down, Trading Up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9960" y="1219320"/>
            <a:ext cx="6378840" cy="119124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ding lower-priced products or product lin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r higher-priced products or product lin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a product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0280" y="2819520"/>
            <a:ext cx="7587360" cy="3751560"/>
          </a:xfrm>
          <a:prstGeom prst="rect">
            <a:avLst/>
          </a:prstGeom>
          <a:solidFill>
            <a:srgbClr val="e6e6e6"/>
          </a:soli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ether existing channel members provide adequ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verage of high-end or low-end market segments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ich trade-up or trade-down product is aim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ether the channel members have confidence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manufacturer’s ability to successfully market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rade-up or trade-down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16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7900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45496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1143000"/>
            <a:ext cx="7925040" cy="119124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en manufacturers sell under both national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ivate brands, direct competition with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y resul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800" y="2743200"/>
            <a:ext cx="7436520" cy="3751560"/>
          </a:xfrm>
          <a:prstGeom prst="rect">
            <a:avLst/>
          </a:prstGeom>
          <a:solidFill>
            <a:srgbClr val="e6e6e6"/>
          </a:soli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o not sell both national &amp; private brand version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s to the same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ll national and private brand versions in differ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eographical territo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hysically vary products enough to minim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rect competi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Brand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16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7900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5496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Service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8840" y="1219320"/>
            <a:ext cx="71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 is the role of the marketing channel to provi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cessary service along with the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the final us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2209680"/>
            <a:ext cx="1295640" cy="144792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5400" y="3886200"/>
            <a:ext cx="7313040" cy="2654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should provide after-sal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y offering it directly at the fac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their own network of service cent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authorized independent service cent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y some combination of the abo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5820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-Channel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nagement Interfa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981080"/>
            <a:ext cx="40388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w product plann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 develop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8120" y="3429000"/>
            <a:ext cx="32151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product life cyc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4343400"/>
            <a:ext cx="358128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c produc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33920"/>
            <a:ext cx="4495680" cy="28191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 Maj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a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29600" y="30492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65680" y="30636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ew Product Plann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41972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hat input, if any, can channel members provide into new product planning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hat has been done to assure that new products will be acceptable to the channel member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o the new products fit into the present channel members’ assortment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ill any special education or training be necessary to prepare the channel members to sell the new products effectivel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ill the product cause the channel members any special problem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ncouraging Member Inpu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523880"/>
            <a:ext cx="3048120" cy="1600200"/>
          </a:xfrm>
          <a:prstGeom prst="wedgeEllipseCallout">
            <a:avLst>
              <a:gd name="adj1" fmla="val -38226"/>
              <a:gd name="adj2" fmla="val 89185"/>
            </a:avLst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6240" y="1905120"/>
            <a:ext cx="22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olicit ideas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ew produ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3886200"/>
            <a:ext cx="5486400" cy="2133720"/>
          </a:xfrm>
          <a:prstGeom prst="wedgeEllipseCallout">
            <a:avLst>
              <a:gd name="adj1" fmla="val -42532"/>
              <a:gd name="adj2" fmla="val 66370"/>
            </a:avLst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2670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olicit feedbac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uring the test-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commercialization stag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1523880"/>
            <a:ext cx="4114800" cy="2133720"/>
          </a:xfrm>
          <a:prstGeom prst="wedgeEllipseCallout">
            <a:avLst>
              <a:gd name="adj1" fmla="val 45175"/>
              <a:gd name="adj2" fmla="val 77231"/>
            </a:avLst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79320" y="1935000"/>
            <a:ext cx="25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ther feedbac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product 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on packag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ember Acceptance of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ew Produc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4600" y="1905120"/>
            <a:ext cx="3129840" cy="82548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Determining Fac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3352680"/>
            <a:ext cx="8001000" cy="289584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w the product will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e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ther the product is easy to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ock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&amp;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spl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ther the product will be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rofit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ding Products to the Assort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666880"/>
            <a:ext cx="7162920" cy="15570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ll existing channel members view the new product as appropriate to add to their assortment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5200" y="1473120"/>
            <a:ext cx="288432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K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ey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onsideration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4720" y="4876920"/>
            <a:ext cx="5693040" cy="119124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ll channel members feel compet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handle the new product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164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ducating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828800"/>
            <a:ext cx="29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al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9760" y="1828800"/>
            <a:ext cx="31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ell new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ccessfu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960" y="38098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thod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39040" y="3581280"/>
            <a:ext cx="36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ate or tra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 in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’s use and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ecial features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mphasize in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esent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971800" y="3885480"/>
            <a:ext cx="976320" cy="1066680"/>
          </a:xfrm>
          <a:custGeom>
            <a:avLst/>
            <a:gdLst>
              <a:gd name="textAreaLeft" fmla="*/ 122040 w 976320"/>
              <a:gd name="textAreaRight" fmla="*/ 854280 w 976320"/>
              <a:gd name="textAreaTop" fmla="*/ 266400 h 1066680"/>
              <a:gd name="textAreaBottom" fmla="*/ 7999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1905120"/>
            <a:ext cx="976320" cy="914400"/>
          </a:xfrm>
          <a:custGeom>
            <a:avLst/>
            <a:gdLst>
              <a:gd name="textAreaLeft" fmla="*/ 122040 w 976320"/>
              <a:gd name="textAreaRight" fmla="*/ 854280 w 9763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ouble-Free New Produc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26240" y="4572000"/>
            <a:ext cx="3481560" cy="45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w product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1981080"/>
            <a:ext cx="4429800" cy="45972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e in new product plan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1752480"/>
            <a:ext cx="685800" cy="838440"/>
          </a:xfrm>
          <a:prstGeom prst="upArrow">
            <a:avLst>
              <a:gd name="adj1" fmla="val 50000"/>
              <a:gd name="adj2" fmla="val 30564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495680"/>
            <a:ext cx="685800" cy="838440"/>
          </a:xfrm>
          <a:prstGeom prst="downArrow">
            <a:avLst>
              <a:gd name="adj1" fmla="val 50000"/>
              <a:gd name="adj2" fmla="val 30564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31960" y="3048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3T16:45:23Z</dcterms:modified>
  <cp:revision>361</cp:revision>
  <dc:subject/>
  <dc:title>Part 1</dc:title>
</cp:coreProperties>
</file>