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789-EBF4-4382-BFD7-55F51915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6B6-77C0-45FD-BF3F-E2E170A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A94-4B4D-4529-AB0E-402DC222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DB0-6507-4990-8903-6E09B981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70F-3BC8-4EBB-8DE7-94F78B5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BA0-F215-40AC-A9D1-6098CAE6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A80-F9CD-4735-BE68-8983CA8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878-381D-48E6-9D3E-17549513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D2E-46D8-4C99-B3F3-7F2E1A40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766-F5CC-450E-B8B7-56EBFAF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847-F3E8-4F75-A631-2BD86DC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6F7-EE73-4E2D-BF4C-5CE44D5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D5AB-9A95-42E2-A9A9-0E4745D24C3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0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duct Issues i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4038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fe Cycl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0" cy="4191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019920"/>
            <a:ext cx="6934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4876560" cy="1168200"/>
          </a:xfrm>
          <a:custGeom>
            <a:avLst/>
            <a:gdLst/>
            <a:ahLst/>
            <a:rect l="l" t="t" r="r" b="b"/>
            <a:pathLst>
              <a:path w="3072" h="736">
                <a:moveTo>
                  <a:pt x="0" y="720"/>
                </a:moveTo>
                <a:cubicBezTo>
                  <a:pt x="56" y="728"/>
                  <a:pt x="112" y="736"/>
                  <a:pt x="192" y="720"/>
                </a:cubicBezTo>
                <a:cubicBezTo>
                  <a:pt x="272" y="704"/>
                  <a:pt x="336" y="696"/>
                  <a:pt x="480" y="624"/>
                </a:cubicBezTo>
                <a:cubicBezTo>
                  <a:pt x="624" y="552"/>
                  <a:pt x="824" y="384"/>
                  <a:pt x="1056" y="288"/>
                </a:cubicBezTo>
                <a:cubicBezTo>
                  <a:pt x="1288" y="192"/>
                  <a:pt x="1608" y="0"/>
                  <a:pt x="1872" y="48"/>
                </a:cubicBezTo>
                <a:cubicBezTo>
                  <a:pt x="2136" y="96"/>
                  <a:pt x="2440" y="464"/>
                  <a:pt x="2640" y="576"/>
                </a:cubicBezTo>
                <a:cubicBezTo>
                  <a:pt x="2840" y="688"/>
                  <a:pt x="3000" y="696"/>
                  <a:pt x="3072" y="72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645000"/>
            <a:ext cx="6172200" cy="2374920"/>
          </a:xfrm>
          <a:custGeom>
            <a:avLst/>
            <a:gdLst/>
            <a:ahLst/>
            <a:rect l="l" t="t" r="r" b="b"/>
            <a:pathLst>
              <a:path w="3888" h="1496">
                <a:moveTo>
                  <a:pt x="0" y="1496"/>
                </a:moveTo>
                <a:cubicBezTo>
                  <a:pt x="128" y="1464"/>
                  <a:pt x="256" y="1432"/>
                  <a:pt x="384" y="1352"/>
                </a:cubicBezTo>
                <a:cubicBezTo>
                  <a:pt x="512" y="1272"/>
                  <a:pt x="608" y="1160"/>
                  <a:pt x="768" y="1016"/>
                </a:cubicBezTo>
                <a:cubicBezTo>
                  <a:pt x="928" y="872"/>
                  <a:pt x="1168" y="632"/>
                  <a:pt x="1344" y="488"/>
                </a:cubicBezTo>
                <a:cubicBezTo>
                  <a:pt x="1520" y="344"/>
                  <a:pt x="1624" y="232"/>
                  <a:pt x="1824" y="152"/>
                </a:cubicBezTo>
                <a:cubicBezTo>
                  <a:pt x="2024" y="72"/>
                  <a:pt x="2312" y="16"/>
                  <a:pt x="2544" y="8"/>
                </a:cubicBezTo>
                <a:cubicBezTo>
                  <a:pt x="2776" y="0"/>
                  <a:pt x="3024" y="24"/>
                  <a:pt x="3216" y="104"/>
                </a:cubicBezTo>
                <a:cubicBezTo>
                  <a:pt x="3408" y="184"/>
                  <a:pt x="3584" y="384"/>
                  <a:pt x="3696" y="488"/>
                </a:cubicBezTo>
                <a:cubicBezTo>
                  <a:pt x="3808" y="592"/>
                  <a:pt x="3848" y="660"/>
                  <a:pt x="3888" y="72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571464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24080" y="44956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72200" y="37339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3640" y="43434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rodu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6240" y="62485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5880" y="1523880"/>
            <a:ext cx="8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($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2971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ales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9240" y="6248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tur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6000" y="43210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ofit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2428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3160" y="609588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776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c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19320" y="1447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666880"/>
            <a:ext cx="5257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828800"/>
            <a:ext cx="4114800" cy="851040"/>
          </a:xfrm>
          <a:custGeom>
            <a:avLst/>
            <a:gdLst/>
            <a:ahLst/>
            <a:rect l="l" t="t" r="r" b="b"/>
            <a:pathLst>
              <a:path w="2592" h="536">
                <a:moveTo>
                  <a:pt x="0" y="528"/>
                </a:moveTo>
                <a:cubicBezTo>
                  <a:pt x="68" y="532"/>
                  <a:pt x="136" y="536"/>
                  <a:pt x="240" y="528"/>
                </a:cubicBezTo>
                <a:cubicBezTo>
                  <a:pt x="344" y="520"/>
                  <a:pt x="472" y="504"/>
                  <a:pt x="624" y="480"/>
                </a:cubicBezTo>
                <a:cubicBezTo>
                  <a:pt x="776" y="456"/>
                  <a:pt x="928" y="424"/>
                  <a:pt x="1152" y="384"/>
                </a:cubicBezTo>
                <a:cubicBezTo>
                  <a:pt x="1376" y="344"/>
                  <a:pt x="1792" y="272"/>
                  <a:pt x="1968" y="240"/>
                </a:cubicBezTo>
                <a:cubicBezTo>
                  <a:pt x="2144" y="208"/>
                  <a:pt x="2144" y="208"/>
                  <a:pt x="2208" y="192"/>
                </a:cubicBezTo>
                <a:cubicBezTo>
                  <a:pt x="2272" y="176"/>
                  <a:pt x="2288" y="176"/>
                  <a:pt x="2352" y="144"/>
                </a:cubicBezTo>
                <a:cubicBezTo>
                  <a:pt x="2416" y="112"/>
                  <a:pt x="2504" y="56"/>
                  <a:pt x="259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280" y="3276720"/>
            <a:ext cx="73616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adequate supply on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’ sh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rowt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1371600"/>
            <a:ext cx="2590560" cy="1523880"/>
          </a:xfrm>
          <a:custGeom>
            <a:avLst/>
            <a:gdLst/>
            <a:ahLst/>
            <a:rect l="l" t="t" r="r" b="b"/>
            <a:pathLst>
              <a:path w="1632" h="960">
                <a:moveTo>
                  <a:pt x="0" y="960"/>
                </a:moveTo>
                <a:cubicBezTo>
                  <a:pt x="32" y="960"/>
                  <a:pt x="64" y="960"/>
                  <a:pt x="144" y="912"/>
                </a:cubicBezTo>
                <a:cubicBezTo>
                  <a:pt x="224" y="864"/>
                  <a:pt x="376" y="752"/>
                  <a:pt x="480" y="672"/>
                </a:cubicBezTo>
                <a:cubicBezTo>
                  <a:pt x="584" y="592"/>
                  <a:pt x="688" y="496"/>
                  <a:pt x="768" y="432"/>
                </a:cubicBezTo>
                <a:cubicBezTo>
                  <a:pt x="848" y="368"/>
                  <a:pt x="888" y="336"/>
                  <a:pt x="960" y="288"/>
                </a:cubicBezTo>
                <a:cubicBezTo>
                  <a:pt x="1032" y="240"/>
                  <a:pt x="1120" y="184"/>
                  <a:pt x="1200" y="144"/>
                </a:cubicBezTo>
                <a:cubicBezTo>
                  <a:pt x="1280" y="104"/>
                  <a:pt x="1368" y="72"/>
                  <a:pt x="1440" y="48"/>
                </a:cubicBezTo>
                <a:cubicBezTo>
                  <a:pt x="1512" y="24"/>
                  <a:pt x="1572" y="12"/>
                  <a:pt x="163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276720"/>
            <a:ext cx="4952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080" y="3733920"/>
            <a:ext cx="75902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ntorie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nitor the effects of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u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117440"/>
            <a:ext cx="5410440" cy="1016280"/>
          </a:xfrm>
          <a:custGeom>
            <a:avLst/>
            <a:gdLst/>
            <a:ahLst/>
            <a:rect l="l" t="t" r="r" b="b"/>
            <a:pathLst>
              <a:path w="3408" h="640">
                <a:moveTo>
                  <a:pt x="0" y="640"/>
                </a:moveTo>
                <a:cubicBezTo>
                  <a:pt x="40" y="612"/>
                  <a:pt x="80" y="584"/>
                  <a:pt x="144" y="544"/>
                </a:cubicBezTo>
                <a:cubicBezTo>
                  <a:pt x="208" y="504"/>
                  <a:pt x="312" y="440"/>
                  <a:pt x="384" y="400"/>
                </a:cubicBezTo>
                <a:cubicBezTo>
                  <a:pt x="456" y="360"/>
                  <a:pt x="512" y="336"/>
                  <a:pt x="576" y="304"/>
                </a:cubicBezTo>
                <a:cubicBezTo>
                  <a:pt x="640" y="272"/>
                  <a:pt x="672" y="240"/>
                  <a:pt x="768" y="208"/>
                </a:cubicBezTo>
                <a:cubicBezTo>
                  <a:pt x="864" y="176"/>
                  <a:pt x="1032" y="136"/>
                  <a:pt x="1152" y="112"/>
                </a:cubicBezTo>
                <a:cubicBezTo>
                  <a:pt x="1272" y="88"/>
                  <a:pt x="1360" y="80"/>
                  <a:pt x="1488" y="64"/>
                </a:cubicBezTo>
                <a:cubicBezTo>
                  <a:pt x="1616" y="48"/>
                  <a:pt x="1792" y="24"/>
                  <a:pt x="1920" y="16"/>
                </a:cubicBezTo>
                <a:cubicBezTo>
                  <a:pt x="2048" y="8"/>
                  <a:pt x="2152" y="16"/>
                  <a:pt x="2256" y="16"/>
                </a:cubicBezTo>
                <a:cubicBezTo>
                  <a:pt x="2360" y="16"/>
                  <a:pt x="2408" y="0"/>
                  <a:pt x="2544" y="16"/>
                </a:cubicBezTo>
                <a:cubicBezTo>
                  <a:pt x="2680" y="32"/>
                  <a:pt x="2928" y="80"/>
                  <a:pt x="3072" y="112"/>
                </a:cubicBezTo>
                <a:cubicBezTo>
                  <a:pt x="3216" y="144"/>
                  <a:pt x="3352" y="192"/>
                  <a:pt x="3408" y="20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124080"/>
            <a:ext cx="6705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624120"/>
            <a:ext cx="8029440" cy="2288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tra emphasis on motivating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mitigate competitive imp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possibility for changes i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ucture to extend maturity stage &amp; possib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ster new growth s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c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282680"/>
            <a:ext cx="2743200" cy="1689120"/>
          </a:xfrm>
          <a:custGeom>
            <a:avLst/>
            <a:gdLst/>
            <a:ahLst/>
            <a:rect l="l" t="t" r="r" b="b"/>
            <a:pathLst>
              <a:path w="1728" h="1064">
                <a:moveTo>
                  <a:pt x="0" y="8"/>
                </a:moveTo>
                <a:cubicBezTo>
                  <a:pt x="56" y="4"/>
                  <a:pt x="112" y="0"/>
                  <a:pt x="192" y="8"/>
                </a:cubicBezTo>
                <a:cubicBezTo>
                  <a:pt x="272" y="16"/>
                  <a:pt x="376" y="16"/>
                  <a:pt x="480" y="56"/>
                </a:cubicBezTo>
                <a:cubicBezTo>
                  <a:pt x="584" y="96"/>
                  <a:pt x="736" y="200"/>
                  <a:pt x="816" y="248"/>
                </a:cubicBezTo>
                <a:cubicBezTo>
                  <a:pt x="896" y="296"/>
                  <a:pt x="888" y="288"/>
                  <a:pt x="960" y="344"/>
                </a:cubicBezTo>
                <a:cubicBezTo>
                  <a:pt x="1032" y="400"/>
                  <a:pt x="1168" y="512"/>
                  <a:pt x="1248" y="584"/>
                </a:cubicBezTo>
                <a:cubicBezTo>
                  <a:pt x="1328" y="656"/>
                  <a:pt x="1360" y="696"/>
                  <a:pt x="1440" y="776"/>
                </a:cubicBezTo>
                <a:cubicBezTo>
                  <a:pt x="1520" y="856"/>
                  <a:pt x="1680" y="1016"/>
                  <a:pt x="1728" y="1064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429000"/>
            <a:ext cx="5638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8480" y="4114800"/>
            <a:ext cx="6202080" cy="1607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hase out margi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impact of product dele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c Product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quality, innovativeness, or technological sophist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bilities of managers overseeing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’s financial capacity &amp; willingness to provide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role in implementing product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1397160"/>
            <a:ext cx="5722200" cy="5205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uccessful product strategies depend 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828800"/>
            <a:ext cx="54115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positio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expansion &amp; contra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ing up &amp; trading d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brand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Different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1640" y="203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362320"/>
            <a:ext cx="83059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try to select &amp; help develop members wh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mage when product differentiation strategy is affect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will be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provide retailers with the kind of support needed to properly present the product when this strategy is influenc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s sold at retai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4840" y="1228680"/>
            <a:ext cx="63619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ating a differential product involves get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ce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a differe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Positio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143000"/>
            <a:ext cx="7467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ttempt to have consumers perceive the product in a particular way relative to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822960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ible interfaces between the product positioning strategy and where the product will be displayed and sold to consumers should be considered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strategy is implemen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icit retailer support before attempting to implement strate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tain backup supply of retailer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 Expansion &amp; Contra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523880"/>
            <a:ext cx="60958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often engage in both expansion and contraction simultaneous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640" y="2895480"/>
            <a:ext cx="7773120" cy="3020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balance channel member satisfaction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upport for reshaped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are making increasing demand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to have the right mix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ing Mix Resour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057400"/>
            <a:ext cx="7162560" cy="3385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understanding how the other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 variables interface 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ble, and the implications of such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could coordinate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components to create th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ynergy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ed to meet customers’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Down, Trading Up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9960" y="1219320"/>
            <a:ext cx="63788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ing low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high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0280" y="2819520"/>
            <a:ext cx="758736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existing channel members provide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age of high-end or low-end market segment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ich trade-up or trade-down product is ai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the channel members have confidence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successfully market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e-up or trade-down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143000"/>
            <a:ext cx="79250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manufacturers sell under both national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ivate brands, direct competition wit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y resul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800" y="2743200"/>
            <a:ext cx="743652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sell both national &amp; private brand version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to the same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 national and private brand versions in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ographical territo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ly vary products enough to minim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competi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Brand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ervice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8840" y="121932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is the role of the marketing channel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cessary service along with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final us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2209680"/>
            <a:ext cx="1295640" cy="14479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5400" y="3886200"/>
            <a:ext cx="731304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should provide after-sa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offering it directly at the 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ir own network of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authorized independent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some combination of the abo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-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Interfa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81080"/>
            <a:ext cx="403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lan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8120" y="3429000"/>
            <a:ext cx="3215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roduct life cyc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43400"/>
            <a:ext cx="3581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33920"/>
            <a:ext cx="4495680" cy="2819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a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 Plan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input, if any, can channel members provide into new product planning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has been done to assure that new products will be acceptable to the channel 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 the new products fit into the present channel members’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any special education or training be necessary to prepare the channel members to sell the new products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the product cause the channel members any special problem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couraging Member Inpu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048120" cy="1600200"/>
          </a:xfrm>
          <a:prstGeom prst="wedgeEllipseCallout">
            <a:avLst>
              <a:gd name="adj1" fmla="val -38226"/>
              <a:gd name="adj2" fmla="val 89185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6240" y="19051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licit idea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w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886200"/>
            <a:ext cx="5486400" cy="2133720"/>
          </a:xfrm>
          <a:prstGeom prst="wedgeEllipseCallout">
            <a:avLst>
              <a:gd name="adj1" fmla="val -42532"/>
              <a:gd name="adj2" fmla="val 66370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licit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uring the test-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ommercialization sta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523880"/>
            <a:ext cx="4114800" cy="2133720"/>
          </a:xfrm>
          <a:prstGeom prst="wedgeEllipseCallout">
            <a:avLst>
              <a:gd name="adj1" fmla="val 45175"/>
              <a:gd name="adj2" fmla="val 77231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9320" y="193500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product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n packa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ember Acceptance of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600" y="1905120"/>
            <a:ext cx="312984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Determining F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01000" cy="28958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the product will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is easy to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ck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&amp;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pl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will b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fi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ng Products to the Assort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666880"/>
            <a:ext cx="7162920" cy="1557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existing channel members view the new product as appropriate to add to their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473120"/>
            <a:ext cx="288432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K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y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nsiderat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4876920"/>
            <a:ext cx="569304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channel members feel compet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handle the new produ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duc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828800"/>
            <a:ext cx="29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a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9760" y="182880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ell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ccess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" y="3809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ho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9040" y="3581280"/>
            <a:ext cx="36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ate or tr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’s use and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feature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mphasize in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en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885480"/>
            <a:ext cx="976320" cy="1066680"/>
          </a:xfrm>
          <a:custGeom>
            <a:avLst/>
            <a:gdLst>
              <a:gd name="textAreaLeft" fmla="*/ 122040 w 976320"/>
              <a:gd name="textAreaRight" fmla="*/ 854280 w 976320"/>
              <a:gd name="textAreaTop" fmla="*/ 266400 h 1066680"/>
              <a:gd name="textAreaBottom" fmla="*/ 799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905120"/>
            <a:ext cx="976320" cy="9144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ouble-Free 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26240" y="4572000"/>
            <a:ext cx="348156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981080"/>
            <a:ext cx="4429800" cy="4597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 in new product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685800" cy="838440"/>
          </a:xfrm>
          <a:prstGeom prst="up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495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1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3T16:45:23Z</dcterms:modified>
  <cp:revision>361</cp:revision>
  <dc:subject/>
  <dc:title>Part 1</dc:title>
</cp:coreProperties>
</file>