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AB6-E43A-462C-B2DD-82DED492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BE3-8AE9-4F58-9B43-2702258E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70AD-2E8D-461F-B227-3DA46991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DED-E598-479B-819C-53C0B80F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961-19CA-4003-86FF-CBF49DD7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7261-6D73-4C01-BB71-C39CDA10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067-8FBF-4E59-A35C-8A42AA31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0E7B-CE6D-4374-BABB-26C1EB26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9E0-1C8C-4370-8C0B-CFC53ADF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A22-5D0D-4823-83A1-4189B618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A238-7A86-4732-BB5A-3976EC27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2B2-C358-49B5-89D5-38CE2CFB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7a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E1C5-7E30-492E-80E1-025705B8584F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371600"/>
            <a:ext cx="7086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Chapter 12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7240" y="4629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619760" cy="41911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e3a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Promotion Through th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i="1" lang="en-US" sz="3200" spc="-1" strike="noStrike">
                <a:solidFill>
                  <a:srgbClr val="000080"/>
                </a:solidFill>
                <a:latin typeface="Geneva"/>
              </a:rPr>
              <a:t>Marketing Chann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369576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2575080"/>
            <a:ext cx="6172200" cy="33858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espite the manufacturer’s best efforts, large and powerful channel members will inevitably come into conflict with the manufacturer over promotional issues because their interests and goals will at times diverge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1523880"/>
            <a:ext cx="1214640" cy="1214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5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Basic Push Promotional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trateg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228600"/>
            <a:ext cx="0" cy="13716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6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1828800"/>
            <a:ext cx="7619760" cy="4167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operative Advertis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Allowa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lotting Fe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plays &amp; Selling Ai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-store Promo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ntests &amp; Incentiv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pecial Promotional Deals &amp; Merchandis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mpaig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operative Advertis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200" y="137160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61000" y="1371600"/>
            <a:ext cx="47678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sharing in the cost on a 50–5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asis up to some percentage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retailer’s purchases from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8240" y="35053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276720"/>
            <a:ext cx="5926320" cy="3385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ective administration b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is necessary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void abuses &amp; to help sec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ooperation from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2. Channel manager must be sensit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nel members’ primary concer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  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bout this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76520" y="411480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al Allowanc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58160" y="1371600"/>
            <a:ext cx="559260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offers channel memb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direct cash payment or a certa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centage of the purchases o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rticular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88720" y="4038480"/>
            <a:ext cx="5938560" cy="2288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should con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search to determine whether i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s getting its money’s worth i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rms of retailer cooperation an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llow-throug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lotting Fe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44120" y="1447920"/>
            <a:ext cx="575100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ayments by manufacturers to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ersuade channel members, especial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s, to stock, display, a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pport new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61840" y="4114800"/>
            <a:ext cx="643068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Joint sponsorship of resear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etween retailers and manufactur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 effects of slotting fees on vario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pics could help alleviate confli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Displays &amp; Selling Aid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54360" y="1447920"/>
            <a:ext cx="534996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lude point-of-purchase (POP)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plays, dealer identification signs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kits, special in-stor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splays, &amp; mailing pie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40240" y="4114800"/>
            <a:ext cx="631188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anager should make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ort to see whether the firm’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elling aids and displays are serv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ny useful purpo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In-Store Promotio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637000" y="1447920"/>
            <a:ext cx="5523840" cy="155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hort-term events designed to cre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ded interest and excitem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r the manufacturer’s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851560" y="4114800"/>
            <a:ext cx="5904720" cy="2288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 planning of a successfu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-store promotion should alway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lude considerations of th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otential benefits for th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retailers involved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ontests &amp; Incentiv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381880" y="2286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02200" y="144792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730600" y="1447920"/>
            <a:ext cx="534996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echniques that manufacturers us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stimulate channel member sal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efforts for their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824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200400" y="3733920"/>
            <a:ext cx="533412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 should put much effort into determining the view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ward this form of 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523880" y="23623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76520" y="46483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808200" y="9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878600" y="1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Special Promotional Deals &amp; Merchandising Campaign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0482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108160" y="123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7580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7480" y="11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867800" y="20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927600" y="31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460000" y="152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8520" y="504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523880" y="16765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193840" y="29257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17480" y="119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86780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27600" y="31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390840" y="237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98984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30080" y="10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101080" y="13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430280" y="8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539720" y="210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98520" y="510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476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8381880" y="22860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217520" y="11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709040" y="16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6880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390840" y="23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989840" y="15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060640" y="125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3008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101080" y="8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430280" y="758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53972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238560" y="231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837560" y="15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08000" y="12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17800" y="331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77800" y="95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948440" y="8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78000" y="7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387440" y="205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82744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08560" y="26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86780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8440" y="93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458200" y="228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78000" y="1500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4582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57080" y="65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458200" y="15228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381880" y="457200"/>
            <a:ext cx="0" cy="10666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02200" y="1828800"/>
            <a:ext cx="1462320" cy="82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ypic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y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84680" y="1676520"/>
            <a:ext cx="5478120" cy="19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Include a variety of push-typ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motional deals such as discount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channel members to encourag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em to order more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2280" y="3962520"/>
            <a:ext cx="2393640" cy="45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dministration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650680" y="4114800"/>
            <a:ext cx="6322320" cy="2288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anufacturers need to develo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arefully planned strategies that a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based on knowledge of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 needs and that take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long-term perspective on promo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hrough the marketing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600200" y="289548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76520" y="472428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04920" y="15238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830592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381880" y="15228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“</a:t>
            </a: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Kinder &amp; Gentler”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28600" y="152280"/>
            <a:ext cx="228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s 7 &amp; 8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219320" y="2209680"/>
            <a:ext cx="6019560" cy="4114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ed687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ining Program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Quota Specific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issionary Sel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rade Sh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7a8d"/>
                </a:solidFill>
                <a:latin typeface="Palatino"/>
              </a:rPr>
              <a:t>Channel Member Support</a:t>
            </a:r>
            <a:r>
              <a:rPr b="1" lang="en-US" sz="4400" spc="-1" strike="noStrike">
                <a:solidFill>
                  <a:srgbClr val="6e7a8d"/>
                </a:solidFill>
                <a:latin typeface="Palatino"/>
              </a:rPr>
              <a:t>	</a:t>
            </a:r>
            <a:endParaRPr b="0" lang="en-US" sz="44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8880" y="41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1522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7320" y="-13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1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8200" y="579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95280"/>
            <a:ext cx="838224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152280"/>
            <a:ext cx="0" cy="1524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828800"/>
            <a:ext cx="7162560" cy="1557000"/>
          </a:xfrm>
          <a:prstGeom prst="rect">
            <a:avLst/>
          </a:prstGeom>
          <a:gradFill rotWithShape="0">
            <a:gsLst>
              <a:gs pos="0">
                <a:srgbClr val="fef3d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Why is channel member support one of the major tools of the manufacturer’s promotional mix?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12000">
            <a:off x="3807720" y="3887280"/>
            <a:ext cx="841320" cy="838440"/>
          </a:xfrm>
          <a:custGeom>
            <a:avLst/>
            <a:gdLst>
              <a:gd name="textAreaLeft" fmla="*/ 131400 w 841320"/>
              <a:gd name="textAreaRight" fmla="*/ 736200 w 841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5105520"/>
            <a:ext cx="7238880" cy="1557000"/>
          </a:xfrm>
          <a:prstGeom prst="rect">
            <a:avLst/>
          </a:prstGeom>
          <a:gradFill rotWithShape="0">
            <a:gsLst>
              <a:gs pos="0">
                <a:srgbClr val="fef0d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ost products and services are not sol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directl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to final customer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56844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80880" y="8380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81848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8610480" y="152280"/>
            <a:ext cx="0" cy="914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861048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9860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12912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52280" y="190512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30856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74848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ining Program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38080" y="124920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52280" y="1143000"/>
            <a:ext cx="8610840" cy="297180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Wholesale: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Help wholesalers’ knowledge, selling techniqu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nd skill in counseling customers they call 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Retail: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 Help retailer’s product knowledge, selling techniques,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nd counseling customers on product usag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066680" y="434340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r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s ca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ssist wholesal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&amp; retailers by help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o offset the cos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181480" y="43434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re is often littl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ime for training.</a:t>
            </a:r>
            <a:r>
              <a:rPr b="0" i="1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80880" y="43434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95680" y="44197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105520" y="40384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158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28600" y="8380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666200" y="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458200" y="304920"/>
            <a:ext cx="0" cy="685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45820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45960" y="193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976480" y="24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0" y="205740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156280" y="228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595840" y="500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85800" y="1401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52280" y="1143000"/>
            <a:ext cx="8305920" cy="152388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Sales volumes that manufacturers specify for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embers to generate during a certain time perio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62120" y="2895480"/>
            <a:ext cx="327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r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n amount to 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ubstantial sum and can make a major difference in the dealers’ overall profit pictur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n be effective in improving channel member promotional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105520" y="2895480"/>
            <a:ext cx="358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C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If presented in a coercive fashion, it can produce ill will and conflict rather than suppo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hannel members may ignore quota if manufacturer’s line does not make up an important part of the member’s product mix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52280" y="297180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419720" y="297180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952880" y="4191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Quota Specification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65200" y="13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81524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5360" y="193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125880" y="2452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49400" y="205740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05320" y="228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745240" y="500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835200" y="140184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58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666200" y="35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458200" y="457200"/>
            <a:ext cx="0" cy="685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458200" y="457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5960" y="20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976480" y="2604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220968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156280" y="243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595840" y="5154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85800" y="1554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52280" y="1295280"/>
            <a:ext cx="8305920" cy="152424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Manufacturer’s salespeople who are specially assign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to supplement the selling activities of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62120" y="3124080"/>
            <a:ext cx="327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r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 useful strategy when channel members lack sales capacity or competence to handle tasks assigned to the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Useful when channel members </a:t>
            </a: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desire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this servi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105520" y="3124080"/>
            <a:ext cx="358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C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Expensiv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an cause conflicts in the chann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ome members view these salespeople as intruding on the time of their own sales for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52280" y="312408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19720" y="31240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52880" y="4343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Missionary Selling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125880" y="23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6520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1524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5360" y="17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124080" y="23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49400" y="1905120"/>
            <a:ext cx="5220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305320" y="212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45240" y="484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35200" y="124920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158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28600" y="7621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66200" y="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8458200" y="152280"/>
            <a:ext cx="0" cy="7621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45820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45960" y="193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975040" y="24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0" y="2057400"/>
            <a:ext cx="522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156280" y="228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595840" y="500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85800" y="14018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838080" y="1066680"/>
            <a:ext cx="7391520" cy="152424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Annual events organized by associations in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articular industrie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143000" y="3048120"/>
            <a:ext cx="693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Pr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 Narrow"/>
              </a:rPr>
              <a:t>•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Opportunity for manufacturer to sell existing &amp; new channel members substantial quantities of new products face-to-fa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A chance for manufacturers to socialize with channel memb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•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reates a sense of pride and belonging in channel members that sell its produc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80880" y="304812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952880" y="419112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Trade Show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371600"/>
            <a:ext cx="8305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228600"/>
            <a:ext cx="0" cy="1828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8640" y="114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760" y="7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8280" y="194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1600200"/>
            <a:ext cx="206064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ll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1788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27360" y="653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6858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6480" y="638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7680" y="577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ll Strategy &amp;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Strategy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867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2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51480" y="1600200"/>
            <a:ext cx="2167920" cy="459720"/>
          </a:xfrm>
          <a:prstGeom prst="rect">
            <a:avLst/>
          </a:prstGeom>
          <a:gradFill rotWithShape="0">
            <a:gsLst>
              <a:gs pos="0">
                <a:srgbClr val="feebc5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sh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1828440" y="220968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6057360" y="2247840"/>
            <a:ext cx="762120" cy="685800"/>
          </a:xfrm>
          <a:custGeom>
            <a:avLst/>
            <a:gdLst>
              <a:gd name="textAreaLeft" fmla="*/ 0 w 762120"/>
              <a:gd name="textAreaRight" fmla="*/ 762480 w 762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4800" y="3505320"/>
            <a:ext cx="3458880" cy="3020040"/>
          </a:xfrm>
          <a:prstGeom prst="rect">
            <a:avLst/>
          </a:prstGeom>
          <a:gradFill rotWithShape="0">
            <a:gsLst>
              <a:gs pos="0">
                <a:srgbClr val="fedf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nufacturer builds stro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consumer demand for a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duct to force member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o automatically promot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the manufacturer’s produc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because it is in their obviou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self-interest to do so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505320"/>
            <a:ext cx="4114800" cy="3020040"/>
          </a:xfrm>
          <a:prstGeom prst="rect">
            <a:avLst/>
          </a:prstGeom>
          <a:gradFill rotWithShape="0">
            <a:gsLst>
              <a:gs pos="0">
                <a:srgbClr val="fedc9a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Manufacturer develops mutual effort &amp; cooperation in the development &amp; implementation of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 Narrow"/>
              </a:rPr>
              <a:t>promotional strategies by working directly with members to develop strong &amp; viable promotional suppor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57360" y="1079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990720"/>
            <a:ext cx="80773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97680" y="5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29600" y="304920"/>
            <a:ext cx="0" cy="990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65680" y="30636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19400" y="3170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68360" y="240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5680" y="2743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75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 </a:t>
            </a: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al Strategie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7960" y="-130320"/>
            <a:ext cx="184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3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3080" y="11430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Pull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30360" y="2057400"/>
            <a:ext cx="197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28320" y="3048120"/>
            <a:ext cx="2669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320" y="4114800"/>
            <a:ext cx="3382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nal us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(consumer or industria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37120" y="4114800"/>
            <a:ext cx="3382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nal us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(consumer or industria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66800" y="3048120"/>
            <a:ext cx="2669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9200" y="1981080"/>
            <a:ext cx="197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8200" y="11430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Push Strategy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33720" y="25146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514600"/>
            <a:ext cx="0" cy="5335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33720" y="3504960"/>
            <a:ext cx="0" cy="6094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3505320"/>
            <a:ext cx="0" cy="6094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4" idx="1"/>
            <a:endCxn id="96" idx="1"/>
          </p:cNvCxnSpPr>
          <p:nvPr/>
        </p:nvCxnSpPr>
        <p:spPr>
          <a:xfrm flipV="1" rot="10800000">
            <a:off x="913680" y="2290320"/>
            <a:ext cx="610200" cy="2240640"/>
          </a:xfrm>
          <a:prstGeom prst="bentConnector3">
            <a:avLst>
              <a:gd name="adj1" fmla="val 137485"/>
            </a:avLst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228600" y="2514600"/>
            <a:ext cx="4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1*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3920" y="2514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2360" y="2514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438280"/>
            <a:ext cx="0" cy="6098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2438280"/>
            <a:ext cx="0" cy="60984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2438280"/>
            <a:ext cx="0" cy="6098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514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3800" y="5205240"/>
            <a:ext cx="436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*Numbers indicate sequenc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of flow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† </a:t>
            </a: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Sequence of flows i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simultaneou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2240" y="24382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Narrow"/>
              </a:rPr>
              <a:t>†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505320"/>
            <a:ext cx="0" cy="60948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505320"/>
            <a:ext cx="0" cy="60948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3505320"/>
            <a:ext cx="0" cy="6094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77360" y="5433840"/>
            <a:ext cx="25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Promo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Negotiation flow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Palatino"/>
              </a:rPr>
              <a:t>Product flow   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67480" y="5638680"/>
            <a:ext cx="99072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6019920"/>
            <a:ext cx="990720" cy="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6400800"/>
            <a:ext cx="990720" cy="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91856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152280"/>
            <a:ext cx="0" cy="1600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27880" y="150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371600"/>
            <a:ext cx="82296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59920" y="109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17960" y="230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97360" y="33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68840" y="417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68560" y="478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820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romotion Through </a:t>
            </a:r>
            <a:br>
              <a:rPr sz="3200"/>
            </a:b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Channel Member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205740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35812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4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31800" y="4800600"/>
            <a:ext cx="6447240" cy="1557000"/>
          </a:xfrm>
          <a:prstGeom prst="rect">
            <a:avLst/>
          </a:prstGeom>
          <a:gradFill rotWithShape="0">
            <a:gsLst>
              <a:gs pos="0">
                <a:srgbClr val="fedd9d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and a higher probability of being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avorably received by the 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7960" y="1828800"/>
            <a:ext cx="3876480" cy="1922760"/>
          </a:xfrm>
          <a:prstGeom prst="rect">
            <a:avLst/>
          </a:prstGeom>
          <a:gradFill rotWithShape="0">
            <a:gsLst>
              <a:gs pos="0">
                <a:srgbClr val="fed88e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es that are par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an overal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rogram of manufactur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upport of channel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member nee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18840" y="1828800"/>
            <a:ext cx="3454200" cy="1922760"/>
          </a:xfrm>
          <a:prstGeom prst="rect">
            <a:avLst/>
          </a:prstGeom>
          <a:gradFill rotWithShape="0">
            <a:gsLst>
              <a:gs pos="0">
                <a:srgbClr val="feda9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Strategies that involve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channel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3277800">
            <a:off x="2725920" y="420768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7270800">
            <a:off x="5088240" y="420768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68600" y="24019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&amp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21932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28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Times New Roman"/>
              </a:rPr>
              <a:t>Objective 5: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2514600"/>
            <a:ext cx="6172200" cy="38019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ll of the studies suggest that ad hoc,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quick-fix, and frequently offered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sh promotions do no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foster high levels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f channel member suppor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on a consistent basi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600200"/>
            <a:ext cx="121428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1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67640" y="1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2808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10480" y="2286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752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78800" y="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712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1796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2133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388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438280"/>
            <a:ext cx="6172200" cy="34362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Push promotions should be viewed as part of strategic channel management rather than as mere tactical actions to elicit quick channel member responses to sell more product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6524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1447920"/>
            <a:ext cx="121464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2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2514600"/>
            <a:ext cx="6172200" cy="38019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8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Given the wide range of factors that can affect channel members’ responses to promotions, manufacturers should study channel members’ needs carefully before launching major push promo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1523880"/>
            <a:ext cx="1214640" cy="1214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3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458200" y="150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47800" y="137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1880" y="792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460000" y="15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927920" y="7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88320" y="11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43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129528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594360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563868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64400" y="1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24840" y="12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607600" y="22860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4640" y="298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7556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454960" y="228600"/>
            <a:ext cx="0" cy="144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880" y="140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14720" y="154080"/>
            <a:ext cx="5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7a8d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1200" y="21337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9716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00640" y="227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11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2575080"/>
            <a:ext cx="6172200" cy="33858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fa5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Geneva"/>
              </a:rPr>
              <a:t>A tradition of postpromotion (follow-up) research to evaluate channel member responses to push promotions is needed if manufacturers expect to make steady progress in improving the effectiveness of push promotions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62000" y="1859040"/>
            <a:ext cx="184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1523880"/>
            <a:ext cx="1214640" cy="1214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pple Chancery"/>
              </a:rPr>
              <a:t>4.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7a8d"/>
                </a:solidFill>
                <a:latin typeface="Palatino"/>
              </a:rPr>
              <a:t>Push Promotion Research Findings</a:t>
            </a:r>
            <a:endParaRPr b="0" lang="en-US" sz="3200" spc="-1" strike="noStrike">
              <a:solidFill>
                <a:srgbClr val="6e7a8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8:47:24Z</dcterms:created>
  <dc:creator>Kathryn Bundy</dc:creator>
  <dc:description/>
  <dc:language>en-US</dc:language>
  <cp:lastModifiedBy>TL User</cp:lastModifiedBy>
  <dcterms:modified xsi:type="dcterms:W3CDTF">2003-07-07T19:05:49Z</dcterms:modified>
  <cp:revision>446</cp:revision>
  <dc:subject/>
  <dc:title>Part 1</dc:title>
</cp:coreProperties>
</file>