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EB2-8786-47E9-9862-6860B689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739-6BEE-42A5-8E6A-B181D9E8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A7A-2984-4390-B1B7-54919B72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DC8-D41D-40F7-814D-CC347BFA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797-867F-4540-AD65-555E4E50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375-DCC5-4E60-8778-798FD5C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64C-E80B-46ED-B4C5-0FCD7C4B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206-94CD-4E48-860E-5F42A98D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7C2-A982-4AFF-A5AA-65624E01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73A-6DC6-4A5F-B7D5-8FD2AB71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BD0-7D3E-41B8-B96D-C08B2CA0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695-22B0-4D2F-84FD-0D465A61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36F9-E596-47D5-A253-6AAD8FD6372E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2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61976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Promotion Through th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36957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spite the manufacturer’s best efforts, large and powerful channel members will inevitably come into conflict with the manufacturer over promotional issues because their interests and goals will at times diver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5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Push Promotiona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1828800"/>
            <a:ext cx="7619760" cy="416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Allow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lotting Fe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 &amp; Selling Ai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ests &amp; Incen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 Promotional Deals &amp; Merchandis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mpaig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dvertis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200" y="13716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61000" y="1371600"/>
            <a:ext cx="4767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sharing in the cost on a 50–5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is up to some percentag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er’s purchases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8240" y="35053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276720"/>
            <a:ext cx="5926320" cy="33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 administratio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is necessary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oid abuses &amp; to help sec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on from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Channel manager must be sens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’ primary concer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this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411480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Allow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58160" y="1371600"/>
            <a:ext cx="55926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ffers 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direct cash payment or a certa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the purchases 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88720" y="4038480"/>
            <a:ext cx="593856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con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to determine whether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getting its money’s worth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rms of retailer cooperation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llow-throu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lotting Fe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4120" y="1447920"/>
            <a:ext cx="57510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by manufacturer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uade channel members, especi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, to stock, display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new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61840" y="4114800"/>
            <a:ext cx="64306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Joint sponsorship of resea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tween retailers and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effects of slotting fees on vari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ics could help alleviate 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plays &amp; Selling Ai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54360" y="1447920"/>
            <a:ext cx="534996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point-of-purchase (POP)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dealer identification sign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kits, special in-st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&amp; mailing pie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40240" y="4114800"/>
            <a:ext cx="63118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should mak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 to see whether the firm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ids and displays are serv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y useful purpo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-Store Promo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637000" y="1447920"/>
            <a:ext cx="5523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rt-term events designed to cre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ded interest and excitem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the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51560" y="4114800"/>
            <a:ext cx="59047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planning of a success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 should alw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considerati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tential benefits fo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inv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ntests &amp; Incen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30600" y="1447920"/>
            <a:ext cx="534996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iques that manufacturers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timulate channel member sal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s for thei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00400" y="3733920"/>
            <a:ext cx="5334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put much effort into determining the view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ard this form of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pecial Promotional Deals &amp; Merchandising Campaig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188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02200" y="18288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84680" y="1676520"/>
            <a:ext cx="5478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a variety of push-typ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deals such as discoun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 to encourag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m to order mor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28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650680" y="4114800"/>
            <a:ext cx="63223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need to develo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efully planned strategies that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d on knowledge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 and that take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-term perspective on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the market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00200" y="28954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76520" y="47242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30592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“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inder &amp; Gentler”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" y="1522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s 7 &amp;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2209680"/>
            <a:ext cx="6019560" cy="41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d68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ining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ota Specif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ssionary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ember Support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716256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y is channel member support one of the major tools of the manufacturer’s promotional mix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12000">
            <a:off x="3807720" y="3887280"/>
            <a:ext cx="841320" cy="838440"/>
          </a:xfrm>
          <a:custGeom>
            <a:avLst/>
            <a:gdLst>
              <a:gd name="textAreaLeft" fmla="*/ 131400 w 841320"/>
              <a:gd name="textAreaRight" fmla="*/ 736200 w 841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5105520"/>
            <a:ext cx="7238880" cy="155700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 products and services are not so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final custom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610480" y="15228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ining Program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52280" y="1143000"/>
            <a:ext cx="8610840" cy="29718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Wholesale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Help wholesalers’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skill in counseling customers they call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Retail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Help retailer’s product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counseling customers on product us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66680" y="43434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r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ca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sist wholesal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&amp; retailers by hel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offset the cos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81480" y="43434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re is often litt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ime for training.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0880" y="43434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95680" y="44197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458200" y="30492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45820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764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2280" y="1143000"/>
            <a:ext cx="8305920" cy="15238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ales volumes that manufacturers specify for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embers to generate during a certain time perio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2120" y="28954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amount to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bstantial sum and can make a major difference in the dealers’ overall profit pi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be effective in improving channel member promotional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105520" y="289548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f presented in a coercive fashion, it can produce ill will and conflict rather than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 may ignore quota if manufacturer’s line does not make up an important part of the member’s product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280" y="29718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19720" y="29718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Quota Specific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52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81524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360" y="193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58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49400" y="205740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05320" y="228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45240" y="500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35200" y="14018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58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666200" y="35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458200" y="45720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45820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5960" y="20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976480" y="260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220968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56280" y="243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584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1554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52280" y="1295280"/>
            <a:ext cx="83059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nufacturer’s salespeople who are specially assign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o supplement the selling activit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62120" y="31240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useful strategy when channel members lack sales capacity or competence to handle tasks assigned to th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Useful when channel members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desire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this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312408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s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cause conflict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ome members view these salespeople as intruding on the time of their own sales for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2280" y="312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31240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52880" y="4343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issionary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124080" y="23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8600" y="7621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458200" y="15228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7504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38080" y="1066680"/>
            <a:ext cx="73915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Annual events organized by association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articular indust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304812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pportunity for manufacturer to sell existing &amp; new channel members substantial quantities of new products face-to-f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chance for manufacturers to socialize with channel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ates a sense of pride and belonging in channel members that sell it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0880" y="30481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e Show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37160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600200"/>
            <a:ext cx="206064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ll Strategy &amp;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51480" y="1600200"/>
            <a:ext cx="216792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1828440" y="22096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6057360" y="224784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4800" y="3505320"/>
            <a:ext cx="3458880" cy="302004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builds str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sumer demand for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t to force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automatically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manufacturer’s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ecause it is in their obviou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interest to do so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505320"/>
            <a:ext cx="4114800" cy="3020040"/>
          </a:xfrm>
          <a:prstGeom prst="rect">
            <a:avLst/>
          </a:prstGeom>
          <a:gradFill rotWithShape="0">
            <a:gsLst>
              <a:gs pos="0">
                <a:srgbClr val="fedc9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develops mutual effort &amp; cooperation in the development &amp; implementation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motional strategies by working directly with members to develop strong &amp; viable promotional suppor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304920"/>
            <a:ext cx="0" cy="990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3080" y="1143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30360" y="205740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832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371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6680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9200" y="198108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8200" y="11430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50496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4" idx="1"/>
            <a:endCxn id="96" idx="1"/>
          </p:cNvCxnSpPr>
          <p:nvPr/>
        </p:nvCxnSpPr>
        <p:spPr>
          <a:xfrm flipV="1" rot="10800000">
            <a:off x="913680" y="2290320"/>
            <a:ext cx="610200" cy="2240640"/>
          </a:xfrm>
          <a:prstGeom prst="bentConnector3">
            <a:avLst>
              <a:gd name="adj1" fmla="val 137485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600" y="2514600"/>
            <a:ext cx="4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1*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236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438280"/>
            <a:ext cx="0" cy="6098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438280"/>
            <a:ext cx="0" cy="60984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2438280"/>
            <a:ext cx="0" cy="6098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3800" y="5205240"/>
            <a:ext cx="43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*Numbers indicate sequ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of fl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†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equence of flow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imultane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2240" y="2438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Narrow"/>
              </a:rPr>
              <a:t>†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505320"/>
            <a:ext cx="0" cy="6094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505320"/>
            <a:ext cx="0" cy="60948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77360" y="5433840"/>
            <a:ext cx="25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mo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Negoti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duct flow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5638680"/>
            <a:ext cx="9907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6019920"/>
            <a:ext cx="99072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6400800"/>
            <a:ext cx="99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 Through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31800" y="4800600"/>
            <a:ext cx="6447240" cy="1557000"/>
          </a:xfrm>
          <a:prstGeom prst="rect">
            <a:avLst/>
          </a:prstGeom>
          <a:gradFill rotWithShape="0">
            <a:gsLst>
              <a:gs pos="0">
                <a:srgbClr val="fedd9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nd a higher probability of be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vorably received by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960" y="1828800"/>
            <a:ext cx="3876480" cy="1922760"/>
          </a:xfrm>
          <a:prstGeom prst="rect">
            <a:avLst/>
          </a:prstGeom>
          <a:gradFill rotWithShape="0">
            <a:gsLst>
              <a:gs pos="0">
                <a:srgbClr val="fed88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are pa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n over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 of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of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840" y="1828800"/>
            <a:ext cx="3454200" cy="1922760"/>
          </a:xfrm>
          <a:prstGeom prst="rect">
            <a:avLst/>
          </a:prstGeom>
          <a:gradFill rotWithShape="0">
            <a:gsLst>
              <a:gs pos="0">
                <a:srgbClr val="feda9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invol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3277800">
            <a:off x="272592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7270800">
            <a:off x="508824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68600" y="24019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ll of the studies suggest that ad hoc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ick-fix, and frequently offer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do no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ster high level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channel member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a consistent basi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1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438280"/>
            <a:ext cx="6172200" cy="3436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should be viewed as part of strategic channel management rather than as mere tactical actions to elicit quick channel member responses to sell more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447920"/>
            <a:ext cx="121464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2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iven the wide range of factors that can affect channel members’ responses to promotions, manufacturers should study channel members’ needs carefully before launching major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3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tradition of postpromotion (follow-up) research to evaluate channel member responses to push promotions is needed if manufacturers expect to make steady progress in improving the effectiveness of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4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7T19:05:49Z</dcterms:modified>
  <cp:revision>446</cp:revision>
  <dc:subject/>
  <dc:title>Part 1</dc:title>
</cp:coreProperties>
</file>