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ECE-2CEF-4F29-84BA-93A58686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5B58-93BD-470E-856A-0FB938AB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80D2-6F03-472B-B4D1-5FF80623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0CD-6C85-4DE3-ABF9-AA71D526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2FA-0602-42BA-9754-913888B8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B69-E208-4A6D-9331-2A94ADF4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D28-8547-40D2-912C-376FAE4F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C84-64A9-40A1-8270-3A2B203D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7C4-AE7F-44CA-93F3-D14466BA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650E-2459-4C72-B129-C18E163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D6B-F1EB-4518-97E3-F5C43A47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08B-C295-4016-A2E0-4C6D3008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A392-987B-45F6-B841-388BA0DF2A91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2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61976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Promotion Through th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369576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2575080"/>
            <a:ext cx="6172200" cy="3385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spite the manufacturer’s best efforts, large and powerful channel members will inevitably come into conflict with the manufacturer over promotional issues because their interests and goals will at times diverg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5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Push Promotional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ateg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1828800"/>
            <a:ext cx="7619760" cy="4167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ve Adverti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Allow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lotting Fe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 &amp; Selling Ai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-store Promo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tests &amp; Incen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ecial Promotional Deals &amp; Merchandis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mpaig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operative Advertis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200" y="137160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61000" y="1371600"/>
            <a:ext cx="47678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sharing in the cost on a 50–5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is up to some percentag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etailer’s purchases fro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8240" y="35053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276720"/>
            <a:ext cx="5926320" cy="3385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ective administration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is necessary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oid abuses &amp; to help sec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on from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Channel manager must be sens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members’ primary concer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bout this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76520" y="411480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al Allowa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58160" y="1371600"/>
            <a:ext cx="559260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offers 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direct cash payment or a certa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 of the purchases 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88720" y="4038480"/>
            <a:ext cx="593856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con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arch to determine whether 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getting its money’s worth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rms of retailer cooperation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llow-throug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lotting Fe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4120" y="1447920"/>
            <a:ext cx="575100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ments by manufacturers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suade channel members, especi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, to stock, display,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pport new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61840" y="4114800"/>
            <a:ext cx="643068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Joint sponsorship of resea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tween retailers and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effects of slotting fees on vario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pics could help alleviate 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plays &amp; Selling Aid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54360" y="1447920"/>
            <a:ext cx="534996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point-of-purchase (POP)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, dealer identification sign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kits, special in-sto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, &amp; mailing pie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40240" y="4114800"/>
            <a:ext cx="631188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r should make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ort to see whether the firm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ling aids and displays are serv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y useful purpo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-Store Promot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637000" y="1447920"/>
            <a:ext cx="55238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rt-term events designed to cre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ded interest and excitem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 the manufacturer’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51560" y="4114800"/>
            <a:ext cx="590472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planning of a success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-store promotion should alway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considerations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tential benefits for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 involv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ntests &amp; Incentiv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730600" y="1447920"/>
            <a:ext cx="534996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chniques that manufacturers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timulate channel member sal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orts for their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200400" y="3733920"/>
            <a:ext cx="53341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put much effort into determining the view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ward this form of 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pecial Promotional Deals &amp; Merchandising Campaig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1880" y="4572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02200" y="182880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84680" y="1676520"/>
            <a:ext cx="54781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a variety of push-typ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deals such as discoun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members to encourag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m to order mor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228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650680" y="4114800"/>
            <a:ext cx="632232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need to develo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efully planned strategies that a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ed on knowledge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 needs and that take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-term perspective on 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the market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600200" y="28954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76520" y="47242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830592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381880" y="152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“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Kinder &amp; Gentler”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8600" y="152280"/>
            <a:ext cx="228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s 7 &amp;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19320" y="2209680"/>
            <a:ext cx="6019560" cy="4114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ed687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ining 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Quota Specif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ssionary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Sh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Member Support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828800"/>
            <a:ext cx="7162560" cy="155700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y is channel member support one of the major tools of the manufacturer’s promotional mix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12000">
            <a:off x="3807720" y="3887280"/>
            <a:ext cx="841320" cy="838440"/>
          </a:xfrm>
          <a:custGeom>
            <a:avLst/>
            <a:gdLst>
              <a:gd name="textAreaLeft" fmla="*/ 131400 w 841320"/>
              <a:gd name="textAreaRight" fmla="*/ 736200 w 841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5105520"/>
            <a:ext cx="7238880" cy="155700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ost products and services are not sol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rect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final custom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8610480" y="15228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61048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ining Program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52280" y="1143000"/>
            <a:ext cx="8610840" cy="297180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Wholesale: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Help wholesalers’ knowledge, selling techniqu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nd skill in counseling customers they call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Retail: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Help retailer’s product knowledge, selling techniqu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nd counseling customers on product us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066680" y="434340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r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s ca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ssist wholesal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&amp; retailers by hel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offset the cos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81480" y="43434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re is often littl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ime for training.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0880" y="43434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95680" y="44197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105520" y="40384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158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8600" y="8380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666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458200" y="304920"/>
            <a:ext cx="0" cy="685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45820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45960" y="193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976480" y="24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205740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156280" y="22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59584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85800" y="1401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52280" y="1143000"/>
            <a:ext cx="8305920" cy="152388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Sales volumes that manufacturers specify for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embers to generate during a certain time perio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62120" y="2895480"/>
            <a:ext cx="32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amount to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bstantial sum and can make a major difference in the dealers’ overall profit pi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be effective in improving channel member promotional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105520" y="2895480"/>
            <a:ext cx="358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C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f presented in a coercive fashion, it can produce ill will and conflict rather than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 may ignore quota if manufacturer’s line does not make up an important part of the member’s product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2280" y="29718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419720" y="29718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952880" y="4191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Quota Specific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6520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81524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360" y="193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125880" y="24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49400" y="205740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05320" y="228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45240" y="500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835200" y="14018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58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666200" y="35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458200" y="457200"/>
            <a:ext cx="0" cy="685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45820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5960" y="20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976480" y="2604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220968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156280" y="243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59584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85800" y="1554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52280" y="1295280"/>
            <a:ext cx="8305920" cy="152424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anufacturer’s salespeople who are specially assign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to supplement the selling activitie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62120" y="3124080"/>
            <a:ext cx="32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 useful strategy when channel members lack sales capacity or competence to handle tasks assigned to th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Useful when channel members </a:t>
            </a: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desire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this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05520" y="3124080"/>
            <a:ext cx="358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C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s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cause conflicts in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ome members view these salespeople as intruding on the time of their own sales for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52280" y="312408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19720" y="31240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52880" y="4343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issionary Sell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124080" y="23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158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28600" y="7621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66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8458200" y="152280"/>
            <a:ext cx="0" cy="762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45820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45960" y="193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97504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0" y="205740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156280" y="22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59584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85800" y="1401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838080" y="1066680"/>
            <a:ext cx="7391520" cy="152424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Annual events organized by associations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articular industr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43000" y="3048120"/>
            <a:ext cx="693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pportunity for manufacturer to sell existing &amp; new channel members substantial quantities of new products face-to-f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 chance for manufacturers to socialize with channel memb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reates a sense of pride and belonging in channel members that sell it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80880" y="30481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952880" y="4191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de Show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37160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1600200"/>
            <a:ext cx="206064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ll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ll Strategy &amp;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51480" y="1600200"/>
            <a:ext cx="216792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1828440" y="22096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6057360" y="224784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4800" y="3505320"/>
            <a:ext cx="3458880" cy="3020040"/>
          </a:xfrm>
          <a:prstGeom prst="rect">
            <a:avLst/>
          </a:prstGeom>
          <a:gradFill rotWithShape="0">
            <a:gsLst>
              <a:gs pos="0">
                <a:srgbClr val="fedf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nufacturer builds stro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onsumer demand for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t to force memb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 automatically promo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manufacturer’s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because it is in their obviou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f-interest to do so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505320"/>
            <a:ext cx="4114800" cy="3020040"/>
          </a:xfrm>
          <a:prstGeom prst="rect">
            <a:avLst/>
          </a:prstGeom>
          <a:gradFill rotWithShape="0">
            <a:gsLst>
              <a:gs pos="0">
                <a:srgbClr val="fedc9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nufacturer develops mutual effort &amp; cooperation in the development &amp; implementation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motional strategies by working directly with members to develop strong &amp; viable promotional suppor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9907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29600" y="304920"/>
            <a:ext cx="0" cy="990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65680" y="30636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al Strateg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3080" y="11430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ull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30360" y="2057400"/>
            <a:ext cx="197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28320" y="3048120"/>
            <a:ext cx="2669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4114800"/>
            <a:ext cx="338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al 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(consumer or industria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37120" y="4114800"/>
            <a:ext cx="338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al 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(consumer or industria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66800" y="3048120"/>
            <a:ext cx="2669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9200" y="1981080"/>
            <a:ext cx="197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8200" y="11430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ush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25146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5146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50496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350532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4" idx="1"/>
            <a:endCxn id="96" idx="1"/>
          </p:cNvCxnSpPr>
          <p:nvPr/>
        </p:nvCxnSpPr>
        <p:spPr>
          <a:xfrm flipV="1" rot="10800000">
            <a:off x="913680" y="2290320"/>
            <a:ext cx="610200" cy="2240640"/>
          </a:xfrm>
          <a:prstGeom prst="bentConnector3">
            <a:avLst>
              <a:gd name="adj1" fmla="val 137485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228600" y="2514600"/>
            <a:ext cx="4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1*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3920" y="2514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2360" y="2514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438280"/>
            <a:ext cx="0" cy="6098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2438280"/>
            <a:ext cx="0" cy="60984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2438280"/>
            <a:ext cx="0" cy="6098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514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3800" y="5205240"/>
            <a:ext cx="436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*Numbers indicate sequ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of fl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†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Sequence of flows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simultaneo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2240" y="2438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Narrow"/>
              </a:rPr>
              <a:t>†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505320"/>
            <a:ext cx="0" cy="60948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505320"/>
            <a:ext cx="0" cy="60948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350532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77360" y="5433840"/>
            <a:ext cx="25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Promo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Negotia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Product flow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5638680"/>
            <a:ext cx="99072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6019920"/>
            <a:ext cx="99072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6400800"/>
            <a:ext cx="9907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 Through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31800" y="4800600"/>
            <a:ext cx="6447240" cy="1557000"/>
          </a:xfrm>
          <a:prstGeom prst="rect">
            <a:avLst/>
          </a:prstGeom>
          <a:gradFill rotWithShape="0">
            <a:gsLst>
              <a:gs pos="0">
                <a:srgbClr val="fedd9d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and a higher probability of be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vorably received by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7960" y="1828800"/>
            <a:ext cx="3876480" cy="1922760"/>
          </a:xfrm>
          <a:prstGeom prst="rect">
            <a:avLst/>
          </a:prstGeom>
          <a:gradFill rotWithShape="0">
            <a:gsLst>
              <a:gs pos="0">
                <a:srgbClr val="fed88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es that are pa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an over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gram of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pport of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 nee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18840" y="1828800"/>
            <a:ext cx="3454200" cy="1922760"/>
          </a:xfrm>
          <a:prstGeom prst="rect">
            <a:avLst/>
          </a:prstGeom>
          <a:gradFill rotWithShape="0">
            <a:gsLst>
              <a:gs pos="0">
                <a:srgbClr val="feda9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es that invol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3277800">
            <a:off x="2725920" y="42076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7270800">
            <a:off x="5088240" y="42076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68600" y="24019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2514600"/>
            <a:ext cx="6172200" cy="3801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ll of the studies suggest that ad hoc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quick-fix, and frequently offer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promotions do no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ster high level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channel member suppo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a consistent basi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600200"/>
            <a:ext cx="121428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1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438280"/>
            <a:ext cx="6172200" cy="3436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promotions should be viewed as part of strategic channel management rather than as mere tactical actions to elicit quick channel member responses to sell more produ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447920"/>
            <a:ext cx="121464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2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514600"/>
            <a:ext cx="6172200" cy="3801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iven the wide range of factors that can affect channel members’ responses to promotions, manufacturers should study channel members’ needs carefully before launching major push promo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3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2575080"/>
            <a:ext cx="6172200" cy="3385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tradition of postpromotion (follow-up) research to evaluate channel member responses to push promotions is needed if manufacturers expect to make steady progress in improving the effectiveness of push promo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4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7T19:05:49Z</dcterms:modified>
  <cp:revision>446</cp:revision>
  <dc:subject/>
  <dc:title>Part 1</dc:title>
</cp:coreProperties>
</file>