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E85-579A-4C78-9B51-8BE3685D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1FA-A818-47EF-A1AD-489FD9F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9C7-D03D-41B5-BF78-8D319C47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66B-0066-40AC-B1C0-9E1FEC6D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45D-A3AF-42C3-9B17-3F6B308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8B7-E56E-40AE-931B-50B03332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123-4E9D-49CF-B969-27951AF4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2F6-87CA-4663-AC98-B905D61A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35E-9AC1-4E2C-8F06-AA389C6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86-B10E-4AD7-B108-831DCF0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44B-CFBA-4DE1-8637-CCE48DAE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90F-5D87-4E62-A8FF-97A8329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7AB4-7BC9-457A-8818-28ED4CB6857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2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motion Through th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6957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pite the manufacturer’s best efforts, large and powerful channel members will inevitably come into conflict with the manufacturer over promotional issues because their interests and goals will at times diver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5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Push Promotion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828800"/>
            <a:ext cx="7619760" cy="416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tting F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 &amp; Selling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&amp;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Promotional Deals &amp; Merchandis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mpaig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dverti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00" y="13716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61000" y="1371600"/>
            <a:ext cx="4767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sharing in the cost on a 50–5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is up to some percentag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er’s purchas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240" y="35053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276720"/>
            <a:ext cx="592632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 administratio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is necessary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abuses &amp; to help sec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on 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annel manager must be sens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’ primary concer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is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114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Allow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8160" y="1371600"/>
            <a:ext cx="55926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fers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direct cash payment or a certa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the purchase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720" y="4038480"/>
            <a:ext cx="593856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con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to determine whether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getting its money’s worth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rms of retailer cooperation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llow-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lotting Fe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4120" y="1447920"/>
            <a:ext cx="57510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by manufacturer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uade channel members, especi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, to stock, display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1840" y="4114800"/>
            <a:ext cx="643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Joint sponsorship of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retailers and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effects of slotting fees on vari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ics could help alleviate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plays &amp; Selling Ai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4360" y="1447920"/>
            <a:ext cx="53499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point-of-purchase (POP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dealer identification sign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kits, special in-st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&amp; mailing pie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40240" y="4114800"/>
            <a:ext cx="63118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should mak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 to see whether the 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ids and displays are ser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y useful purp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-Store Promo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37000" y="1447920"/>
            <a:ext cx="5523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rt-term events designed to cre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ed interest and excite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1560" y="4114800"/>
            <a:ext cx="59047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lanning of a success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 should alw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consid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benefits fo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tests &amp; Incen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1447920"/>
            <a:ext cx="53499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ques that manufacturers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timulate channel member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s for thei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00400" y="3733920"/>
            <a:ext cx="5334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put much effort into determining the view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ard this form of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pecial Promotional Deals &amp; Merchandising Campaig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200" y="18288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84680" y="1676520"/>
            <a:ext cx="5478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a variety of push-typ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deals such as discou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 to encour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m to order mor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28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50680" y="4114800"/>
            <a:ext cx="63223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need to devel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fully planned strategies that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knowledge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 and that take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perspective on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2895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47242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“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inder &amp; Gentler”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" y="1522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7 &amp;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209680"/>
            <a:ext cx="6019560" cy="41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d68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ota Specif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ssionary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upport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716256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y is channel member support one of the major tools of the manufacturer’s promotional mix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12000">
            <a:off x="3807720" y="3887280"/>
            <a:ext cx="841320" cy="838440"/>
          </a:xfrm>
          <a:custGeom>
            <a:avLst/>
            <a:gdLst>
              <a:gd name="textAreaLeft" fmla="*/ 131400 w 841320"/>
              <a:gd name="textAreaRight" fmla="*/ 736200 w 841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105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products and services are not so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final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61048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ining Progra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1143000"/>
            <a:ext cx="8610840" cy="29718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Wholesale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Help wholesalers’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skill in counseling customers they call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Retail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Help retailer’s product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counseling customers on product us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4343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c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st wholesal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retailers by hel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offset the co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4343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often litt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for training.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4343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95680" y="4419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92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1143000"/>
            <a:ext cx="830592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volumes that manufacturers specify fo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s to generate during a certain time peri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28954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amount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bstantial sum and can make a major difference in the dealers’ overall profit pi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be effective in improving channel memb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05520" y="28954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f presented in a coercive fashion, it can produce ill will and conflict rather than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 may ignore quota if manufacturer’s line does not make up an important part of the member’s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971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19720" y="2971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Quota Specific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45720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5820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1295280"/>
            <a:ext cx="83059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’s salespeople who are specially assig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o supplement the selling activ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31240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useful strategy when channel members lack sales capacity or competence to handle tasks assigned to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Useful when channel members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desire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this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31240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cause conflict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me members view these salespeople as intruding on the time of their own sales fo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312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3124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issionary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762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458200" y="15228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080" y="1066680"/>
            <a:ext cx="73915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nnual events organized by association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articular indus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30481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portunity for manufacturer to sell existing &amp; new channel members substantial quantities of new products face-to-f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chance for manufacturers to socialize with channel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ates a sense of pride and belonging in channel members that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304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716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600200"/>
            <a:ext cx="20606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ll Strategy &amp;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1480" y="1600200"/>
            <a:ext cx="216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28440" y="22096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057360" y="224784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800" y="3505320"/>
            <a:ext cx="3458880" cy="302004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builds str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umer demand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 to force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automatically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manufacturer’s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cause it is in their obviou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interest to do 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4114800" cy="302004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develops mutual effort &amp; cooperation in the development &amp; implement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al strategies by working directly with members to develop strong &amp; viable promotional suppor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04920"/>
            <a:ext cx="0" cy="99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3080" y="114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205740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832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71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6680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9200" y="198108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200" y="1143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50496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1"/>
            <a:endCxn id="96" idx="1"/>
          </p:cNvCxnSpPr>
          <p:nvPr/>
        </p:nvCxnSpPr>
        <p:spPr>
          <a:xfrm flipV="1" rot="10800000">
            <a:off x="913680" y="2290320"/>
            <a:ext cx="610200" cy="2240640"/>
          </a:xfrm>
          <a:prstGeom prst="bentConnector3">
            <a:avLst>
              <a:gd name="adj1" fmla="val 137485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514600"/>
            <a:ext cx="4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1*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0" cy="6098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438280"/>
            <a:ext cx="0" cy="6098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5205240"/>
            <a:ext cx="43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*Numbers indicate sequ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of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†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equence of flow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imultane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224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Narrow"/>
              </a:rPr>
              <a:t>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505320"/>
            <a:ext cx="0" cy="609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77360" y="543384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duct flow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56386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019920"/>
            <a:ext cx="9907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640080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Through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1800" y="4800600"/>
            <a:ext cx="6447240" cy="1557000"/>
          </a:xfrm>
          <a:prstGeom prst="rect">
            <a:avLst/>
          </a:pr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nd a higher probability of be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vorably received by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960" y="1828800"/>
            <a:ext cx="3876480" cy="1922760"/>
          </a:xfrm>
          <a:prstGeom prst="rect">
            <a:avLst/>
          </a:prstGeom>
          <a:gradFill rotWithShape="0">
            <a:gsLst>
              <a:gs pos="0">
                <a:srgbClr val="fed88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are pa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n 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of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of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840" y="1828800"/>
            <a:ext cx="3454200" cy="1922760"/>
          </a:xfrm>
          <a:prstGeom prst="rect">
            <a:avLst/>
          </a:prstGeom>
          <a:gradFill rotWithShape="0">
            <a:gsLst>
              <a:gs pos="0">
                <a:srgbClr val="feda9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invol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277800">
            <a:off x="272592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7270800">
            <a:off x="508824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8600" y="2401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 of the studies suggest that ad hoc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ick-fix, and frequently offer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do no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ster high level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channel member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a consistent bas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1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438280"/>
            <a:ext cx="6172200" cy="3436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should be viewed as part of strategic channel management rather than as mere tactical actions to elicit quick channel member responses to sell mor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447920"/>
            <a:ext cx="12146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2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iven the wide range of factors that can affect channel members’ responses to promotions, manufacturers should study channel members’ needs carefully before launching major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3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radition of postpromotion (follow-up) research to evaluate channel member responses to push promotions is needed if manufacturers expect to make steady progress in improving the effectiveness of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4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7T19:05:49Z</dcterms:modified>
  <cp:revision>446</cp:revision>
  <dc:subject/>
  <dc:title>Part 1</dc:title>
</cp:coreProperties>
</file>