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552-DD7A-4E9F-BFEF-4EA92F9C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2D1-437C-4029-84E5-E683FD7E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2DF-75B4-4FAA-B7E8-41A58822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DE6-49EF-4A62-978D-9A56385F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5F4-BF1E-47FE-962A-00789014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F1D-C997-4608-9E0F-304EA665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30A-1570-4E02-87F0-AA1AA49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651-F949-4404-8BCE-079AE517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30C-5963-4F59-AFE0-AEBE19F9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9F2-3148-4AD1-9B35-FB1F5C1D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15B-CFD6-4DFE-894E-5D78ACD6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177-7C36-41CB-A8E3-182F855B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BFCD-2E14-4F81-9E01-3AEFD709A3F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3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Logistics and Channel Manage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453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58200" y="22860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219320"/>
            <a:ext cx="8305560" cy="52146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ange of activities &amp; equipment involv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placement &amp; movement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storage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s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Minimizing the distances products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ved within the warehouse during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urse of receiving, storage, &amp; shi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Choosing the kinds of mechanical equipment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at should be us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Making the best use of labor when receiving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ipping, &amp; handling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terials Hand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8195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2286000"/>
            <a:ext cx="8305560" cy="33858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s importance in logistics lies in its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th order cycle time—the time between whe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 order is placed &amp; when it is received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ustom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ing an efficient order processing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rder Proces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411480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844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51796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2133720"/>
            <a:ext cx="8305560" cy="37515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firm’s attempt to hold the lowest level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 that will still enable it to me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 dem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eeping inventory at the lowest possibl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le concurrently placing orders for go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ventory Contro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3581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844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44164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2057400"/>
            <a:ext cx="7925040" cy="41173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holding of products until they are read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be so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s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The location of warehouse facil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The number of warehousing un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The size of the un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4. The design of the un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5. The question of owner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arehou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31240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458200" y="3618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41640" y="3618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144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920" y="120024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2190600"/>
            <a:ext cx="7925040" cy="37515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ckaging &amp; its associated costs can aff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other components of the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ing packaging to make a significa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ence in the effectiveness &amp; effici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logistics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ckag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67080" y="365760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Output of a Logistics Syste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38188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90720" y="2286000"/>
            <a:ext cx="7238880" cy="32004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9f9f9f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 service is the collection of 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formed in filling orders and kee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 happy or creating in the customer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d the perception of an organization that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asy to do business with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ogistics Service Standar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1143000"/>
            <a:ext cx="7619760" cy="49496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ime from order receipt to order shi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 size &amp; assortment constrai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items out of sto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orders filled accurate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orders filled within a giv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days from receipt of the or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orders fill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customer orders that arr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good cond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 cycle 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ase &amp; flexibility of order plac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1320" y="6248520"/>
            <a:ext cx="394200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eskett, Galskowsky, &amp; Ivi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ey Elements of Customer Servi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23880" y="1371600"/>
            <a:ext cx="5715000" cy="48488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6a6a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avail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 cycle 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system flexi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system inform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system malfun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sale product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395480" y="6172200"/>
            <a:ext cx="1364760" cy="459720"/>
          </a:xfrm>
          <a:prstGeom prst="rect">
            <a:avLst/>
          </a:prstGeom>
          <a:gradFill rotWithShape="0">
            <a:gsLst>
              <a:gs pos="0">
                <a:srgbClr val="fed99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aLon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ogistics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42040" y="1828800"/>
            <a:ext cx="322884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gistics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5346600">
            <a:off x="1859040" y="2560680"/>
            <a:ext cx="976320" cy="1036800"/>
          </a:xfrm>
          <a:custGeom>
            <a:avLst/>
            <a:gdLst>
              <a:gd name="textAreaLeft" fmla="*/ 0 w 976320"/>
              <a:gd name="textAreaRight" fmla="*/ 976680 w 97632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44560" y="4114800"/>
            <a:ext cx="3225600" cy="825480"/>
          </a:xfrm>
          <a:prstGeom prst="rect">
            <a:avLst/>
          </a:prstGeom>
          <a:gradFill rotWithShape="0">
            <a:gsLst>
              <a:gs pos="0">
                <a:srgbClr val="fee1a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cerned specific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th 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rot="5346600">
            <a:off x="6126120" y="2560680"/>
            <a:ext cx="976320" cy="1036800"/>
          </a:xfrm>
          <a:custGeom>
            <a:avLst/>
            <a:gdLst>
              <a:gd name="textAreaLeft" fmla="*/ 0 w 976320"/>
              <a:gd name="textAreaRight" fmla="*/ 976680 w 97632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34600" y="1828800"/>
            <a:ext cx="3177000" cy="45972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337720" y="4114800"/>
            <a:ext cx="2686320" cy="1191240"/>
          </a:xfrm>
          <a:prstGeom prst="rect">
            <a:avLst/>
          </a:prstGeom>
          <a:gradFill rotWithShape="0">
            <a:gsLst>
              <a:gs pos="0">
                <a:srgbClr val="fee1a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administr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all the maj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830592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ey Interface Areas between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ogistics &amp;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47920" y="1752480"/>
            <a:ext cx="5790960" cy="825480"/>
          </a:xfrm>
          <a:prstGeom prst="rect">
            <a:avLst/>
          </a:prstGeom>
          <a:solidFill>
            <a:srgbClr val="6e7a8d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face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of logistics service standa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47920" y="2819520"/>
            <a:ext cx="5790960" cy="1191240"/>
          </a:xfrm>
          <a:prstGeom prst="rect">
            <a:avLst/>
          </a:prstGeom>
          <a:solidFill>
            <a:srgbClr val="6e7a8d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face 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sure the logistics program me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nel members’ service standa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47920" y="4267080"/>
            <a:ext cx="5790960" cy="825480"/>
          </a:xfrm>
          <a:prstGeom prst="rect">
            <a:avLst/>
          </a:prstGeom>
          <a:solidFill>
            <a:srgbClr val="6e7a8d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face 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ing the logistics pro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47920" y="5334120"/>
            <a:ext cx="5790960" cy="1191240"/>
          </a:xfrm>
          <a:prstGeom prst="rect">
            <a:avLst/>
          </a:prstGeom>
          <a:solidFill>
            <a:srgbClr val="6e7a8d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face 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ing the results of the logistic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1372" name=""/>
          <p:cNvCxnSpPr>
            <a:stCxn id="1368" idx="1"/>
            <a:endCxn id="1369" idx="1"/>
          </p:cNvCxnSpPr>
          <p:nvPr/>
        </p:nvCxnSpPr>
        <p:spPr>
          <a:xfrm flipH="1" flipV="1" rot="10800000">
            <a:off x="1433160" y="2176920"/>
            <a:ext cx="2160" cy="1250280"/>
          </a:xfrm>
          <a:prstGeom prst="bentConnector3">
            <a:avLst>
              <a:gd name="adj1" fmla="val -13500000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373" name=""/>
          <p:cNvCxnSpPr>
            <a:stCxn id="1369" idx="3"/>
            <a:endCxn id="1370" idx="3"/>
          </p:cNvCxnSpPr>
          <p:nvPr/>
        </p:nvCxnSpPr>
        <p:spPr>
          <a:xfrm>
            <a:off x="7253280" y="3427560"/>
            <a:ext cx="2160" cy="1265760"/>
          </a:xfrm>
          <a:prstGeom prst="bentConnector3">
            <a:avLst>
              <a:gd name="adj1" fmla="val 13500000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374" name=""/>
          <p:cNvCxnSpPr>
            <a:stCxn id="1370" idx="1"/>
            <a:endCxn id="1371" idx="1"/>
          </p:cNvCxnSpPr>
          <p:nvPr/>
        </p:nvCxnSpPr>
        <p:spPr>
          <a:xfrm flipH="1" flipV="1" rot="10800000">
            <a:off x="1433160" y="4691520"/>
            <a:ext cx="2160" cy="1250280"/>
          </a:xfrm>
          <a:prstGeom prst="bentConnector3">
            <a:avLst>
              <a:gd name="adj1" fmla="val -13500000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933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gistic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1800" y="1905120"/>
            <a:ext cx="1445400" cy="52056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L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ogistic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2560" y="4114800"/>
            <a:ext cx="6179040" cy="192276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lanning, implementing, and controll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hysical flows of materials and final go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rom points of origin to points of use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eet customers’ needs at a profi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97180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341600">
            <a:off x="5562720" y="175248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711200">
            <a:off x="4266720" y="167652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289000">
            <a:off x="3048120" y="228600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0656800">
            <a:off x="1828440" y="274284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1558600">
            <a:off x="7696080" y="297144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555800">
            <a:off x="6629400" y="236232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61048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fining Logistics Service Standar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212200" y="1752480"/>
            <a:ext cx="4789440" cy="119124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higher the service standard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higher the cos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85800" y="3962520"/>
            <a:ext cx="769608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 for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termining precisely the types and lev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logistics service desired by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85800" y="2209680"/>
            <a:ext cx="1190520" cy="15192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278280 h 1519200"/>
              <a:gd name="textAreaBottom" fmla="*/ 103932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2761066"/>
                <a:lnTo>
                  <a:pt x="14400" y="21147"/>
                </a:lnTo>
                <a:lnTo>
                  <a:pt x="21600" y="17280"/>
                </a:lnTo>
                <a:lnTo>
                  <a:pt x="14400" y="12507"/>
                </a:lnTo>
                <a:lnTo>
                  <a:pt x="14400" y="15373"/>
                </a:lnTo>
                <a:arcTo wR="21600" hR="7913" stAng="8038934" swAng="2526014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764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580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6662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845820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5960" y="17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9764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56280" y="212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595840" y="484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8580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952880" y="40384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5904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2400" y="1447920"/>
            <a:ext cx="7431840" cy="192276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f included as a major component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’s overall approach for suppor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 needs, the logistics program may b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key feature of a strategic allianc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06000" y="4343400"/>
            <a:ext cx="846828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 for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suring that the program the experts prepare is w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nnel members wa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ng the Logistics Progra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57200" y="2666880"/>
            <a:ext cx="1190520" cy="15192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278280 h 1519200"/>
              <a:gd name="textAreaBottom" fmla="*/ 103932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2761066"/>
                <a:lnTo>
                  <a:pt x="14400" y="21147"/>
                </a:lnTo>
                <a:lnTo>
                  <a:pt x="21600" y="17280"/>
                </a:lnTo>
                <a:lnTo>
                  <a:pt x="14400" y="12507"/>
                </a:lnTo>
                <a:lnTo>
                  <a:pt x="14400" y="15373"/>
                </a:lnTo>
                <a:arcTo wR="21600" hR="7913" stAng="8038934" swAng="2526014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652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81524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95360" y="193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1258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9400" y="205740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305320" y="228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745240" y="500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835200" y="14018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5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666200" y="35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5960" y="20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976480" y="260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220968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156280" y="243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59584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1554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952880" y="4343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580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662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45820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45960" y="17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9764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156280" y="212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595840" y="484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952880" y="40384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85904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7320" y="1371600"/>
            <a:ext cx="861768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inimize out-of-stock occurrenc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duce channel member inventory requiremen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rengthen the manufacturer-channel member relationshi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85800" y="4267080"/>
            <a:ext cx="777240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 for Manufacturer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tending superior logistics capabilities to help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 improv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heir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logistic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marketing capabilit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ling the Logistics Progra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71600" y="2666880"/>
            <a:ext cx="1190520" cy="15192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278280 h 1519200"/>
              <a:gd name="textAreaBottom" fmla="*/ 103932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2761066"/>
                <a:lnTo>
                  <a:pt x="14400" y="21147"/>
                </a:lnTo>
                <a:lnTo>
                  <a:pt x="21600" y="17280"/>
                </a:lnTo>
                <a:lnTo>
                  <a:pt x="14400" y="12507"/>
                </a:lnTo>
                <a:lnTo>
                  <a:pt x="14400" y="15373"/>
                </a:lnTo>
                <a:arcTo wR="21600" hR="7913" stAng="8038934" swAng="2526014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12408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97504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580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6662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45820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45960" y="17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764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156280" y="212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595840" y="484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8580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952880" y="40384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85904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88680" y="1295280"/>
            <a:ext cx="755064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gistics systems must be continually monitored, bot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terms of how successfully they are perfor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r the manufacturer and how well they a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eting changing channel member nee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997920" y="4572000"/>
            <a:ext cx="727488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 for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inually monitoring the channel members’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actions to logistics program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onitoring the Logistics Syste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28600" y="2743200"/>
            <a:ext cx="1190520" cy="15192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278280 h 1519200"/>
              <a:gd name="textAreaBottom" fmla="*/ 103932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2761066"/>
                <a:lnTo>
                  <a:pt x="14400" y="21147"/>
                </a:lnTo>
                <a:lnTo>
                  <a:pt x="21600" y="17280"/>
                </a:lnTo>
                <a:lnTo>
                  <a:pt x="14400" y="12507"/>
                </a:lnTo>
                <a:lnTo>
                  <a:pt x="14400" y="15373"/>
                </a:lnTo>
                <a:arcTo wR="21600" hR="7913" stAng="8038934" swAng="2526014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2952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upply Chain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7080" y="2209680"/>
            <a:ext cx="4151880" cy="520560"/>
          </a:xfrm>
          <a:prstGeom prst="rect">
            <a:avLst/>
          </a:prstGeom>
          <a:gradFill rotWithShape="0">
            <a:gsLst>
              <a:gs pos="0">
                <a:srgbClr val="fee1a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upply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hain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62520" y="4191120"/>
            <a:ext cx="5607720" cy="1922760"/>
          </a:xfrm>
          <a:prstGeom prst="rect">
            <a:avLst/>
          </a:prstGeom>
          <a:gradFill rotWithShape="0">
            <a:gsLst>
              <a:gs pos="0">
                <a:srgbClr val="fedc9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Logistical systems that emphasize clo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operation and compreh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organizational management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grate the logistical operati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fferent firm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5146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Role of Logistic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752480"/>
            <a:ext cx="3809880" cy="2210040"/>
          </a:xfrm>
          <a:prstGeom prst="downArrowCallout">
            <a:avLst>
              <a:gd name="adj1" fmla="val 43101"/>
              <a:gd name="adj2" fmla="val 43097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s Ess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99920" y="4495680"/>
            <a:ext cx="5609160" cy="1557000"/>
          </a:xfrm>
          <a:prstGeom prst="rect">
            <a:avLst/>
          </a:prstGeom>
          <a:gradFill rotWithShape="0">
            <a:gsLst>
              <a:gs pos="0">
                <a:srgbClr val="fedb9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ovement of the right amoun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ight products to the right pl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the right 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ird-Party Logistics Provid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57640" y="1295280"/>
            <a:ext cx="61700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ize in performing most or all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gistical tasks that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other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ould normally perform themsel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1720" y="3429000"/>
            <a:ext cx="562140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 service at lower cost tha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who hire third-party prov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39040" y="4724280"/>
            <a:ext cx="45788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rrently growing rapidly in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major indust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ystems Concep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666880"/>
            <a:ext cx="184320" cy="473040"/>
          </a:xfrm>
          <a:prstGeom prst="rect">
            <a:avLst/>
          </a:prstGeom>
          <a:gradFill rotWithShape="0">
            <a:gsLst>
              <a:gs pos="0">
                <a:srgbClr val="fedb9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2666880"/>
            <a:ext cx="2514600" cy="243864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rel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on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133720"/>
            <a:ext cx="2514600" cy="12189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arehou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4114800"/>
            <a:ext cx="2666880" cy="129528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ce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2133720"/>
            <a:ext cx="2514600" cy="12189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teria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d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191120"/>
            <a:ext cx="2514600" cy="12189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r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1143000"/>
            <a:ext cx="2895480" cy="121932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nspor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562720"/>
            <a:ext cx="2590920" cy="1143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ckag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362320"/>
            <a:ext cx="0" cy="304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819520"/>
            <a:ext cx="533160" cy="3808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19520" y="4571640"/>
            <a:ext cx="533160" cy="1522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410080" y="2819520"/>
            <a:ext cx="609840" cy="3808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486400" y="4495680"/>
            <a:ext cx="457200" cy="1526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343400" y="5105520"/>
            <a:ext cx="0" cy="4572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otal Cost Approach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371600"/>
            <a:ext cx="2438280" cy="129528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yst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cep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2514600"/>
            <a:ext cx="5486400" cy="38862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Cost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dresses all the cost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gistics together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s to minimiz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co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886200"/>
            <a:ext cx="3200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362320"/>
            <a:ext cx="609480" cy="8380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ogistics System Compon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1523880"/>
            <a:ext cx="5867640" cy="48488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c7c791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nspor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terials Hand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 Proce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 Contr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arehou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ckag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nsport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600" y="1828800"/>
            <a:ext cx="7594920" cy="44830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 fundamental and necessary compon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counts for the highest percentage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cost of logistic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Overriding issue facing the firm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oosing the optimum mod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nsportation to meet custom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ice deman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33526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1T00:03:07Z</dcterms:modified>
  <cp:revision>484</cp:revision>
  <dc:subject/>
  <dc:title>Part 1</dc:title>
</cp:coreProperties>
</file>