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D2A-076E-4AC7-8D60-ED8EF14D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0AD-506E-4C61-9CAA-3EF67513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592-9836-4F2B-AD67-4E508054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CBE-7F12-4CAE-B5A4-E5A75206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7DD-7E89-4E4B-A22A-322F5B39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395-ED9A-4D45-87DE-FA314421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907-7719-400C-9D9E-37FC8720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4E4-7B33-489D-921C-E69F4084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1D2-6D26-4F60-9C43-33B3AB1D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E5E-6C8E-4E71-8BA9-8811FFB7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D947-241E-4F82-B283-4972771A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909-FE2E-4DF2-BB7A-D2492AA4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B0BC-D3A7-4F30-9AE1-ADE000C705DF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4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505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Evaluating Channel Member Performanc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19720" y="3487680"/>
            <a:ext cx="34290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5820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3716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Key Criteria for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erformance Audi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3920" y="1676520"/>
            <a:ext cx="7431840" cy="48488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ales performance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ventory maintenance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lling capabilitie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ttitude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etition faced by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eneral growth prospect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4640" y="3137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45820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144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ales Performanc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18680" y="1143000"/>
            <a:ext cx="4787640" cy="825480"/>
          </a:xfrm>
          <a:prstGeom prst="rect">
            <a:avLst/>
          </a:prstGeom>
          <a:gradFill rotWithShape="0">
            <a:gsLst>
              <a:gs pos="0">
                <a:srgbClr val="fee8b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riteria channel manag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should use to evaluate sales data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148320" y="2743200"/>
            <a:ext cx="461844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arisons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’s curr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ales to historical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8480" y="4800600"/>
            <a:ext cx="340236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ross comparison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 member’s sales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ose of other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9480" y="2666880"/>
            <a:ext cx="377136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arisons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’s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ith predetermined quot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20" idx="2"/>
            <a:endCxn id="321" idx="0"/>
          </p:cNvCxnSpPr>
          <p:nvPr/>
        </p:nvCxnSpPr>
        <p:spPr>
          <a:xfrm flipH="1">
            <a:off x="2160000" y="1964880"/>
            <a:ext cx="2453400" cy="77868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320" idx="2"/>
            <a:endCxn id="323" idx="0"/>
          </p:cNvCxnSpPr>
          <p:nvPr/>
        </p:nvCxnSpPr>
        <p:spPr>
          <a:xfrm>
            <a:off x="4613040" y="1964880"/>
            <a:ext cx="2383560" cy="7023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0" idx="2"/>
          </p:cNvCxnSpPr>
          <p:nvPr/>
        </p:nvCxnSpPr>
        <p:spPr>
          <a:xfrm>
            <a:off x="4613400" y="1964880"/>
            <a:ext cx="8640" cy="260748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867800" y="2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844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458200" y="380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8000" y="1805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4582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7080" y="96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14640" y="328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62000" y="2163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8200" y="304920"/>
            <a:ext cx="0" cy="838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517960" y="22860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08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62000" y="2163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ventory Maintenanc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1981080"/>
            <a:ext cx="8381880" cy="4483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tal level of channel member’s inven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helf or floor space devoted to inven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helf or floor space provided relative to competitors’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ven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reakdown by particular products in units &amp; dolla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arison of figures with channel members’ estim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urchases of related &amp; competitive lin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dition of inventory &amp; inventory facili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mount of old stock on hand &amp; efforts made to move 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equacy of channel member’s inventory control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cord-keeping syst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1160" y="1295280"/>
            <a:ext cx="8093160" cy="459720"/>
          </a:xfrm>
          <a:prstGeom prst="rect">
            <a:avLst/>
          </a:prstGeom>
          <a:gradFill rotWithShape="0">
            <a:gsLst>
              <a:gs pos="0">
                <a:srgbClr val="fee8b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Key Criteria for evaluating member inventory performance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808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458200" y="304920"/>
            <a:ext cx="0" cy="838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51796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lling Capabilit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08480" y="1143000"/>
            <a:ext cx="5886720" cy="119124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anufacturer who obtains sales recor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for channel members’ salespeople shoul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examine the following factor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0640" y="2819520"/>
            <a:ext cx="3654000" cy="2288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umber of 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ssigns to manufacturer’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lin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57520" y="5181480"/>
            <a:ext cx="5359320" cy="1557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echnical knowledge and compet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channel member’s sales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79440" y="3200400"/>
            <a:ext cx="3772800" cy="1557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alesperson intere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manufacturer’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5" idx="2"/>
            <a:endCxn id="406" idx="0"/>
          </p:cNvCxnSpPr>
          <p:nvPr/>
        </p:nvCxnSpPr>
        <p:spPr>
          <a:xfrm flipH="1">
            <a:off x="1998000" y="2329920"/>
            <a:ext cx="2554920" cy="48960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410" name=""/>
          <p:cNvCxnSpPr>
            <a:stCxn id="405" idx="2"/>
            <a:endCxn id="408" idx="0"/>
          </p:cNvCxnSpPr>
          <p:nvPr/>
        </p:nvCxnSpPr>
        <p:spPr>
          <a:xfrm>
            <a:off x="4552560" y="2329920"/>
            <a:ext cx="2213640" cy="8708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5" idx="2"/>
            <a:endCxn id="407" idx="0"/>
          </p:cNvCxnSpPr>
          <p:nvPr/>
        </p:nvCxnSpPr>
        <p:spPr>
          <a:xfrm flipH="1">
            <a:off x="4436640" y="2330280"/>
            <a:ext cx="116640" cy="285192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867800" y="2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9844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458200" y="380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8000" y="1805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4582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57080" y="96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14640" y="328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62000" y="21636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75120" y="1447920"/>
            <a:ext cx="1369440" cy="459720"/>
          </a:xfrm>
          <a:prstGeom prst="rect">
            <a:avLst/>
          </a:prstGeom>
          <a:gradFill rotWithShape="0">
            <a:gsLst>
              <a:gs pos="0">
                <a:srgbClr val="fee5b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ttitud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451000" y="22860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421880" y="2743200"/>
            <a:ext cx="4483080" cy="1557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egative ones often address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fter they have contribut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poor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ttitudes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16280" y="5257800"/>
            <a:ext cx="3888720" cy="1191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hould be evaluat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dependently of sales dat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8640" y="2514600"/>
            <a:ext cx="268776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ot usu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valuated unles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ales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s unsatisfac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90" idx="2"/>
            <a:endCxn id="508" idx="0"/>
          </p:cNvCxnSpPr>
          <p:nvPr/>
        </p:nvCxnSpPr>
        <p:spPr>
          <a:xfrm flipH="1">
            <a:off x="1802880" y="1920600"/>
            <a:ext cx="1958400" cy="5943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90" idx="2"/>
          </p:cNvCxnSpPr>
          <p:nvPr/>
        </p:nvCxnSpPr>
        <p:spPr>
          <a:xfrm>
            <a:off x="3760920" y="1920960"/>
            <a:ext cx="2256480" cy="73728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0" idx="2"/>
          </p:cNvCxnSpPr>
          <p:nvPr/>
        </p:nvCxnSpPr>
        <p:spPr>
          <a:xfrm>
            <a:off x="3760920" y="1920600"/>
            <a:ext cx="46800" cy="31755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98440" y="12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607600" y="6667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607600" y="6667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458200" y="3618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441640" y="3618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1440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peti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69280" y="1523880"/>
            <a:ext cx="4903560" cy="82548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hannel manager should consid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two types of competi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60" y="3505320"/>
            <a:ext cx="4196520" cy="1922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etition from oth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61040" y="3505320"/>
            <a:ext cx="2840040" cy="3020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etition fro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ther product lin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arried by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’s ow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677" name=""/>
          <p:cNvCxnSpPr>
            <a:stCxn id="674" idx="2"/>
            <a:endCxn id="675" idx="0"/>
          </p:cNvCxnSpPr>
          <p:nvPr/>
        </p:nvCxnSpPr>
        <p:spPr>
          <a:xfrm flipH="1">
            <a:off x="2099520" y="2346120"/>
            <a:ext cx="2421720" cy="11595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678" name=""/>
          <p:cNvCxnSpPr>
            <a:stCxn id="674" idx="2"/>
            <a:endCxn id="676" idx="0"/>
          </p:cNvCxnSpPr>
          <p:nvPr/>
        </p:nvCxnSpPr>
        <p:spPr>
          <a:xfrm>
            <a:off x="4521240" y="2346120"/>
            <a:ext cx="2161080" cy="115956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General Growth Prospec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3808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38188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756080" y="1371600"/>
            <a:ext cx="4803120" cy="82548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Key issues for evaluating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ember growth prospect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84120" y="2438280"/>
            <a:ext cx="7839000" cy="4117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ast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verall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pansion or improvement of organiz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evel of growth and qualification in perso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agement, age, health, or succes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rrange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aptability &amp; overall capacity to meet 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pans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ember’s estimates of its own medium- &amp; long-ran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utloo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pplying Performance Criteria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9144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80880" y="12193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381880" y="22860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60280" y="3276720"/>
            <a:ext cx="188604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e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pproach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76520" y="1447920"/>
            <a:ext cx="6019560" cy="137160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parate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valuations on one or more criteri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514600" y="3048120"/>
            <a:ext cx="6248520" cy="175248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2. Multiple criteria combined inform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evaluate overall performanc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qualitativel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447920" y="5029200"/>
            <a:ext cx="6172200" cy="152388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3. Multiple criteria combined form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arrive at a quantitative index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verall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parate Performance Evaluat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914480" y="188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09480" y="3124080"/>
            <a:ext cx="7848720" cy="304812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monly used when the number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embers is very large &amp; when criteria a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imited to no more than sales performance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ventory maintenance, &amp; possible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apabilit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193032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ultiple Criteria Combined Informall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8381880" y="4572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828800" y="1523880"/>
            <a:ext cx="5257800" cy="137160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perational performanc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easures obtain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752480" y="3352680"/>
            <a:ext cx="5791320" cy="137160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agerial judgment us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combine performance measu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00200" y="5105520"/>
            <a:ext cx="6172200" cy="137160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Qualitative judgment made abo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verall channel member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43400" y="2895480"/>
            <a:ext cx="0" cy="45720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343400" y="4724280"/>
            <a:ext cx="0" cy="38124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Evaluating Member Performance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960" y="1805040"/>
            <a:ext cx="7635960" cy="825480"/>
          </a:xfrm>
          <a:prstGeom prst="rect">
            <a:avLst/>
          </a:prstGeom>
          <a:gradFill rotWithShape="0">
            <a:gsLst>
              <a:gs pos="0">
                <a:srgbClr val="fed991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importance of channel member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quals that of employee evaluations within the firm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7160" y="4624560"/>
            <a:ext cx="7986600" cy="1973160"/>
          </a:xfrm>
          <a:prstGeom prst="rect">
            <a:avLst/>
          </a:prstGeom>
          <a:gradFill rotWithShape="0">
            <a:gsLst>
              <a:gs pos="0">
                <a:srgbClr val="7e7e7e"/>
              </a:gs>
              <a:gs pos="100000">
                <a:srgbClr val="e6e6e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 manager works with individual fir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ather than with individual employe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setting is interorganizational rather tha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raorganizationa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971800"/>
            <a:ext cx="3124080" cy="1219320"/>
          </a:xfrm>
          <a:prstGeom prst="downArrowCallout">
            <a:avLst>
              <a:gd name="adj1" fmla="val 64059"/>
              <a:gd name="adj2" fmla="val 6405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Excep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808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8534520" y="15228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8534520" y="1522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ultiple Criteria Combined Formall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28600" y="1219320"/>
            <a:ext cx="8534520" cy="541008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1" i="1" lang="en-US" sz="2400" spc="-1" strike="noStrike">
                <a:solidFill>
                  <a:srgbClr val="000080"/>
                </a:solidFill>
                <a:latin typeface="Arial Narrow"/>
              </a:rPr>
              <a:t>5 Ste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riteria &amp; associated operational measures are decided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eights assigned to each of the criteri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ach member evaluated is rated on each of the criteri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core on each criterion multiplied by weight for that criter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eighted criterion ratings summed to yield overal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erformance rating for each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57200" y="12952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610480" y="1522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61048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commending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rrective Act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105520" y="40384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01132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214000" y="1523880"/>
            <a:ext cx="5025600" cy="1557000"/>
          </a:xfrm>
          <a:prstGeom prst="rect">
            <a:avLst/>
          </a:prstGeom>
          <a:gradFill rotWithShape="0">
            <a:gsLst>
              <a:gs pos="0">
                <a:srgbClr val="fee4b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r should attempt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d out why members ha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formed poor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33520" y="3505320"/>
            <a:ext cx="7696080" cy="3020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6e7a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velop concrete &amp; practical approaches to actively seek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nformation on member needs and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grams of member support must be congruent with member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needs &amp;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onstraints imposed by interorganizational setting of marketing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ust be understoo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914400" y="2057400"/>
            <a:ext cx="838080" cy="1295280"/>
          </a:xfrm>
          <a:custGeom>
            <a:avLst/>
            <a:gdLst>
              <a:gd name="textAreaLeft" fmla="*/ 112320 w 838080"/>
              <a:gd name="textAreaRight" fmla="*/ 725760 w 838080"/>
              <a:gd name="textAreaTop" fmla="*/ 237240 h 1295280"/>
              <a:gd name="textAreaBottom" fmla="*/ 8863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3" stAng="-5400000" swAng="-5400000"/>
                <a:lnTo>
                  <a:pt x="0" y="10821"/>
                </a:lnTo>
                <a:arcTo wR="21600" hR="7913" stAng="10800000" swAng="-1097737"/>
                <a:lnTo>
                  <a:pt x="5565" y="18989"/>
                </a:lnTo>
                <a:lnTo>
                  <a:pt x="21600" y="17280"/>
                </a:lnTo>
                <a:lnTo>
                  <a:pt x="5565" y="10349"/>
                </a:lnTo>
                <a:lnTo>
                  <a:pt x="5565" y="13215"/>
                </a:lnTo>
                <a:arcTo wR="21600" hR="7913" stAng="9702263" swAng="862685"/>
                <a:lnTo>
                  <a:pt x="368" y="9367"/>
                </a:lnTo>
                <a:arcTo wR="21600" hR="7913" stAng="-10564947" swAng="5164947"/>
                <a:close/>
              </a:path>
              <a:path fill="darkenLess" w="21600" h="21600">
                <a:moveTo>
                  <a:pt x="21600" y="0"/>
                </a:moveTo>
                <a:arcTo wR="21600" hR="7913" stAng="-5400000" swAng="-5400000"/>
                <a:lnTo>
                  <a:pt x="0" y="7913"/>
                </a:lnTo>
                <a:arcTo wR="21600" hR="7913" stAng="10800000" swAng="-235053"/>
                <a:lnTo>
                  <a:pt x="368" y="9367"/>
                </a:lnTo>
                <a:arcTo wR="21600" hR="7913" stAng="-10564947" swAng="5164947"/>
                <a:close/>
              </a:path>
            </a:pathLst>
          </a:cu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2952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cope &amp; Frequency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f Evaluat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981080"/>
            <a:ext cx="7315200" cy="37515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 Degree of the manufacturer’s control ov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Relative importance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. Nature of the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4. Number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781680" y="4038480"/>
            <a:ext cx="1776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9072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1880" y="15228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gree of Control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2514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6280" y="163656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3360" y="1523880"/>
            <a:ext cx="441900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trol that a producer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, or franchisor h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ver members is based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trong contractual agree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720" y="4191120"/>
            <a:ext cx="389160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an demand a great deal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formation on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per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31000" y="1523880"/>
            <a:ext cx="36889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 lac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trong market accept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or its products &amp; stro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control based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tractual commit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18280" y="4572000"/>
            <a:ext cx="328068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an exert little contr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ver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1143000"/>
            <a:ext cx="0" cy="54864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321400">
            <a:off x="6574320" y="3636000"/>
            <a:ext cx="824040" cy="714240"/>
          </a:xfrm>
          <a:custGeom>
            <a:avLst/>
            <a:gdLst>
              <a:gd name="textAreaLeft" fmla="*/ 0 w 824040"/>
              <a:gd name="textAreaRight" fmla="*/ 824400 w 82404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321400">
            <a:off x="1621440" y="3255120"/>
            <a:ext cx="824040" cy="714240"/>
          </a:xfrm>
          <a:custGeom>
            <a:avLst/>
            <a:gdLst>
              <a:gd name="textAreaLeft" fmla="*/ 0 w 824040"/>
              <a:gd name="textAreaRight" fmla="*/ 824400 w 82404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ortance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4120" y="1881360"/>
            <a:ext cx="801720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valuation of channel members is mo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mprehensive for manufacturers who sell all of thei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utput through intermediaries than for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 rely less on intermedia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7320" y="5257800"/>
            <a:ext cx="74167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cause the firm’s success in the market is direct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pendent on the channel members’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3809880"/>
            <a:ext cx="1981440" cy="1143000"/>
          </a:xfrm>
          <a:prstGeom prst="downArrowCallout">
            <a:avLst>
              <a:gd name="adj1" fmla="val 43343"/>
              <a:gd name="adj2" fmla="val 43339"/>
              <a:gd name="adj3" fmla="val 16667"/>
              <a:gd name="adj4" fmla="val 66667"/>
            </a:avLst>
          </a:prstGeom>
          <a:solidFill>
            <a:srgbClr val="80800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neva"/>
              </a:rPr>
              <a:t>Wh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ature of the Produc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37000" y="1728720"/>
            <a:ext cx="52999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ore complex the product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broader the scope of evalu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64560" y="4548240"/>
            <a:ext cx="59126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 products of very high unit value,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in or loss of a single order i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mportant to the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3124080"/>
            <a:ext cx="1600200" cy="1219320"/>
          </a:xfrm>
          <a:prstGeom prst="irregularSeal1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umber of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3640" y="1752480"/>
            <a:ext cx="35762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who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nsive 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97480" y="4343400"/>
            <a:ext cx="26694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valuation ma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 cursor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9440" y="1752480"/>
            <a:ext cx="334908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s who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ighly selec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stribu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2960" y="4343400"/>
            <a:ext cx="25171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valuation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prehens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1981440" y="320040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6172200" y="3200400"/>
            <a:ext cx="761760" cy="914400"/>
          </a:xfrm>
          <a:custGeom>
            <a:avLst/>
            <a:gdLst>
              <a:gd name="textAreaLeft" fmla="*/ 0 w 761760"/>
              <a:gd name="textAreaRight" fmla="*/ 762120 w 7617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valuation versus Monitor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600200"/>
            <a:ext cx="2971800" cy="1752480"/>
          </a:xfrm>
          <a:prstGeom prst="downArrowCallout">
            <a:avLst>
              <a:gd name="adj1" fmla="val 42398"/>
              <a:gd name="adj2" fmla="val 4239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formanc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600200"/>
            <a:ext cx="2971800" cy="1752480"/>
          </a:xfrm>
          <a:prstGeom prst="downArrowCallout">
            <a:avLst>
              <a:gd name="adj1" fmla="val 42398"/>
              <a:gd name="adj2" fmla="val 42394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ay-to-D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2680" y="3962520"/>
            <a:ext cx="3535200" cy="228852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s that g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 a comple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objective analysi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distributor’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55160" y="3962520"/>
            <a:ext cx="3144960" cy="2288520"/>
          </a:xfrm>
          <a:prstGeom prst="rect">
            <a:avLst/>
          </a:prstGeom>
          <a:solidFill>
            <a:srgbClr val="6e7a8d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aisals that assis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ing curr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control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ors’ effor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erformance Audi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676520"/>
            <a:ext cx="8153280" cy="44830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50000">
                <a:srgbClr val="b5b56c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ree Ph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veloping criteria for measuring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ember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iodically evaluating the channel members’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formance against the criteri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commending corrective actions to reduce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umber of inadequate perform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467480" y="2286000"/>
            <a:ext cx="6508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11T00:11:18Z</dcterms:modified>
  <cp:revision>516</cp:revision>
  <dc:subject/>
  <dc:title>Part 1</dc:title>
</cp:coreProperties>
</file>