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01E-7FFE-4D78-ABBF-741602C8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247-1609-4148-979E-569C409D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96B-FC3A-4F94-80B0-E22B4EA6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F80-5DF4-49DC-B621-CF5F5A69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88C-2D4D-4467-B25B-10E0099B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C01-0DF7-407F-A3E8-9030822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075-D20A-4947-A83B-7FDD935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536-477D-44F5-9268-B015C87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5C3-2A96-4EC6-B89B-E387183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AFE-FBBD-464C-9E84-3F8D86A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456-2BF7-4A95-9B36-12C5272C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13F-7708-4A76-96E2-5730FC18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6FC8-FDE0-446A-A5DF-ECD7917058F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4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Additional Perspectives on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file of Online Shopp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188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514600"/>
            <a:ext cx="2286000" cy="1981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e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39760" y="1676520"/>
            <a:ext cx="4859640" cy="44830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ge range of 25 to 5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ome level range $35,000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$99,99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llege graduates &amp; thos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graduate edu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up 54%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essional/manageri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ccupations make up 32%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uture of Online Shopp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188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066680"/>
            <a:ext cx="800100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nline Sales as a Percentage of Total Retail Sales, 1999–200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2057400"/>
          <a:ext cx="7772400" cy="4186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nline as % of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tail Sal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% Change from Previous Yea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.7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.92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2.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125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1.6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.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9.7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b1b1b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antages &amp; Disadvanta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371600"/>
            <a:ext cx="6019920" cy="1752480"/>
          </a:xfrm>
          <a:custGeom>
            <a:avLst/>
            <a:gdLst>
              <a:gd name="textAreaLeft" fmla="*/ 1504800 w 6019920"/>
              <a:gd name="textAreaRight" fmla="*/ 4515120 w 6019920"/>
              <a:gd name="textAreaTop" fmla="*/ 438120 h 1752480"/>
              <a:gd name="textAreaBottom" fmla="*/ 17006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c66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vantag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3591000"/>
            <a:ext cx="759492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591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lobal scope &amp; re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venience/rapid transaction proce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processing efficiency &amp; flex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ata-based management &amp; relationship capab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sales &amp;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1371600"/>
            <a:ext cx="6019920" cy="1752480"/>
          </a:xfrm>
          <a:custGeom>
            <a:avLst/>
            <a:gdLst>
              <a:gd name="textAreaLeft" fmla="*/ 1504800 w 6019920"/>
              <a:gd name="textAreaRight" fmla="*/ 4515120 w 6019920"/>
              <a:gd name="textAreaTop" fmla="*/ 438120 h 1752480"/>
              <a:gd name="textAreaBottom" fmla="*/ 17006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c66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advantag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00" y="3591000"/>
            <a:ext cx="870156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591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ck of contact with actual products &amp; delay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ulfillment logistics not at Internet speed or effici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utter, confusion, &amp; cumbersomeness of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npurchase motives for shopping not addres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curity concerns of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antages &amp; Disadvanta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bjectives &amp; strategies of the firm &amp;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of electronic marketing channels i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design &amp;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 selection &amp; electronic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ment &amp; electronic marketing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 &amp;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bjectives &amp; Strategies of the Firm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of distribution more complex becau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electronic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 must consider whet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et-based channels fundamentally aff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’s decision about the priorit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iven to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91320" y="5261040"/>
            <a:ext cx="29718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 arms large numbers of customers with more information about products &amp;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level the playing fie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ourth P, place (distribution), may assum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rger role relative to the other three variable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&amp; more 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Marketing Mix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5411400">
            <a:off x="3619080" y="323820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anager of retailers, industrial, and B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 markets should provide “channel-surfing” consumers with whatever channels or combinations of channels they desi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facet of the development of 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ultichannel marketing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lexity grows as channel member selection may include the need to avoid conflict with conventio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eed to select members care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ltichannel challenge of conven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ctronic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undamental issues of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otivating channel members, building cooperation, managing conflict, &amp; coordinating elements of the marketing mix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manager’s full atten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5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Electronic Marketing 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505320" cy="3505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1447920"/>
            <a:ext cx="7848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kely to chang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Unlikely to 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cific criteria for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Performance expecta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ing evaluations &amp;      criteria, &amp; measur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 means for       how well they are being m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ing s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    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363400">
            <a:off x="1752120" y="2666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363400">
            <a:off x="5714640" y="2666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lectronic Marketing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8200" y="15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2280" y="2362320"/>
            <a:ext cx="18374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9040" y="2743200"/>
            <a:ext cx="135252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5840" y="1828800"/>
            <a:ext cx="1773360" cy="45972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u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1160" y="4648320"/>
            <a:ext cx="6808680" cy="155700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mpact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ign &amp; Management of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495680"/>
            <a:ext cx="609480" cy="685800"/>
          </a:xfrm>
          <a:prstGeom prst="upArrow">
            <a:avLst>
              <a:gd name="adj1" fmla="val 50000"/>
              <a:gd name="adj2" fmla="val 2813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90920" y="2133360"/>
            <a:ext cx="1676160" cy="53316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666880"/>
            <a:ext cx="1676160" cy="3049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276720"/>
            <a:ext cx="0" cy="11430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lectronic Marketing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960" y="2514600"/>
            <a:ext cx="7422840" cy="22885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use of the Internet to make products &amp;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available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o that the target market with acces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mputers or 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ther enabling technologie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can sh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omplete the transaction for purchase vi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interactive electronic mea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52280"/>
            <a:ext cx="19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2 &amp;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6360" y="1600200"/>
            <a:ext cx="35352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ot physical avail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209320"/>
            <a:ext cx="0" cy="1143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360" y="1936800"/>
            <a:ext cx="218340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b-TV, P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2960" y="5410080"/>
            <a:ext cx="6743160" cy="825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tually purchasing products through the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PCs, Web-TV, PD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800600"/>
            <a:ext cx="0" cy="5335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53080" y="2438280"/>
            <a:ext cx="0" cy="13716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6568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ucture of Electronic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133720"/>
            <a:ext cx="3048120" cy="2895480"/>
          </a:xfrm>
          <a:prstGeom prst="rightArrowCallout">
            <a:avLst>
              <a:gd name="adj1" fmla="val 22224"/>
              <a:gd name="adj2" fmla="val 25000"/>
              <a:gd name="adj3" fmla="val 32951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e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henomen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4520" y="1828800"/>
            <a:ext cx="5074200" cy="37515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intermediation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flow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irtual channel structur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Disintermediation and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Reintermedia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3480" y="152388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38000" y="209556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905080" y="2095560"/>
            <a:ext cx="685800" cy="762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1440" y="152388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intermed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97180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 bec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erfluous because producers gain exposure to vast numbers of customers in cyber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895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ifting, changing, or ad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iddlemen to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733920"/>
            <a:ext cx="5181840" cy="29718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uto-By-Tel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apod, In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352680"/>
            <a:ext cx="380880" cy="838440"/>
          </a:xfrm>
          <a:custGeom>
            <a:avLst/>
            <a:gdLst>
              <a:gd name="textAreaLeft" fmla="*/ 50760 w 380880"/>
              <a:gd name="textAreaRight" fmla="*/ 330120 w 380880"/>
              <a:gd name="textAreaTop" fmla="*/ 149040 h 838440"/>
              <a:gd name="textAreaBottom" fmla="*/ 52740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8" stAng="-5400000" swAng="-5400000"/>
                <a:lnTo>
                  <a:pt x="0" y="9750"/>
                </a:lnTo>
                <a:arcTo wR="21600" hR="7678" stAng="10800000" swAng="-2709147"/>
                <a:lnTo>
                  <a:pt x="14400" y="21161"/>
                </a:lnTo>
                <a:lnTo>
                  <a:pt x="21600" y="16391"/>
                </a:lnTo>
                <a:lnTo>
                  <a:pt x="14400" y="10743"/>
                </a:lnTo>
                <a:lnTo>
                  <a:pt x="14400" y="14916"/>
                </a:lnTo>
                <a:arcTo wR="21600" hR="7678" stAng="8090853" swAng="2542870"/>
                <a:lnTo>
                  <a:pt x="198" y="8713"/>
                </a:lnTo>
                <a:arcTo wR="21600" hR="7678" stAng="-10633723" swAng="5233723"/>
                <a:close/>
              </a:path>
              <a:path fill="darkenLess" w="21600" h="21600">
                <a:moveTo>
                  <a:pt x="21600" y="0"/>
                </a:moveTo>
                <a:arcTo wR="21600" hR="7678" stAng="-5400000" swAng="-5400000"/>
                <a:lnTo>
                  <a:pt x="0" y="7678"/>
                </a:lnTo>
                <a:arcTo wR="21600" hR="7678" stAng="10800000" swAng="-166277"/>
                <a:lnTo>
                  <a:pt x="198" y="8713"/>
                </a:lnTo>
                <a:arcTo wR="21600" hR="7678" stAng="-10633723" swAng="5233723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343400"/>
            <a:ext cx="4114800" cy="2514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uter Cor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41972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8680 h 838080"/>
              <a:gd name="textAreaBottom" fmla="*/ 5274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78" stAng="-5400000" swAng="-5400000"/>
                <a:lnTo>
                  <a:pt x="0" y="9750"/>
                </a:lnTo>
                <a:arcTo wR="21600" hR="7678" stAng="10800000" swAng="-2709147"/>
                <a:lnTo>
                  <a:pt x="14400" y="21161"/>
                </a:lnTo>
                <a:lnTo>
                  <a:pt x="21600" y="16391"/>
                </a:lnTo>
                <a:lnTo>
                  <a:pt x="14400" y="10743"/>
                </a:lnTo>
                <a:lnTo>
                  <a:pt x="14400" y="14916"/>
                </a:lnTo>
                <a:arcTo wR="21600" hR="7678" stAng="8090853" swAng="2542870"/>
                <a:lnTo>
                  <a:pt x="198" y="8713"/>
                </a:lnTo>
                <a:arcTo wR="21600" hR="7678" stAng="-10633723" swAng="5233723"/>
                <a:close/>
              </a:path>
              <a:path fill="darkenLess" w="21600" h="21600">
                <a:moveTo>
                  <a:pt x="21600" y="0"/>
                </a:moveTo>
                <a:arcTo wR="21600" hR="7678" stAng="-5400000" swAng="-5400000"/>
                <a:lnTo>
                  <a:pt x="0" y="7678"/>
                </a:lnTo>
                <a:arcTo wR="21600" hR="7678" stAng="10800000" swAng="-166277"/>
                <a:lnTo>
                  <a:pt x="198" y="8713"/>
                </a:lnTo>
                <a:arcTo wR="21600" hR="7678" stAng="-10633723" swAng="5233723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intermediation </a:t>
            </a:r>
            <a:r>
              <a:rPr b="1" i="1" lang="en-US" sz="3200" spc="-1" strike="noStrike">
                <a:solidFill>
                  <a:srgbClr val="6e7a8d"/>
                </a:solidFill>
                <a:latin typeface="Palatino"/>
              </a:rPr>
              <a:t>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intermed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 matter how technologically sophisticated the Internet becomes or how much it is hyped, the laws of economics as they relate to channel structure do not chan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133720"/>
            <a:ext cx="4114800" cy="320040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fficiency in the   performance of distribution tasks is what ultimately determines what form channel structure will tak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362320"/>
            <a:ext cx="914400" cy="1019160"/>
          </a:xfrm>
          <a:custGeom>
            <a:avLst/>
            <a:gdLst>
              <a:gd name="textAreaLeft" fmla="*/ 0 w 914400"/>
              <a:gd name="textAreaRight" fmla="*/ 914760 w 9144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9200" y="4699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8200" y="5715000"/>
            <a:ext cx="6590520" cy="82548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ternet has not eliminated middlemen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aused total disintermed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net Lim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1219320"/>
            <a:ext cx="3200400" cy="17143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91080" y="3276720"/>
            <a:ext cx="6152040" cy="26542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not be digitiz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cessed slowly, often by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basis for all other flows—negotiation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wnership, information,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5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1880" y="152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velopments &amp; Tren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371600"/>
            <a:ext cx="6781680" cy="44830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       to $36 billion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d-1990s to the end of 200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 has become a routin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ing cho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Cs, peripherals, software, &amp; boo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ounted for a significa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rtion of total retail spending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s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676520"/>
            <a:ext cx="53316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286000"/>
            <a:ext cx="1905120" cy="16002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53080" y="5257800"/>
            <a:ext cx="1905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23:38Z</dcterms:modified>
  <cp:revision>352</cp:revision>
  <dc:subject/>
  <dc:title>Part 1</dc:title>
</cp:coreProperties>
</file>