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B97-E989-4F70-A023-59521415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02B-0166-402E-B5E7-0BA2BB3E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978-BE90-4FD3-986A-B21D62C1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6F6-07B9-4F7F-861A-82F1F08E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EF5-C3DF-4838-821A-5376B1A7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91C-3887-4511-B6B6-A8524989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FB7-78A2-4339-909E-92EB8F0E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E3C-FEEB-4303-AACB-02F9A0DF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7D8-0902-406A-861F-C365A37E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77C-F689-4B03-8919-3E679AE7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FD7-A5C7-465A-A5EA-97E2785D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AB8-EBA8-4B12-80E2-848679A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AB9F-C82B-441E-9422-05564BE89F43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4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Additional Perspectives on Marketing 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file of Online Shopp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188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514600"/>
            <a:ext cx="2286000" cy="1981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ighe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39760" y="1676520"/>
            <a:ext cx="4859640" cy="44830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ge range of 25 to 5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ome level range $35,000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$99,99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llege graduates &amp; thos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graduate edu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e up 54%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fessional/manageri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ccupations make up 32%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uture of Online Shopp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188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066680"/>
            <a:ext cx="8001000" cy="82548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nline Sales as a Percentage of Total Retail Sales, 1999–200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2057400"/>
          <a:ext cx="7772400" cy="41860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nline as % of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tail Sal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% Change from Previous Yea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.7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.925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2.1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125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1.6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.7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705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vantages &amp; Disadvanta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371600"/>
            <a:ext cx="6019920" cy="1752480"/>
          </a:xfrm>
          <a:custGeom>
            <a:avLst/>
            <a:gdLst>
              <a:gd name="textAreaLeft" fmla="*/ 1504800 w 6019920"/>
              <a:gd name="textAreaRight" fmla="*/ 4515120 w 6019920"/>
              <a:gd name="textAreaTop" fmla="*/ 438120 h 1752480"/>
              <a:gd name="textAreaBottom" fmla="*/ 17006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cc66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dvantage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3591000"/>
            <a:ext cx="759492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591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lobal scope &amp; re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venience/rapid transaction proce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formation processing efficiency &amp; flexi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ata-based management &amp; relationship capabil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wer sales &amp; distributi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1371600"/>
            <a:ext cx="6019920" cy="1752480"/>
          </a:xfrm>
          <a:custGeom>
            <a:avLst/>
            <a:gdLst>
              <a:gd name="textAreaLeft" fmla="*/ 1504800 w 6019920"/>
              <a:gd name="textAreaRight" fmla="*/ 4515120 w 6019920"/>
              <a:gd name="textAreaTop" fmla="*/ 438120 h 1752480"/>
              <a:gd name="textAreaBottom" fmla="*/ 17006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cc66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advantage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200" y="3591000"/>
            <a:ext cx="8701560" cy="302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591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ack of contact with actual products &amp; delay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ss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ulfillment logistics not at Internet speed or effici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lutter, confusion, &amp; cumbersomeness of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onpurchase motives for shopping not address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curity concerns of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vantages &amp; Disadvanta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3452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848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bjectives &amp; strategies of the firm &amp; 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ole of electronic marketing channels i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design &amp; electronic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 selection &amp; electronic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ment &amp; electronic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ion &amp; electronic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bjectives &amp; Strategies of the Fir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ole of distribution more complex becau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electronic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 must consider wheth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et-based channels fundamentally aff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irm’s decision about the priorit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iven to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791320" y="5261040"/>
            <a:ext cx="29718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ternet arms large numbers of customers with more information about products &amp;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level the playing fie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ourth P, place (distribution), may assum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arger role relative to the other three variables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re &amp; more fi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Marketing Mix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5411400">
            <a:off x="3619080" y="323820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nnel manager of retailers, industrial, and B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 markets should provide “channel-surfing” consumers with whatever channels or combinations of channels they desi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facet of the development of a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multichannel marketing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2096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 Sele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lexity grows as channel member selection may include the need to avoid conflict with conventional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eed to select members carefu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ultichannel challenge of conventional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ectronic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undamental issues of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otivating channel members, building cooperation, managing conflict, &amp; coordinating elements of the marketing mix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quires manager’s full atten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5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Electronic Marketing 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3505320" cy="3505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6568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kely to chang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 Unlikely to chan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pecific criteria for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Performance expectation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forming evaluations &amp;      criteria, &amp; measuremen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ological means for       how well they are being m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oing so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 by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5363400">
            <a:off x="1752120" y="266688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363400">
            <a:off x="5714640" y="266688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Electronic Marketing 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8200" y="15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820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2280" y="2362320"/>
            <a:ext cx="183744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9040" y="2743200"/>
            <a:ext cx="135252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5840" y="1828800"/>
            <a:ext cx="1773360" cy="45972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u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1160" y="4648320"/>
            <a:ext cx="6808680" cy="155700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mpact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sign &amp; Management of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495680"/>
            <a:ext cx="609480" cy="685800"/>
          </a:xfrm>
          <a:prstGeom prst="upArrow">
            <a:avLst>
              <a:gd name="adj1" fmla="val 50000"/>
              <a:gd name="adj2" fmla="val 2813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90920" y="2133360"/>
            <a:ext cx="1676160" cy="53316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2666880"/>
            <a:ext cx="1676160" cy="3049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276720"/>
            <a:ext cx="0" cy="114300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Electronic Marketing 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1960" y="2514600"/>
            <a:ext cx="7422840" cy="22885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use of the Internet to make products &amp;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available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o that the target market with access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mputers or </a:t>
            </a: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other enabling technologies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can sho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&amp; complete the transaction for purchase vi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interactive electronic mea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52280"/>
            <a:ext cx="19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s 2 &amp;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6360" y="1600200"/>
            <a:ext cx="353520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6b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ot physical avail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00200" y="2209320"/>
            <a:ext cx="0" cy="11430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360" y="1936800"/>
            <a:ext cx="218340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b-TV, PD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2960" y="5410080"/>
            <a:ext cx="674316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tually purchasing products through the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PCs, Web-TV, PD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800600"/>
            <a:ext cx="0" cy="5335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53080" y="2438280"/>
            <a:ext cx="0" cy="13716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6568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ucture of Electronic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133720"/>
            <a:ext cx="3048120" cy="2895480"/>
          </a:xfrm>
          <a:prstGeom prst="rightArrowCallout">
            <a:avLst>
              <a:gd name="adj1" fmla="val 22224"/>
              <a:gd name="adj2" fmla="val 25000"/>
              <a:gd name="adj3" fmla="val 32951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e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e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henomen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4520" y="1828800"/>
            <a:ext cx="5074200" cy="37515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intermediation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intermed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formation flow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irtual channel structur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hysical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Disintermediation and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Reintermediatio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3480" y="152388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intermed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638000" y="2095560"/>
            <a:ext cx="685800" cy="762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5905080" y="2095560"/>
            <a:ext cx="685800" cy="762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61440" y="152388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intermed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97180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ermediaries bec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perfluous because producers gain exposure to vast numbers of customers in cybersp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895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ifting, changing, or ad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iddlemen to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733920"/>
            <a:ext cx="5181840" cy="29718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mazon.c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uto-By-Tel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apod, In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352680"/>
            <a:ext cx="380880" cy="838440"/>
          </a:xfrm>
          <a:custGeom>
            <a:avLst/>
            <a:gdLst>
              <a:gd name="textAreaLeft" fmla="*/ 50760 w 380880"/>
              <a:gd name="textAreaRight" fmla="*/ 330120 w 380880"/>
              <a:gd name="textAreaTop" fmla="*/ 149040 h 838440"/>
              <a:gd name="textAreaBottom" fmla="*/ 52740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78" stAng="-5400000" swAng="-5400000"/>
                <a:lnTo>
                  <a:pt x="0" y="9750"/>
                </a:lnTo>
                <a:arcTo wR="21600" hR="7678" stAng="10800000" swAng="-2709147"/>
                <a:lnTo>
                  <a:pt x="14400" y="21161"/>
                </a:lnTo>
                <a:lnTo>
                  <a:pt x="21600" y="16391"/>
                </a:lnTo>
                <a:lnTo>
                  <a:pt x="14400" y="10743"/>
                </a:lnTo>
                <a:lnTo>
                  <a:pt x="14400" y="14916"/>
                </a:lnTo>
                <a:arcTo wR="21600" hR="7678" stAng="8090853" swAng="2542870"/>
                <a:lnTo>
                  <a:pt x="198" y="8713"/>
                </a:lnTo>
                <a:arcTo wR="21600" hR="7678" stAng="-10633723" swAng="5233723"/>
                <a:close/>
              </a:path>
              <a:path fill="darkenLess" w="21600" h="21600">
                <a:moveTo>
                  <a:pt x="21600" y="0"/>
                </a:moveTo>
                <a:arcTo wR="21600" hR="7678" stAng="-5400000" swAng="-5400000"/>
                <a:lnTo>
                  <a:pt x="0" y="7678"/>
                </a:lnTo>
                <a:arcTo wR="21600" hR="7678" stAng="10800000" swAng="-166277"/>
                <a:lnTo>
                  <a:pt x="198" y="8713"/>
                </a:lnTo>
                <a:arcTo wR="21600" hR="7678" stAng="-10633723" swAng="5233723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343400"/>
            <a:ext cx="4114800" cy="25146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l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uter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41972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8680 h 838080"/>
              <a:gd name="textAreaBottom" fmla="*/ 52740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78" stAng="-5400000" swAng="-5400000"/>
                <a:lnTo>
                  <a:pt x="0" y="9750"/>
                </a:lnTo>
                <a:arcTo wR="21600" hR="7678" stAng="10800000" swAng="-2709147"/>
                <a:lnTo>
                  <a:pt x="14400" y="21161"/>
                </a:lnTo>
                <a:lnTo>
                  <a:pt x="21600" y="16391"/>
                </a:lnTo>
                <a:lnTo>
                  <a:pt x="14400" y="10743"/>
                </a:lnTo>
                <a:lnTo>
                  <a:pt x="14400" y="14916"/>
                </a:lnTo>
                <a:arcTo wR="21600" hR="7678" stAng="8090853" swAng="2542870"/>
                <a:lnTo>
                  <a:pt x="198" y="8713"/>
                </a:lnTo>
                <a:arcTo wR="21600" hR="7678" stAng="-10633723" swAng="5233723"/>
                <a:close/>
              </a:path>
              <a:path fill="darkenLess" w="21600" h="21600">
                <a:moveTo>
                  <a:pt x="21600" y="0"/>
                </a:moveTo>
                <a:arcTo wR="21600" hR="7678" stAng="-5400000" swAng="-5400000"/>
                <a:lnTo>
                  <a:pt x="0" y="7678"/>
                </a:lnTo>
                <a:arcTo wR="21600" hR="7678" stAng="10800000" swAng="-166277"/>
                <a:lnTo>
                  <a:pt x="198" y="8713"/>
                </a:lnTo>
                <a:arcTo wR="21600" hR="7678" stAng="-10633723" swAng="5233723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intermediation </a:t>
            </a:r>
            <a:r>
              <a:rPr b="1" i="1" lang="en-US" sz="3200" spc="-1" strike="noStrike">
                <a:solidFill>
                  <a:srgbClr val="6e7a8d"/>
                </a:solidFill>
                <a:latin typeface="Palatino"/>
              </a:rPr>
              <a:t>versu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intermedi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 matter how technologically sophisticated the Internet becomes or how much it is hyped, the laws of economics as they relate to channel structure do not chan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133720"/>
            <a:ext cx="4114800" cy="320040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fficiency in the   performance of distribution tasks is what ultimately determines what form channel structure will tak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2362320"/>
            <a:ext cx="914400" cy="1019160"/>
          </a:xfrm>
          <a:custGeom>
            <a:avLst/>
            <a:gdLst>
              <a:gd name="textAreaLeft" fmla="*/ 0 w 914400"/>
              <a:gd name="textAreaRight" fmla="*/ 914760 w 9144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9200" y="4699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8200" y="5715000"/>
            <a:ext cx="6590520" cy="82548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ternet has not eliminated middlemen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caused total disintermed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1048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net Lim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1219320"/>
            <a:ext cx="3200400" cy="17143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91080" y="3276720"/>
            <a:ext cx="6152040" cy="265428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nnot be digitiz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cessed slowly, often by 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basis for all other flows—negotiation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wnership, information,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1880" y="152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velopments &amp; Tren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371600"/>
            <a:ext cx="6781680" cy="44830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       to $36 billion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d-1990s to the end of 200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 has become a routin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ing cho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Cs, peripherals, software, &amp; boo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counted for a significa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rtion of total retail spending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s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76520"/>
            <a:ext cx="53316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286000"/>
            <a:ext cx="1905120" cy="16002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553080" y="5257800"/>
            <a:ext cx="1905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1T00:23:38Z</dcterms:modified>
  <cp:revision>352</cp:revision>
  <dc:subject/>
  <dc:title>Part 1</dc:title>
</cp:coreProperties>
</file>