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B7A-50FA-44D0-9A50-ABA86467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FEED-DF47-4465-BDA6-D5F9441B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B24-C80E-45DF-9DB4-8BFF3DFF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599-BC68-4569-A103-BB1FBFC8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A70-9E2C-4E66-A4E9-56802D8E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A87-FCCD-4E17-AA12-ACF329A2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C2B-86AB-47C6-94F2-A226FA0D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4D4-BEB4-4E59-B070-9E4F64C0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EBF-F1A2-4010-B57A-4F18B283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6E1-EB6F-4DEA-884E-BD4CAE18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3B9-F914-470B-8587-A4B2C2CA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500-732C-47B5-AE4A-480D910E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4309-4E36-45B9-83DD-2B1579397830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6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505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Direct Selling &amp; Direct Market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 System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3733920"/>
            <a:ext cx="30477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5820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ategories of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1523880"/>
            <a:ext cx="6781680" cy="52146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 variables &amp; the direct selling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variables &amp; the direct sel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any variables &amp; the direct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ll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4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mediary variables &amp; the direct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ll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5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nvironmental variables &amp; the direct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ll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6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ehavioral variables &amp; the direct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ll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14640" y="3137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45820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34800" y="1143000"/>
            <a:ext cx="6802560" cy="825480"/>
          </a:xfrm>
          <a:prstGeom prst="rect">
            <a:avLst/>
          </a:prstGeom>
          <a:gradFill rotWithShape="0">
            <a:gsLst>
              <a:gs pos="0">
                <a:srgbClr val="fee8b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Developments in consumer attitudes &amp; behavi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that could make direct selling more attractive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-183960" y="2743200"/>
            <a:ext cx="4717800" cy="1922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creasing number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s have les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ime available for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traditional stor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43880" y="5105520"/>
            <a:ext cx="6688080" cy="11912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s are becoming more sophistic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&amp; demanding more &amp; better product informa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21360" y="2666880"/>
            <a:ext cx="3771360" cy="1922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s are seek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creased conveni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all spheres of their liv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cluding shopp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07" idx="2"/>
            <a:endCxn id="308" idx="0"/>
          </p:cNvCxnSpPr>
          <p:nvPr/>
        </p:nvCxnSpPr>
        <p:spPr>
          <a:xfrm flipH="1">
            <a:off x="2174400" y="1964880"/>
            <a:ext cx="2463120" cy="77868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7" idx="2"/>
            <a:endCxn id="310" idx="0"/>
          </p:cNvCxnSpPr>
          <p:nvPr/>
        </p:nvCxnSpPr>
        <p:spPr>
          <a:xfrm>
            <a:off x="4637160" y="1964880"/>
            <a:ext cx="2370960" cy="7023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7" idx="2"/>
          </p:cNvCxnSpPr>
          <p:nvPr/>
        </p:nvCxnSpPr>
        <p:spPr>
          <a:xfrm>
            <a:off x="4637160" y="1964880"/>
            <a:ext cx="23040" cy="31568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088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58200" y="304920"/>
            <a:ext cx="0" cy="838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51796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74360" y="1143000"/>
            <a:ext cx="763020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roducts that are high quality, that are unique,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that require specialized information &amp; advice are log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choices for direct selling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4800" y="2895480"/>
            <a:ext cx="4414320" cy="1922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quality may becom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pparent only when 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re informed about th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conjunction with hands-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emonstra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44200" y="5486400"/>
            <a:ext cx="775188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uniqueness may become apparent only throug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direct help of salespeople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31000" y="3048120"/>
            <a:ext cx="3856680" cy="1557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 satisfaction ma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epend on whether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 has prop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forma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318" idx="2"/>
            <a:endCxn id="319" idx="0"/>
          </p:cNvCxnSpPr>
          <p:nvPr/>
        </p:nvCxnSpPr>
        <p:spPr>
          <a:xfrm flipH="1">
            <a:off x="2361600" y="2330280"/>
            <a:ext cx="2228040" cy="56592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18" idx="2"/>
            <a:endCxn id="321" idx="0"/>
          </p:cNvCxnSpPr>
          <p:nvPr/>
        </p:nvCxnSpPr>
        <p:spPr>
          <a:xfrm>
            <a:off x="4589280" y="2330280"/>
            <a:ext cx="2370600" cy="7185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318" idx="2"/>
            <a:endCxn id="320" idx="0"/>
          </p:cNvCxnSpPr>
          <p:nvPr/>
        </p:nvCxnSpPr>
        <p:spPr>
          <a:xfrm>
            <a:off x="4589640" y="2329920"/>
            <a:ext cx="132480" cy="31568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67800" y="28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880" y="9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58200" y="380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8000" y="1805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4582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57080" y="96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14640" y="328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19810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95360" y="1371600"/>
            <a:ext cx="3853440" cy="459720"/>
          </a:xfrm>
          <a:prstGeom prst="rect">
            <a:avLst/>
          </a:prstGeom>
          <a:gradFill rotWithShape="0">
            <a:gsLst>
              <a:gs pos="0">
                <a:srgbClr val="fee5b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asic variables to consid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441640" y="22860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24360" y="4419720"/>
            <a:ext cx="2599200" cy="1557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nancial capac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the compan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pany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6320" y="4952880"/>
            <a:ext cx="3093120" cy="1557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agerial expertis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6360" y="2362320"/>
            <a:ext cx="1706400" cy="1557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ize of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an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90000" y="2209680"/>
            <a:ext cx="3364200" cy="1557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asic 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olicies of the compan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422" name=""/>
          <p:cNvCxnSpPr>
            <a:stCxn id="402" idx="2"/>
            <a:endCxn id="420" idx="0"/>
          </p:cNvCxnSpPr>
          <p:nvPr/>
        </p:nvCxnSpPr>
        <p:spPr>
          <a:xfrm flipH="1">
            <a:off x="1160280" y="1844640"/>
            <a:ext cx="3062880" cy="51840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423" name=""/>
          <p:cNvCxnSpPr>
            <a:stCxn id="402" idx="2"/>
            <a:endCxn id="417" idx="0"/>
          </p:cNvCxnSpPr>
          <p:nvPr/>
        </p:nvCxnSpPr>
        <p:spPr>
          <a:xfrm flipH="1">
            <a:off x="2523240" y="1844280"/>
            <a:ext cx="1699560" cy="257580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402" idx="2"/>
            <a:endCxn id="419" idx="0"/>
          </p:cNvCxnSpPr>
          <p:nvPr/>
        </p:nvCxnSpPr>
        <p:spPr>
          <a:xfrm>
            <a:off x="4222800" y="1844640"/>
            <a:ext cx="1900800" cy="31089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425" name=""/>
          <p:cNvCxnSpPr>
            <a:stCxn id="402" idx="2"/>
            <a:endCxn id="421" idx="0"/>
          </p:cNvCxnSpPr>
          <p:nvPr/>
        </p:nvCxnSpPr>
        <p:spPr>
          <a:xfrm>
            <a:off x="4222440" y="1844640"/>
            <a:ext cx="2950200" cy="3657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3856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837560" y="29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0800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1780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458200" y="2858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86780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98440" y="12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45820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800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458200" y="43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5708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800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458200" y="59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5708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607600" y="6667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1464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607600" y="6667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58200" y="3618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41640" y="3618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1440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ermediary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07840" y="1371600"/>
            <a:ext cx="5650200" cy="459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Basic intermediary variables to consid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1840" y="3352680"/>
            <a:ext cx="2870640" cy="1922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vailability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lterna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470760" y="3962520"/>
            <a:ext cx="2058120" cy="22885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st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s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lterna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591" name=""/>
          <p:cNvCxnSpPr>
            <a:stCxn id="588" idx="2"/>
            <a:endCxn id="589" idx="0"/>
          </p:cNvCxnSpPr>
          <p:nvPr/>
        </p:nvCxnSpPr>
        <p:spPr>
          <a:xfrm flipH="1">
            <a:off x="1577160" y="1828440"/>
            <a:ext cx="2956680" cy="152460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592" name=""/>
          <p:cNvCxnSpPr>
            <a:stCxn id="588" idx="2"/>
            <a:endCxn id="590" idx="0"/>
          </p:cNvCxnSpPr>
          <p:nvPr/>
        </p:nvCxnSpPr>
        <p:spPr>
          <a:xfrm flipH="1">
            <a:off x="4500360" y="1828440"/>
            <a:ext cx="33840" cy="21344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593" name=""/>
          <p:cNvSpPr/>
          <p:nvPr/>
        </p:nvSpPr>
        <p:spPr>
          <a:xfrm>
            <a:off x="6073920" y="3200400"/>
            <a:ext cx="2430000" cy="22885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rvices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lternatives a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apable of 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illing to provi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88" idx="2"/>
            <a:endCxn id="593" idx="0"/>
          </p:cNvCxnSpPr>
          <p:nvPr/>
        </p:nvCxnSpPr>
        <p:spPr>
          <a:xfrm>
            <a:off x="4533480" y="1828800"/>
            <a:ext cx="2756520" cy="137232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nvironmental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3808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38188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05200" y="1371600"/>
            <a:ext cx="2518560" cy="45972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ajor categorie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3400" y="2286000"/>
            <a:ext cx="1517400" cy="11912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860880" y="2133720"/>
            <a:ext cx="924480" cy="11912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6200" y="3733920"/>
            <a:ext cx="2056680" cy="11912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36760" y="4648320"/>
            <a:ext cx="1922760" cy="11912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167840" y="3809880"/>
            <a:ext cx="1788480" cy="11912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eti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2" idx="2"/>
            <a:endCxn id="703" idx="0"/>
          </p:cNvCxnSpPr>
          <p:nvPr/>
        </p:nvCxnSpPr>
        <p:spPr>
          <a:xfrm flipH="1">
            <a:off x="1142640" y="1828800"/>
            <a:ext cx="3023280" cy="45792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2" idx="2"/>
            <a:endCxn id="707" idx="0"/>
          </p:cNvCxnSpPr>
          <p:nvPr/>
        </p:nvCxnSpPr>
        <p:spPr>
          <a:xfrm flipH="1">
            <a:off x="2061360" y="1828440"/>
            <a:ext cx="2104200" cy="198180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702" idx="2"/>
            <a:endCxn id="706" idx="0"/>
          </p:cNvCxnSpPr>
          <p:nvPr/>
        </p:nvCxnSpPr>
        <p:spPr>
          <a:xfrm>
            <a:off x="4165200" y="1828800"/>
            <a:ext cx="34200" cy="28202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702" idx="2"/>
            <a:endCxn id="705" idx="0"/>
          </p:cNvCxnSpPr>
          <p:nvPr/>
        </p:nvCxnSpPr>
        <p:spPr>
          <a:xfrm>
            <a:off x="4165560" y="1828800"/>
            <a:ext cx="2280240" cy="19058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702" idx="2"/>
            <a:endCxn id="704" idx="0"/>
          </p:cNvCxnSpPr>
          <p:nvPr/>
        </p:nvCxnSpPr>
        <p:spPr>
          <a:xfrm>
            <a:off x="4165200" y="1828440"/>
            <a:ext cx="3158280" cy="3056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38080" y="-15228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838188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188720" y="1600200"/>
            <a:ext cx="6058800" cy="45972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The “people” side of the marketing channel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11640" y="3048120"/>
            <a:ext cx="119556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fli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024240" y="2971800"/>
            <a:ext cx="244836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ces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803120" y="4114800"/>
            <a:ext cx="80568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288160" y="4114800"/>
            <a:ext cx="104328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983" name=""/>
          <p:cNvCxnSpPr>
            <a:stCxn id="978" idx="2"/>
            <a:endCxn id="979" idx="0"/>
          </p:cNvCxnSpPr>
          <p:nvPr/>
        </p:nvCxnSpPr>
        <p:spPr>
          <a:xfrm flipH="1">
            <a:off x="1208880" y="2057400"/>
            <a:ext cx="3009240" cy="9914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984" name=""/>
          <p:cNvCxnSpPr>
            <a:stCxn id="978" idx="2"/>
            <a:endCxn id="982" idx="0"/>
          </p:cNvCxnSpPr>
          <p:nvPr/>
        </p:nvCxnSpPr>
        <p:spPr>
          <a:xfrm flipH="1">
            <a:off x="2809440" y="2057040"/>
            <a:ext cx="1409040" cy="20577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985" name=""/>
          <p:cNvCxnSpPr>
            <a:stCxn id="978" idx="2"/>
            <a:endCxn id="981" idx="0"/>
          </p:cNvCxnSpPr>
          <p:nvPr/>
        </p:nvCxnSpPr>
        <p:spPr>
          <a:xfrm>
            <a:off x="4217760" y="2057040"/>
            <a:ext cx="989280" cy="20577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986" name=""/>
          <p:cNvCxnSpPr>
            <a:stCxn id="978" idx="2"/>
            <a:endCxn id="980" idx="0"/>
          </p:cNvCxnSpPr>
          <p:nvPr/>
        </p:nvCxnSpPr>
        <p:spPr>
          <a:xfrm>
            <a:off x="4218120" y="2057400"/>
            <a:ext cx="3031200" cy="91512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ehavioral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rect Market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38188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914480" y="188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298160" y="1371600"/>
            <a:ext cx="6450480" cy="11912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 interactive system of marketing that u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ore advertising media to effect a measur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sponse and/or transaction at any lo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31120" y="2971800"/>
            <a:ext cx="8616240" cy="3751560"/>
          </a:xfrm>
          <a:prstGeom prst="rect">
            <a:avLst/>
          </a:prstGeom>
          <a:solidFill>
            <a:srgbClr val="7f7f7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Key Point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rect marketing is a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system or an approach to market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rect marketing relies on one or a combination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advertising media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to inform and stimulate custom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urchase respons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rect marketing includes the ability to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easure respons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tructure &amp; Trends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 Direct Market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1880" y="4572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33520" y="3809880"/>
            <a:ext cx="2895480" cy="24386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071000" y="2057400"/>
            <a:ext cx="7041600" cy="1557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stimating total sales is tricky becaus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various estimates often include different catego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products and/or services as well as differ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 seg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509280" y="4114800"/>
            <a:ext cx="4838040" cy="11912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ome sales data may be includ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r excluded that may or may no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ver direct marketing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rot="18445800">
            <a:off x="1600200" y="3885840"/>
            <a:ext cx="762120" cy="609480"/>
          </a:xfrm>
          <a:custGeom>
            <a:avLst/>
            <a:gdLst>
              <a:gd name="textAreaLeft" fmla="*/ 118800 w 762120"/>
              <a:gd name="textAreaRight" fmla="*/ 667080 w 7621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rot="18445800">
            <a:off x="2438280" y="4724280"/>
            <a:ext cx="761760" cy="609480"/>
          </a:xfrm>
          <a:custGeom>
            <a:avLst/>
            <a:gdLst>
              <a:gd name="textAreaLeft" fmla="*/ 118800 w 761760"/>
              <a:gd name="textAreaRight" fmla="*/ 666720 w 7617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8088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853452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8534520" y="1522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tructure &amp; Trends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 Direct Market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405" name=""/>
          <p:cNvGraphicFramePr/>
          <p:nvPr/>
        </p:nvGraphicFramePr>
        <p:xfrm>
          <a:off x="380880" y="1600200"/>
          <a:ext cx="8305920" cy="4900680"/>
        </p:xfrm>
        <a:graphic>
          <a:graphicData uri="http://schemas.openxmlformats.org/drawingml/2006/table">
            <a:tbl>
              <a:tblPr/>
              <a:tblGrid>
                <a:gridCol w="2524320"/>
                <a:gridCol w="5781600"/>
              </a:tblGrid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arkets Served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rms are increasingly targeting affluent customer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ypes of 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oducts Sold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pparel, sporting goods, consumer electronics, books, records, gourmet foods, insurance, etc.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rms Involved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any are well-known retailers or manufacturers that supplement their conventional method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oblems &amp;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ospect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otential customers cannot examine or touch product; high operating costs; low response rates; intense competition;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mage problem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6933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Alternative Channels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752480"/>
            <a:ext cx="5562360" cy="3070440"/>
          </a:xfrm>
          <a:prstGeom prst="rect">
            <a:avLst/>
          </a:prstGeom>
          <a:gradFill rotWithShape="0">
            <a:gsLst>
              <a:gs pos="0">
                <a:srgbClr val="7e7e7e"/>
              </a:gs>
              <a:gs pos="100000">
                <a:srgbClr val="e6e6e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Growing in import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rect Sel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rect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27432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5720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8610480" y="1522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861048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ationale for Designing a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rect Marketing Channe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105520" y="40384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01132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62840" y="1981080"/>
            <a:ext cx="765288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c7c9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ne of several alternative marketing channel structu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91920" y="4267080"/>
            <a:ext cx="7783920" cy="22885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50000">
                <a:srgbClr val="bfc1e0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en deciding whether to use direc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ing, direct selling, conventional retail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r some combina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these, the channel manager should appl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bjective analysis of relevant variables &amp; circumstanc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62120" y="2895480"/>
            <a:ext cx="1828800" cy="17528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5335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85345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8548200" y="586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ategories of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838080" y="1523880"/>
            <a:ext cx="6858000" cy="4848840"/>
          </a:xfrm>
          <a:prstGeom prst="rect">
            <a:avLst/>
          </a:prstGeom>
          <a:gradFill rotWithShape="0">
            <a:gsLst>
              <a:gs pos="0">
                <a:srgbClr val="c7c9e3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 variables &amp; the direct marketing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variables &amp; the direct marketing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any variables &amp; the direct marketing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4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mediary variables &amp; the direct marketing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5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nvironmental variables &amp; the direct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6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ehavioral variables &amp; the direct marketing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11430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rect Sell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4680" y="1905120"/>
            <a:ext cx="7905960" cy="825480"/>
          </a:xfrm>
          <a:prstGeom prst="rect">
            <a:avLst/>
          </a:prstGeom>
          <a:gradFill rotWithShape="0">
            <a:gsLst>
              <a:gs pos="0">
                <a:srgbClr val="fee6b6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Direct selling is the sale of a consumer product or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erson-to-person, away from a fixed retail lo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3048120"/>
            <a:ext cx="8229600" cy="34466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83838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ree key point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oes directly to consumers’ homes, offices, or oth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o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cerned with the sale of consumer products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 markets rather than industrial products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industrial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volves salespeople meeting fact-to-face with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1880" y="15228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4164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tructure &amp; Trends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 Direct Sell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2514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6280" y="163656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2743200"/>
            <a:ext cx="6477120" cy="37515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866b35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s Serv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ypes of Products Sol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rms Involved in Direct Sel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blems &amp; Prospects for Direct Sel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51460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s Served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2133720"/>
          <a:ext cx="7696080" cy="419040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ocation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ercent of Sale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om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4.4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elephon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4.7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Workplac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.7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ternet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.5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emporary location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.1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59d4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1300680" y="1371600"/>
            <a:ext cx="6459480" cy="459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ocation of Direct Selling Channel Sales, 200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ypes of Products Sold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09480" y="2438280"/>
          <a:ext cx="7772400" cy="4191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oduct Category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ercent of Total Sale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ersonal Care Product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6.4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ome/Family Car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oduct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3.7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eisure/Educational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oduct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.5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ervices/Miscellaneous/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3.4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c0994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842400" y="1219320"/>
            <a:ext cx="7325280" cy="82548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jor Product Categories Sold through Direct Sel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s as a Percentage of Total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10480" y="2286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Firms Involved in Direct Sell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5360" y="1752480"/>
            <a:ext cx="6445800" cy="1557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9174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undreds exi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ange in size from those with annu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ales over $1 billion to those with sal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ell under $1 mill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8560" y="4495680"/>
            <a:ext cx="3769920" cy="1557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8c703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upperware Corp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von Products, In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orldbook, In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mway Corpor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057400"/>
            <a:ext cx="1371600" cy="9144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a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4648320"/>
            <a:ext cx="1905120" cy="9144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blems &amp; Prospects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for Direct Sell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60" y="1371600"/>
            <a:ext cx="8887320" cy="5214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b08d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y potential customers lack an awarenes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direct selling as an alternativ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 significant portion of potential customers ha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 negative impression of direct selling in general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re is a lower availability of consumers for at-ho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ales calls and part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perceived risk indicated by consumers towar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ying products through direct sales in the home i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igh compared to other modes of shopp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cruitment of salespeople has become more difficul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1676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ationale for Designing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rect Selling Channel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6000" y="1828800"/>
            <a:ext cx="5229720" cy="1557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 method of distribution for provid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s &amp; services to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78600" y="4495680"/>
            <a:ext cx="5955120" cy="1922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decision to choose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rect selling channel or some oth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should be based on an objec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alysis of the advantages 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sadvantages of each channel alternativ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3733920"/>
            <a:ext cx="2057400" cy="144756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11T17:48:39Z</dcterms:modified>
  <cp:revision>549</cp:revision>
  <dc:subject/>
  <dc:title>Part 1</dc:title>
</cp:coreProperties>
</file>