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A04D-AD9D-4B3B-A852-806EAEBF5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70D2-B9DD-4D96-A158-008544B8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7C0D-6D1F-4A57-A4A9-AE56F58F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6E31-4CE1-468F-84B2-4E1D3AF8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36F5-AA4F-424D-BE35-2DF227BD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566E-9D3E-4072-A579-EEFB5E4F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CB3C-4927-4E99-9A5D-E530D008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B94D-2ADE-4091-BD59-F0C85EC7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80AF-340E-48D2-B343-429AAE40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B113-C665-40B7-A31C-34192289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1FBD-6A1A-446D-8BC5-D147FBA8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7973-237C-4E67-A4C0-1509363B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8F78-175C-4A40-9A63-80352BB4AD17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16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696080" cy="35053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Direct Selling &amp; Direct Marketing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Channel System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62520" y="3733920"/>
            <a:ext cx="304776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458200" y="15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1464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458200" y="15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458200" y="228600"/>
            <a:ext cx="0" cy="15238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51796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ategories of Variabl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14400" y="1523880"/>
            <a:ext cx="6781680" cy="52146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rket variables &amp; the direct selling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 variables &amp; the direct sell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3)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mpany variables &amp; the direct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lling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4)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termediary variables &amp; the direct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lling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5)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nvironmental variables &amp; the direct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lling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6)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ehavioral variables &amp; the direct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lling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78000" y="165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45820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7080" y="81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458200" y="303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47800" y="153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38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81880" y="23184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460000" y="3063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927920" y="23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88320" y="12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53080" y="449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53080" y="449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90720" y="14479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19320" y="60958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28800" y="57913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664400" y="252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124840" y="144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607600" y="38088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14640" y="31370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75560" y="20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3880" y="15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1200" y="22860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97160" y="22860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00640" y="2422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62000" y="20113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458200" y="303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47800" y="153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38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81880" y="23184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460000" y="3063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927920" y="23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888320" y="12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53080" y="449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53080" y="449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14479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19320" y="60958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28800" y="57913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64400" y="252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124840" y="144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607600" y="38088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75560" y="20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45820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3880" y="15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51796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1200" y="22860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97160" y="22860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0640" y="2422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144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62000" y="20113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Variabl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34800" y="1143000"/>
            <a:ext cx="6802560" cy="825480"/>
          </a:xfrm>
          <a:prstGeom prst="rect">
            <a:avLst/>
          </a:prstGeom>
          <a:gradFill rotWithShape="0">
            <a:gsLst>
              <a:gs pos="0">
                <a:srgbClr val="fee8b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Developments in consumer attitudes &amp; behavio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that could make direct selling more attractive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-183960" y="2743200"/>
            <a:ext cx="4717800" cy="1922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creasing numbers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sumers have les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ime available for shop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 traditional stor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43880" y="5105520"/>
            <a:ext cx="6688080" cy="11912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2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sumers are becoming more sophisticat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&amp; demanding more &amp; better product information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21360" y="2666880"/>
            <a:ext cx="3771360" cy="1922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3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sumers are seek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creased convenie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 all spheres of their lives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cluding shopping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07" idx="2"/>
            <a:endCxn id="308" idx="0"/>
          </p:cNvCxnSpPr>
          <p:nvPr/>
        </p:nvCxnSpPr>
        <p:spPr>
          <a:xfrm flipH="1">
            <a:off x="2174400" y="1964880"/>
            <a:ext cx="2463120" cy="77868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307" idx="2"/>
            <a:endCxn id="310" idx="0"/>
          </p:cNvCxnSpPr>
          <p:nvPr/>
        </p:nvCxnSpPr>
        <p:spPr>
          <a:xfrm>
            <a:off x="4637160" y="1964880"/>
            <a:ext cx="2370960" cy="70236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313" name=""/>
          <p:cNvCxnSpPr>
            <a:stCxn id="307" idx="2"/>
          </p:cNvCxnSpPr>
          <p:nvPr/>
        </p:nvCxnSpPr>
        <p:spPr>
          <a:xfrm>
            <a:off x="4637160" y="1964880"/>
            <a:ext cx="23040" cy="315684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8088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458200" y="304920"/>
            <a:ext cx="0" cy="8380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517960" y="2286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 Variabl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74360" y="1143000"/>
            <a:ext cx="7630200" cy="119124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Products that are high quality, that are unique, 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that require specialized information &amp; advice are log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choices for direct selling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4800" y="2895480"/>
            <a:ext cx="4414320" cy="1922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 quality may becom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pparent only when consu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re informed about the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 conjunction with hands-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emonstratio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44200" y="5486400"/>
            <a:ext cx="7751880" cy="8254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 uniqueness may become apparent only throug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direct help of salespeople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31000" y="3048120"/>
            <a:ext cx="3856680" cy="1557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sumer satisfaction ma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epend on whether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sumer has prope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formation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322" name=""/>
          <p:cNvCxnSpPr>
            <a:stCxn id="318" idx="2"/>
            <a:endCxn id="319" idx="0"/>
          </p:cNvCxnSpPr>
          <p:nvPr/>
        </p:nvCxnSpPr>
        <p:spPr>
          <a:xfrm flipH="1">
            <a:off x="2361600" y="2330280"/>
            <a:ext cx="2228040" cy="56592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323" name=""/>
          <p:cNvCxnSpPr>
            <a:stCxn id="318" idx="2"/>
            <a:endCxn id="321" idx="0"/>
          </p:cNvCxnSpPr>
          <p:nvPr/>
        </p:nvCxnSpPr>
        <p:spPr>
          <a:xfrm>
            <a:off x="4589280" y="2330280"/>
            <a:ext cx="2370600" cy="71856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324" name=""/>
          <p:cNvCxnSpPr>
            <a:stCxn id="318" idx="2"/>
            <a:endCxn id="320" idx="0"/>
          </p:cNvCxnSpPr>
          <p:nvPr/>
        </p:nvCxnSpPr>
        <p:spPr>
          <a:xfrm>
            <a:off x="4589640" y="2329920"/>
            <a:ext cx="132480" cy="315684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67800" y="281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0880" y="91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458200" y="38088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78000" y="165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5820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57080" y="81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78000" y="1805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458200" y="457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57080" y="96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458200" y="45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47800" y="168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4920" y="5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381880" y="3841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460000" y="4586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927920" y="38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88832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553080" y="4648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55308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08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990720" y="16002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19320" y="62485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828800" y="5943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66440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124840" y="15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07600" y="5335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14640" y="3289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675560" y="35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3880" y="1704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1200" y="2438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197160" y="2438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00640" y="2575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05120" y="19810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5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458200" y="45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47800" y="168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4920" y="5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81880" y="3841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460000" y="4586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927920" y="38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88832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553080" y="4648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55308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95360" y="1371600"/>
            <a:ext cx="3853440" cy="459720"/>
          </a:xfrm>
          <a:prstGeom prst="rect">
            <a:avLst/>
          </a:prstGeom>
          <a:gradFill rotWithShape="0">
            <a:gsLst>
              <a:gs pos="0">
                <a:srgbClr val="fee5b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Basic variables to consider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219320" y="62485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828800" y="5943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6440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124840" y="15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607600" y="5335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675560" y="35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45820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53880" y="1704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441640" y="22860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1200" y="2438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97160" y="2438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400640" y="2575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0492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224360" y="4419720"/>
            <a:ext cx="2599200" cy="1557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inancial capaci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f the compan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mpany Variabl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6320" y="4952880"/>
            <a:ext cx="3093120" cy="1557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3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agerial expertis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 distribu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06360" y="2362320"/>
            <a:ext cx="1706400" cy="1557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ize of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mpan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90000" y="2209680"/>
            <a:ext cx="3364200" cy="1557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asic objective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olicies of the compan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422" name=""/>
          <p:cNvCxnSpPr>
            <a:stCxn id="402" idx="2"/>
            <a:endCxn id="420" idx="0"/>
          </p:cNvCxnSpPr>
          <p:nvPr/>
        </p:nvCxnSpPr>
        <p:spPr>
          <a:xfrm flipH="1">
            <a:off x="1160280" y="1844640"/>
            <a:ext cx="3062880" cy="51840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423" name=""/>
          <p:cNvCxnSpPr>
            <a:stCxn id="402" idx="2"/>
            <a:endCxn id="417" idx="0"/>
          </p:cNvCxnSpPr>
          <p:nvPr/>
        </p:nvCxnSpPr>
        <p:spPr>
          <a:xfrm flipH="1">
            <a:off x="2523240" y="1844280"/>
            <a:ext cx="1699560" cy="257580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424" name=""/>
          <p:cNvCxnSpPr>
            <a:stCxn id="402" idx="2"/>
            <a:endCxn id="419" idx="0"/>
          </p:cNvCxnSpPr>
          <p:nvPr/>
        </p:nvCxnSpPr>
        <p:spPr>
          <a:xfrm>
            <a:off x="4222800" y="1844640"/>
            <a:ext cx="1900800" cy="310896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425" name=""/>
          <p:cNvCxnSpPr>
            <a:stCxn id="402" idx="2"/>
            <a:endCxn id="421" idx="0"/>
          </p:cNvCxnSpPr>
          <p:nvPr/>
        </p:nvCxnSpPr>
        <p:spPr>
          <a:xfrm>
            <a:off x="4222440" y="1844640"/>
            <a:ext cx="2950200" cy="36576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238560" y="24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837560" y="291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908000" y="139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17800" y="3452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827440" y="261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408560" y="279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3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867800" y="26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98440" y="10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458200" y="3618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78000" y="163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458200" y="2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57080" y="79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458200" y="28584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827440" y="261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08560" y="279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13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867800" y="26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98440" y="10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458200" y="3618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78000" y="163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458200" y="2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57080" y="79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867800" y="41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98440" y="1225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458200" y="51444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78000" y="178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458200" y="438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57080" y="94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7800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458200" y="59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57080" y="109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458200" y="58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47800" y="181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4920" y="6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381880" y="5176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460000" y="592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927920" y="517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888320" y="15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553080" y="47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53080" y="47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8088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990720" y="17334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219320" y="63817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828800" y="60768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664400" y="53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124840" y="172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607600" y="6667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214640" y="3422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675560" y="48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53880" y="183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1200" y="257184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97160" y="25718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40064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962000" y="229716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458200" y="58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47800" y="181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04920" y="6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381880" y="5176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460000" y="592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927920" y="517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888320" y="15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553080" y="47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553080" y="47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8088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0720" y="17334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219320" y="63817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828800" y="60768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64400" y="53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124840" y="172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607600" y="6667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675560" y="48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458200" y="3618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53880" y="183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441640" y="3618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121200" y="257184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197160" y="25718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40064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91440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0492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962000" y="229716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termediary Variabl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07840" y="1371600"/>
            <a:ext cx="5650200" cy="45972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Basic intermediary variables to consider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41840" y="3352680"/>
            <a:ext cx="2870640" cy="1922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vailability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lterna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470760" y="3962520"/>
            <a:ext cx="2058120" cy="22885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st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using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lterna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591" name=""/>
          <p:cNvCxnSpPr>
            <a:stCxn id="588" idx="2"/>
            <a:endCxn id="589" idx="0"/>
          </p:cNvCxnSpPr>
          <p:nvPr/>
        </p:nvCxnSpPr>
        <p:spPr>
          <a:xfrm flipH="1">
            <a:off x="1577160" y="1828440"/>
            <a:ext cx="2956680" cy="152460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592" name=""/>
          <p:cNvCxnSpPr>
            <a:stCxn id="588" idx="2"/>
            <a:endCxn id="590" idx="0"/>
          </p:cNvCxnSpPr>
          <p:nvPr/>
        </p:nvCxnSpPr>
        <p:spPr>
          <a:xfrm flipH="1">
            <a:off x="4500360" y="1828440"/>
            <a:ext cx="33840" cy="213444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sp>
        <p:nvSpPr>
          <p:cNvPr id="593" name=""/>
          <p:cNvSpPr/>
          <p:nvPr/>
        </p:nvSpPr>
        <p:spPr>
          <a:xfrm>
            <a:off x="6073920" y="3200400"/>
            <a:ext cx="2430000" cy="22885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rvices tha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lternatives a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apable of o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illing to provi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594" name=""/>
          <p:cNvCxnSpPr>
            <a:stCxn id="588" idx="2"/>
            <a:endCxn id="593" idx="0"/>
          </p:cNvCxnSpPr>
          <p:nvPr/>
        </p:nvCxnSpPr>
        <p:spPr>
          <a:xfrm>
            <a:off x="4533480" y="1828800"/>
            <a:ext cx="2756520" cy="137232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nvironmental Variabl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3808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80880" y="12193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38188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905200" y="1371600"/>
            <a:ext cx="2518560" cy="459720"/>
          </a:xfrm>
          <a:prstGeom prst="rect">
            <a:avLst/>
          </a:prstGeom>
          <a:gradFill rotWithShape="0">
            <a:gsLst>
              <a:gs pos="0">
                <a:srgbClr val="fee7b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Major categories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83400" y="2286000"/>
            <a:ext cx="1517400" cy="11912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860880" y="2133720"/>
            <a:ext cx="924480" cy="11912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5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6200" y="3733920"/>
            <a:ext cx="2056680" cy="11912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echnolog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236760" y="4648320"/>
            <a:ext cx="1922760" cy="11912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ociocultur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167840" y="3809880"/>
            <a:ext cx="1788480" cy="11912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mpetit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702" idx="2"/>
            <a:endCxn id="703" idx="0"/>
          </p:cNvCxnSpPr>
          <p:nvPr/>
        </p:nvCxnSpPr>
        <p:spPr>
          <a:xfrm flipH="1">
            <a:off x="1142640" y="1828800"/>
            <a:ext cx="3023280" cy="45792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2" idx="2"/>
            <a:endCxn id="707" idx="0"/>
          </p:cNvCxnSpPr>
          <p:nvPr/>
        </p:nvCxnSpPr>
        <p:spPr>
          <a:xfrm flipH="1">
            <a:off x="2061360" y="1828440"/>
            <a:ext cx="2104200" cy="198180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702" idx="2"/>
            <a:endCxn id="706" idx="0"/>
          </p:cNvCxnSpPr>
          <p:nvPr/>
        </p:nvCxnSpPr>
        <p:spPr>
          <a:xfrm>
            <a:off x="4165200" y="1828800"/>
            <a:ext cx="34200" cy="282024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702" idx="2"/>
            <a:endCxn id="705" idx="0"/>
          </p:cNvCxnSpPr>
          <p:nvPr/>
        </p:nvCxnSpPr>
        <p:spPr>
          <a:xfrm>
            <a:off x="4165560" y="1828800"/>
            <a:ext cx="2280240" cy="190584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702" idx="2"/>
            <a:endCxn id="704" idx="0"/>
          </p:cNvCxnSpPr>
          <p:nvPr/>
        </p:nvCxnSpPr>
        <p:spPr>
          <a:xfrm>
            <a:off x="4165200" y="1828440"/>
            <a:ext cx="3158280" cy="30564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838080" y="-15228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80880" y="12193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838188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188720" y="1600200"/>
            <a:ext cx="6058800" cy="459720"/>
          </a:xfrm>
          <a:prstGeom prst="rect">
            <a:avLst/>
          </a:prstGeom>
          <a:gradFill rotWithShape="0">
            <a:gsLst>
              <a:gs pos="0">
                <a:srgbClr val="fee7b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The “people” side of the marketing channel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11640" y="3048120"/>
            <a:ext cx="1195560" cy="8254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fli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024240" y="2971800"/>
            <a:ext cx="2448360" cy="8254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mmunic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ces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803120" y="4114800"/>
            <a:ext cx="805680" cy="8254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Ro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288160" y="4114800"/>
            <a:ext cx="1043280" cy="8254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983" name=""/>
          <p:cNvCxnSpPr>
            <a:stCxn id="978" idx="2"/>
            <a:endCxn id="979" idx="0"/>
          </p:cNvCxnSpPr>
          <p:nvPr/>
        </p:nvCxnSpPr>
        <p:spPr>
          <a:xfrm flipH="1">
            <a:off x="1208880" y="2057400"/>
            <a:ext cx="3009240" cy="99144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984" name=""/>
          <p:cNvCxnSpPr>
            <a:stCxn id="978" idx="2"/>
            <a:endCxn id="982" idx="0"/>
          </p:cNvCxnSpPr>
          <p:nvPr/>
        </p:nvCxnSpPr>
        <p:spPr>
          <a:xfrm flipH="1">
            <a:off x="2809440" y="2057040"/>
            <a:ext cx="1409040" cy="205776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985" name=""/>
          <p:cNvCxnSpPr>
            <a:stCxn id="978" idx="2"/>
            <a:endCxn id="981" idx="0"/>
          </p:cNvCxnSpPr>
          <p:nvPr/>
        </p:nvCxnSpPr>
        <p:spPr>
          <a:xfrm>
            <a:off x="4217760" y="2057040"/>
            <a:ext cx="989280" cy="205776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986" name=""/>
          <p:cNvCxnSpPr>
            <a:stCxn id="978" idx="2"/>
            <a:endCxn id="980" idx="0"/>
          </p:cNvCxnSpPr>
          <p:nvPr/>
        </p:nvCxnSpPr>
        <p:spPr>
          <a:xfrm>
            <a:off x="4218120" y="2057400"/>
            <a:ext cx="3031200" cy="91512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Behavioral Variabl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rect Market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80880" y="10666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838188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914480" y="188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28600" y="152280"/>
            <a:ext cx="152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298160" y="1371600"/>
            <a:ext cx="6450480" cy="119124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n interactive system of marketing that u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ore advertising media to effect a measurab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response and/or transaction at any loc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31120" y="2971800"/>
            <a:ext cx="8616240" cy="3751560"/>
          </a:xfrm>
          <a:prstGeom prst="rect">
            <a:avLst/>
          </a:prstGeom>
          <a:solidFill>
            <a:srgbClr val="7f7f7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Key Points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irect marketing is a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system or an approach to marketing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irect marketing relies on one or a combination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advertising media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to inform and stimulate custome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urchase respons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irect marketing includes the ability to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measure respons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tructure &amp; Trends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 Direct Market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381880" y="4572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28600" y="152280"/>
            <a:ext cx="152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33520" y="3809880"/>
            <a:ext cx="2895480" cy="243864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071000" y="2057400"/>
            <a:ext cx="7041600" cy="1557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stimating total sales is tricky becaus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various estimates often include different catego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f products and/or services as well as differen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rket segme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509280" y="4114800"/>
            <a:ext cx="4838040" cy="11912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ome sales data may be include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r excluded that may or may no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ver direct marketing sa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rot="18445800">
            <a:off x="1600200" y="3885840"/>
            <a:ext cx="762120" cy="609480"/>
          </a:xfrm>
          <a:custGeom>
            <a:avLst/>
            <a:gdLst>
              <a:gd name="textAreaLeft" fmla="*/ 118800 w 762120"/>
              <a:gd name="textAreaRight" fmla="*/ 667080 w 7621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 rot="18445800">
            <a:off x="2438280" y="4724280"/>
            <a:ext cx="761760" cy="609480"/>
          </a:xfrm>
          <a:custGeom>
            <a:avLst/>
            <a:gdLst>
              <a:gd name="textAreaLeft" fmla="*/ 118800 w 761760"/>
              <a:gd name="textAreaRight" fmla="*/ 666720 w 76176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80880" y="12193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8534520" y="152280"/>
            <a:ext cx="0" cy="1295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8534520" y="15228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tructure &amp; Trends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 Direct Market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405" name=""/>
          <p:cNvGraphicFramePr/>
          <p:nvPr/>
        </p:nvGraphicFramePr>
        <p:xfrm>
          <a:off x="380880" y="1600200"/>
          <a:ext cx="8305920" cy="4900680"/>
        </p:xfrm>
        <a:graphic>
          <a:graphicData uri="http://schemas.openxmlformats.org/drawingml/2006/table">
            <a:tbl>
              <a:tblPr/>
              <a:tblGrid>
                <a:gridCol w="2524320"/>
                <a:gridCol w="5781600"/>
              </a:tblGrid>
              <a:tr h="83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Markets Served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Firms are increasingly targeting affluent customer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12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Types of 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roducts Sold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Apparel, sporting goods, consumer electronics, books, records, gourmet foods, insurance, etc.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12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Firms Involved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Many are well-known retailers or manufacturers that supplement their conventional method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roblems &amp;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rospect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otential customers cannot examine or touch product; high operating costs; low response rates; intense competition;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image problem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69339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Alternative Channels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152280"/>
            <a:ext cx="5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3716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1880" y="15228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752480"/>
            <a:ext cx="5562360" cy="3070440"/>
          </a:xfrm>
          <a:prstGeom prst="rect">
            <a:avLst/>
          </a:prstGeom>
          <a:gradFill rotWithShape="0">
            <a:gsLst>
              <a:gs pos="0">
                <a:srgbClr val="7e7e7e"/>
              </a:gs>
              <a:gs pos="100000">
                <a:srgbClr val="e6e6e6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Growing in import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rect Sell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Genev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rect 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Genev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274320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57200" y="13716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8610480" y="15228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8610480" y="15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Rationale for Designing a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rect Marketing Channel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838080" y="12492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5105520" y="40384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011320" y="244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28600" y="152280"/>
            <a:ext cx="152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7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62840" y="1981080"/>
            <a:ext cx="7652880" cy="8254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c7c9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ne of several alternative marketing channel structur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91920" y="4267080"/>
            <a:ext cx="7783920" cy="22885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50000">
                <a:srgbClr val="bfc1e0"/>
              </a:gs>
              <a:gs pos="100000">
                <a:srgbClr val="8488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hen deciding whether to use direc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rketing, direct selling, conventional retail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r some combinatio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f these, the channel manager should apply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bjective analysis of relevant variables &amp; circumstanc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762120" y="2895480"/>
            <a:ext cx="1828800" cy="175284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u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533520" y="10666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853452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8548200" y="5868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ategories of Variabl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838080" y="1523880"/>
            <a:ext cx="6858000" cy="4848840"/>
          </a:xfrm>
          <a:prstGeom prst="rect">
            <a:avLst/>
          </a:prstGeom>
          <a:gradFill rotWithShape="0">
            <a:gsLst>
              <a:gs pos="0">
                <a:srgbClr val="c7c9e3"/>
              </a:gs>
              <a:gs pos="100000">
                <a:srgbClr val="8488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rket variables &amp; the direct marketing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2)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 variables &amp; the direct marketing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3)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mpany variables &amp; the direct marketing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4)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termediary variables &amp; the direct marketing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5)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nvironmental variables &amp; the direct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rketing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6)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ehavioral variables &amp; the direct marketing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114300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rect Sell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4680" y="1905120"/>
            <a:ext cx="7905960" cy="825480"/>
          </a:xfrm>
          <a:prstGeom prst="rect">
            <a:avLst/>
          </a:prstGeom>
          <a:gradFill rotWithShape="0">
            <a:gsLst>
              <a:gs pos="0">
                <a:srgbClr val="fee6b6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Direct selling is the sale of a consumer product or 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person-to-person, away from a fixed retail loc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3048120"/>
            <a:ext cx="8229600" cy="344664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83838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hree key points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Goes directly to consumers’ homes, offices, or oth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oc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cerned with the sale of consumer products 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sumer markets rather than industrial products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 industrial 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volves salespeople meeting fact-to-face with custo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1143000"/>
            <a:ext cx="83055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1880" y="15228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44164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tructure &amp; Trends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 Direct Sell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251460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16280" y="163656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57400" y="2743200"/>
            <a:ext cx="6477120" cy="37515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866b35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rkets Serv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ypes of Products Sol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irms Involved in Direct Sell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blems &amp; Prospects for Direct Sell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2514600" cy="24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458200" y="152280"/>
            <a:ext cx="0" cy="1295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s Served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85800" y="2133720"/>
          <a:ext cx="7696080" cy="419040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Location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59d4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ercent of Sale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59d4e"/>
                        </a:gs>
                      </a:gsLst>
                      <a:lin ang="5400000"/>
                    </a:gradFill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Home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59d4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4.4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59d4e"/>
                        </a:gs>
                      </a:gsLst>
                      <a:lin ang="5400000"/>
                    </a:gra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Telephone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59d4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4.7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59d4e"/>
                        </a:gs>
                      </a:gsLst>
                      <a:lin ang="5400000"/>
                    </a:gradFill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Workplace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59d4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.7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59d4e"/>
                        </a:gs>
                      </a:gsLst>
                      <a:lin ang="5400000"/>
                    </a:gra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Internet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59d4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.5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59d4e"/>
                        </a:gs>
                      </a:gsLst>
                      <a:lin ang="5400000"/>
                    </a:gradFill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Temporary location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59d4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4.1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59d4e"/>
                        </a:gs>
                      </a:gsLst>
                      <a:lin ang="5400000"/>
                    </a:gradFill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59d4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.6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59d4e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1300680" y="1371600"/>
            <a:ext cx="6459480" cy="45972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ocation of Direct Selling Channel Sales, 200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51796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ypes of Products Sold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09480" y="2438280"/>
          <a:ext cx="7772400" cy="41911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roduct Category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0994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ercent of Total Sale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0994c"/>
                        </a:gs>
                      </a:gsLst>
                      <a:lin ang="5400000"/>
                    </a:gra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ersonal Care Product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0994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6.4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0994c"/>
                        </a:gs>
                      </a:gsLst>
                      <a:lin ang="5400000"/>
                    </a:gra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Home/Family Care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roduct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0994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3.7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0994c"/>
                        </a:gs>
                      </a:gsLst>
                      <a:lin ang="5400000"/>
                    </a:gra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Leisure/Educational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roduct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0994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.5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0994c"/>
                        </a:gs>
                      </a:gsLst>
                      <a:lin ang="5400000"/>
                    </a:gra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ervices/Miscellaneous/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0994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3.4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0994c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842400" y="1219320"/>
            <a:ext cx="7325280" cy="825480"/>
          </a:xfrm>
          <a:prstGeom prst="rect">
            <a:avLst/>
          </a:prstGeom>
          <a:gradFill rotWithShape="0">
            <a:gsLst>
              <a:gs pos="0">
                <a:srgbClr val="fee4b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jor Product Categories Sold through Direct Sell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s as a Percentage of Total Sa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610480" y="22860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752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1796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6524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Firms Involved in Direct Sell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5360" y="1752480"/>
            <a:ext cx="6445800" cy="1557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9174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Hundreds exis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Range in size from those with annua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ales over $1 billion to those with sal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ell under $1 mill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8560" y="4495680"/>
            <a:ext cx="3769920" cy="1557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8c703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upperware Corp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von Products, Inc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orldbook, Inc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mway Corpor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057400"/>
            <a:ext cx="1371600" cy="9144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a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4648320"/>
            <a:ext cx="1905120" cy="91440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blems &amp; Prospects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for Direct Sell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464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53452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51472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11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12193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60" y="1371600"/>
            <a:ext cx="8887320" cy="52146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b08d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y potential customers lack an awarenes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f direct selling as an alternativ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 significant portion of potential customers ha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 negative impression of direct selling in general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re is a lower availability of consumers for at-hom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ales calls and parti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perceived risk indicated by consumers towar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uying products through direct sales in the home i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high compared to other modes of shopping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5.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Recruitment of salespeople has become more difficul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8458200" y="15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5496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51472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11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13716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16765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Rationale for Designing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rect Selling Channel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6000" y="1828800"/>
            <a:ext cx="5229720" cy="1557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 method of distribution for provid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s &amp; services to custo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78600" y="4495680"/>
            <a:ext cx="5955120" cy="1922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decision to choose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irect selling channel or some oth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should be based on an objectiv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nalysis of the advantages o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isadvantages of each channel alternativ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3733920"/>
            <a:ext cx="2057400" cy="144756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u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7-11T17:48:39Z</dcterms:modified>
  <cp:revision>549</cp:revision>
  <dc:subject/>
  <dc:title>Part 1</dc:title>
</cp:coreProperties>
</file>