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D75-C644-49C0-9FE4-C2FDE646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650-5998-4D59-A58E-B50E3C4C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38C-E764-49F1-AA66-06EDA7B1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DD3-3F3D-4B11-9E7F-B06E9D89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8B1-86F7-4F15-866F-EF0D68F7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5A0-2551-420F-A788-31677B02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0C8-3E74-44BF-AF4A-6FA52ED3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E35-1B3E-4304-B8EA-C6B41295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A58-1619-4A69-B32A-25CE10AA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205-D383-4337-A177-D693144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5FC-E558-4E88-89C4-A738D91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74E-53F4-4ADA-B176-F39B225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8EB5-D4F5-4F59-B75A-C475764026AE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7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s for Serv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7720" y="3581280"/>
            <a:ext cx="242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228600"/>
            <a:ext cx="0" cy="175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mplications of Service Characteristic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9640" y="1828800"/>
            <a:ext cx="612432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9f9f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relationship between the characteristic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services &amp; the management of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 include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0520" y="3429000"/>
            <a:ext cx="7433280" cy="302004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angibility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separability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y of Standardization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stomer Involvement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ishability of Services &amp; Channel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angibility &amp;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1905120"/>
            <a:ext cx="53337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channels provid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ost direct &amp; potent ba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making a service more tangib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5257800"/>
            <a:ext cx="694044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stomer is directly exposed to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s the service provided by the channe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3352680"/>
            <a:ext cx="185724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5820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separability &amp;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676520"/>
            <a:ext cx="7620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separability of services from the provi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ans that the service provider does not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“safety net” available to the product manufacturer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reby the product itself can make up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or distribu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5181480"/>
            <a:ext cx="6934320" cy="155700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spects of the marketing channel wit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he consumer comes into cont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us a reflection of the quality of the servi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2480" y="3733920"/>
            <a:ext cx="18576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15289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9810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441640" y="22860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6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iculty of Standardization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1828800"/>
            <a:ext cx="73231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he case of franchises, it is difficult for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ager to get the franchisees to deliver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istent level of service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3505320"/>
            <a:ext cx="18576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5257800"/>
            <a:ext cx="723924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human involvement—behavior—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involved in providing servi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07600" y="6667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 Involvement &amp;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5200" y="1905120"/>
            <a:ext cx="6939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a channel containing services such as barber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tness clubs, and tax preparation, th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sign should facilitate customer involv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3505320"/>
            <a:ext cx="18576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334120"/>
            <a:ext cx="689004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h services generally require input from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in order to be performed successful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400800" y="3073320"/>
            <a:ext cx="24382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ishability of Services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&amp; Channel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38188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7120" y="1981080"/>
            <a:ext cx="6651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nnel must be designed so as to conn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 efficiently as possible those provid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 with those desiring to obtain i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47920" y="3657600"/>
            <a:ext cx="185724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5334120"/>
            <a:ext cx="7543800" cy="1191240"/>
          </a:xfrm>
          <a:prstGeom prst="rect">
            <a:avLst/>
          </a:prstGeom>
          <a:solidFill>
            <a:srgbClr val="6e7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 high degree of perishability of unsold services, design should maximize the sale of service during its limited exposure to the target marke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38080" y="-1522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ditional Persp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2438280"/>
            <a:ext cx="7238880" cy="396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horter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ranchised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stomization of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52600" y="1295280"/>
            <a:ext cx="5821200" cy="82548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ortant considerations for developing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rating marketing channels for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horter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33520" y="1522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5820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28600" y="1295280"/>
            <a:ext cx="815328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irect structure in a short channel eliminat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hallenge of designing a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terms of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ngth, intensity, &amp; type of intermedia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 each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selection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eed to motivate intermediaries to d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 effective job of selling the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324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ranchised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094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686800" y="457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0880" y="9144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45820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28600" y="1295280"/>
            <a:ext cx="845820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ing business format franchising can give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 provider the potential to reap benefi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scale of economies of a large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entrepreneurial drive &amp; motiv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ociated with independently ow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si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egree of control necessary to fost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andardization in services offered by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ividual franchised uni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8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534520" y="15228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534520" y="1522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ization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" y="1295280"/>
            <a:ext cx="845820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y services provide for a high degre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ustomiza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r services requiring a high degre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stomization, small-scale channel consis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local independent service providers a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kely to continue to play a major rol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Importance of Service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440" y="2057400"/>
            <a:ext cx="655416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services sector of the economy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an twice the size of the manufacturing sect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7240" y="3581280"/>
            <a:ext cx="57052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account for more than half of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expenditur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520" y="5181480"/>
            <a:ext cx="6400080" cy="825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most 80% of all new jobs created ov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ast 10 years have been in the service secto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676520"/>
            <a:ext cx="762120" cy="685800"/>
          </a:xfrm>
          <a:custGeom>
            <a:avLst/>
            <a:gdLst>
              <a:gd name="textAreaLeft" fmla="*/ 313920 w 762120"/>
              <a:gd name="textAreaRight" fmla="*/ 448200 w 7621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200400"/>
            <a:ext cx="761760" cy="685800"/>
          </a:xfrm>
          <a:custGeom>
            <a:avLst/>
            <a:gdLst>
              <a:gd name="textAreaLeft" fmla="*/ 313920 w 761760"/>
              <a:gd name="textAreaRight" fmla="*/ 447840 w 76176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4800600"/>
            <a:ext cx="762120" cy="685800"/>
          </a:xfrm>
          <a:custGeom>
            <a:avLst/>
            <a:gdLst>
              <a:gd name="textAreaLeft" fmla="*/ 313920 w 762120"/>
              <a:gd name="textAreaRight" fmla="*/ 448200 w 7621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720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61048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Fl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28600" y="1295280"/>
            <a:ext cx="8458200" cy="53341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8000"/>
              </a:gs>
              <a:gs pos="100000">
                <a:srgbClr val="feae5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ows that “carry” the service through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are those of information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gotiation, &amp; promo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y can be handled electronically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the role of technology becom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en greater in the future than i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ready 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14300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rvices Marketing Objec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8880" y="1523880"/>
            <a:ext cx="4364280" cy="1434960"/>
          </a:xfrm>
          <a:prstGeom prst="rect">
            <a:avLst/>
          </a:prstGeom>
          <a:gradFill rotWithShape="0">
            <a:gsLst>
              <a:gs pos="0">
                <a:srgbClr val="fee0a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Marketing Objectiv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Marketing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267080"/>
            <a:ext cx="6781680" cy="2288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services (or products) that a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ed to meet customer dem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services (or products) to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as to maximize their appea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racteristics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41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racteristics of Services tha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inguish them from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angibility of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separability of services from service provid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ifficulty of standardizing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high degree of customer involvement in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erishability of servi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angibility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52480"/>
            <a:ext cx="4114800" cy="4117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have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finite impressions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eferences about phys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becaus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ir tangi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5520" y="1752480"/>
            <a:ext cx="3730680" cy="41173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uch less tangi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an physical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 to differenti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ran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70440" y="297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048120"/>
            <a:ext cx="46332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separability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666880"/>
            <a:ext cx="184320" cy="473040"/>
          </a:xfrm>
          <a:prstGeom prst="rect">
            <a:avLst/>
          </a:prstGeom>
          <a:gradFill rotWithShape="0">
            <a:gsLst>
              <a:gs pos="0">
                <a:srgbClr val="fedb9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3554280" cy="4483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extricably ti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vider of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produced d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t exist as entities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of thems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676520"/>
            <a:ext cx="3429000" cy="3751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 entity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ists apart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 itsel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971800"/>
            <a:ext cx="46332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4857840"/>
            <a:ext cx="2114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fficulty of Standardiz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676520"/>
            <a:ext cx="399888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re difficult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andardize than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riability associat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ith human element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uch more likely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eep into the produc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services than in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roduction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1676520"/>
            <a:ext cx="342900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igh degree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andard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und in advanc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ustrial societ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22680" y="329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124080"/>
            <a:ext cx="46368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 Involvement in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3452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676520"/>
            <a:ext cx="381024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are mo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olved i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ion of services than they are in the production of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1600200"/>
            <a:ext cx="4114800" cy="5031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ividual 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 not play much of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ole in determin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ature of produc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d for the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 is involved on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consumption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3048120"/>
            <a:ext cx="46368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54960" y="228600"/>
            <a:ext cx="324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1676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erishability of Servi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6520" y="302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463320" cy="70344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6520"/>
            <a:ext cx="381024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rvices cannot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ed in anticip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ustomer need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n stored in inven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ntil purchased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1676520"/>
            <a:ext cx="3809880" cy="48488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can b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ventoried and stored—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en the mos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ishabl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638680" y="4514760"/>
            <a:ext cx="27432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4T19:46:44Z</dcterms:modified>
  <cp:revision>586</cp:revision>
  <dc:subject/>
  <dc:title>Part 1</dc:title>
</cp:coreProperties>
</file>