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88F-A727-4951-9C59-B4F0E74A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CCB-D3D2-4609-B8AE-D8AE8FA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CAB-A853-42DB-8824-7069B5DC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D0D-47E4-4167-BCAE-591DDDB2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412-42E5-41BE-AFC9-3D54F825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2A8-5795-4F98-9D55-686882C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B31-6C54-4626-A955-6ED04D4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518-D723-4B49-9318-871EC915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61D-E19A-4B0F-809C-AE1EA0F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840-93F0-448D-A0FD-D1875C8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A4B-9665-4FAC-8286-7051F22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BD7-F248-4A39-B2EC-E293A39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26A-4515-498F-8B7D-00EED542D3A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s for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7720" y="3581280"/>
            <a:ext cx="242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Service Characteristic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9640" y="1828800"/>
            <a:ext cx="612432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9f9f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relationship between the character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services &amp; the management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include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0520" y="3429000"/>
            <a:ext cx="7433280" cy="302004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angibility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separability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y of Standardization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er Involvement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shability of Services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angibility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905120"/>
            <a:ext cx="53337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s provid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ost direct &amp; potent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making a service more tangib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5257800"/>
            <a:ext cx="69404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stomer is directly exposed to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s the service provided by the channe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3352680"/>
            <a:ext cx="185724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separability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676520"/>
            <a:ext cx="7620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separability of services from the provi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ans that the service provider does not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“safety net” available to the product manufacturer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reby the product itself can make up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or distribu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5181480"/>
            <a:ext cx="693432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spects of the marketing channel wit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e consumer comes into cont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us a reflection of the quality of the servi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37339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528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iculty of Standardizatio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1828800"/>
            <a:ext cx="73231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he case of franchises, it is difficult for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 to get the franchisees to deliver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istent level of servic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35053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5257800"/>
            <a:ext cx="72392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human involvement—behavior—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involved in providing servi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 Involvement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200" y="1905120"/>
            <a:ext cx="6939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a channel containing services such as barb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tness clubs, and tax preparation, th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sign should facilitate customer involv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35053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334120"/>
            <a:ext cx="68900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services generally require input from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in order to be performed successful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400800" y="3073320"/>
            <a:ext cx="24382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ishability of Service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7120" y="1981080"/>
            <a:ext cx="6651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ust be designed so as to conn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 efficiently as possible those provid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 with those desiring to obtain i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3657600"/>
            <a:ext cx="185724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5334120"/>
            <a:ext cx="75438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high degree of perishability of unsold services, design should maximize the sale of service during its limited exposure to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808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tional Persp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2438280"/>
            <a:ext cx="7238880" cy="396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orter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anchised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ization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52600" y="1295280"/>
            <a:ext cx="582120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ortant considerations for developing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ng marketing channels for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horter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3352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5820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8600" y="1295280"/>
            <a:ext cx="815328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rect structure in a short channel elimina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llenge of designing a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erms o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ngth, intensity, &amp; type of 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election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eed to motivate intermediaries to d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effective job of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ranchised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094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686800" y="457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45820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ing business format franchising can giv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 provider the potential to reap benefi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cale of economies of a large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entrepreneurial drive &amp; motiv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ociated with independently ow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gree of control necessary to fos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ation in services offered by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ividual franchised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ization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services provide for a high deg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ustomiz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services requiring a high degre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ization, small-scale channel consis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local independent service providers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kely to continue to play a major ro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Importance of Servi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440" y="2057400"/>
            <a:ext cx="65541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ervices sector of the economy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n twice the size of the manufacturing sect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3581280"/>
            <a:ext cx="57052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account for more than half of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expenditur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520" y="5181480"/>
            <a:ext cx="64000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most 80% of all new jobs created ov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ast 10 years have been in the service sect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67652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200400"/>
            <a:ext cx="761760" cy="685800"/>
          </a:xfrm>
          <a:custGeom>
            <a:avLst/>
            <a:gdLst>
              <a:gd name="textAreaLeft" fmla="*/ 313920 w 761760"/>
              <a:gd name="textAreaRight" fmla="*/ 447840 w 76176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80060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104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Fl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ows that “carry” the service through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are those of inform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gotiation, &amp; promo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can be handled electronicall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the role of technology beco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n greater in the future than 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ready 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rvices Marketing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8880" y="1523880"/>
            <a:ext cx="4364280" cy="1434960"/>
          </a:xfrm>
          <a:prstGeom prst="rect">
            <a:avLst/>
          </a:prstGeom>
          <a:gradFill rotWithShape="0">
            <a:gsLst>
              <a:gs pos="0">
                <a:srgbClr val="fee0a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Marketing Objectiv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Marketing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67080"/>
            <a:ext cx="6781680" cy="2288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ervices (or products) that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ed to meet customer dem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services (or products) to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s to maximize their appe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racteristics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41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racteristics of Service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inguish them from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angibility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separability of services from service prov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fficulty of standardizing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 degree of customer involvement in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erishability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angi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52480"/>
            <a:ext cx="4114800" cy="4117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have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finite impressio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eferences about phys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becaus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ir tang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1752480"/>
            <a:ext cx="3730680" cy="4117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ch less tangi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n physical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differenti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ran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0440" y="297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04812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separa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666880"/>
            <a:ext cx="184320" cy="47304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3554280" cy="4483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extricably ti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vider of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produced 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t exist as entitie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of thems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76520"/>
            <a:ext cx="3429000" cy="3751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entity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ists apart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 itsel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97180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4857840"/>
            <a:ext cx="2114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iculty of Standard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76520"/>
            <a:ext cx="399888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difficult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e than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iability associ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human elemen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ch more likel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ep into the produc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services than in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roduction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1676520"/>
            <a:ext cx="342900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 degree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und in advan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ustrial socie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329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124080"/>
            <a:ext cx="46368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 Involvement in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45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676520"/>
            <a:ext cx="381024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olved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ion of services than they are in the production of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600200"/>
            <a:ext cx="4114800" cy="503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ividual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play much of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in determin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ature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d for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is involved on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consumption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3048120"/>
            <a:ext cx="46368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54960" y="228600"/>
            <a:ext cx="324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isha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6520" y="302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6520"/>
            <a:ext cx="381024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cannot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ed in an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ustomer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n stored in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til purchased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676520"/>
            <a:ext cx="380988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can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ied and stored—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n the mos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shabl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38680" y="4514760"/>
            <a:ext cx="27432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4T19:46:44Z</dcterms:modified>
  <cp:revision>586</cp:revision>
  <dc:subject/>
  <dc:title>Part 1</dc:title>
</cp:coreProperties>
</file>