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A67-B2F2-4ED0-A864-DF5E41CA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052-A0BD-444B-A6D7-2349972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D5E-FEF5-49CD-B15A-8AA9B010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715-9299-44C2-BDA0-1D994918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B73-F749-4B78-9DEF-8BDDEA4C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403-6648-4F75-9EBB-E7BAB43F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CE3-EFC1-4FF5-83B7-06C1202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0B3-9F28-4EA8-AB64-00510FF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F27-5073-4169-B5D2-44A2C6B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268-AC05-44F2-989E-CE8D956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A8A-940C-4F84-AEAA-3B0917F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540-B013-4672-81B5-E16F169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AAF-789D-4432-AE6F-69149C56DD2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8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505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International Channel Persp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31942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5820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ehavioral Process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65720" y="3809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676520"/>
            <a:ext cx="6934320" cy="2743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In order to avoid negative conflict,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wer effectively, &amp; establish go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mmunications, the channel manager mu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understand the behavioral aspect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hannel system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Japan &amp; Bose speak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14640" y="3137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458200" y="30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7800" y="153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1880" y="23184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60000" y="30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792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88320" y="12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447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60958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579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6440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24840" y="144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607600" y="3808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7556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3880" y="15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120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97160" y="2286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00640" y="2422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2000" y="20113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signing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ernational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1371600"/>
            <a:ext cx="7925040" cy="5214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a6854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cognize that a channel des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cision must be mad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2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design will need to reflect wheth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’s distribution objectiv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cify reaching overseas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3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 must examine carefully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kinds of tasks that need to be perform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successfully meet the firm’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ribution objectiv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hase 4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velop a set of channel structu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ernatives for the specific international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458200" y="304920"/>
            <a:ext cx="0" cy="1523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lternative Channel Structur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371600"/>
            <a:ext cx="2789640" cy="45972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ndirect Ex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1905120"/>
          <a:ext cx="883944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8394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67800" y="2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3808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" y="165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080" y="81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8000" y="1805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582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7080" y="96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6002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4640" y="328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19810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458200" y="4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8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5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1880" y="3841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60000" y="45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27920" y="38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88832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6248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59436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644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2484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607600" y="53352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75560" y="35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582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3880" y="170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1200" y="2438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716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00640" y="2575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asual Export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8160" y="2209680"/>
            <a:ext cx="60922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irm is just beginning to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sea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7840" y="4876920"/>
            <a:ext cx="63133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nsolicited orders from foreign countries m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so account for significant parts of th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ype of export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3581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646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ing Compan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0200" y="1523880"/>
            <a:ext cx="43671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are large and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cess to many world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78320" y="3200400"/>
            <a:ext cx="5841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can provide a U.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rm with rapid entry into foreign count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66640" y="4952880"/>
            <a:ext cx="6228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the trading companies are so large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.S. firms have little influence over how thei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are sol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4572000"/>
            <a:ext cx="1752480" cy="17524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3048120"/>
            <a:ext cx="533520" cy="914400"/>
          </a:xfrm>
          <a:custGeom>
            <a:avLst/>
            <a:gdLst>
              <a:gd name="textAreaLeft" fmla="*/ 71280 w 533520"/>
              <a:gd name="textAreaRight" fmla="*/ 462240 w 5335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98520" y="1752480"/>
            <a:ext cx="5094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Domestically based wholesalers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s’ representatives wh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pecialize in oversea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5560" y="3962520"/>
            <a:ext cx="77094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offer an attractive alternative to the firm that see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higher level of involvement in 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rketing than that provided by casual ex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trading compan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xport Management Compan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2362320"/>
            <a:ext cx="1219320" cy="13716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242640 h 1371600"/>
              <a:gd name="textAreaBottom" fmla="*/ 9828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49" stAng="-5400000" swAng="5400000"/>
                <a:lnTo>
                  <a:pt x="21600" y="11651"/>
                </a:lnTo>
                <a:arcTo wR="21600" hR="7649" stAng="0" swAng="1063441"/>
                <a:lnTo>
                  <a:pt x="16035" y="19076"/>
                </a:lnTo>
                <a:lnTo>
                  <a:pt x="0" y="17299"/>
                </a:lnTo>
                <a:lnTo>
                  <a:pt x="16035" y="10474"/>
                </a:lnTo>
                <a:lnTo>
                  <a:pt x="16035" y="12774"/>
                </a:lnTo>
                <a:arcTo wR="21600" hR="7649" stAng="1063441" swAng="-734489"/>
                <a:lnTo>
                  <a:pt x="20848" y="9650"/>
                </a:lnTo>
                <a:arcTo wR="21600" hR="7649" stAng="-328952" swAng="-5071048"/>
                <a:close/>
              </a:path>
              <a:path fill="darkenLess" w="21600" h="21600">
                <a:moveTo>
                  <a:pt x="0" y="0"/>
                </a:moveTo>
                <a:arcTo wR="21600" hR="7649" stAng="-5400000" swAng="5400000"/>
                <a:lnTo>
                  <a:pt x="21600" y="11651"/>
                </a:lnTo>
                <a:arcTo wR="21600" hR="7649" stAng="0" swAng="-328952"/>
                <a:lnTo>
                  <a:pt x="20848" y="9650"/>
                </a:lnTo>
                <a:arcTo wR="21600" hR="7649" stAng="-328952" swAng="-5071048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98440" y="12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8880" y="1371600"/>
            <a:ext cx="53467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arrie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is the firm already involv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export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602720" y="2895480"/>
            <a:ext cx="45014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ride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is the firm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es the international expertis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capabilities of the carrier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ter foreign marke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06360" y="4800600"/>
            <a:ext cx="63500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s method can offer the rider an opportun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gain entry into foreign markets with litt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pital outlay, while the carrier can obta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desirable product to sel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or Piggyback Arrangem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920" y="2819520"/>
            <a:ext cx="733320" cy="106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85760 h 1062000"/>
              <a:gd name="textAreaBottom" fmla="*/ 7700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914400" y="4876920"/>
            <a:ext cx="733320" cy="106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85760 h 1062000"/>
              <a:gd name="textAreaBottom" fmla="*/ 770040 h 10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738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lternative Channel Structur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4920" y="11430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458200" y="15228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914480" y="188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371600" y="1981080"/>
          <a:ext cx="67816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781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306000" y="1752480"/>
            <a:ext cx="2552040" cy="459720"/>
          </a:xfrm>
          <a:prstGeom prst="rect">
            <a:avLst/>
          </a:prstGeom>
          <a:gradFill rotWithShape="0">
            <a:gsLst>
              <a:gs pos="0">
                <a:srgbClr val="fee3a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irect Expor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8686800" y="4572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12416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184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83432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93800" y="1139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94376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003560" y="312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53596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7484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60020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270160" y="2925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93800" y="119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94376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003560" y="317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467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06616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0640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177040" y="13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506600" y="80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61604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7484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400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4671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3840" y="11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7850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4512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4290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0661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1366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064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81770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5066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6160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1488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91352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98432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89412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853452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8534520" y="15228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54120" y="95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02476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35396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46376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90340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484520" y="26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943760" y="12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74760" y="93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5396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853452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83340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31488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913520" y="29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198432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54120" y="109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802476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53960" y="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463760" y="219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9412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54120" y="109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2476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353960" y="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463760" y="219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903400" y="261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48452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6212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943760" y="26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74760" y="10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853452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53960" y="163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85345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3340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534520" y="28584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54120" y="109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802476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53960" y="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903400" y="261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8452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943760" y="26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74760" y="10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53452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53960" y="163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5345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3340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943760" y="41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74760" y="12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53452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53960" y="178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534520" y="43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3340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53960" y="193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534520" y="59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83340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8534520" y="5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923760" y="181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80880" y="66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845820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853596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8004240" y="51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96464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62940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62940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066680" y="17334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295280" y="6381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905120" y="60768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740720" y="5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20116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9060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7751880" y="48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3020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197160" y="257184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348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47660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03832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534520" y="5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923760" y="181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0880" y="66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45820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004240" y="51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96464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62940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62940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720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066680" y="17334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295280" y="6381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905120" y="60768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7740720" y="538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20116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751880" y="487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853452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020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851796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197160" y="257184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27348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47660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5720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03832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537120" y="1600200"/>
            <a:ext cx="62280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bility to exercise contr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 how its products are marketed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stributors is a crucial issue in domestic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in international marketing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366640" y="4800600"/>
            <a:ext cx="617760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dern technology has made it much easi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d more efficient for U.S.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communicate with foreign distributo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eign Distribu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304920" y="3886200"/>
            <a:ext cx="2133360" cy="15238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6019920" y="2805120"/>
            <a:ext cx="24382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0880" y="43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088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34240" y="1676520"/>
            <a:ext cx="757044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are independent, but they do not take title to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sually do not take physical possession of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products they repres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Foreign Agen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521720" y="4191120"/>
            <a:ext cx="733752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y can arrange for the performance of most of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tional marketing task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80880" y="33526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536346"/>
                <a:lnTo>
                  <a:pt x="13839" y="21095"/>
                </a:lnTo>
                <a:lnTo>
                  <a:pt x="21600" y="17280"/>
                </a:lnTo>
                <a:lnTo>
                  <a:pt x="13839" y="12455"/>
                </a:lnTo>
                <a:lnTo>
                  <a:pt x="13839" y="14615"/>
                </a:lnTo>
                <a:arcTo wR="21600" hR="7560" stAng="8263654" swAng="217891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The International Perspective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6000" y="1600200"/>
            <a:ext cx="4501440" cy="1252080"/>
          </a:xfrm>
          <a:prstGeom prst="rect">
            <a:avLst/>
          </a:prstGeom>
          <a:gradFill rotWithShape="0">
            <a:gsLst>
              <a:gs pos="0">
                <a:srgbClr val="fee7b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Geneva"/>
              </a:rPr>
              <a:t>W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at drives the need to foc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international marke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4360" y="3252960"/>
            <a:ext cx="4956840" cy="82548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w growth in domestic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54680" y="4853160"/>
            <a:ext cx="3964680" cy="82548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erce foreign compet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895480"/>
            <a:ext cx="609480" cy="106704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495680"/>
            <a:ext cx="609480" cy="106704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0113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3352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323856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837560" y="29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908000" y="139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817800" y="345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387440" y="219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85800" y="13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458200" y="2858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77800" y="10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7948440" y="22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278000" y="89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827440" y="26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408560" y="27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7867800" y="26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98440" y="10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8458200" y="361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78000" y="163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8458200" y="2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757080" y="79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786780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8458200" y="51444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37800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8458200" y="43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757080" y="9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7800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8458200" y="59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757080" y="109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8381880" y="5176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8460000" y="592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990720" y="17334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214640" y="342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8458200" y="5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847800" y="181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04920" y="6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381880" y="5335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7927920" y="51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7888320" y="156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6553080" y="47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553080" y="47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219320" y="63817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828800" y="60768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7664400" y="53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8124840" y="172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7675560" y="48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8458200" y="228600"/>
            <a:ext cx="0" cy="1352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353880" y="183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8441640" y="228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3121200" y="25718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3197160" y="257184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440064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1962000" y="229716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384480" y="1371600"/>
            <a:ext cx="702504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When the manufacturer establishes its own fore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branch overseas and it can perform mos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or all of the international marketing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1604880" y="3276720"/>
            <a:ext cx="68374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substantial commitment and invest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 international market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verseas Marketing Subsidiar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228600" y="4419720"/>
            <a:ext cx="2286000" cy="13716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2748240" y="5181480"/>
            <a:ext cx="510768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the subsidiary is owned b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, the degre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ontrol possible is great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33520" y="2819520"/>
            <a:ext cx="685800" cy="990360"/>
          </a:xfrm>
          <a:custGeom>
            <a:avLst/>
            <a:gdLst>
              <a:gd name="textAreaLeft" fmla="*/ 91800 w 685800"/>
              <a:gd name="textAreaRight" fmla="*/ 594000 w 6858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38188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otiva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7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28600" y="2133720"/>
            <a:ext cx="7620120" cy="4483080"/>
          </a:xfrm>
          <a:prstGeom prst="rect">
            <a:avLst/>
          </a:prstGeom>
          <a:gradFill rotWithShape="0">
            <a:gsLst>
              <a:gs pos="0">
                <a:srgbClr val="6e7a8d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ree facets of motivation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ding out the needs &amp; problem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fering support to the channel members that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istent with their needs &amp;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viding leadership through the effective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89" name="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19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"/>
          <p:cNvSpPr/>
          <p:nvPr/>
        </p:nvSpPr>
        <p:spPr>
          <a:xfrm>
            <a:off x="457200" y="129528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28600" y="15228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ading Foreign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rketing Channel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52280" y="2514600"/>
            <a:ext cx="3200400" cy="2819520"/>
          </a:xfrm>
          <a:prstGeom prst="rightArrowCallout">
            <a:avLst>
              <a:gd name="adj1" fmla="val 22641"/>
              <a:gd name="adj2" fmla="val 20912"/>
              <a:gd name="adj3" fmla="val 33149"/>
              <a:gd name="adj4" fmla="val 66667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ffec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urs un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follow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ircumst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429000" y="1752480"/>
            <a:ext cx="5257800" cy="4848840"/>
          </a:xfrm>
          <a:prstGeom prst="rect">
            <a:avLst/>
          </a:prstGeom>
          <a:gradFill rotWithShape="0">
            <a:gsLst>
              <a:gs pos="0">
                <a:srgbClr val="ab8944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Roles &amp; routines of fore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ors were not rigidly set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verseas manufacturer, but we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dapted by distributor to chang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ircumstances in marke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rketing strategy decisions we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de jointly by manufacturer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o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High degree of personal cont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tween manufacturer &amp; foreig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istributors maintained 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ersonal visits, phone calls, &amp; let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8380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he Complex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514600"/>
            <a:ext cx="4724280" cy="2895480"/>
          </a:xfrm>
          <a:custGeom>
            <a:avLst/>
            <a:gdLst>
              <a:gd name="textAreaLeft" fmla="*/ 1181160 w 4724280"/>
              <a:gd name="textAreaRight" fmla="*/ 3543480 w 472428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rom 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895480"/>
            <a:ext cx="1752480" cy="2288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viro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562720"/>
            <a:ext cx="350532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tivating internatio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143000"/>
            <a:ext cx="380988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havioral processes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national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200400"/>
            <a:ext cx="1752840" cy="15570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sig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nation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15228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ey Environmental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6280" y="163656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4197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conomic Facto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ve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ociocultural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echnological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egal/Political Environ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576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conomic Facto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0440" y="297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76520"/>
            <a:ext cx="77724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conom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ditions tha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ppear in the domestic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 can als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ur in foreign environment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ut the changes can be more dramatic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40004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800" y="277164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cess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3680" y="14000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fl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1160" y="2543040"/>
            <a:ext cx="2283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uctua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rrency rat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775800">
            <a:off x="2590200" y="20577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8775800">
            <a:off x="1713960" y="33912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766600">
            <a:off x="6438240" y="3466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643000">
            <a:off x="5333760" y="20570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mpetitive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competiti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tructure in foreign coun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an be quite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rom that in the United State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structure needs to b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ble to adapt to a wide variety of circumstanc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9600" y="3457440"/>
            <a:ext cx="158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anguag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4080" y="1552680"/>
            <a:ext cx="136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fer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lt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9840" y="3152880"/>
            <a:ext cx="15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urren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800" y="1171440"/>
            <a:ext cx="3099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y less-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untries do no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ave free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pen competi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558600">
            <a:off x="799920" y="43812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842400">
            <a:off x="2171520" y="2781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643000">
            <a:off x="5866920" y="26665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643000">
            <a:off x="7238520" y="403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2680" y="329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sociocultur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ements can influence al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ements of the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ix, the channel variable i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nsitive because of the ofte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cessary person-to-person 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ganization-to-organization involv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000" y="3000240"/>
            <a:ext cx="2498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 behavi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or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6800" y="1324080"/>
            <a:ext cx="13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ttitud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8960" y="2924280"/>
            <a:ext cx="1755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ercep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8840" y="1247760"/>
            <a:ext cx="2312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ying cultur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558600">
            <a:off x="1257120" y="39240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842400">
            <a:off x="2628720" y="20955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643000">
            <a:off x="5638320" y="22856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643000">
            <a:off x="6933960" y="38858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ociocultur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rying level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vancement around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orld require U.S. channe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ither to force foreign suppliers t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eet technological demands or to raise the ba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their own levels of technolog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5760" y="1400040"/>
            <a:ext cx="3823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 some develop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untries, technology ofte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tches or surpass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at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nited Stat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7320" y="1143000"/>
            <a:ext cx="3227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me less-develop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untries ha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latively prim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8842400">
            <a:off x="1257120" y="3848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643000">
            <a:off x="6705360" y="35049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echnolog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16765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46520" y="302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22860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8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05320" y="30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676520"/>
            <a:ext cx="8229600" cy="4800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5b5b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rms seeking to establis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s in foreign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ed to investigate the leg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nvironment of each countr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ecause of the wide arra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f complex &amp; burdensome issu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040" y="2467080"/>
            <a:ext cx="1518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litica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essur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0960" y="140004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riff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9280" y="2314440"/>
            <a:ext cx="165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stri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3360" y="1171440"/>
            <a:ext cx="189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vern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gul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8558600">
            <a:off x="1638000" y="33145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8842400">
            <a:off x="2705040" y="22482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643000">
            <a:off x="5562360" y="2133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643000">
            <a:off x="6552720" y="3276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Legal/Political Environ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080" y="391464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lic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8558600">
            <a:off x="647640" y="44575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643000">
            <a:off x="7467120" y="441936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26880" y="383868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ot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14T20:28:43Z</dcterms:modified>
  <cp:revision>622</cp:revision>
  <dc:subject/>
  <dc:title>Part 1</dc:title>
</cp:coreProperties>
</file>