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B111-B91D-440E-9B49-CCC0A83C8E0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145F-720C-4490-9662-9A28FF7D875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FEE6-7A9A-4DA8-8150-9B67FF69C3A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8B54-F37B-4B05-B528-3BF157C0A40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A58F-5908-49F5-AACE-514027DB662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5568-E621-46B6-9AD8-481CC1524CA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609-4E0F-4F4F-AB3F-E8CE2809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D58-55B4-4E26-84DE-E553BB69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2FD-A54C-466A-9A91-785AF280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72D-4F40-4995-8846-BF7BE5E6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863E-1D46-4069-85CE-C033626F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0B22-1DC9-49CC-8716-15CA376A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91A6-A992-4D0E-867E-E646695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AAD2-5429-4559-AB31-8376389B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9999-48C3-4834-B794-0805A8B1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9D59-F394-457E-9325-FAD7987C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82B5-71EB-4536-BC70-20D4388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64C-EA35-4FFF-8D50-3785CBA0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A6BE-2C37-47D1-A360-02A5EDAC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2C75-D38A-492B-AD82-D0B9C67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1837-ED24-42B0-BFDF-00966684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0398-829E-4394-8261-56FD0080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BAE-53E9-4B02-B5E4-B153FB89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F68-F096-453B-BB05-41102543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790-9FA5-4161-81C5-DB0E52E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7CD-BCA0-41B5-B2C3-13A0C409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272-D605-4219-AE68-3A597400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C8A-EAA8-47DB-98DA-1BFCC641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AC9-95A9-41FE-ABED-079D9B6D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FFE-D026-4278-B99E-83CC1FFB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A846-E4B2-4429-9CA3-8C7E005EFF44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0991-B000-4CFE-91BD-EF1034903B0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C:\Program Files\Netscape\Navigator\Program\netscape.exe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287880" y="3041640"/>
          <a:ext cx="254952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7880" y="3041640"/>
                    <a:ext cx="254952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ime of flight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840040"/>
            <a:ext cx="9142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04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98760" y="5699160"/>
            <a:ext cx="255636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ortable TOF/M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3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69240" y="2117880"/>
            <a:ext cx="123516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CP/M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044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61080" y="669960"/>
            <a:ext cx="192852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rupo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70720" y="4479840"/>
            <a:ext cx="231876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rupole M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19200" y="1959120"/>
            <a:ext cx="1995480" cy="458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Liquid Chro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3280" y="3413160"/>
            <a:ext cx="64224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G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S Instrumentation - Sample introdu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Need high vacuum - 10</a:t>
            </a:r>
            <a:r>
              <a:rPr b="1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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  torr( torr=1 mm Hg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Oil diffusion pumps, turbomolecular pump, diffusion pum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Gas injection through pinhol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Liquids that vaporize into vacuum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Direct ionization of solid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mple ioniz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General ionization that causes fragmentation (electron impac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Gentle ionization that favors intensity of molecular ion (chemical ionization with gaseous ions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Gentle ionization for molecules that are not in the gas phase (eg biological molecules) (Fast Atom Bombardmen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onization of inorganic soli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Spark source (like atomic emission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ICP/MS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Glow discharges (hollow cathode lamps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Laser spallation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ss analyzer - separation based on mass to charge ratio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agnetic sector (single focus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uble focus (electrostatic field to select energy and magnetic field for m/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Quadrupole (1 to 3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Time of flight (pulsed ioization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ourier transform (ion cyclotron resonance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ss Spectroscop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gnetic sector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arg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low scans (change magnetic field with electromagnet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nite spread of energies from source limit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= m/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   : </a:t>
            </a:r>
            <a:r>
              <a:rPr b="0" lang="en-US" sz="3200" spc="-1" strike="noStrike">
                <a:solidFill>
                  <a:srgbClr val="dddddd"/>
                </a:solidFill>
                <a:latin typeface="Book Antiqua"/>
              </a:rPr>
              <a:t>capable of R= 600 to 2000  which means looking at m/e of 600 with unit mass resolu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ouble focus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ery large  with electrostatic analyzer to eliminate differences in KE of 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= 40,000 is possible which means for m/e of 100 the mass differences of 0.0025 can be measur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sotopic differences: C3H7 = 43.089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2H3O= 43.045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2H5N= 43.0688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Quadrupole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Electrical fields applied pairwis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C voltage and RF oscillating voltage changed so only one value of m/e moves in a stable path through the fiel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cans over 1000 mass units/se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1320" y="2990880"/>
            <a:ext cx="4791240" cy="261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85480" y="5851440"/>
            <a:ext cx="280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= 10,000 possibl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= 500 typic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8939" t="14247" r="20820" b="18618"/>
          <a:stretch/>
        </p:blipFill>
        <p:spPr>
          <a:xfrm>
            <a:off x="0" y="-1440"/>
            <a:ext cx="914256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1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9080" y="1279440"/>
            <a:ext cx="165888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on Sour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98760" y="1355760"/>
            <a:ext cx="1184760" cy="458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19160" y="3718080"/>
            <a:ext cx="3688560" cy="45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 2 Collision chamb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51440" y="1432080"/>
            <a:ext cx="2454120" cy="45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Quad 3 Analyz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32880" y="3413160"/>
            <a:ext cx="1337040" cy="458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tec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05360" y="0"/>
            <a:ext cx="5137200" cy="6856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S Pum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echanical pumps of large capacity (for ion sources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urbomolecular pumps are expensive    ($7000) but smaller and less problem than diffusion pump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1981080"/>
            <a:ext cx="1219320" cy="16002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29000" y="2590560"/>
            <a:ext cx="3352680" cy="1447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on Trap MS (like ion cyclotron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8" t="2871" r="18" b="33538"/>
          <a:stretch/>
        </p:blipFill>
        <p:spPr>
          <a:xfrm>
            <a:off x="0" y="2498760"/>
            <a:ext cx="9140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ime of Flight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Fast scans of pulses of ions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V=1/2 mv2   How long does it take for ions to travel 1 meter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R=400 at best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an store up to 20,000 spectra/sec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FT-MS or ICR-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imultaneous measurement, multiplex, mass accuracy, high throughpu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= 800,000 possible but expensive as you need superconducting magnet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ifferent ions rotate at different velocities so we measure the frequenci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m/e=H/2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iple Quadropole (MS-MS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lect an ion, fragment it, and then analyze the fragmen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4197240"/>
            <a:ext cx="1511280" cy="97812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92680" y="4197240"/>
            <a:ext cx="1511280" cy="97812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04280" y="5394240"/>
            <a:ext cx="133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tecto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7320" y="455616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6160" y="4197240"/>
            <a:ext cx="1511280" cy="97812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94200" y="4556160"/>
            <a:ext cx="152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lect 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70360" y="4251240"/>
            <a:ext cx="143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ollis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hamb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45160" y="4197240"/>
            <a:ext cx="1511280" cy="978120"/>
          </a:xfrm>
          <a:prstGeom prst="rect">
            <a:avLst/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73960" y="4121280"/>
            <a:ext cx="1511280" cy="1130040"/>
          </a:xfrm>
          <a:prstGeom prst="octagon">
            <a:avLst>
              <a:gd name="adj" fmla="val 29282"/>
            </a:avLst>
          </a:prstGeom>
          <a:solidFill>
            <a:srgbClr val="0000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23560" y="455616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Analyz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ss Spectromet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st useful tool for molecular structure determination if you can get it into gas phas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olecular weight of parent and fragments that can give hints as to the structure of the molecul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arly Use of Mass Spectroscop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Quantitative methods for determination of the components in complex hydrocarbon mixtur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ater used for the identification and structural analysis of complex compound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Principles of measure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s an identification metho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hen a given molecular species is impacted with an electron beam, a family of positive particles are produc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mass distribution of the particles are characteristic of the parent speci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ample is volatized and allowed to leak slowly into an ion chamb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olecules of sample are ionized  to mostly positive ions by electron bea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itive ions are separated from negative 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itive ions are accelerated into separation chamb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fast moving particles are subjected to a strong magnetic field in which they travel in a curved pat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radius depends upon their velocity and mass as well as the field strengt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does it work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ons pass through an exit slit and fall upon a collector electrod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ion current that results is amplified and recorded as a function of field strength or accelerating potentia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agnetic sector 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0964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ralph allen</dc:creator>
  <dc:description/>
  <dc:language>en-US</dc:language>
  <cp:lastModifiedBy>Vaughn C. Kowahl</cp:lastModifiedBy>
  <dcterms:modified xsi:type="dcterms:W3CDTF">1999-01-12T18:00:31Z</dcterms:modified>
  <cp:revision>12</cp:revision>
  <dc:subject/>
  <dc:title>Instrumental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ContentType">
    <vt:lpwstr>Document</vt:lpwstr>
  </property>
  <property fmtid="{D5CDD505-2E9C-101B-9397-08002B2CF9AE}" pid="6" name="DownloadIEButton">
    <vt:bool>0</vt:bool>
  </property>
  <property fmtid="{D5CDD505-2E9C-101B-9397-08002B2CF9AE}" pid="7" name="DownloadOriginal">
    <vt:bool>1</vt:bool>
  </property>
  <property fmtid="{D5CDD505-2E9C-101B-9397-08002B2CF9AE}" pid="8" name="GraphicType">
    <vt:r8>1</vt:r8>
  </property>
  <property fmtid="{D5CDD505-2E9C-101B-9397-08002B2CF9AE}" pid="9" name="HomePage">
    <vt:lpwstr>http://www.people.virginia.edu/~roa2s/chem_551/</vt:lpwstr>
  </property>
  <property fmtid="{D5CDD505-2E9C-101B-9397-08002B2CF9AE}" pid="10" name="LinkColor">
    <vt:r8>16711782</vt:r8>
  </property>
  <property fmtid="{D5CDD505-2E9C-101B-9397-08002B2CF9AE}" pid="11" name="MailAddress">
    <vt:lpwstr>ralph@virginia.edu</vt:lpwstr>
  </property>
  <property fmtid="{D5CDD505-2E9C-101B-9397-08002B2CF9AE}" pid="12" name="NavBtnPos">
    <vt:r8>3</vt:r8>
  </property>
  <property fmtid="{D5CDD505-2E9C-101B-9397-08002B2CF9AE}" pid="13" name="Other">
    <vt:lpwstr/>
  </property>
  <property fmtid="{D5CDD505-2E9C-101B-9397-08002B2CF9AE}" pid="14" name="OutputDir">
    <vt:lpwstr>C:\www\ralphs_chem_courses\current_files\chem_551</vt:lpwstr>
  </property>
  <property fmtid="{D5CDD505-2E9C-101B-9397-08002B2CF9AE}" pid="15" name="ScreenSize">
    <vt:r8>1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