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6AC2-ED3F-40E6-8D05-A8591247620E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BA37-FCED-4B11-8C2D-3B68E954284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7F1E-7673-438A-9F40-6F2F74AB1776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24B7-AD8E-493A-8079-E8C550D74C7D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C02B-64BF-4B6E-90DB-3DD7F0B4DE86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7298-128F-4885-A57E-606043B0973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C321-58A8-49EC-807E-334D89C7B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E947-0A11-45FC-B364-C9F7A1CA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C5C7-656F-4FF8-8AE2-18FE40A4E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3A4B-5637-449E-811C-74395C281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F6AE-F3D7-44EF-ABD1-F76FCE27A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C125-D154-48AB-8B06-4E9565A9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B660-BC8F-4A53-A13A-F8DB74CF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94A6-7DA7-472A-8556-CAF3797B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6095-9338-49C7-8907-85D78EE5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A854-8C42-421D-8178-59399610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A69F-8709-4B52-B8FC-DDF84BBE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6766-A5FE-4610-A8C7-C75A6D03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83A1-6B15-4C09-AF1C-36119D39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8125-A5F0-41F3-B706-5B3B6FDC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85D3-708C-44A4-9A14-C1BB9929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D941-0CA2-4E37-9D6D-A61D8DAF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FC97-D75E-4CC8-AF53-4312810DF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B5CF-5505-4D6E-8E21-08C35240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FF91-32A1-4C34-8C2E-EF7B2402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F43C-4C4E-4D90-A28E-A366FDB6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5402-4A3E-4805-A6F0-FC55D4C7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754D-C51E-4E60-B3E5-3F2E75F3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5CCD-F84B-4917-BA47-5C74292B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0070-424D-4D95-9631-3AEEFF2C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2600" y="93600"/>
            <a:ext cx="9144000" cy="1677960"/>
            <a:chOff x="-12600" y="93600"/>
            <a:chExt cx="9144000" cy="1677960"/>
          </a:xfrm>
        </p:grpSpPr>
        <p:sp>
          <p:nvSpPr>
            <p:cNvPr id="1" name=""/>
            <p:cNvSpPr/>
            <p:nvPr/>
          </p:nvSpPr>
          <p:spPr>
            <a:xfrm>
              <a:off x="0" y="152388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73340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12600" y="93600"/>
              <a:ext cx="1322280" cy="1571760"/>
              <a:chOff x="-12600" y="93600"/>
              <a:chExt cx="1322280" cy="1571760"/>
            </a:xfrm>
          </p:grpSpPr>
          <p:sp>
            <p:nvSpPr>
              <p:cNvPr id="4" name=""/>
              <p:cNvSpPr/>
              <p:nvPr/>
            </p:nvSpPr>
            <p:spPr>
              <a:xfrm>
                <a:off x="-12600" y="936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-6480" y="3078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7320" y="336600"/>
                <a:ext cx="782640" cy="108756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49280" y="7412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AAFE-1FFA-4726-A1BA-3E3A35A3EF0D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-12600" y="1681200"/>
            <a:ext cx="9144000" cy="1766880"/>
            <a:chOff x="-12600" y="1681200"/>
            <a:chExt cx="9144000" cy="1766880"/>
          </a:xfrm>
        </p:grpSpPr>
        <p:sp>
          <p:nvSpPr>
            <p:cNvPr id="50" name=""/>
            <p:cNvSpPr/>
            <p:nvPr/>
          </p:nvSpPr>
          <p:spPr>
            <a:xfrm>
              <a:off x="0" y="320040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40992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-12600" y="1681200"/>
              <a:ext cx="1322280" cy="1571760"/>
              <a:chOff x="-12600" y="1681200"/>
              <a:chExt cx="1322280" cy="1571760"/>
            </a:xfrm>
          </p:grpSpPr>
          <p:sp>
            <p:nvSpPr>
              <p:cNvPr id="53" name=""/>
              <p:cNvSpPr/>
              <p:nvPr/>
            </p:nvSpPr>
            <p:spPr>
              <a:xfrm>
                <a:off x="-12600" y="16812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-6480" y="18954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57320" y="1924200"/>
                <a:ext cx="782640" cy="108720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49280" y="23288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5C59-134D-4664-B779-08248CEA8833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C:\Program Files\Netscape\Navigator\Program\netscape.exe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287880" y="3041640"/>
          <a:ext cx="2549520" cy="36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87880" y="3041640"/>
                    <a:ext cx="2549520" cy="36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ime of flight M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2840040"/>
            <a:ext cx="91425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044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47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498760" y="5699160"/>
            <a:ext cx="2556360" cy="45828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Portable TOF/M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3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69240" y="2117880"/>
            <a:ext cx="1235160" cy="45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ICP/M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0440" cy="68565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861080" y="669960"/>
            <a:ext cx="1928520" cy="45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Quadrupole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47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70720" y="4479840"/>
            <a:ext cx="2318760" cy="45828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Quadrupole M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19200" y="1959120"/>
            <a:ext cx="1995480" cy="4582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Liquid Chrom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3280" y="3413160"/>
            <a:ext cx="642240" cy="45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GC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S Instrumentation - Sample introdu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Need high vacuum - 10</a:t>
            </a:r>
            <a:r>
              <a:rPr b="1" lang="en-US" sz="3600" spc="-1" strike="noStrike">
                <a:solidFill>
                  <a:srgbClr val="dddddd"/>
                </a:solidFill>
                <a:latin typeface="Symbol"/>
                <a:ea typeface="Symbol"/>
              </a:rPr>
              <a:t></a:t>
            </a: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  torr( torr=1 mm Hg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Oil diffusion pumps, turbomolecular pump, diffusion pump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Gas injection through pinhole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Liquids that vaporize into vacuum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Direct ionization of solids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mple ioniz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General ionization that causes fragmentation (electron impact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298440" indent="-29844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Gentle ionization that favors intensity of molecular ion (chemical ionization with gaseous ions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298440" indent="-29844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Gentle ionization for molecules that are not in the gas phase (eg biological molecules) (Fast Atom Bombardment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Ionization of inorganic soli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11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Spark source (like atomic emission)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08520" indent="-308520">
              <a:spcBef>
                <a:spcPts val="11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ICP/MS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08520" indent="-308520">
              <a:spcBef>
                <a:spcPts val="11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Glow discharges (hollow cathode lamps)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08520" indent="-308520">
              <a:spcBef>
                <a:spcPts val="11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Laser spallation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ass analyzer - separation based on mass to charge rati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Magnetic sector (single focus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15360" indent="-31536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Double focus (electrostatic field to select energy and magnetic field for m/e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15360" indent="-31536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Quadrupole (1 to 3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15360" indent="-31536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Time of flight (pulsed ioization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15360" indent="-31536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Fourier transform (ion cyclotron resonance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ass Spectroscop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8399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agnetic sector M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larg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low scans (change magnetic field with electromagnet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nite spread of energies from source limit resolutio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= m/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m   : </a:t>
            </a:r>
            <a:r>
              <a:rPr b="0" lang="en-US" sz="3200" spc="-1" strike="noStrike">
                <a:solidFill>
                  <a:srgbClr val="dddddd"/>
                </a:solidFill>
                <a:latin typeface="Book Antiqua"/>
              </a:rPr>
              <a:t>capable of R= 600 to 2000  which means looking at m/e of 600 with unit mass resolutio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ouble focus M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ery large  with electrostatic analyzer to eliminate differences in KE of ion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= 40,000 is possible which means for m/e of 100 the mass differences of 0.0025 can be measured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Isotopic differences: C3H7 = 43.089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                         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2H3O= 43.0456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                         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2H5N= 43.0688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Quadrupole M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Electrical fields applied pairwis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C voltage and RF oscillating voltage changed so only one value of m/e moves in a stable path through the field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cans over 1000 mass units/sec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351320" y="2990880"/>
            <a:ext cx="4791240" cy="2611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785480" y="5851440"/>
            <a:ext cx="2800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R= 10,000 possibl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R= 500 typical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rcRect l="8939" t="14247" r="20820" b="18618"/>
          <a:stretch/>
        </p:blipFill>
        <p:spPr>
          <a:xfrm>
            <a:off x="0" y="-1440"/>
            <a:ext cx="9142560" cy="65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18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89080" y="1279440"/>
            <a:ext cx="1658880" cy="45828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Ion Sourc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98760" y="1355760"/>
            <a:ext cx="1184760" cy="45828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Quad 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19160" y="3718080"/>
            <a:ext cx="3688560" cy="45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Quad 2 Collision chambe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51440" y="1432080"/>
            <a:ext cx="2454120" cy="45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Quad 3 Analyze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32880" y="3413160"/>
            <a:ext cx="1337040" cy="45828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Detecto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005360" y="0"/>
            <a:ext cx="5137200" cy="68565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S Pum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596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Mechanical pumps of large capacity (for ion sources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urbomolecular pumps are expensive    ($7000) but smaller and less problem than diffusion pump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1981080"/>
            <a:ext cx="1219320" cy="16002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429000" y="2590560"/>
            <a:ext cx="3352680" cy="144756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Ion Trap MS (like ion cyclotron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18" t="2871" r="18" b="33538"/>
          <a:stretch/>
        </p:blipFill>
        <p:spPr>
          <a:xfrm>
            <a:off x="0" y="2498760"/>
            <a:ext cx="9140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ime of Flight M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11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Fast scans of pulses of ions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15360" indent="-315360">
              <a:spcBef>
                <a:spcPts val="11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eV=1/2 mv2   How long does it take for ions to travel 1 meter.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15360" indent="-315360">
              <a:spcBef>
                <a:spcPts val="11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R=400 at best 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15360" indent="-315360">
              <a:spcBef>
                <a:spcPts val="11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an store up to 20,000 spectra/sec.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FT-MS or ICR-M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Simultaneous measurement, multiplex, mass accuracy, high throughput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25800" indent="-32580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R= 800,000 possible but expensive as you need superconducting magnet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25800" indent="-32580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Different ions rotate at different velocities so we measure the frequencies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m/e=H/2</a:t>
            </a:r>
            <a:r>
              <a:rPr b="0" lang="en-US" sz="3600" spc="-1" strike="noStrike">
                <a:solidFill>
                  <a:srgbClr val="dddddd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iple Quadropole (MS-MS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lect an ion, fragment it, and then analyze the fragment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9640" y="4197240"/>
            <a:ext cx="1511280" cy="978120"/>
          </a:xfrm>
          <a:prstGeom prst="rect">
            <a:avLst/>
          </a:prstGeom>
          <a:solidFill>
            <a:srgbClr val="0000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92680" y="4197240"/>
            <a:ext cx="1511280" cy="978120"/>
          </a:xfrm>
          <a:prstGeom prst="rect">
            <a:avLst/>
          </a:prstGeom>
          <a:solidFill>
            <a:srgbClr val="0000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04280" y="5394240"/>
            <a:ext cx="1337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Detecto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7320" y="4556160"/>
            <a:ext cx="114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16160" y="4197240"/>
            <a:ext cx="1511280" cy="978120"/>
          </a:xfrm>
          <a:prstGeom prst="rect">
            <a:avLst/>
          </a:prstGeom>
          <a:solidFill>
            <a:srgbClr val="0000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94200" y="4556160"/>
            <a:ext cx="1521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Select io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70360" y="4251240"/>
            <a:ext cx="143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ollisio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hambe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45160" y="4197240"/>
            <a:ext cx="1511280" cy="978120"/>
          </a:xfrm>
          <a:prstGeom prst="rect">
            <a:avLst/>
          </a:prstGeom>
          <a:solidFill>
            <a:srgbClr val="0000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73960" y="4121280"/>
            <a:ext cx="1511280" cy="1130040"/>
          </a:xfrm>
          <a:prstGeom prst="octagon">
            <a:avLst>
              <a:gd name="adj" fmla="val 29282"/>
            </a:avLst>
          </a:prstGeom>
          <a:solidFill>
            <a:srgbClr val="0000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23560" y="4556160"/>
            <a:ext cx="126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Analyz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ass Spectrometr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Most useful tool for molecular structure determination if you can get it into gas phase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-329040">
              <a:spcBef>
                <a:spcPts val="11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Molecular weight of parent and fragments that can give hints as to the structure of the molecule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Early Use of Mass Spectroscop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Quantitative methods for determination of the components in complex hydrocarbon mixture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Later used for the identification and structural analysis of complex compound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Principles of measure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s an identification method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When a given molecular species is impacted with an electron beam, a family of positive particles are produced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The mass distribution of the particles are characteristic of the parent specie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does it work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ample is volatized and allowed to leak slowly into an ion chambe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Molecules of sample are ionized  to mostly positive ions by electron beam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itive ions are separated from negative ion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does it work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itive ions are accelerated into separation chambe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e fast moving particles are subjected to a strong magnetic field in which they travel in a curved path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e radius depends upon their velocity and mass as well as the field strength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does it work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ions pass through an exit slit and fall upon a collector electrod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e ion current that results is amplified and recorded as a function of field strength or accelerating potentia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agnetic sector M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909648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9:18Z</dcterms:created>
  <dc:creator>ralph allen</dc:creator>
  <dc:description/>
  <dc:language>en-US</dc:language>
  <cp:lastModifiedBy>Vaughn C. Kowahl</cp:lastModifiedBy>
  <dcterms:modified xsi:type="dcterms:W3CDTF">1999-01-12T18:00:31Z</dcterms:modified>
  <cp:revision>12</cp:revision>
  <dc:subject/>
  <dc:title>Instrumental Analys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ContentType">
    <vt:lpwstr>Document</vt:lpwstr>
  </property>
  <property fmtid="{D5CDD505-2E9C-101B-9397-08002B2CF9AE}" pid="6" name="DownloadIEButton">
    <vt:bool>0</vt:bool>
  </property>
  <property fmtid="{D5CDD505-2E9C-101B-9397-08002B2CF9AE}" pid="7" name="DownloadOriginal">
    <vt:bool>1</vt:bool>
  </property>
  <property fmtid="{D5CDD505-2E9C-101B-9397-08002B2CF9AE}" pid="8" name="GraphicType">
    <vt:r8>1</vt:r8>
  </property>
  <property fmtid="{D5CDD505-2E9C-101B-9397-08002B2CF9AE}" pid="9" name="HomePage">
    <vt:lpwstr>http://www.people.virginia.edu/~roa2s/chem_551/</vt:lpwstr>
  </property>
  <property fmtid="{D5CDD505-2E9C-101B-9397-08002B2CF9AE}" pid="10" name="LinkColor">
    <vt:r8>16711782</vt:r8>
  </property>
  <property fmtid="{D5CDD505-2E9C-101B-9397-08002B2CF9AE}" pid="11" name="MailAddress">
    <vt:lpwstr>ralph@virginia.edu</vt:lpwstr>
  </property>
  <property fmtid="{D5CDD505-2E9C-101B-9397-08002B2CF9AE}" pid="12" name="NavBtnPos">
    <vt:r8>3</vt:r8>
  </property>
  <property fmtid="{D5CDD505-2E9C-101B-9397-08002B2CF9AE}" pid="13" name="Other">
    <vt:lpwstr/>
  </property>
  <property fmtid="{D5CDD505-2E9C-101B-9397-08002B2CF9AE}" pid="14" name="OutputDir">
    <vt:lpwstr>C:\www\ralphs_chem_courses\current_files\chem_551</vt:lpwstr>
  </property>
  <property fmtid="{D5CDD505-2E9C-101B-9397-08002B2CF9AE}" pid="15" name="ScreenSize">
    <vt:r8>1</vt:r8>
  </property>
  <property fmtid="{D5CDD505-2E9C-101B-9397-08002B2CF9AE}" pid="16" name="ScreenUsage">
    <vt:r8>2</vt:r8>
  </property>
  <property fmtid="{D5CDD505-2E9C-101B-9397-08002B2CF9AE}" pid="17" name="ShowNotes">
    <vt:bool>0</vt:bool>
  </property>
  <property fmtid="{D5CDD505-2E9C-101B-9397-08002B2CF9AE}" pid="18" name="TemplateType">
    <vt:r8>1</vt:r8>
  </property>
  <property fmtid="{D5CDD505-2E9C-101B-9397-08002B2CF9AE}" pid="19" name="TextColor">
    <vt:r8>0</vt:r8>
  </property>
  <property fmtid="{D5CDD505-2E9C-101B-9397-08002B2CF9AE}" pid="20" name="TransparentButton">
    <vt:r8>0</vt:r8>
  </property>
  <property fmtid="{D5CDD505-2E9C-101B-9397-08002B2CF9AE}" pid="21" name="UseBrowserColor">
    <vt:bool>1</vt:bool>
  </property>
  <property fmtid="{D5CDD505-2E9C-101B-9397-08002B2CF9AE}" pid="22" name="VisitedColor">
    <vt:r8>10040268</vt:r8>
  </property>
</Properties>
</file>