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0347-7C6C-4245-9EE2-EF16A2DD2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0912-D9CF-4A15-81F2-8550D14B4E4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95BA-FC24-49E5-B7AF-858DBF4CE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64BF-CA82-460F-BF6D-062BF784E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0AEB-C92E-423A-AA31-EDC0B24C9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2F16-FE0A-4080-8379-AD1FF0437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F9DC-D6DC-45F6-BD93-2962385AB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328-531B-4460-B1CA-85B8B54F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8FE-3CE8-40BE-BB11-7D1921A9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6C5-8AE5-4C0D-96FA-60CB2C05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100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100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100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3EE7-14AC-4A82-B68F-2ECB734E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F25-E4CE-4B0C-AB27-41A73B61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185-5C27-4DA6-8D38-ED68C8D7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27F-F8DF-4F14-BF80-AC04AA16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372-292C-4766-8023-35BD195B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4DE-233F-49B2-8E52-047F3FAD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6ABC-5E32-4981-BBD4-19CE79B7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C73-46FE-4195-9C3A-A616EF8F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934-2BD6-468F-9E9A-666B2981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5440" indent="-22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65AD-7E4C-4F4A-A4E4-18E539AA03C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24000" y="1988640"/>
            <a:ext cx="8496000" cy="4032360"/>
          </a:xfrm>
          <a:prstGeom prst="rect">
            <a:avLst/>
          </a:prstGeom>
          <a:noFill/>
          <a:ln w="44280">
            <a:solidFill>
              <a:srgbClr val="a50021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191966"/>
                </a:solidFill>
                <a:latin typeface="Times New Roman"/>
                <a:ea typeface="Traditional Arabic"/>
              </a:rPr>
              <a:t>	</a:t>
            </a:r>
            <a:r>
              <a:rPr b="1" lang="ar-SA" sz="4000" spc="-1" strike="noStrike">
                <a:solidFill>
                  <a:srgbClr val="191966"/>
                </a:solidFill>
                <a:latin typeface="Times New Roman"/>
                <a:cs typeface="Traditional Arabic"/>
              </a:rPr>
              <a:t>تعيين العلاقات الزمنية المتبادلة بين المقاطع الصخرية المحلية وتهيئة لوضع الوحدتين المتناسبتين في الوضع ذاته من السجل الجيولوجي</a:t>
            </a:r>
            <a:r>
              <a:rPr b="1" lang="ar-SA" sz="4000" spc="-1" strike="noStrike">
                <a:solidFill>
                  <a:srgbClr val="191966"/>
                </a:solidFill>
                <a:latin typeface="Times New Roman"/>
                <a:ea typeface="Traditional Arab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Bevel 1"/>
          <p:cNvGrpSpPr/>
          <p:nvPr/>
        </p:nvGrpSpPr>
        <p:grpSpPr>
          <a:xfrm>
            <a:off x="585720" y="165240"/>
            <a:ext cx="8259840" cy="1377720"/>
            <a:chOff x="585720" y="165240"/>
            <a:chExt cx="8259840" cy="1377720"/>
          </a:xfrm>
        </p:grpSpPr>
        <p:pic>
          <p:nvPicPr>
            <p:cNvPr id="50" name="Bevel 1" descr=""/>
            <p:cNvPicPr/>
            <p:nvPr/>
          </p:nvPicPr>
          <p:blipFill>
            <a:blip r:embed="rId1"/>
            <a:stretch/>
          </p:blipFill>
          <p:spPr>
            <a:xfrm>
              <a:off x="585720" y="165240"/>
              <a:ext cx="825984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77960" y="355680"/>
              <a:ext cx="7875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6000" spc="-1" strike="noStrike">
                  <a:solidFill>
                    <a:srgbClr val="a50021"/>
                  </a:solidFill>
                  <a:latin typeface="Times New Roman"/>
                </a:rPr>
                <a:t>المضاهاة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2"/>
          <p:cNvGrpSpPr/>
          <p:nvPr/>
        </p:nvGrpSpPr>
        <p:grpSpPr>
          <a:xfrm>
            <a:off x="334800" y="208080"/>
            <a:ext cx="8547120" cy="730080"/>
            <a:chOff x="334800" y="208080"/>
            <a:chExt cx="8547120" cy="730080"/>
          </a:xfrm>
        </p:grpSpPr>
        <p:pic>
          <p:nvPicPr>
            <p:cNvPr id="103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208080"/>
              <a:ext cx="854712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60360" y="228600"/>
              <a:ext cx="8496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3f3fff"/>
                  </a:solidFill>
                  <a:latin typeface="Times New Roman"/>
                  <a:cs typeface="Simplified Arabic"/>
                </a:rPr>
                <a:t>المعايير المعتمدة في المضاهاة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3"/>
          <p:cNvGrpSpPr/>
          <p:nvPr/>
        </p:nvGrpSpPr>
        <p:grpSpPr>
          <a:xfrm>
            <a:off x="12600" y="993600"/>
            <a:ext cx="9150480" cy="5877000"/>
            <a:chOff x="12600" y="993600"/>
            <a:chExt cx="9150480" cy="5877000"/>
          </a:xfrm>
        </p:grpSpPr>
        <p:pic>
          <p:nvPicPr>
            <p:cNvPr id="106" name="Rectangle 3" descr=""/>
            <p:cNvPicPr/>
            <p:nvPr/>
          </p:nvPicPr>
          <p:blipFill>
            <a:blip r:embed="rId2"/>
            <a:stretch/>
          </p:blipFill>
          <p:spPr>
            <a:xfrm>
              <a:off x="12600" y="993600"/>
              <a:ext cx="9150480" cy="58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79280" y="1160640"/>
              <a:ext cx="8820360" cy="55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marL="2149560" indent="-2052720" algn="just">
                <a:spcBef>
                  <a:spcPts val="6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1- </a:t>
              </a: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التشابه الصخري: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يعتمد في ذلك دراسة الخواص الصخرية ومن أهمها التركيب المعدني واللون وحجم الحبيبات والمادة اللاحمة للحبيبات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49560" indent="-2052720" algn="just">
                <a:spcBef>
                  <a:spcPts val="6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2- </a:t>
              </a: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الطبقات الدالة: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وهي طبقات تمتاز بصفات طبيعية نادرة ومختلفة عما يعلوها أو يسفلها من طبقات مثل طبقة الرماد البركاني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49560" indent="-2052720" algn="just">
                <a:spcBef>
                  <a:spcPts val="6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3- </a:t>
              </a: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أسطح اللاتوافق: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يمكن تتبع أسطح اللاتوافق وهي مهمة للطبقات التي لا تحتوي على أحافير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49560" indent="-2052720" algn="just">
                <a:spcBef>
                  <a:spcPts val="6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4- </a:t>
              </a: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النظائر المشعة: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مثل نظائر اليورانيوم والراديوم والكربون وهي ذات نتائج أدق من الأحافير خاصة في الصخور النارية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49560" indent="-2052720" algn="just">
                <a:spcBef>
                  <a:spcPts val="6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5- </a:t>
              </a: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المحتوى الأحفوري: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بالاعتماد على الأحافير يمكن المضاهاة وخاصة الأحافير المرشدة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49560" indent="-2052720" algn="just">
                <a:spcBef>
                  <a:spcPts val="6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6- </a:t>
              </a:r>
              <a:r>
                <a:rPr b="1" lang="ar-SA" sz="2400" spc="-1" strike="noStrike" u="sng">
                  <a:solidFill>
                    <a:srgbClr val="3f3fff"/>
                  </a:solidFill>
                  <a:uFillTx/>
                  <a:latin typeface="Times New Roman"/>
                </a:rPr>
                <a:t>الأحافير المرشدة: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وهي التي تدل على عمر الطبقات وتتميز بعمر زمني قصير انتشار جغرافي واسع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8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49560" indent="-2052720" algn="just">
                <a:spcBef>
                  <a:spcPts val="6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49560" indent="-2052720" algn="just">
                <a:spcBef>
                  <a:spcPts val="6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87280" y="2168640"/>
            <a:ext cx="8461440" cy="3781440"/>
          </a:xfrm>
          <a:prstGeom prst="rect">
            <a:avLst/>
          </a:prstGeom>
          <a:noFill/>
          <a:ln w="44280">
            <a:solidFill>
              <a:srgbClr val="a50021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  <a:cs typeface="Traditional Arabic"/>
              </a:rPr>
              <a:t>هناك معيارين اثنين للتعرف على الزمن ومضاهاة الطبقات هما</a:t>
            </a:r>
            <a:r>
              <a:rPr b="1" lang="ar-EG" sz="3600" spc="-1" strike="noStrike">
                <a:solidFill>
                  <a:srgbClr val="a50021"/>
                </a:solidFill>
                <a:latin typeface="Times New Roman"/>
                <a:ea typeface="Traditional Arabic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262699"/>
                </a:solidFill>
                <a:latin typeface="Times New Roman"/>
                <a:ea typeface="Traditional Arabic"/>
              </a:rPr>
              <a:t>1- </a:t>
            </a:r>
            <a:r>
              <a:rPr b="1" lang="ar-SA" sz="4000" spc="-1" strike="noStrike">
                <a:solidFill>
                  <a:srgbClr val="262699"/>
                </a:solidFill>
                <a:latin typeface="Times New Roman"/>
                <a:cs typeface="Traditional Arabic"/>
              </a:rPr>
              <a:t>الخواص الفيزيائ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262699"/>
                </a:solidFill>
                <a:latin typeface="Times New Roman"/>
                <a:ea typeface="Traditional Arabic"/>
              </a:rPr>
              <a:t>2- </a:t>
            </a:r>
            <a:r>
              <a:rPr b="1" lang="ar-SA" sz="4000" spc="-1" strike="noStrike">
                <a:solidFill>
                  <a:srgbClr val="262699"/>
                </a:solidFill>
                <a:latin typeface="Times New Roman"/>
                <a:cs typeface="Traditional Arabic"/>
              </a:rPr>
              <a:t>الأحافير (كمعيار للتمثيل الزمني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4329000"/>
            <a:ext cx="9144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Bevel 4"/>
          <p:cNvGrpSpPr/>
          <p:nvPr/>
        </p:nvGrpSpPr>
        <p:grpSpPr>
          <a:xfrm>
            <a:off x="225360" y="201600"/>
            <a:ext cx="8547120" cy="1378080"/>
            <a:chOff x="225360" y="201600"/>
            <a:chExt cx="8547120" cy="1378080"/>
          </a:xfrm>
        </p:grpSpPr>
        <p:pic>
          <p:nvPicPr>
            <p:cNvPr id="55" name="Bevel 4" descr=""/>
            <p:cNvPicPr/>
            <p:nvPr/>
          </p:nvPicPr>
          <p:blipFill>
            <a:blip r:embed="rId1"/>
            <a:stretch/>
          </p:blipFill>
          <p:spPr>
            <a:xfrm>
              <a:off x="225360" y="201600"/>
              <a:ext cx="854712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17600" y="390600"/>
              <a:ext cx="816444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22228b"/>
                  </a:solidFill>
                  <a:latin typeface="Times New Roman"/>
                  <a:cs typeface="Simplified Arabic"/>
                </a:rPr>
                <a:t>معايير ا</a:t>
              </a:r>
              <a:r>
                <a:rPr b="1" lang="ar-SA" sz="4000" spc="-1" strike="noStrike">
                  <a:solidFill>
                    <a:srgbClr val="22228b"/>
                  </a:solidFill>
                  <a:latin typeface="Times New Roman"/>
                  <a:cs typeface="Simplified Arabic"/>
                </a:rPr>
                <a:t>لتعرف على الزمن ومضاهاة الطبقات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26"/>
          <p:cNvSpPr/>
          <p:nvPr/>
        </p:nvSpPr>
        <p:spPr>
          <a:xfrm>
            <a:off x="905400" y="0"/>
            <a:ext cx="739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to Match (Correlate) Rock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C:\AARDVARK\AARDVARK\TEMP 5\Column1.JPG"/>
          <p:cNvPicPr/>
          <p:nvPr/>
        </p:nvPicPr>
        <p:blipFill>
          <a:blip r:embed="rId1"/>
          <a:stretch/>
        </p:blipFill>
        <p:spPr>
          <a:xfrm>
            <a:off x="914400" y="533520"/>
            <a:ext cx="6629400" cy="4486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9"/>
          <p:cNvSpPr/>
          <p:nvPr/>
        </p:nvSpPr>
        <p:spPr>
          <a:xfrm>
            <a:off x="304920" y="5122800"/>
            <a:ext cx="830556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se 3 columns represent rock layers from 3 separate areas. Some columns may be missing layers due to erosion. No single column represents a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complete recor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 Your job is to line them up so a complete record of the region can be seen. The key to doing this is to find one or more layers present in all 3 columns that can be matched. In this example line up the conglomerate.  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Click for next fram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AARDVARK\AARDVARK\TEMP 5\Column A.jpg"/>
          <p:cNvPicPr/>
          <p:nvPr/>
        </p:nvPicPr>
        <p:blipFill>
          <a:blip r:embed="rId1"/>
          <a:stretch/>
        </p:blipFill>
        <p:spPr>
          <a:xfrm>
            <a:off x="1143000" y="838080"/>
            <a:ext cx="1828800" cy="4419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AARDVARK\AARDVARK\TEMP 5\Column B.jpg"/>
          <p:cNvPicPr/>
          <p:nvPr/>
        </p:nvPicPr>
        <p:blipFill>
          <a:blip r:embed="rId2"/>
          <a:stretch/>
        </p:blipFill>
        <p:spPr>
          <a:xfrm>
            <a:off x="3200400" y="0"/>
            <a:ext cx="205884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AARDVARK\AARDVARK\TEMP 5\Column C.jpg"/>
          <p:cNvPicPr/>
          <p:nvPr/>
        </p:nvPicPr>
        <p:blipFill>
          <a:blip r:embed="rId3"/>
          <a:stretch/>
        </p:blipFill>
        <p:spPr>
          <a:xfrm>
            <a:off x="5257800" y="2771640"/>
            <a:ext cx="2082960" cy="4086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418360" y="382680"/>
            <a:ext cx="3728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the ‘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w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pers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the youn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 layer will be on top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295280" y="0"/>
            <a:ext cx="18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es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297000" y="5335560"/>
            <a:ext cx="4738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ldest layer will be on the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728880" y="6019920"/>
            <a:ext cx="1337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dest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AARDVARK\AARDVARK\TEMP 5\Location2.jpg"/>
          <p:cNvPicPr/>
          <p:nvPr/>
        </p:nvPicPr>
        <p:blipFill>
          <a:blip r:embed="rId1"/>
          <a:stretch/>
        </p:blipFill>
        <p:spPr>
          <a:xfrm>
            <a:off x="0" y="2610000"/>
            <a:ext cx="8648640" cy="424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70800" y="227160"/>
            <a:ext cx="8891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nother example from a different regents exam. There are 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s from neighboring regions. The numbers represent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ssils found in the rock layers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onform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uried ero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s) indicate that material is missing. Try to find a fossil (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 common to all four columns and use it to line them up as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exam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AARDVARK\AARDVARK\TEMP 5\Location2-A.jpg"/>
          <p:cNvPicPr/>
          <p:nvPr/>
        </p:nvPicPr>
        <p:blipFill>
          <a:blip r:embed="rId1"/>
          <a:stretch/>
        </p:blipFill>
        <p:spPr>
          <a:xfrm>
            <a:off x="1143000" y="2287440"/>
            <a:ext cx="1758960" cy="326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AARDVARK\AARDVARK\TEMP 5\Location2-B.jpg"/>
          <p:cNvPicPr/>
          <p:nvPr/>
        </p:nvPicPr>
        <p:blipFill>
          <a:blip r:embed="rId2"/>
          <a:stretch/>
        </p:blipFill>
        <p:spPr>
          <a:xfrm>
            <a:off x="3124080" y="382680"/>
            <a:ext cx="1947960" cy="342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AARDVARK\AARDVARK\TEMP 5\Location2-C.jpg"/>
          <p:cNvPicPr/>
          <p:nvPr/>
        </p:nvPicPr>
        <p:blipFill>
          <a:blip r:embed="rId3"/>
          <a:stretch/>
        </p:blipFill>
        <p:spPr>
          <a:xfrm>
            <a:off x="5181480" y="1754280"/>
            <a:ext cx="1636920" cy="3122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AARDVARK\AARDVARK\TEMP 5\Location2-D.jpg"/>
          <p:cNvPicPr/>
          <p:nvPr/>
        </p:nvPicPr>
        <p:blipFill>
          <a:blip r:embed="rId4"/>
          <a:stretch/>
        </p:blipFill>
        <p:spPr>
          <a:xfrm>
            <a:off x="7162920" y="2362320"/>
            <a:ext cx="1706400" cy="3200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78000" y="0"/>
            <a:ext cx="2652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ssil com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ll columns is #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236920" y="117360"/>
            <a:ext cx="3745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ck with fossil #6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est because it’s on 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80040" y="760320"/>
            <a:ext cx="232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ngest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277360" y="5562720"/>
            <a:ext cx="6080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ck with fossil #8 is the oldest. It’s 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om. The layer with fossil #3 is missing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ightmost column due to er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5713560" y="4726080"/>
            <a:ext cx="16146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ldest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AARDVARK\AARDVARK\TEMP 5\location 2b.jpg"/>
          <p:cNvPicPr/>
          <p:nvPr/>
        </p:nvPicPr>
        <p:blipFill>
          <a:blip r:embed="rId1"/>
          <a:stretch/>
        </p:blipFill>
        <p:spPr>
          <a:xfrm>
            <a:off x="304920" y="1220760"/>
            <a:ext cx="6011640" cy="4265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304920" y="303120"/>
            <a:ext cx="8534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ry to reconstruct the geohistory of this region by list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s in order from the oldest to the younges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701760" y="6097680"/>
            <a:ext cx="1666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e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8077680" y="571500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077680" y="525780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985520" y="4843440"/>
            <a:ext cx="488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8077680" y="441972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985520" y="4003560"/>
            <a:ext cx="564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8077680" y="350532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8077680" y="297180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6397560" y="2514600"/>
            <a:ext cx="196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e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295560" y="5410080"/>
            <a:ext cx="6154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olumn by itself is incomplete but by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from all of them we can develop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history of a geologic reg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-6480" y="0"/>
            <a:ext cx="3981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one more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C:\AARDVARK\AARDVARK\TEMP 5\GeoColumns01.JPG"/>
          <p:cNvPicPr/>
          <p:nvPr/>
        </p:nvPicPr>
        <p:blipFill>
          <a:blip r:embed="rId1"/>
          <a:stretch/>
        </p:blipFill>
        <p:spPr>
          <a:xfrm>
            <a:off x="304920" y="612720"/>
            <a:ext cx="6400800" cy="5110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502200" y="5611680"/>
            <a:ext cx="808884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find a layer common to all 3 columns that you can us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place these in the proper order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782040" y="2346480"/>
            <a:ext cx="2325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te: the wav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ines marked x~~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re unconformiti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AARDVARK\AARDVARK\TEMP 5\c1.jpg"/>
          <p:cNvPicPr/>
          <p:nvPr/>
        </p:nvPicPr>
        <p:blipFill>
          <a:blip r:embed="rId1"/>
          <a:stretch/>
        </p:blipFill>
        <p:spPr>
          <a:xfrm>
            <a:off x="406440" y="1327320"/>
            <a:ext cx="1582560" cy="412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AARDVARK\AARDVARK\TEMP 5\c2.jpg"/>
          <p:cNvPicPr/>
          <p:nvPr/>
        </p:nvPicPr>
        <p:blipFill>
          <a:blip r:embed="rId2"/>
          <a:stretch/>
        </p:blipFill>
        <p:spPr>
          <a:xfrm>
            <a:off x="1930320" y="0"/>
            <a:ext cx="2006640" cy="4081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AARDVARK\AARDVARK\TEMP 5\c3.jpg"/>
          <p:cNvPicPr/>
          <p:nvPr/>
        </p:nvPicPr>
        <p:blipFill>
          <a:blip r:embed="rId3"/>
          <a:stretch/>
        </p:blipFill>
        <p:spPr>
          <a:xfrm>
            <a:off x="3657600" y="2959200"/>
            <a:ext cx="1535040" cy="3898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818520" y="612720"/>
            <a:ext cx="50774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sandstone layer is comm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all the columns. Glacial depos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re on top. They are youngest....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00520" y="204840"/>
            <a:ext cx="18450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es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721760" y="2060640"/>
            <a:ext cx="4112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 gray limestone is on t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ottom. It is oldes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027880" y="6122880"/>
            <a:ext cx="1474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des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240520" y="3673440"/>
            <a:ext cx="374256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do you think the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 black shale is thicker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umn C than in column 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k your teacher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4:12:48Z</dcterms:created>
  <dc:creator>Preferred Customer</dc:creator>
  <dc:description/>
  <dc:language>en-US</dc:language>
  <cp:lastModifiedBy>saad arifi</cp:lastModifiedBy>
  <dcterms:modified xsi:type="dcterms:W3CDTF">2014-03-01T14:58:2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Matching Columns</vt:lpwstr>
  </property>
  <property fmtid="{D5CDD505-2E9C-101B-9397-08002B2CF9AE}" pid="3" name="LastUsedName">
    <vt:lpwstr>Matching Columns</vt:lpwstr>
  </property>
</Properties>
</file>