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BDFF-7EF3-412B-8582-FF91DE542AA7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1C8C-6FD7-433C-B006-0C15EB6A2F09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B44B3-DF1A-4E2A-B956-0C5CCDC9D3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E6AEB-5982-40A2-8E1B-366CCC78BE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D72A8-D547-4136-8E21-531966AD7A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2688E-6B22-4541-93D9-DD56F9A757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013A5-41C5-4EDD-94EC-EA98F6F9A3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ED372-8F95-497B-B904-0D46B38B30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AB126-9BEA-42E9-A564-855A579436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8A5C3-9314-4B99-8F85-B39BFDA485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744B4-38FF-410B-87B2-0A45ED3BD4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5EF1D-7AB7-4681-8E1A-6882529728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0A270-E278-40C8-AF84-DD4A18593D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60923-84B1-443B-A003-1D1160EB6F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c1c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1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2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3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4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5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6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CMSC 203 - Discrete Structures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0B81-DAAC-443C-B29E-6A70F4D32D9B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078C-1ACC-4643-ABFE-FC16A8D71A12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Let’s proceed to…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ff"/>
                </a:solidFill>
                <a:latin typeface="Comic Sans MS"/>
              </a:rPr>
              <a:t>Mathematical Reasoning</a:t>
            </a:r>
            <a:endParaRPr b="0" lang="en-US" sz="6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C0FC-4D37-4A5B-808D-BCBA3561F236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rgumen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6104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ich rule of inference was used in the last argument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: “101 is divisible by 3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: “101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divisible by 9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762120" y="3200400"/>
            <a:ext cx="1447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2209680" y="3581280"/>
            <a:ext cx="2438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Modus ponen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80880" y="502920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nfortunately, one of the hypotheses (p) is fals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the conclusion q is incorrect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75CE-CB73-4240-B886-851BF30452EB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rgumen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nother 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it rains today, then we will not have a barbeque today. If we do not have a barbeque today, then we will have a barbeque tomorrow.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if it rains today, then we will have a barbeque tomorrow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is is 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vali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rgument: If its hypotheses are true, then its conclusion is also tru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D689-BBA4-4C43-A56E-C8388A1690B9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rgumen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6108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us formalize the previous argument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: “It is raining today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: “We will not have a barbecue today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: “We will have a barbecue tomorrow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o the argument is of the following form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762120" y="4267080"/>
            <a:ext cx="1447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2209680" y="4648320"/>
            <a:ext cx="24386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Hypothetical syllogism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374D-2B0B-47F0-B73A-6D2878CB7FC3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rgumen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9372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nother 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Gary is either intelligent or a good actor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Gary is intelligent, then he can count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om 1 to 10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Gary can only count from 1 to 2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Gary is a good actor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: “Gary is intelligent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: “Gary is a good actor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: “Gary can count from 1 to 10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6E59-4095-4461-88AE-5846E1EBD5F4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rgumen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: “Gary is intelligent.”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: “Gary is a good actor.”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: “Gary can count from 1 to 10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Step 1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Hypothesi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Step 2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i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c           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Hypothesi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Step 3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Modus tollens Steps 1 &amp; 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Step 4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Hypothesi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Step 5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a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Disjunctive Syllogism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teps 3 &amp; 4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clusion: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“Gary is a good actor.”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E749-262E-4521-9E86-37CB362A2A54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rgumen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Yet another 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you listen to me, you will pass CMSC 203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You passed CMSC 203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you have listened to m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s this argument valid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No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it assumes ((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)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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q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is statement is not a tautology. It is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fals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f p is false and q is tru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9C6D-AE25-4387-BA92-1195F9716E55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ules of Inference for Quantified Statements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24386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P(x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__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c) if c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6172200" y="990720"/>
            <a:ext cx="2590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Universal instanti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838080" y="2209680"/>
            <a:ext cx="5257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c) for an arbitrary c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___________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P(x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6172200" y="2286000"/>
            <a:ext cx="2590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Universal generaliz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38080" y="3505320"/>
            <a:ext cx="5486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P(x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______________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c) for some element c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6172200" y="3581280"/>
            <a:ext cx="2590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xistential instanti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38080" y="4876920"/>
            <a:ext cx="5486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c) for some element c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____________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P(x)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6095880" y="4952880"/>
            <a:ext cx="2590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xistential generaliz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12C2-A4EF-479C-9198-DAE1289C2DDD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ules of Inference for Quantified Statements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very UMBC student is a genius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George is a UMBC student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George is a geniu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(x): “x is a UMBC student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G(x): “x is a genius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9C92-DB93-456E-9B2D-EC43707BFE16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ules of Inference for Quantified Statements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8390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following steps are used in the argument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Step 1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(U(x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G(x)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Hypothesi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Step 2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U(George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G(George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Univ. instantiation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using Step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2057400" y="4800600"/>
            <a:ext cx="5181480" cy="1600200"/>
            <a:chOff x="2057400" y="4800600"/>
            <a:chExt cx="5181480" cy="1600200"/>
          </a:xfrm>
        </p:grpSpPr>
        <p:sp>
          <p:nvSpPr>
            <p:cNvPr id="127" name="Rectangle 5"/>
            <p:cNvSpPr/>
            <p:nvPr/>
          </p:nvSpPr>
          <p:spPr>
            <a:xfrm>
              <a:off x="2057400" y="4800600"/>
              <a:ext cx="2438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</a:t>
              </a: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x P(x)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__________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</a:t>
              </a: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P(c) if c</a:t>
              </a:r>
              <a:r>
                <a:rPr b="0" lang="en-US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U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8" name="Rectangle 6"/>
            <p:cNvSpPr/>
            <p:nvPr/>
          </p:nvSpPr>
          <p:spPr>
            <a:xfrm>
              <a:off x="4648320" y="4876920"/>
              <a:ext cx="259056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ff"/>
                  </a:solidFill>
                  <a:latin typeface="Comic Sans MS"/>
                </a:rPr>
                <a:t>Universal instantiation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29" name="Rectangle 7"/>
          <p:cNvSpPr/>
          <p:nvPr/>
        </p:nvSpPr>
        <p:spPr>
          <a:xfrm>
            <a:off x="304920" y="3124080"/>
            <a:ext cx="88390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Step 3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U(George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Hypothesi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Step 4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G(George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Modus ponens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using Steps 2 &amp; 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F5F8-5ACE-42E6-B1A7-DE9977E11B9A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ving Theorem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10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Direct proof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 implication 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 can be proved by showing that if p is true, then q is also tru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Give a direct proof of the theorem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“If n is odd, then n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odd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dea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ssume that the hypothesis of this implication is true (n is odd). Then use rules of inference and known theorems to show that q must also be true (n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odd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5112-9FC6-4B8A-8ECA-7F51C6561F4F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Mathematical Reasoning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nee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mathematical reasoning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etermine whether a mathematical argument is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correct or incorrect a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struct mathematical argument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athematical reasoning is not only important for conducting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oof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ogram verifica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ut also for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rtificial intelligenc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systems (drawing inferences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4DEE-E94E-443C-9805-53D4910102AF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ving Theorem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6108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 is odd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n n = 2k + 1, where k is an integer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sequently, n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(2k + 1)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4k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4k +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2(2k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2k) +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ince n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can be written in this form, it is odd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CE74-E498-4D49-83EB-BFF019F56EA4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ving Theorem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6108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ndirect proof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 implication 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 is equivalent to its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ntra-positiv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. Therefore, we can prove 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 by showing that whenever q is false, then p is also fals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Give an indirect proof of the theorem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“If 3n + 2 is odd, then n is odd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dea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ssume that the conclusion of this implication is false (n is even). Then use rules of inference and known theorems to show that p must also be false (3n + 2 is even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3CEA-A97C-48F1-A407-C6EF61AB0C8E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ving Theorem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 is eve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n n = 2k, where k is an integer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t follows that 3n + 2 = 3(2k) + 2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6k + 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2(3k + 1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3n + 2 is eve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have shown that the contrapositive of the implication is true, so the implication itself is also tru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If 2n + 3 is odd, then n is odd).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9A4F-6A98-4ACB-88D7-63F901DB8918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erminology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xio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a basic assumption about mathematical structured that needs no proof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can use 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oof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o demonstrate that a particular statement is true. A proof consists of a sequence of statements that form an argument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steps that connect the statements in such a sequence are 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rules of inferenc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ases of incorrect reasoning are calle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fallacie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eore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a statement that can be shown to be true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9594-D697-46F2-98FB-A03BC3A9CF8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erminology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lemma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a simple theorem used as an intermediate result in the proof of another theorem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rollary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a proposition that follows directly from a theorem that has been proved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njectur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a statement whose truth value is unknown. Once it is proven, it becomes a theorem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D0A7-E334-44B7-AB67-946153B5D434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Rules of Inferenc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Rules of inferenc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rovide the justification of the steps used in a proof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ne important rule is calle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modus ponen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r 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law of detachmen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 It is based on the tautology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)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q. We write it in the following way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828800" y="4114800"/>
            <a:ext cx="70102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two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hypothese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 and p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q are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ritten in a column, and 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nclusio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elow a bar, where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means “therefore”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FBDF-DE69-426C-90BF-5A7611BCE599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Rules of Inferenc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general form of a rule of inference i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1676520" y="2286000"/>
            <a:ext cx="70866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rule states that if p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…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re all true, then q is true as well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se rules of inference can be used in any mathematical argument and do not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equire any proof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2491-D3DD-48D0-B50C-FB5407F09F5F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Rules of Inferenc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1447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752480" y="1523880"/>
            <a:ext cx="1752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Addi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04920" y="2743200"/>
            <a:ext cx="1447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1752480" y="320040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implific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04920" y="4267080"/>
            <a:ext cx="1447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1752480" y="480060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Conjunc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5105520" y="914400"/>
            <a:ext cx="1447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6553080" y="1295280"/>
            <a:ext cx="2438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Modus tollen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5029200" y="2666880"/>
            <a:ext cx="1447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6477120" y="3048120"/>
            <a:ext cx="2438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Hypothetical syllogism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Rectangle 14"/>
          <p:cNvSpPr/>
          <p:nvPr/>
        </p:nvSpPr>
        <p:spPr>
          <a:xfrm>
            <a:off x="5029200" y="4495680"/>
            <a:ext cx="1447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Rectangle 15"/>
          <p:cNvSpPr/>
          <p:nvPr/>
        </p:nvSpPr>
        <p:spPr>
          <a:xfrm>
            <a:off x="6477120" y="4876920"/>
            <a:ext cx="2438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Disjunctive syllogism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4F02-B7C5-4B40-AE6C-C4B821067259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rgumen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Just like a rule of inference, an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rgument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sists of one or more hypotheses and a conclusion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say that an argument is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 vali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if whenever all its hypotheses are true, its conclusion is also tru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ever, if any hypothesis is false, even a valid argument can lead to an incorrect conclusion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9BC4-6952-4D17-8866-182110C6D5BE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rgumen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101 is divisible by 3, then 101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divisible by 9. 101 is divisible by 3. Consequently, 101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divisible by 9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lthough the argument is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vali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its conclusion is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ncorrec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ecause one of the hypotheses is false (“101 is divisible by 3.”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in the above argument we replace 101 with 102, we could correctly conclude that 10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divisible by 9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0:16:35Z</dcterms:created>
  <dc:creator>Marc Pomplun</dc:creator>
  <dc:description/>
  <dc:language>en-US</dc:language>
  <cp:lastModifiedBy>OUAHID</cp:lastModifiedBy>
  <dcterms:modified xsi:type="dcterms:W3CDTF">2013-06-22T09:23:39Z</dcterms:modified>
  <cp:revision>99</cp:revision>
  <dc:subject/>
  <dc:title>PowerPoint Presentation</dc:title>
</cp:coreProperties>
</file>