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4454-2949-4E73-8649-79720D96F047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FC9B-A5AA-4157-8825-25FF565CBC0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263A2-DE48-4CCB-A940-454913F06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3D5B-F34C-4524-A81E-3606EFAF2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0819-24FB-4158-8CAA-B21D07834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41904-B61C-42B9-9F32-069894D96E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59403-F8DF-4FFE-B6AA-9A48AD0A0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E0E91-1F8C-4AA2-91D6-8282BFD99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9E56-20FA-42EC-80DA-2178DB50E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307C0-2066-4D88-87DE-432127344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6EF1-13E8-4354-9E3C-651A7FF03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F70B0-853C-4830-A5C4-7A15DB8B2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45E16-230C-4243-A5BD-A174C31E0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6B93-5BBA-4943-956E-C36998855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40CF-89BB-4EEB-94BA-D2FD2ABE513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C22A-A0AD-4DF8-8730-E781E1AC68D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et’s proceed to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omic Sans MS"/>
              </a:rPr>
              <a:t>Mathematical Reasoning</a:t>
            </a:r>
            <a:endParaRPr b="0" lang="en-US" sz="6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3272-20FA-4726-8F4F-82E835837F0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ich rule of inference was used in the last argument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: “101 is divisible by 3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: “10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ivisible by 9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762120" y="320040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209680" y="3581280"/>
            <a:ext cx="2438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odus ponen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80880" y="502920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nfortunately, one of the hypotheses (p) is fals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the conclusion q is incorrec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C62C-6227-4582-B0C6-B893B4BEA19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it rains today, then we will not have a barbeque today. If we do not have a barbeque today, then we will have a barbeque tomorrow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if it rains today, then we will have a barbeque tomorrow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is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vali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gument: If its hypotheses are true, then its conclusion is also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9D7C-4F1F-486B-9C87-BF5EFBAEA4C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formalize the previous argumen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: “It is raining today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: “We will not have a barbecue today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: “We will have a barbecue tomorrow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o the argument is of the following form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762120" y="426708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2209680" y="4648320"/>
            <a:ext cx="2438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tical syllogis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5671-3B19-434B-A3FA-55893928DAA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9372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ary is either intelligent or a good act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Gary is intelligent, then he can coun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om 1 to 10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ary can only count from 1 to 2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Gary is a good act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: “Gary is intelligent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: “Gary is a good actor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: “Gary can count from 1 to 10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994A-94A5-4242-B611-970A6A8D64A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: “Gary is intelligent.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: “Gary is a good actor.”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: “Gary can count from 1 to 10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i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       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3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odus tollens Steps 1 &amp;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a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5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isjunctive Syllogism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teps 3 &amp; 4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clusion: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“Gary is a good actor.”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9D60-DE44-4606-81F8-6EFF8447DEE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Yet 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you listen to me, you will pass CMSC 20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ou passed CMSC 20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you have listened to m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this argument valid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t assumes ((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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is statement is not a tautology. It is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f p is false and q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50B6-9021-4C98-B3A2-5F1637C3995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ules of Inference for Quantified Statements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438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c) if 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72200" y="990720"/>
            <a:ext cx="2590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niversal instanti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838080" y="2209680"/>
            <a:ext cx="5257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c) for an arbitrary 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_________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172200" y="228600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niversal generaliz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38080" y="3505320"/>
            <a:ext cx="548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____________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c) for some element 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172200" y="3581280"/>
            <a:ext cx="2590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istential instanti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38080" y="4876920"/>
            <a:ext cx="548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c) for some element c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__________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6095880" y="4952880"/>
            <a:ext cx="2590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istential generaliz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C9B2-D802-4F28-A298-0DDB4BDF783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ules of Inference for Quantified Statements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very UMBC student is a genius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eorge is a UMBC studen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George is a geniu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(x): “x is a UMBC student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(x): “x is a geniu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FD6D-BD75-4141-99AF-70242A10949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ules of Inference for Quantified Statements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following steps are used in the argumen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1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U(x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(x)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2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U(George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(George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niv. instantiation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sing Step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2057400" y="4800600"/>
            <a:ext cx="5181480" cy="1600200"/>
            <a:chOff x="2057400" y="4800600"/>
            <a:chExt cx="5181480" cy="1600200"/>
          </a:xfrm>
        </p:grpSpPr>
        <p:sp>
          <p:nvSpPr>
            <p:cNvPr id="127" name="Rectangle 5"/>
            <p:cNvSpPr/>
            <p:nvPr/>
          </p:nvSpPr>
          <p:spPr>
            <a:xfrm>
              <a:off x="2057400" y="4800600"/>
              <a:ext cx="2438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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x P(x)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lnSpc>
                  <a:spcPct val="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__________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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P(c) if c</a:t>
              </a:r>
              <a:r>
                <a:rPr b="0" lang="en-US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</a:t>
              </a:r>
              <a:r>
                <a:rPr b="0" lang="en-US" sz="2800" spc="-1" strike="noStrike">
                  <a:solidFill>
                    <a:srgbClr val="ffff00"/>
                  </a:solidFill>
                  <a:latin typeface="Comic Sans MS"/>
                </a:rPr>
                <a:t>U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4648320" y="4876920"/>
              <a:ext cx="259056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Universal instantiation</a:t>
              </a:r>
              <a:endParaRPr b="0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9" name="Rectangle 7"/>
          <p:cNvSpPr/>
          <p:nvPr/>
        </p:nvSpPr>
        <p:spPr>
          <a:xfrm>
            <a:off x="304920" y="3124080"/>
            <a:ext cx="8839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3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U(George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tep 4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(George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odus ponens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using Steps 2 &amp; 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A7E4-4BE1-4AEF-9F69-3FA27F7EF9E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ng Theor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Direct proo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implication 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can be proved by showing that if p is true, then q is also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ive a direct proof of the theorem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If n is odd, then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odd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dea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sume that the hypothesis of this implication is true (n is odd). Then use rules of inference and known theorems to show that q must also be true (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odd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0318-C256-4926-BCE4-0EA71669AA1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thematical Reasoning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ne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athematical reasoning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etermine whether a mathematical argument is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correct or incorrect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truct mathematical argument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athematical reasoning is not only important for conducting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of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gram verificatio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ut also for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rtificial intellig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systems (drawing inferences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7CE4-DDC3-4368-82AA-BBC1A09CCF2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ng Theor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610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is od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n = 2k + 1, where k is an intege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equently,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= (2k + 1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4k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4k +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2(2k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+ 2k) + 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ince 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can be written in this form, it is od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C6E9-6E3D-4B22-8427-A786A910E10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ng Theor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direct proof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implication 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is equivalent to it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tra-positiv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. Therefore, we can prove 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by showing that whenever q is false, then p is also fals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Give an indirect proof of the theorem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If 3n + 2 is odd, then n is odd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dea: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ssume that the conclusion of this implication is false (n is even). Then use rules of inference and known theorems to show that p must also be false (3n + 2 is even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8AC4-C0EE-49E8-A2C3-1043EF5E5CA2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oving Theor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 is ev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n n = 2k, where k is an intege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follows that 3n + 2 = 3(2k) + 2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6k + 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 2(3k + 1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fore, 3n + 2 is eve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have shown that the contrapositive of the implication is true, so the implication itself is also tru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If 2n + 3 is odd, then n is odd).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7816-3E4A-4B9C-B513-9C763865547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erminolog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xio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basic assumption about mathematical structured that needs no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can use 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proo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to demonstrate that a particular statement is true. A proof consists of a sequence of statements that form an argumen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steps that connect the statements in such a sequence are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ules of infer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ses of incorrect reasoning are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fallaci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eorem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statement that can be shown to be true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8A91-AAFC-45A8-9AC2-B86FEBC6FB0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erminology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mma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simple theorem used as an intermediate result in the proof of another theor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rollary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proposition that follows directly from a theorem that has been proved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jectur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a statement whose truth value is unknown. Once it is proven, it becomes a theore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8DB9-42E5-4A97-A7A1-116D356BC99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ules of Infere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Rules of infer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rovide the justification of the steps used in a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ne important rule is called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modus ponen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aw of detachmen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 It is based on the tautology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)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. We write it in the following way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828800" y="4114800"/>
            <a:ext cx="70102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two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hypothes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and 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 ar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ritten in a column, and the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onclus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elow a bar, where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eans “therefore”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BC2E-7C6A-4546-979D-DEA1418F0F1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ules of Infere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general form of a rule of inference i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676520" y="2286000"/>
            <a:ext cx="7086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rule states that if 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…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re all true, then q is true as well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se rules of inference can be used in any mathematical argument and do not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quire any proo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4DDF-DA2C-48FD-8806-DC0ABB5F2A6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ules of Inferenc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1447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752480" y="1523880"/>
            <a:ext cx="175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ddi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04920" y="274320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752480" y="320040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implifica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4920" y="426708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752480" y="4800600"/>
            <a:ext cx="259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Conjunct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5105520" y="914400"/>
            <a:ext cx="1447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6553080" y="1295280"/>
            <a:ext cx="2438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Modus tollen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5029200" y="2666880"/>
            <a:ext cx="1447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6477120" y="3048120"/>
            <a:ext cx="2438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Hypothetical syllogis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5029200" y="4495680"/>
            <a:ext cx="1447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_____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Rectangle 15"/>
          <p:cNvSpPr/>
          <p:nvPr/>
        </p:nvSpPr>
        <p:spPr>
          <a:xfrm>
            <a:off x="6477120" y="4876920"/>
            <a:ext cx="2438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isjunctive syllogism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7231-32C0-44FC-A397-47F894C8218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Just like a rule of inference, an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argument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sts of one or more hypotheses and a conclusion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say that an argument is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 vali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f whenever all its hypotheses are true, its conclusion is also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owever, if any hypothesis is false, even a valid argument can lead to an incorrect conclusion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3731-BEF9-4082-B06F-A9826C2FE32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rgument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101 is divisible by 3, then 10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ivisible by 9. 101 is divisible by 3. Consequently, 10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ivisible by 9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though the argument i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vali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its conclusion is 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corre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 because one of the hypotheses is false (“101 is divisible by 3.”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in the above argument we replace 101 with 102, we could correctly conclude that 10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s divisible by 9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3:39Z</dcterms:modified>
  <cp:revision>99</cp:revision>
  <dc:subject/>
  <dc:title>PowerPoint Presentation</dc:title>
</cp:coreProperties>
</file>