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84ED-CB8E-46AB-B538-7EA6C6C0B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D0DC-A1C8-4D22-86FB-1830A7D8B244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8F65-995B-4AAB-B458-D476789804E5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683-3B31-44E2-9415-B7559992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E28-53D6-45B0-9C9D-38E7E83D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2C9-7EF5-4E0D-9B05-BA9FA5E7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5B84-4FF3-4834-B952-3953CDE9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980F-E026-4643-BAFA-14626A5C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EAD6-84CF-4823-B859-76BA7F3A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9D1F-A65B-4138-9C3D-A123FC37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74E4-CCC4-4349-AE17-F07F9657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81C3-F06C-4559-B45F-8AE1B5B6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B274-A50B-4805-A926-285B7FBA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E657-8DAF-4A58-9CD1-CE915753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F32F-6DE8-41C2-853E-C8B6EC86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C12F-4781-43F6-8810-7DC8D19B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346F-51F7-4DB2-A8CE-158B68AF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FFA7-1EF6-4B0A-8B1D-B0F87155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4863-7722-4546-A6A7-9CAC139D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4D4E-ABF1-4223-A70F-3D54AEDC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D1B3F-95C6-42F5-997D-2B87E6CC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34ED8-7E2D-4C49-B7B9-B0ED9E75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AE795-92AB-4B75-BDD0-07764854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7A95B-DFF2-473C-A3DD-A75C8DFD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49C2B-DD80-4840-A631-606DAC23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596-FBA5-4D0C-BF39-D55C491E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84F52-4A57-442D-8855-4B5C031B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3E155-7D17-4FBC-8E73-DBF8E405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9A393-36CB-47E8-ACC5-1068766C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4A72F-2009-4017-84AF-047D35F9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470C3-336C-4731-A3FE-0DBE53A0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93FAC-0231-4951-A0AF-CB91E676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D7E1B-8D3B-4133-A190-1C3284B8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0FD7B-1C05-49AB-ABC6-F824D15B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A93B6-61AF-4448-ADED-B43CA8AE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2479A-BA56-4A19-BD6A-8EBF7F99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125-8998-4E8A-8360-30A59122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BEDB6-380D-405A-9A47-3851A83E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FCAB8-F764-4527-9892-E0CA84AD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A5F73-1F9A-44B2-9734-BD8A64D3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4D3A6-246C-49EA-A576-559334FD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5B1DC-B6F9-4540-BACA-46B6FC54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ED32C-D325-464F-8AC1-DE2E038E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13FB7-0C24-485D-9450-A46BFE6F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81ADC-C8F8-47C2-A7B1-BD763E19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DC71B-1B3A-4D72-848C-749F7217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D746C-5774-422D-9D0B-D4A61BBC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819-E53B-4B7A-AE93-AA50A07C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EFCB0-73E0-4D28-8C82-03080658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934E4-5C88-4568-85BD-CF68090B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21EBB-3648-47D5-8053-22322751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F74F6-DEBB-4F41-8C71-05D16BDB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3DFB0-4F5B-4853-89A0-AC300B46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8047D-1FBB-40E9-AC31-205F0B86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B6B99-BB4D-4928-954B-CC61F224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0B5CF-9AF4-469D-9863-FF8F0684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248CF-461A-46CE-874B-C8DF9E4C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746E4-94F7-4ED6-AF61-B8877BF0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A93B-3FFD-4D53-9F6B-6E555B19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9F340-998F-4FE3-9420-1DAFD2AF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ADB4-E0E8-475C-8372-A3F276A2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D3A-8F8C-4BF6-B73C-EBF2D4FF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1A6-E2CE-4C8D-83FC-4DCFAD0E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6C57-950D-4C84-BBB3-58662C334B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4B35-1629-4C59-BFE7-00F5AEEB75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AC34-3D99-4E73-AF73-8EB53BF7D22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C8FC-4566-4E07-BD79-64C5EF8EDB7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0322-7061-4238-829E-CD05DB40DC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52560" y="2286000"/>
            <a:ext cx="723888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57576e"/>
                </a:solidFill>
                <a:latin typeface="Arial"/>
              </a:rPr>
              <a:t>Matrix Algebra 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077320" cy="3429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7467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28600" y="452520"/>
            <a:ext cx="876312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Properties of Transpos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925040" cy="3200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80010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952560" y="2286000"/>
            <a:ext cx="723888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57576e"/>
                </a:solidFill>
                <a:latin typeface="Arial"/>
              </a:rPr>
              <a:t>Matrices and Elementary Row Operation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Matric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01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Augmented Matrix and Coefficient Matrix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772400" cy="1600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7696080" cy="1981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3"/>
          <a:stretch/>
        </p:blipFill>
        <p:spPr>
          <a:xfrm>
            <a:off x="1371600" y="1295280"/>
            <a:ext cx="64008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4647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685800" y="5257800"/>
            <a:ext cx="7924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atrix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8077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81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5943600" cy="533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8381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610480" cy="437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685800" y="502920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8001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58200" cy="45720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"/>
          <p:cNvSpPr/>
          <p:nvPr/>
        </p:nvSpPr>
        <p:spPr>
          <a:xfrm>
            <a:off x="457200" y="5334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int: Use the transformations </a:t>
            </a:r>
            <a:endParaRPr b="0" lang="en-US" sz="20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4313160" y="5400720"/>
                <a:ext cx="868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5562720" y="5456160"/>
                <a:ext cx="10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5"/>
              <p:cNvSpPr txBox="1"/>
              <p:nvPr/>
            </p:nvSpPr>
            <p:spPr>
              <a:xfrm>
                <a:off x="768240" y="6013440"/>
                <a:ext cx="1136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7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6"/>
              <p:cNvSpPr txBox="1"/>
              <p:nvPr/>
            </p:nvSpPr>
            <p:spPr>
              <a:xfrm>
                <a:off x="2286000" y="5943600"/>
                <a:ext cx="1219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381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77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153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5257800" cy="990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2438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228600" y="3124080"/>
            <a:ext cx="8610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Example 1 - Solution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81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5345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Example of dot produc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46784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86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7:09:25Z</dcterms:created>
  <dc:creator>Bokkasam Sasi Bokkasam</dc:creator>
  <dc:description/>
  <dc:language>en-US</dc:language>
  <cp:lastModifiedBy>User</cp:lastModifiedBy>
  <cp:lastPrinted>2016-05-01T08:03:49Z</cp:lastPrinted>
  <dcterms:modified xsi:type="dcterms:W3CDTF">2016-05-01T08:04:21Z</dcterms:modified>
  <cp:revision>289</cp:revision>
  <dc:subject/>
  <dc:title>PowerPoint Presentation</dc:title>
</cp:coreProperties>
</file>