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97D-F01D-49B4-B84B-35FB6021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1FB5-59FE-4EC1-ADCB-C9914220EB2B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2676-0D0C-4DDD-B056-AD6C4D84DA0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344-CD4D-493E-A17A-A50F008D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64E-7A4E-44B9-A67A-96E4620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A2B-CEDD-4244-8E08-25540B67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805-FA0F-496D-BB01-6132D366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8453-5067-4F07-B691-91902C51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5EA-6726-45A0-839E-A5EAC97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DD3-DEAC-4DA4-A1CB-A28149E4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DDAA-07B3-4160-938E-64A06749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8215-E104-47AC-9720-46A8A6A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1478-5CB8-41DF-BD34-2F098A1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9C8D-DFC1-4863-A4F7-2930007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5E3-728E-4614-A662-362B8D8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D95-565F-4EA5-887A-B4CBE20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66F-AE1B-4603-BBA2-C099199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45FB-2D27-4B56-8E32-1D1E9601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E63-76BD-44CB-B1F5-9B777F71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F41B-B6AC-49A2-BE2A-1AA167E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F976-F535-4A9A-AF2C-FE1250E3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2862-BA84-434A-8F95-D44E353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7229-714E-4F93-B67B-3C12E1A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4D72-FFC0-48E0-9321-5752623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3591-5254-4A9B-A680-72075751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93C-D1AB-47EA-BD81-425B3F9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9806-0993-4914-8F09-DE3630F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F941-AEDA-431A-ADD5-3E8219B1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6B61-34A1-4F6A-9934-6D74EB7E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3A42-DFD1-49DC-9BE8-87EC396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E0DF-6F89-411C-A113-7B75C96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1B7B-0F9F-4AC4-A3A2-BC9F3CC1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A049-F3EF-48AB-9C7D-DE682C72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D585-7BF4-44ED-91B0-EF144061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AD39-C844-4868-8414-CB18AA3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62B9-53D8-41AC-ABF6-D30DE99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619-215B-4682-95A8-CBF9077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D860-90C5-46DE-8B3C-CEDAA24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7DE7-585B-430C-BB4F-A0D66CF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FDC1-B564-4A3E-B645-338534A7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8596-FC95-4B1B-B11C-AEAC8ED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94D7-80AC-4175-B788-7BCDDE5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92B6-4986-4B31-BBDF-4A7A3695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7F61-5BA7-4F28-86C3-4A39E6D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FBE3-5EE1-40BB-9A1B-2CE3B18C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30E4-5CAF-47BD-BB3A-1D68539C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F1DAD-DC14-43F0-ABD7-5E9831B3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395-3D92-499A-B77F-DDE3B77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9EA81-2B13-41B6-8D00-1617BC15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96D2-3FE1-4A62-904E-57C339EE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A6CF-8257-4FDA-A65D-A9A7395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248A-CE90-4E89-8386-6EBA5CB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D819-090F-4418-822B-659828D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927C6-8C18-4820-955E-B039340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616E-297C-4A18-BFEC-45E1C90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F9F89-19FF-4FD3-A55E-0E45E8B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BAF8-4B67-4DB9-9E68-61BDEAD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C6FB-739F-4B59-B7FA-526E586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473-8AC2-40C3-92DD-D34691C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6B06-7CBD-41E3-9A84-B8D22F6E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401-044F-477B-B06A-BB05D54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DCC-0EA9-4F54-9428-2EE7FF4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9E6-F46C-4334-8D80-D659258D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3CC4-BE06-4A84-A75D-7039C23C57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94B-C8CA-4C1F-BA0A-A2A1AF4527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15D-423D-472D-825C-C90DF4CA54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1DB2-F60E-42A4-8D01-690CB2A08A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04B-02C5-4C18-981C-DE343ADB56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Matrix Algebra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467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28600" y="45252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Transpo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2504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Matrices and Elementary Row Oper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ric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Augmented Matrix and Coefficient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1981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6400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4647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37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45720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int: Use the transformations 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4313160" y="5400720"/>
                <a:ext cx="86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5562720" y="5456160"/>
                <a:ext cx="10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768240" y="6013440"/>
                <a:ext cx="113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2286000" y="5943600"/>
                <a:ext cx="121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25780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8610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Example 1 - Solu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 of dot produ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05-01T08:03:49Z</cp:lastPrinted>
  <dcterms:modified xsi:type="dcterms:W3CDTF">2016-05-01T08:04:21Z</dcterms:modified>
  <cp:revision>289</cp:revision>
  <dc:subject/>
  <dc:title>PowerPoint Presentation</dc:title>
</cp:coreProperties>
</file>