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539280" cy="6173640"/>
            <a:chOff x="0" y="0"/>
            <a:chExt cx="953928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899400" cy="6173640"/>
            </a:xfrm>
            <a:custGeom>
              <a:avLst/>
              <a:gdLst/>
              <a:ahLst/>
              <a:rect l="l" t="t" r="r" b="b"/>
              <a:pathLst>
                <a:path w="4346" h="3889">
                  <a:moveTo>
                    <a:pt x="4345" y="3418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819" y="3888"/>
                  </a:lnTo>
                  <a:lnTo>
                    <a:pt x="4345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36840" y="0"/>
              <a:ext cx="6060960" cy="5116680"/>
            </a:xfrm>
            <a:custGeom>
              <a:avLst/>
              <a:gdLst/>
              <a:ahLst/>
              <a:rect l="l" t="t" r="r" b="b"/>
              <a:pathLst>
                <a:path w="3818" h="3223">
                  <a:moveTo>
                    <a:pt x="416" y="0"/>
                  </a:moveTo>
                  <a:lnTo>
                    <a:pt x="3817" y="3036"/>
                  </a:lnTo>
                  <a:lnTo>
                    <a:pt x="3609" y="3222"/>
                  </a:lnTo>
                  <a:lnTo>
                    <a:pt x="0" y="0"/>
                  </a:lnTo>
                  <a:lnTo>
                    <a:pt x="416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05280" y="0"/>
              <a:ext cx="5106960" cy="4057560"/>
            </a:xfrm>
            <a:custGeom>
              <a:avLst/>
              <a:gdLst/>
              <a:ahLst/>
              <a:rect l="l" t="t" r="r" b="b"/>
              <a:pathLst>
                <a:path w="3217" h="2556">
                  <a:moveTo>
                    <a:pt x="709" y="0"/>
                  </a:moveTo>
                  <a:lnTo>
                    <a:pt x="3216" y="2238"/>
                  </a:lnTo>
                  <a:lnTo>
                    <a:pt x="2861" y="2555"/>
                  </a:lnTo>
                  <a:lnTo>
                    <a:pt x="0" y="0"/>
                  </a:lnTo>
                  <a:lnTo>
                    <a:pt x="709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56160" y="0"/>
              <a:ext cx="4083120" cy="3367080"/>
            </a:xfrm>
            <a:custGeom>
              <a:avLst/>
              <a:gdLst/>
              <a:ahLst/>
              <a:rect l="l" t="t" r="r" b="b"/>
              <a:pathLst>
                <a:path w="2572" h="2121">
                  <a:moveTo>
                    <a:pt x="0" y="0"/>
                  </a:moveTo>
                  <a:lnTo>
                    <a:pt x="2375" y="2120"/>
                  </a:lnTo>
                  <a:lnTo>
                    <a:pt x="2571" y="1945"/>
                  </a:lnTo>
                  <a:lnTo>
                    <a:pt x="392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7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XILLARY ANESTH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43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gns and Symp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ness, blanching of palatal soft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pain during dental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ilures of Anesth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te r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ailure of hemost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lam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vasoconstri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mplic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crosis of soft tissu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due to excess vasoconstric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ic Injection Techniqu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flow of local anesthet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on the pati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the tiss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e with the pati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hand 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ic Injection Techniqu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the tissue ta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the syringe out of patient s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vel the needle toward the b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ert the nee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sit while advancing the nee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sic Injection Techniqu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pi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ly in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e with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 the nee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 the nee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 the injection in the patient ch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iltration - Palat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inal branches - Greater Palatine n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opalatine n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latal soft tissue in area of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iltration - Palat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ed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st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ntra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2 tee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lammation/infection at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iltration - Palat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st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area aff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trau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iltration - Palat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y topical,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ert into gingiva in center of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5-10 mm from gingival mar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pirate  (positive results are ra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ect 0.2-.3 ml, slow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10287000" cy="660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1T07:32:12Z</dcterms:created>
  <dc:creator>Ben Connaughton</dc:creator>
  <dc:description/>
  <dc:language>en-US</dc:language>
  <cp:lastModifiedBy>Ben Connaughton</cp:lastModifiedBy>
  <cp:lastPrinted>2009-04-22T19:24:48Z</cp:lastPrinted>
  <dcterms:modified xsi:type="dcterms:W3CDTF">1999-06-23T16:33:29Z</dcterms:modified>
  <cp:revision>46</cp:revision>
  <dc:subject/>
  <dc:title>MAXILLARY ANESTHESIA</dc:title>
</cp:coreProperties>
</file>