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AXILLARY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 suitable for large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needle inse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volumes of anethetic solu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cent Positive Aspiration: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ligible, but possible (&lt;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ternativ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ontal ligament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onal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marks - mucobuccal 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axis of t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needle at height of mucobuccal 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 area - apex of t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, deposit approx. 0.6-1 ml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10287000" cy="635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10287000" cy="648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5444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10287000" cy="678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6732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gns and Symp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ence of pain during dent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iques of Maxillary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el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fety Feat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um opportunity for intravas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ilures of Anesthesia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dequate needle pene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not adjacent to tooth ap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too far from b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sterior Sup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rve Anesthetiz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rior Superior Alveolar Nerve (P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for maxillary molars and buccal tissue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60760" y="0"/>
            <a:ext cx="4965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dications for PSA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or second maxillary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raperiosteal injection is contra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hemorrhage is too g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g. hemophelia, coumad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raumatic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uccess r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number of inje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amount of local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hemato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esthetiz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rst mo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plete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bony landma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sitive Aspi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ximately 3.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buccal f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tubero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ygomatic process of maxi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xillary Injection Techniqu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raperiost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ontal lig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septal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rior superior alveo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 superior alveo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ea of Inser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buccal fold above maxillary second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 gauge, long need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on patient and identify landma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 needle upward, inward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, inject 1.8 ml of s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10287000" cy="688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ilures of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too lat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not deep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too far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dibular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xillary Injection Techniques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rior superior alveolar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(second division)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er (anterior) palatine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opalatine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praperiosteal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d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pal anesthesia of one or two maxillary tee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 tissue anesthesia when 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 or acute inflammation in th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e bone covering apices of tee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uccess rate (&gt;9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ly easy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entirely atrau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eas Anesthetized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ire area innervated by the large terminal nerve branch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th pulp and roo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 perioste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us membrane and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16:43:45Z</dcterms:created>
  <dc:creator>Ben Connaughton</dc:creator>
  <dc:description/>
  <dc:language>en-US</dc:language>
  <cp:lastModifiedBy>None</cp:lastModifiedBy>
  <cp:lastPrinted>2009-04-22T19:24:48Z</cp:lastPrinted>
  <dcterms:modified xsi:type="dcterms:W3CDTF">1999-06-16T18:48:55Z</dcterms:modified>
  <cp:revision>26</cp:revision>
  <dc:subject/>
  <dc:title>Techniques of Maxillary Anesthesia</dc:title>
</cp:coreProperties>
</file>