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ddle Superior Alveolar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rve Anesthetiz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 Superior Alveolar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xillary premolars and buccal t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gns and Symp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 upper 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free dent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afety Features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tomically safe (no signifcant structur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avascular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aspirations - negligible (&lt; 3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cations are 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chnique - MS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p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on patient and identify 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ert needle 5-10 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  0.9 ml of solution,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63440"/>
            <a:ext cx="10287000" cy="652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10287000" cy="685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ilures of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inserted too high, or not high en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 of solution too far lateral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raorbital Nerve Bloc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rves Anesthetiz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erior Superior Alveolar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 Superior Alveolar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ior Labial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ior Palpebral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ral Nasal N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9448920" cy="684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08400" y="0"/>
            <a:ext cx="546876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reas Anesthetiz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lpal anesthesia of first &amp; second premolars and mesiobuccal root of first 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cal soft tissues and bone over same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76520" y="-17640"/>
            <a:ext cx="6933960" cy="689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35360" y="0"/>
            <a:ext cx="46162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reas Anesthetiz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lpal anesthesia of maxillary anterior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lpal anesthesia of premolars and mesiobuccal root of first 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cal  soft tissue and bone of same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r eyelid, lateral nose, and upper 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36360"/>
            <a:ext cx="9219960" cy="678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d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sthesia of  more than two maxillary tee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raperiosteal injections in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ammation/infection contraindicating local in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raind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rete treatment areas (1-2 teeth only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eeding problems (eg. hemophelia, etc..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dmark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obuccal fold above first premo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 not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rea of Inser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obuccal fold above first pre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rge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vascular bun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10287000" cy="660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39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4680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atively simple, safe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d volume of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d number of needle punct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or- fear of eye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- apprehension of extraoral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tom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y defining landma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ternativ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raperiosteal injection for each to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llary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gns and Symp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gling and numbness of lower eyelid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of nose, and upper 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ness in teeth and soft t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pain during dent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afety Feat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contacting b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ger over infraorbital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chniq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p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on patient and identify landmar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ert needle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pp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im of infraorbital foram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i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ect 0.9 ml of solution,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65160"/>
            <a:ext cx="9753480" cy="667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-7920"/>
            <a:ext cx="9601200" cy="681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ilures of An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e contact below infraorbital for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deviates laterally or med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pl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ma (r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aspirations - 0.7 %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d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sthesia of  maxillary premolar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  nerve block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raind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 /inflammation in area of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vant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d number of inj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d  volume of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isadvant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SA nerve is only present 28% of the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ternativ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infiltration (supraperioste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ontal ligament injection (PD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 nerve bloc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dmarks / Area of Inser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obuccal fold above second pre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ex of second premo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16:52:39Z</dcterms:created>
  <dc:creator>Ben Connaughton</dc:creator>
  <dc:description/>
  <dc:language>en-US</dc:language>
  <cp:lastModifiedBy>None</cp:lastModifiedBy>
  <cp:lastPrinted>2009-04-22T19:24:48Z</cp:lastPrinted>
  <dcterms:modified xsi:type="dcterms:W3CDTF">1999-06-16T18:55:56Z</dcterms:modified>
  <cp:revision>30</cp:revision>
  <dc:subject/>
  <dc:title>Middle Superior Alveolar Nerve Block</dc:title>
</cp:coreProperties>
</file>