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57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57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40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85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13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57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85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13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5748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57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40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539280" cy="6173640"/>
            <a:chOff x="0" y="0"/>
            <a:chExt cx="953928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899400" cy="6173640"/>
            </a:xfrm>
            <a:custGeom>
              <a:avLst/>
              <a:gdLst/>
              <a:ahLst/>
              <a:rect l="l" t="t" r="r" b="b"/>
              <a:pathLst>
                <a:path w="4346" h="3889">
                  <a:moveTo>
                    <a:pt x="4345" y="3418"/>
                  </a:moveTo>
                  <a:lnTo>
                    <a:pt x="514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819" y="3888"/>
                  </a:lnTo>
                  <a:lnTo>
                    <a:pt x="4345" y="3418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36840" y="0"/>
              <a:ext cx="6060960" cy="5116680"/>
            </a:xfrm>
            <a:custGeom>
              <a:avLst/>
              <a:gdLst/>
              <a:ahLst/>
              <a:rect l="l" t="t" r="r" b="b"/>
              <a:pathLst>
                <a:path w="3818" h="3223">
                  <a:moveTo>
                    <a:pt x="416" y="0"/>
                  </a:moveTo>
                  <a:lnTo>
                    <a:pt x="3817" y="3036"/>
                  </a:lnTo>
                  <a:lnTo>
                    <a:pt x="3609" y="3222"/>
                  </a:lnTo>
                  <a:lnTo>
                    <a:pt x="0" y="0"/>
                  </a:lnTo>
                  <a:lnTo>
                    <a:pt x="416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905280" y="0"/>
              <a:ext cx="5106960" cy="4057560"/>
            </a:xfrm>
            <a:custGeom>
              <a:avLst/>
              <a:gdLst/>
              <a:ahLst/>
              <a:rect l="l" t="t" r="r" b="b"/>
              <a:pathLst>
                <a:path w="3217" h="2556">
                  <a:moveTo>
                    <a:pt x="709" y="0"/>
                  </a:moveTo>
                  <a:lnTo>
                    <a:pt x="3216" y="2238"/>
                  </a:lnTo>
                  <a:lnTo>
                    <a:pt x="2861" y="2555"/>
                  </a:lnTo>
                  <a:lnTo>
                    <a:pt x="0" y="0"/>
                  </a:lnTo>
                  <a:lnTo>
                    <a:pt x="709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56160" y="0"/>
              <a:ext cx="4083120" cy="3367080"/>
            </a:xfrm>
            <a:custGeom>
              <a:avLst/>
              <a:gdLst/>
              <a:ahLst/>
              <a:rect l="l" t="t" r="r" b="b"/>
              <a:pathLst>
                <a:path w="2572" h="2121">
                  <a:moveTo>
                    <a:pt x="0" y="0"/>
                  </a:moveTo>
                  <a:lnTo>
                    <a:pt x="2375" y="2120"/>
                  </a:lnTo>
                  <a:lnTo>
                    <a:pt x="2571" y="1945"/>
                  </a:lnTo>
                  <a:lnTo>
                    <a:pt x="392" y="0"/>
                  </a:lnTo>
                  <a:lnTo>
                    <a:pt x="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57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ALATAL  ANESTHESI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943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20520"/>
            <a:ext cx="10287000" cy="6815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Greater Palatine Nerve Block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echni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ition - open wide, extend &amp; turn he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tton swab - identify landmarks, top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roach - bevel to tissue, advance to b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pirate; inject 0.5 ml slow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25280"/>
            <a:ext cx="10287000" cy="6605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25280"/>
            <a:ext cx="10287000" cy="6605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Greater Palatine Nerve Block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ail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lap of fibers from Nasopalatine ner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jection too anteri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ompl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ft tissue ischemia / necr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t injection pain, hemato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00280" y="2285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NASOPALATINE NERVE  BLOCK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56168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941560" y="0"/>
            <a:ext cx="440388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Nasopalatine Nerve Block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d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in control in anterior hard and/or soft t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ontraind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lammation / infection at injection 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ly small area necessary (eg. 1-2 teet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Nasopalatine Nerve Block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dvant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izes needle penetr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izes volume of solution (0.4 m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isadvant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mited hemosta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entially trauma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Nasopalatine Nerve Block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lterna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al infil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xillary Nerve Bl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spi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lt; 1% posi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Greater Palatine Nerve Block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nterior Palatine Ner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terior portion of hard palate and overlying soft t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eriorly to 1st premo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dially to mid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Nasopalatine Nerve Block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reca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not inject directly into papilla/ca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ject slowly, with small volu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igns / sympt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b anterior palate; painfree trea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afety fea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ne contacted; aspi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Nasopalatine Nerve Block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echni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ition - open wide, extend he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ndmarks - incisive papilla, central incis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roach - lateral to incisive papilla, starting with cotton swab, top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osit approx. 0.4 ml / 30 sec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125280"/>
            <a:ext cx="10287000" cy="6605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125280"/>
            <a:ext cx="10287000" cy="6605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Nasopalatine Nerve Block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ail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be only unilate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have overlap with Greater Palat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ompl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chemia, tissue necr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s r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19080"/>
            <a:ext cx="9525240" cy="6819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4680"/>
            <a:ext cx="9525240" cy="6845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Greater Palatine Nerve Block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d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in control in posterior palatal hard and/or soft t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ontraind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lammation / infection at injection 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ly small area necessary (eg. 1-2 teet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Greater Palatine Nerve Block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dvant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izes penetrations and discomf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izes volume of solution (0.5 m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isadvant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mited hemosta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entially trauma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Greater Palatine Nerve Block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lterna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al infiltration in each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xillary Nerve Bl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spi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lt; 1% posi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Greater Palatine Nerve Block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andmar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ater palatine fora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nction of alveolus and palatine b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rea of Inser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ft tissue anterior to foramen, from opposite s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Greater Palatine Nerve Block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reca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no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ter ca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igns &amp; sympt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b posterior palate; painfree trea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afety fea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ne contacted; aspi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8T07:38:38Z</dcterms:created>
  <dc:creator>Ben Connaughton</dc:creator>
  <dc:description/>
  <dc:language>en-US</dc:language>
  <cp:lastModifiedBy>None</cp:lastModifiedBy>
  <cp:lastPrinted>2009-04-22T19:24:48Z</cp:lastPrinted>
  <dcterms:modified xsi:type="dcterms:W3CDTF">1999-06-16T18:28:13Z</dcterms:modified>
  <cp:revision>23</cp:revision>
  <dc:subject/>
  <dc:title>PALATAL  ANESTHESIA</dc:title>
</cp:coreProperties>
</file>