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548-FB99-4B28-9B43-7108AE64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619-0074-4571-A5F8-E5A1C5EA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A9C-9B89-4F3C-B4AD-7A15F5CD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93D-7A50-4DFA-A85E-7DA8F583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2CA7-4EDD-4470-AE26-71CD58D7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3BC9-568D-47F2-A2E6-5B3BADA2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549F-8C95-4F5A-87C0-4CA101BE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1C4C-DCAA-451F-B649-09CCC66A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3D5D-ABBA-4F0B-98B5-B57CAC89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EEA8-1C96-4281-95CE-C7494357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E7F5-EC07-475B-B45E-2E85774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963-D6A1-4ACD-9632-B19E1AAD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0C0D-A95C-4AE5-8234-84BAD89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E29A-7C87-4CB8-B905-16FC089C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86E3-A159-4E42-9F26-EED7C3DC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8435-49D8-4255-A0F8-E079CA18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9C9E-1F18-464F-8390-620DCB2B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308-7AA8-43FF-A5E3-90E4975E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90D-BE82-4E92-84D8-F20AB0EE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FE1-6C76-4780-A720-43A848AA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E6E-87CE-494D-A7B9-2DDDEA5B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DBB-8AF7-4C3A-B28A-C2283406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3A8-0CBD-46D9-9185-A0FEF3F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453-9ECA-4BC1-8A35-7948E07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6162-C942-42F7-BD76-4943F18CA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3FCF-2D59-42FF-9972-66BD34B96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ing Saud Univers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ntal Colleg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al and Maxillofacial Surgery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xillary Sinus in Health and Dis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ymphatic drai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ymphatic drain of the sinus is through the nose or the submandibular lymph no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ysiolog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known but the following functions have been propo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ch and voice reson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weight of sku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rmth inspired 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ltration of inspired 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munologic barrier ( body defens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holog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5257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genital anomal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lammatory disea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sts and odontogenic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ne metaplasia and benign tum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opla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u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5611ZD"/>
          <p:cNvPicPr/>
          <p:nvPr/>
        </p:nvPicPr>
        <p:blipFill>
          <a:blip r:embed="rId1"/>
          <a:stretch/>
        </p:blipFill>
        <p:spPr>
          <a:xfrm>
            <a:off x="6172200" y="2057400"/>
            <a:ext cx="2619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genital anomali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ft pa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ial fistula and cle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stic 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res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flammatory diseas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l inf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l infection secondary to viral inf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al inf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usiti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cute sinusiti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urative or non suppurative inflammation of the mucosal lining of the sinus. It involves one or both sinu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us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ary to hay fever and allergic rhin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ary to acute rhinitis (common cold) and URT inf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l infection due to: dental sepsis, swimming and diving, trauma and foreign body dislodg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symptom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ach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and tendern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obstr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disch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ic manifes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filling with bend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conges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 and transillumination fi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 and fluid and mouth hygi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iotics (C&amp;S); pneumococci and streptococci are the most causative organis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gesics and antihistami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treatment (decongestant and steam inhalatio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usiti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ronic sinusiti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chronic type of infection affected the mucosal lining of one  or both sinuses, resulted in mucopus or pus collection. A polypoidal type of inflammation can lead to formation of multiple or single mucosal polyp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tomical facts and locatio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4952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rgest para-nasal sinu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uated in the maxil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pyramidal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ral nasal bone forms its b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052" descr="23"/>
          <p:cNvPicPr/>
          <p:nvPr/>
        </p:nvPicPr>
        <p:blipFill>
          <a:blip r:embed="rId1"/>
          <a:stretch/>
        </p:blipFill>
        <p:spPr>
          <a:xfrm>
            <a:off x="5181480" y="1143000"/>
            <a:ext cx="3657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uses: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consequence of non resolved acute sinus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absce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ulent organism with low res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eign body dislodgement or trau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gns and symptom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ach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ob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l disch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ig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smia/ cacosm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llumination find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 pun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4800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biot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ic decongest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nus wash-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028" descr="112"/>
          <p:cNvPicPr/>
          <p:nvPr/>
        </p:nvPicPr>
        <p:blipFill>
          <a:blip r:embed="rId1"/>
          <a:stretch/>
        </p:blipFill>
        <p:spPr>
          <a:xfrm>
            <a:off x="5867280" y="1066680"/>
            <a:ext cx="275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ycotic infectio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ergillo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stic infection caused by maxillary sinus flora fungi environment in susceptible individual, leads to obliteration of the sinus space and erosion of its bony compon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ications of sinusiti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bital abscess and orbital celluli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cranial absce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vernous sinus thromb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 of infection to neighboring sinuses, structures and org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teomyel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intestinal disturb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sts and odontogenic tumor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dontogenic cys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cular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idual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igerous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mordial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-odontogenic cy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cocele and retention cy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dontogenic tum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loblast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x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ne metaplasia and benign tumor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brous dysplas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ssifying fibro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itional papillo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steo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iant cell le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oplasi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4800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quamous cell carcin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enocarcin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rcoma (osteosarco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wing’s sarc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96"/>
          <p:cNvPicPr/>
          <p:nvPr/>
        </p:nvPicPr>
        <p:blipFill>
          <a:blip r:embed="rId1"/>
          <a:stretch/>
        </p:blipFill>
        <p:spPr>
          <a:xfrm>
            <a:off x="5562720" y="1523880"/>
            <a:ext cx="3090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um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berosity fra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oalveolar fra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ort’s fra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ygomatic complex frac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e and impure orbital floor fract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ment of oro-antral fist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spe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 asymme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of overlaying sk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41600"/>
            <a:ext cx="47242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</a:rPr>
              <a:t>   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ex headed towards the zygomatic bone.</a:t>
            </a:r>
            <a:br>
              <a:rPr sz="2800"/>
            </a:br>
            <a:r>
              <a:rPr b="0" lang="en-US" sz="2800" spc="-1" strike="noStrike">
                <a:solidFill>
                  <a:srgbClr val="c71705"/>
                </a:solidFill>
                <a:latin typeface="Times New Roman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ine fossa, orbital floor and hard palate form the pyramidal walls. </a:t>
            </a:r>
            <a:br>
              <a:rPr sz="2800"/>
            </a:br>
            <a:r>
              <a:rPr b="0" lang="en-US" sz="2800" spc="-1" strike="noStrike">
                <a:solidFill>
                  <a:srgbClr val="c71705"/>
                </a:solidFill>
                <a:latin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municates with nasal cavity through maxillary ostium, in the posterior end of hitus simlunaris of middle meatus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5611ZA"/>
          <p:cNvPicPr/>
          <p:nvPr/>
        </p:nvPicPr>
        <p:blipFill>
          <a:blip r:embed="rId1"/>
          <a:stretch/>
        </p:blipFill>
        <p:spPr>
          <a:xfrm>
            <a:off x="5546880" y="1816200"/>
            <a:ext cx="2911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lp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dernes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elling and expa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ress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Examination of nasal pass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l pat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 disch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l poly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ythema, redness, change in the color of nasal muc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ransillumin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n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agnostic sinus lav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us rinsing through the canine fosa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sal antrosto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109"/>
          <p:cNvPicPr/>
          <p:nvPr/>
        </p:nvPicPr>
        <p:blipFill>
          <a:blip r:embed="rId1"/>
          <a:stretch/>
        </p:blipFill>
        <p:spPr>
          <a:xfrm>
            <a:off x="4724280" y="3886200"/>
            <a:ext cx="3329280" cy="2225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diograph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utine radiographical examin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4343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hopantomogram (OP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ipitomental (water’s view), with lateral ti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25"/>
          <p:cNvPicPr/>
          <p:nvPr/>
        </p:nvPicPr>
        <p:blipFill>
          <a:blip r:embed="rId1"/>
          <a:stretch/>
        </p:blipFill>
        <p:spPr>
          <a:xfrm>
            <a:off x="5257800" y="4191120"/>
            <a:ext cx="3505320" cy="2225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OPG postsurgical"/>
          <p:cNvPicPr/>
          <p:nvPr/>
        </p:nvPicPr>
        <p:blipFill>
          <a:blip r:embed="rId2"/>
          <a:stretch/>
        </p:blipFill>
        <p:spPr>
          <a:xfrm>
            <a:off x="5257800" y="182880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diographical examination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cial investigation and radiographical examin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nus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n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T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3"/>
          <p:cNvPicPr/>
          <p:nvPr/>
        </p:nvPicPr>
        <p:blipFill>
          <a:blip r:embed="rId1"/>
          <a:stretch/>
        </p:blipFill>
        <p:spPr>
          <a:xfrm>
            <a:off x="2209680" y="3733920"/>
            <a:ext cx="4038840" cy="2819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10"/>
          <p:cNvPicPr/>
          <p:nvPr/>
        </p:nvPicPr>
        <p:blipFill>
          <a:blip r:embed="rId2"/>
          <a:stretch/>
        </p:blipFill>
        <p:spPr>
          <a:xfrm>
            <a:off x="4724280" y="1447920"/>
            <a:ext cx="3402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crobiology and histological examination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lture and sensitivity and bi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atomical morpholog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varies from one person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mmetry existed in the same individu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in children and grows up with a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height is about 3.5 cm, depth 3.2 cm and width 2.5 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 of about 15 c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611ZC"/>
          <p:cNvPicPr/>
          <p:nvPr/>
        </p:nvPicPr>
        <p:blipFill>
          <a:blip r:embed="rId1"/>
          <a:stretch/>
        </p:blipFill>
        <p:spPr>
          <a:xfrm>
            <a:off x="5562720" y="762120"/>
            <a:ext cx="264636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OrbitSagittal"/>
          <p:cNvPicPr/>
          <p:nvPr/>
        </p:nvPicPr>
        <p:blipFill>
          <a:blip r:embed="rId2"/>
          <a:stretch/>
        </p:blipFill>
        <p:spPr>
          <a:xfrm>
            <a:off x="5638680" y="3505320"/>
            <a:ext cx="2548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atomical morpholog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10"/>
          <p:cNvPicPr/>
          <p:nvPr/>
        </p:nvPicPr>
        <p:blipFill>
          <a:blip r:embed="rId1"/>
          <a:stretch/>
        </p:blipFill>
        <p:spPr>
          <a:xfrm>
            <a:off x="5029200" y="2514600"/>
            <a:ext cx="34146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609480" y="2286000"/>
            <a:ext cx="4572000" cy="30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d into several compartments by bony septa (underwood’s sep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 with pseduo-stratified columnar ciliary epithelium (schneiderian membran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ation with other structures: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4648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veolar bone and dent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l cavity and nasopharyn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bital cavity and its cont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palate and oral cavity pro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terygomaxillary fissure and its cont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vascular structures including infraorbital and superior alveolar ner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5611ZE"/>
          <p:cNvPicPr/>
          <p:nvPr/>
        </p:nvPicPr>
        <p:blipFill>
          <a:blip r:embed="rId1"/>
          <a:stretch/>
        </p:blipFill>
        <p:spPr>
          <a:xfrm>
            <a:off x="5562720" y="1752480"/>
            <a:ext cx="3200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ment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s from invagination of the mucous membrane of middle meatus of the nasal cavity at about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nth of intrauterine 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evelopment reaches with the age of 16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permanent teeth and alveolar bone may make the sinus to appear huge in si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ood suppl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supply from facial, maxillary, infraorbital, greater and lesser palatine arteries and lateral and posterior nasal branches of sphenopalatine arte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drainage to the anterior facial vein, sphenopalatine vein and pterygopaltine plex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2"/>
          <p:cNvPicPr/>
          <p:nvPr/>
        </p:nvPicPr>
        <p:blipFill>
          <a:blip r:embed="rId1"/>
          <a:stretch/>
        </p:blipFill>
        <p:spPr>
          <a:xfrm>
            <a:off x="2743200" y="4724280"/>
            <a:ext cx="2809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rve suppl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4038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raorbital ner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erior, middle and anterior superior alveolar ner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1705"/>
                </a:solidFill>
                <a:latin typeface="Times New Roman"/>
                <a:ea typeface="Times New Roman"/>
              </a:rPr>
              <a:t>√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eater and lesser palatine ner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4648320" y="2443320"/>
          <a:ext cx="3809880" cy="28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43320"/>
                    <a:ext cx="3809880" cy="28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19:39:31Z</dcterms:created>
  <dc:creator>A. Zahrani</dc:creator>
  <dc:description/>
  <dc:language>en-US</dc:language>
  <cp:lastModifiedBy>Hesham Almoallim</cp:lastModifiedBy>
  <dcterms:modified xsi:type="dcterms:W3CDTF">2015-10-03T11:03:02Z</dcterms:modified>
  <cp:revision>27</cp:revision>
  <dc:subject/>
  <dc:title>King Saud University Dental College Oral and Maxillofacial Surgery 311 MDS</dc:title>
</cp:coreProperties>
</file>