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869-EA30-4F6B-A689-5BCFAECF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39E-8FB0-45D9-8A37-E4A91A27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DCC-E5FC-42EB-810D-F0254A60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2DA-50D2-478B-8156-EB5663D8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AD1A-0B97-48ED-9482-58DD02BC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1E51-7328-47D5-A6B7-96A018E0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3E94-D702-40D2-B972-86E77EC6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D858-C1D5-4DF7-A5DE-B66BDC6F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D952-33A5-4D1B-8007-8C82BDAA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02D3-A78B-473E-A0A1-B752B043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A4B0-B87F-4783-A142-0F59FD8F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303-4BCC-497A-85BF-DA42B011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239B-7E92-42FA-AAB9-F6B4528E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63AA-2F60-4157-A559-2F1B997C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154C-82E0-4696-A5F6-3AA0CB17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819C-455C-4858-90C0-AF3266FE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092B-ED9B-47A8-836F-4E1404A2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86D7-39B5-4CE7-ACEE-20D80A51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ED1-7A27-4E6E-8E28-6DB6EB32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7CA-1391-4868-A770-F865C6CB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4DDF-33BF-4981-A7F5-AE7CE82F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BA3-9BFE-4996-B2C7-5110C3C9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A4F-F6B6-4EE0-A6A3-250BE239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CC19-F400-4B0C-95CB-13047912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A1EC-C95F-4B05-A075-130AAFEAB1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9597-DC79-4996-93BA-B5DCA018FA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King Saud Univers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ntal College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ral and Maxillofacial Surger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xillary Sinus in Health and Disea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ymphatic drain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ymphatic drain of the sinus is through the nose or the submandibular lymph no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ysiology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known but the following functions have been propos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ech and voice reson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weight of sku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rmth inspired a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ltration of inspired a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munologic barrier ( body defens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thology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52578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genital anomal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flammatory disea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ysts and odontogenic inf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ne metaplasia and benign tum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oplas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u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5611ZD"/>
          <p:cNvPicPr/>
          <p:nvPr/>
        </p:nvPicPr>
        <p:blipFill>
          <a:blip r:embed="rId1"/>
          <a:stretch/>
        </p:blipFill>
        <p:spPr>
          <a:xfrm>
            <a:off x="6172200" y="2057400"/>
            <a:ext cx="2619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genital anomali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ft pal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ial fistula and cle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ystic 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res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flammatory diseas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terial infe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terial infection secondary to viral infe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gal infe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usitis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cute sinusiti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urative or non suppurative inflammation of the mucosal lining of the sinus. It involves one or both sinu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us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ondary to hay fever and allergic rhinit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ondary to acute rhinitis (common cold) and URT infe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terial infection due to: dental sepsis, swimming and diving, trauma and foreign body dislodg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symptom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ach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in and tendern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al obstru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al disch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xic manifes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 filling with bend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al conges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-ray and transillumination find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 and fluid and mouth hygie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biotics (C&amp;S); pneumococci and streptococci are the most causative organis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gesics and antihistami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treatment (decongestant and steam inhalatio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usiti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hronic sinusiti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chronic type of infection affected the mucosal lining of one  or both sinuses, resulted in mucopus or pus collection. A polypoidal type of inflammation can lead to formation of multiple or single mucosal polyp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atomical facts and location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4952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rgest para-nasal sinu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tuated in the maxil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pyramidal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ral nasal bone forms its b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052" descr="23"/>
          <p:cNvPicPr/>
          <p:nvPr/>
        </p:nvPicPr>
        <p:blipFill>
          <a:blip r:embed="rId1"/>
          <a:stretch/>
        </p:blipFill>
        <p:spPr>
          <a:xfrm>
            <a:off x="5181480" y="1143000"/>
            <a:ext cx="3657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uses: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consequence of non resolved acute sinusit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al absces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ulent organism with low resi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eign body dislodgement or trau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gns and symptom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ach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al ob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al disch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tig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smia/ cacosm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llumination find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of pun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4800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tibiotic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ic decongest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nus wash-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1028" descr="112"/>
          <p:cNvPicPr/>
          <p:nvPr/>
        </p:nvPicPr>
        <p:blipFill>
          <a:blip r:embed="rId1"/>
          <a:stretch/>
        </p:blipFill>
        <p:spPr>
          <a:xfrm>
            <a:off x="5867280" y="1066680"/>
            <a:ext cx="2752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ycotic infection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pergillo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stic infection caused by maxillary sinus flora fungi environment in susceptible individual, leads to obliteration of the sinus space and erosion of its bony compon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lications of sinusiti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bital abscess and orbital celluli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cranial absces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ingit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vernous sinus thromb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 of infection to neighboring sinuses, structures and org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steomyelit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trointestinal disturb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sts and odontogenic tumors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098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dontogenic cys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cular cy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idual cy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tigerous cy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mordial cy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7960" y="106668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n-odontogenic cys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ucocele and retention cys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dontogenic tumo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loblasto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xo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one metaplasia and benign tumor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brous dysplas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ssifying fibro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nsitional papillo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steo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iant cell le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oplasi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4800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quamous cell carcino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enocarcino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rcoma (osteosarcom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wing’s sarco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96"/>
          <p:cNvPicPr/>
          <p:nvPr/>
        </p:nvPicPr>
        <p:blipFill>
          <a:blip r:embed="rId1"/>
          <a:stretch/>
        </p:blipFill>
        <p:spPr>
          <a:xfrm>
            <a:off x="5562720" y="1523880"/>
            <a:ext cx="3090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aum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berosity fra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oalveolar fra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Fort’s fractu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ygomatic complex fra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re and impure orbital floor fractu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ment of oro-antral fistu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nical examination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spe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ss asymmet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 of overlaying sk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41600"/>
            <a:ext cx="47242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</a:rPr>
              <a:t>   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ex headed towards the zygomatic bone.</a:t>
            </a:r>
            <a:br>
              <a:rPr sz="2800"/>
            </a:br>
            <a:r>
              <a:rPr b="0" lang="en-US" sz="2800" spc="-1" strike="noStrike">
                <a:solidFill>
                  <a:srgbClr val="c71705"/>
                </a:solidFill>
                <a:latin typeface="Times New Roman"/>
              </a:rPr>
              <a:t>√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ine fossa, orbital floor and hard palate form the pyramidal walls. </a:t>
            </a:r>
            <a:br>
              <a:rPr sz="2800"/>
            </a:br>
            <a:r>
              <a:rPr b="0" lang="en-US" sz="2800" spc="-1" strike="noStrike">
                <a:solidFill>
                  <a:srgbClr val="c71705"/>
                </a:solidFill>
                <a:latin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municates with nasal cavity through maxillary ostium, in the posterior end of hitus simlunaris of middle meatus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5611ZA"/>
          <p:cNvPicPr/>
          <p:nvPr/>
        </p:nvPicPr>
        <p:blipFill>
          <a:blip r:embed="rId1"/>
          <a:stretch/>
        </p:blipFill>
        <p:spPr>
          <a:xfrm>
            <a:off x="5546880" y="1816200"/>
            <a:ext cx="29113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nical examination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lp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dernes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elling and expan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ress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nical examination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Examination of nasal passag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al patenc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 disch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al poly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ythema, redness, change in the color of nasal muco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nical examination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Transillumin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nical examination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agnostic sinus lavag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us rinsing through the canine fosa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sal antrostom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4" descr="109"/>
          <p:cNvPicPr/>
          <p:nvPr/>
        </p:nvPicPr>
        <p:blipFill>
          <a:blip r:embed="rId1"/>
          <a:stretch/>
        </p:blipFill>
        <p:spPr>
          <a:xfrm>
            <a:off x="4724280" y="3886200"/>
            <a:ext cx="3329280" cy="2225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diographical examination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outine radiographical examin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4343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thopantomogram (OP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cipitomental (water’s view), with lateral til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7" descr="25"/>
          <p:cNvPicPr/>
          <p:nvPr/>
        </p:nvPicPr>
        <p:blipFill>
          <a:blip r:embed="rId1"/>
          <a:stretch/>
        </p:blipFill>
        <p:spPr>
          <a:xfrm>
            <a:off x="5257800" y="4191120"/>
            <a:ext cx="3505320" cy="2225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OPG postsurgical"/>
          <p:cNvPicPr/>
          <p:nvPr/>
        </p:nvPicPr>
        <p:blipFill>
          <a:blip r:embed="rId2"/>
          <a:stretch/>
        </p:blipFill>
        <p:spPr>
          <a:xfrm>
            <a:off x="5257800" y="182880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diographical examination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cial investigation and radiographical examin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nusc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n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T s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4" descr="3"/>
          <p:cNvPicPr/>
          <p:nvPr/>
        </p:nvPicPr>
        <p:blipFill>
          <a:blip r:embed="rId1"/>
          <a:stretch/>
        </p:blipFill>
        <p:spPr>
          <a:xfrm>
            <a:off x="2209680" y="3733920"/>
            <a:ext cx="4038840" cy="2819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110"/>
          <p:cNvPicPr/>
          <p:nvPr/>
        </p:nvPicPr>
        <p:blipFill>
          <a:blip r:embed="rId2"/>
          <a:stretch/>
        </p:blipFill>
        <p:spPr>
          <a:xfrm>
            <a:off x="4724280" y="1447920"/>
            <a:ext cx="34020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icrobiology and histological examination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ulture and sensitivity and biop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atomical morphology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 varies from one person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mmetry existed in the same individu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in children and grows up with a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erage height is about 3.5 cm, depth 3.2 cm and width 2.5 c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acity of about 15 c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5611ZC"/>
          <p:cNvPicPr/>
          <p:nvPr/>
        </p:nvPicPr>
        <p:blipFill>
          <a:blip r:embed="rId1"/>
          <a:stretch/>
        </p:blipFill>
        <p:spPr>
          <a:xfrm>
            <a:off x="5562720" y="762120"/>
            <a:ext cx="2646360" cy="243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OrbitSagittal"/>
          <p:cNvPicPr/>
          <p:nvPr/>
        </p:nvPicPr>
        <p:blipFill>
          <a:blip r:embed="rId2"/>
          <a:stretch/>
        </p:blipFill>
        <p:spPr>
          <a:xfrm>
            <a:off x="5638680" y="3505320"/>
            <a:ext cx="2548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atomical morphology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4" descr="10"/>
          <p:cNvPicPr/>
          <p:nvPr/>
        </p:nvPicPr>
        <p:blipFill>
          <a:blip r:embed="rId1"/>
          <a:stretch/>
        </p:blipFill>
        <p:spPr>
          <a:xfrm>
            <a:off x="5029200" y="2514600"/>
            <a:ext cx="341460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609480" y="2286000"/>
            <a:ext cx="4572000" cy="30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d into several compartments by bony septa (underwood’s sept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 with pseduo-stratified columnar ciliary epithelium (schneiderian membran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lation with other structures: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4648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veolar bone and denti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al cavity and nasopharyne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bital cavity and its cont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palate and oral cavity pro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terygomaxillary fissure and its cont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vascular structures including infraorbital and superior alveolar ner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6" descr="5611ZE"/>
          <p:cNvPicPr/>
          <p:nvPr/>
        </p:nvPicPr>
        <p:blipFill>
          <a:blip r:embed="rId1"/>
          <a:stretch/>
        </p:blipFill>
        <p:spPr>
          <a:xfrm>
            <a:off x="5562720" y="1752480"/>
            <a:ext cx="3200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velopment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s from invagination of the mucous membrane of middle meatus of the nasal cavity at about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nth of intrauterine lif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evelopment reaches with the age of 16 y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s of permanent teeth and alveolar bone may make the sinus to appear huge in siz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lood supply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 supply from facial, maxillary, infraorbital, greater and lesser palatine arteries and lateral and posterior nasal branches of sphenopalatine arte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ous drainage to the anterior facial vein, sphenopalatine vein and pterygopaltine plex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2"/>
          <p:cNvPicPr/>
          <p:nvPr/>
        </p:nvPicPr>
        <p:blipFill>
          <a:blip r:embed="rId1"/>
          <a:stretch/>
        </p:blipFill>
        <p:spPr>
          <a:xfrm>
            <a:off x="2743200" y="4724280"/>
            <a:ext cx="2809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rve supply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40384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fraorbital ner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erior, middle and anterior superior alveolar ner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eater and lesser palatine ner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4648320" y="2443320"/>
          <a:ext cx="3809880" cy="28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443320"/>
                    <a:ext cx="3809880" cy="28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9T19:39:31Z</dcterms:created>
  <dc:creator>A. Zahrani</dc:creator>
  <dc:description/>
  <dc:language>en-US</dc:language>
  <cp:lastModifiedBy>Hesham Almoallim</cp:lastModifiedBy>
  <dcterms:modified xsi:type="dcterms:W3CDTF">2015-10-03T11:03:02Z</dcterms:modified>
  <cp:revision>27</cp:revision>
  <dc:subject/>
  <dc:title>King Saud University Dental College Oral and Maxillofacial Surgery 311 MDS</dc:title>
</cp:coreProperties>
</file>