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9EF-2E2D-412F-A2C6-659AA62F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660-0736-44A2-BF89-88F2C858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F2EA-969E-437D-A1D2-7C34B416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FC9-1619-4E62-ABA0-D9C49110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0F38-D54B-4BEA-AF71-9D6F9A34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68A2-E7F4-4DA5-BBA8-939CF4BF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90A6-8A85-4855-BAF0-1CC78812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AE6B-CA26-4275-8190-F104D6CD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4ECE-F07A-4BDB-9F3E-303E22A5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D90E-698E-4238-BA67-A52204B1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9926-12B5-41EE-83EF-C7B7576C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352-A5E8-438E-9271-BF4A6073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80DC-40C5-4FA3-8227-66C4A663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A0DE-3FAB-42B9-9891-15B30A6F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7758-22DC-49DF-8EAB-478F2E1B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07A4-7FCD-4D18-80B7-C167676D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5062-D226-499B-A96C-FC46665C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F0E-346E-4C32-A54B-E10C1C12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5A8-419A-4E46-BFAE-2141D649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626E-2BBC-4054-8A40-631A5F4F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4176-8FAA-4D44-84B0-B17F9062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E6F-C8F5-4DED-9A25-4A5BF4FA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3E0-78EA-4645-A261-E2D6AF78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18D0-7F53-4639-9878-9A9BDAB3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Picture 10" descr="D:\FRONTPAGE THEMES\CONSTRUC\URBBANND.PNG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7E17-470E-406A-BB7D-CA5EA631362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2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Rectangle 3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Picture 11" descr="D:\FRONTPAGE THEMES\CONSTRUC\URBBANND.PNG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A3A8-88F2-4328-9B56-B14FF1042EC5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Maxillary sinus in Dentoalveolar Surgery and Traum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91" name="Picture 5" descr="10"/>
          <p:cNvPicPr/>
          <p:nvPr/>
        </p:nvPicPr>
        <p:blipFill>
          <a:blip r:embed="rId1"/>
          <a:stretch/>
        </p:blipFill>
        <p:spPr>
          <a:xfrm>
            <a:off x="2666880" y="3809880"/>
            <a:ext cx="321948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Immediate management/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closure of the defect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lieve the tension of the flap by serving the periostium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dvance the flap across the defect and beyond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nchor the corner of the flap and approximate the edges using horizontal mattress sutur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15" name="Picture 5" descr="32"/>
          <p:cNvPicPr/>
          <p:nvPr/>
        </p:nvPicPr>
        <p:blipFill>
          <a:blip r:embed="rId1"/>
          <a:stretch/>
        </p:blipFill>
        <p:spPr>
          <a:xfrm>
            <a:off x="6400800" y="762120"/>
            <a:ext cx="2133720" cy="3047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33"/>
          <p:cNvPicPr/>
          <p:nvPr/>
        </p:nvPicPr>
        <p:blipFill>
          <a:blip r:embed="rId2"/>
          <a:stretch/>
        </p:blipFill>
        <p:spPr>
          <a:xfrm>
            <a:off x="4343400" y="2743200"/>
            <a:ext cx="2057400" cy="2971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36"/>
          <p:cNvPicPr/>
          <p:nvPr/>
        </p:nvPicPr>
        <p:blipFill>
          <a:blip r:embed="rId3"/>
          <a:stretch/>
        </p:blipFill>
        <p:spPr>
          <a:xfrm>
            <a:off x="6400800" y="3809880"/>
            <a:ext cx="2133720" cy="2743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4"/>
          <p:cNvPicPr/>
          <p:nvPr/>
        </p:nvPicPr>
        <p:blipFill>
          <a:blip r:embed="rId4"/>
          <a:stretch/>
        </p:blipFill>
        <p:spPr>
          <a:xfrm>
            <a:off x="4343400" y="304920"/>
            <a:ext cx="2057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Alternative method of immediate repair of oro-antral fistula</a:t>
            </a:r>
            <a:br>
              <a:rPr sz="2400"/>
            </a:br>
            <a:r>
              <a:rPr b="0" i="1" lang="en-US" sz="2400" spc="-1" strike="noStrike">
                <a:solidFill>
                  <a:srgbClr val="f60a26"/>
                </a:solidFill>
                <a:latin typeface="Impact"/>
              </a:rPr>
              <a:t>becomes less popular due to transmission of infection</a:t>
            </a:r>
            <a:br>
              <a:rPr sz="2400"/>
            </a:br>
            <a:r>
              <a:rPr b="0" i="1" lang="en-US" sz="2400" spc="-1" strike="noStrike">
                <a:solidFill>
                  <a:srgbClr val="f60a26"/>
                </a:solidFill>
                <a:latin typeface="Impact"/>
              </a:rPr>
              <a:t>;BSE-FJD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Use of lyophilized sterilized collagen sheet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Marlett"/>
                <a:ea typeface="Marlett"/>
              </a:rPr>
              <a:t>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flect mucoperiosteal flap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Marlett"/>
                <a:ea typeface="Marlett"/>
              </a:rPr>
              <a:t>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duce the height of bony socket 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Marlett"/>
                <a:ea typeface="Marlett"/>
              </a:rPr>
              <a:t>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rim the collagen sheet to cover only the bony defect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Marlett"/>
                <a:ea typeface="Marlett"/>
              </a:rPr>
              <a:t>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lide underneath buccal and palatal extensions of the flap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Marlett"/>
                <a:ea typeface="Marlett"/>
              </a:rPr>
              <a:t>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ure the graft by suturing the flap extension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Postoperative care/ Home car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Acrylic base plate (surgical stint) may be prescribed to add additional support to the area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Patient should avoid forceful nasal blowing, if forced to do so, no occluding of nares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Oral hygiene must be kept optimum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23" name="Picture 6" descr="35"/>
          <p:cNvPicPr/>
          <p:nvPr/>
        </p:nvPicPr>
        <p:blipFill>
          <a:blip r:embed="rId1"/>
          <a:stretch/>
        </p:blipFill>
        <p:spPr>
          <a:xfrm>
            <a:off x="5132520" y="1981080"/>
            <a:ext cx="2840040" cy="4114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43"/>
          <p:cNvPicPr/>
          <p:nvPr/>
        </p:nvPicPr>
        <p:blipFill>
          <a:blip r:embed="rId2"/>
          <a:stretch/>
        </p:blipFill>
        <p:spPr>
          <a:xfrm>
            <a:off x="6781680" y="4114800"/>
            <a:ext cx="15242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Postoperative care/ medications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Symbol"/>
                <a:ea typeface="Symbol"/>
              </a:rPr>
              <a:t>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Antibiotic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e.g. Penicillin or penicillin derivative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Symbol"/>
                <a:ea typeface="Symbol"/>
              </a:rPr>
              <a:t>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Analgesic and NSAI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e.g. Paracetamol, profen (PRN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Symbol"/>
                <a:ea typeface="Symbol"/>
              </a:rPr>
              <a:t>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Nasal decongestant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e.g. Ephedrine or otrivin nasal drop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          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3 drops/ 3times daily / 7 day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Symbol"/>
                <a:ea typeface="Symbol"/>
              </a:rPr>
              <a:t>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Steam inhalation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e.g. menthol and benzoin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          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40 good sniff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          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should follows nasal drop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27" name="Picture 6" descr="6"/>
          <p:cNvPicPr/>
          <p:nvPr/>
        </p:nvPicPr>
        <p:blipFill>
          <a:blip r:embed="rId1"/>
          <a:stretch/>
        </p:blipFill>
        <p:spPr>
          <a:xfrm>
            <a:off x="5410080" y="1981080"/>
            <a:ext cx="1449360" cy="2346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5"/>
          <p:cNvPicPr/>
          <p:nvPr/>
        </p:nvPicPr>
        <p:blipFill>
          <a:blip r:embed="rId2"/>
          <a:stretch/>
        </p:blipFill>
        <p:spPr>
          <a:xfrm>
            <a:off x="4648320" y="3370320"/>
            <a:ext cx="3809880" cy="1334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4"/>
          <p:cNvPicPr/>
          <p:nvPr/>
        </p:nvPicPr>
        <p:blipFill>
          <a:blip r:embed="rId3"/>
          <a:stretch/>
        </p:blipFill>
        <p:spPr>
          <a:xfrm>
            <a:off x="7086600" y="3200400"/>
            <a:ext cx="8809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30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Precaution measures in prevention of oro-antral fistula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on’t apply forceps to maxillary posterior teeth unless enough tooth structure is sufficient to permit the blades to be applied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Fractured root apex, in particular the palatal root of vital maxillary molar is better to put on proba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moval of isolated maxillary molar  or extraction in a patient with H/O antral involvement must warrant careful radiographical assessmen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moval of any maxillary root, if indicated, should be preceded by accurate localization via trans-alveolar approach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urgeon must provide a support for blood clot to organize  by means of figure eight suture or using of surgical stin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Chronic oro-antral fistula/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persistent oro-antral communication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t might be a complication of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Unrecognized (overlooked) fistul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Untreated fistul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ailure of spontaneous closure of OAF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ailure of surgically repaired fistul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Signs and symptoms of chronic fistula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flux of food and drink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Loss of denture stability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ntermittent episode of pain and local tendernes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Foul-tasting discharg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ings and symptoms of chronic sinusiti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36" name="Picture 6" descr="47"/>
          <p:cNvPicPr/>
          <p:nvPr/>
        </p:nvPicPr>
        <p:blipFill>
          <a:blip r:embed="rId1"/>
          <a:stretch/>
        </p:blipFill>
        <p:spPr>
          <a:xfrm>
            <a:off x="4648320" y="276876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Primarily management of chronic OAF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Marlett"/>
                <a:ea typeface="Marlett"/>
              </a:rPr>
              <a:t>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it is aimed to eliminate any sinus infection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Excision of any mucosal polyp or purulent granulation to promote drainag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Regular irrigation with warm water or salin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Single course of antibiotics and nasal inhalation and decongestant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Acrylic base plat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39" name="Picture 6" descr="C:\My Documents\figures\28.JPG"/>
          <p:cNvPicPr/>
          <p:nvPr/>
        </p:nvPicPr>
        <p:blipFill>
          <a:blip r:embed="rId1"/>
          <a:stretch/>
        </p:blipFill>
        <p:spPr>
          <a:xfrm>
            <a:off x="6705720" y="609480"/>
            <a:ext cx="2057400" cy="2362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:\My Documents\figures\1.JPG"/>
          <p:cNvPicPr/>
          <p:nvPr/>
        </p:nvPicPr>
        <p:blipFill>
          <a:blip r:embed="rId2"/>
          <a:stretch/>
        </p:blipFill>
        <p:spPr>
          <a:xfrm>
            <a:off x="5334120" y="2286000"/>
            <a:ext cx="2679480" cy="2133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C:\My Documents\illustrations\45.JPG"/>
          <p:cNvPicPr/>
          <p:nvPr/>
        </p:nvPicPr>
        <p:blipFill>
          <a:blip r:embed="rId3"/>
          <a:stretch/>
        </p:blipFill>
        <p:spPr>
          <a:xfrm>
            <a:off x="6629400" y="4191120"/>
            <a:ext cx="2057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Surgical management/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Principles and requirements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uccess of operation is not always garnete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lap should have good blood supply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lap tissue must be handled genteelly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lap should lie in its new position without tensi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Good haemostasis must be achieved before discharging the patient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Surgical management/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types of repair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Buccal advancement flap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46" name="Picture 9" descr="C:\My Documents\figures\9.JPG"/>
          <p:cNvPicPr/>
          <p:nvPr/>
        </p:nvPicPr>
        <p:blipFill>
          <a:blip r:embed="rId1"/>
          <a:stretch/>
        </p:blipFill>
        <p:spPr>
          <a:xfrm>
            <a:off x="4191120" y="380880"/>
            <a:ext cx="1447560" cy="1752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C:\My Documents\figures\8.JPG"/>
          <p:cNvPicPr/>
          <p:nvPr/>
        </p:nvPicPr>
        <p:blipFill>
          <a:blip r:embed="rId2"/>
          <a:stretch/>
        </p:blipFill>
        <p:spPr>
          <a:xfrm>
            <a:off x="1295280" y="4267080"/>
            <a:ext cx="3219480" cy="212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C:\My Documents\figures\5.JPG"/>
          <p:cNvPicPr/>
          <p:nvPr/>
        </p:nvPicPr>
        <p:blipFill>
          <a:blip r:embed="rId3"/>
          <a:stretch/>
        </p:blipFill>
        <p:spPr>
          <a:xfrm>
            <a:off x="5562720" y="533520"/>
            <a:ext cx="2743200" cy="263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C:\My Documents\figures\6.JPG"/>
          <p:cNvPicPr/>
          <p:nvPr/>
        </p:nvPicPr>
        <p:blipFill>
          <a:blip r:embed="rId4"/>
          <a:stretch/>
        </p:blipFill>
        <p:spPr>
          <a:xfrm>
            <a:off x="3733920" y="2514600"/>
            <a:ext cx="2438280" cy="2157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C:\My Documents\figures\7.JPG"/>
          <p:cNvPicPr/>
          <p:nvPr/>
        </p:nvPicPr>
        <p:blipFill>
          <a:blip r:embed="rId5"/>
          <a:stretch/>
        </p:blipFill>
        <p:spPr>
          <a:xfrm>
            <a:off x="5562720" y="3733920"/>
            <a:ext cx="3219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bc03"/>
                </a:solidFill>
                <a:latin typeface="Impact"/>
              </a:rPr>
              <a:t>Oro-antral fistula:</a:t>
            </a:r>
            <a:endParaRPr b="0" lang="en-US" sz="32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vasion of the maxillary sinus and establishment of a direct communication with the oral cavity is referred to as an oro-antral fistul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Surgical management/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types of repair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Bridge (pedicle) flap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53" name="Picture 5" descr="C:\My Documents\figures\17.JPG"/>
          <p:cNvPicPr/>
          <p:nvPr/>
        </p:nvPicPr>
        <p:blipFill>
          <a:blip r:embed="rId1"/>
          <a:stretch/>
        </p:blipFill>
        <p:spPr>
          <a:xfrm>
            <a:off x="5562720" y="1066680"/>
            <a:ext cx="3020760" cy="2157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My Documents\figures\19.JPG"/>
          <p:cNvPicPr/>
          <p:nvPr/>
        </p:nvPicPr>
        <p:blipFill>
          <a:blip r:embed="rId2"/>
          <a:stretch/>
        </p:blipFill>
        <p:spPr>
          <a:xfrm>
            <a:off x="2286000" y="4114800"/>
            <a:ext cx="2209680" cy="2392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My Documents\figures\20.JPG"/>
          <p:cNvPicPr/>
          <p:nvPr/>
        </p:nvPicPr>
        <p:blipFill>
          <a:blip r:embed="rId3"/>
          <a:stretch/>
        </p:blipFill>
        <p:spPr>
          <a:xfrm>
            <a:off x="4038480" y="380880"/>
            <a:ext cx="1573200" cy="2210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My Documents\figures\18.JPG"/>
          <p:cNvPicPr/>
          <p:nvPr/>
        </p:nvPicPr>
        <p:blipFill>
          <a:blip r:embed="rId4"/>
          <a:stretch/>
        </p:blipFill>
        <p:spPr>
          <a:xfrm>
            <a:off x="4495680" y="3200400"/>
            <a:ext cx="35053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Surgical management/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types of repair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alatal transpositio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flap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59" name="Picture 6" descr="C:\My Documents\figures\11.JPG"/>
          <p:cNvPicPr/>
          <p:nvPr/>
        </p:nvPicPr>
        <p:blipFill>
          <a:blip r:embed="rId1"/>
          <a:stretch/>
        </p:blipFill>
        <p:spPr>
          <a:xfrm>
            <a:off x="2057400" y="2514600"/>
            <a:ext cx="3365640" cy="2225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C:\My Documents\figures\12.JPG"/>
          <p:cNvPicPr/>
          <p:nvPr/>
        </p:nvPicPr>
        <p:blipFill>
          <a:blip r:embed="rId2"/>
          <a:stretch/>
        </p:blipFill>
        <p:spPr>
          <a:xfrm>
            <a:off x="5257800" y="3962520"/>
            <a:ext cx="3365640" cy="2084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C:\My Documents\figures\13.JPG"/>
          <p:cNvPicPr/>
          <p:nvPr/>
        </p:nvPicPr>
        <p:blipFill>
          <a:blip r:embed="rId3"/>
          <a:stretch/>
        </p:blipFill>
        <p:spPr>
          <a:xfrm>
            <a:off x="4038480" y="380880"/>
            <a:ext cx="1609920" cy="2225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C:\My Documents\figures\10.JPG"/>
          <p:cNvPicPr/>
          <p:nvPr/>
        </p:nvPicPr>
        <p:blipFill>
          <a:blip r:embed="rId4"/>
          <a:stretch/>
        </p:blipFill>
        <p:spPr>
          <a:xfrm>
            <a:off x="5410080" y="1295280"/>
            <a:ext cx="329256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Surgical management/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types of repair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64" name="Picture 5" descr="C:\My Documents\figures\16.JPG"/>
          <p:cNvPicPr/>
          <p:nvPr/>
        </p:nvPicPr>
        <p:blipFill>
          <a:blip r:embed="rId1"/>
          <a:stretch/>
        </p:blipFill>
        <p:spPr>
          <a:xfrm>
            <a:off x="1219320" y="3886200"/>
            <a:ext cx="3809880" cy="2496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:\My Documents\figures\15.JPG"/>
          <p:cNvPicPr/>
          <p:nvPr/>
        </p:nvPicPr>
        <p:blipFill>
          <a:blip r:embed="rId2"/>
          <a:stretch/>
        </p:blipFill>
        <p:spPr>
          <a:xfrm>
            <a:off x="4724280" y="2666880"/>
            <a:ext cx="3810240" cy="2597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C:\My Documents\figures\14.JPG"/>
          <p:cNvPicPr/>
          <p:nvPr/>
        </p:nvPicPr>
        <p:blipFill>
          <a:blip r:embed="rId3"/>
          <a:stretch/>
        </p:blipFill>
        <p:spPr>
          <a:xfrm>
            <a:off x="4038480" y="380880"/>
            <a:ext cx="21337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Surgical management/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types of repair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otation palatal flap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This is only possible in edentulous patients; exclusively indicated for edentulous patien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69" name="Picture 5" descr="A:\7.JPG"/>
          <p:cNvPicPr/>
          <p:nvPr/>
        </p:nvPicPr>
        <p:blipFill>
          <a:blip r:embed="rId1"/>
          <a:stretch/>
        </p:blipFill>
        <p:spPr>
          <a:xfrm>
            <a:off x="4572000" y="4876920"/>
            <a:ext cx="342900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A:\8.JPG"/>
          <p:cNvPicPr/>
          <p:nvPr/>
        </p:nvPicPr>
        <p:blipFill>
          <a:blip r:embed="rId2"/>
          <a:stretch/>
        </p:blipFill>
        <p:spPr>
          <a:xfrm>
            <a:off x="4495680" y="990720"/>
            <a:ext cx="35798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Exploration of maxillary sinuous/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Caldwell-luc approach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Recovery of entrapped foreign body from the sinus cavity proper; displaced tooth or root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Excision of sinus polyps,tumors and cysts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reatment of blow out orbital fractur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Grafting of maxillary sinus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73" name="Picture 5" descr="C:\My Documents\figures\22.JPG"/>
          <p:cNvPicPr/>
          <p:nvPr/>
        </p:nvPicPr>
        <p:blipFill>
          <a:blip r:embed="rId1"/>
          <a:stretch/>
        </p:blipFill>
        <p:spPr>
          <a:xfrm>
            <a:off x="5486400" y="4191120"/>
            <a:ext cx="3328920" cy="2225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C:\My Documents\figures\23.JPG"/>
          <p:cNvPicPr/>
          <p:nvPr/>
        </p:nvPicPr>
        <p:blipFill>
          <a:blip r:embed="rId2"/>
          <a:stretch/>
        </p:blipFill>
        <p:spPr>
          <a:xfrm>
            <a:off x="5562720" y="533520"/>
            <a:ext cx="3200400" cy="1904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C:\My Documents\figures\24.JPG"/>
          <p:cNvPicPr/>
          <p:nvPr/>
        </p:nvPicPr>
        <p:blipFill>
          <a:blip r:embed="rId3"/>
          <a:stretch/>
        </p:blipFill>
        <p:spPr>
          <a:xfrm>
            <a:off x="5029200" y="2286000"/>
            <a:ext cx="3352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Fracture of maxillary tuberosity/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predisposing factors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xpansion of sinus deep into the tuberosity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axillary molar teeth of divergent or hypercementosed root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axillary tooth geminated or pathologically fused with adjacent on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Over-eruption of isolated maxillary tooth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xistence of pathological lesi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 in bone density and fragility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Management of tuberosity fracture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 the event of tuberosity fracture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Marlett"/>
                <a:ea typeface="Marlett"/>
              </a:rPr>
              <a:t>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rceps extraction is to be abandone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Marlett"/>
                <a:ea typeface="Marlett"/>
              </a:rPr>
              <a:t>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urgical extraction then to be institute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Marlett"/>
                <a:ea typeface="Marlett"/>
              </a:rPr>
              <a:t>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issection of bony fragment with attached tooth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Marlett"/>
                <a:ea typeface="Marlett"/>
              </a:rPr>
              <a:t>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pproximation of flap using mattress suturing techniqu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bc03"/>
                </a:solidFill>
                <a:latin typeface="Impact"/>
              </a:rPr>
              <a:t>Alternatively,</a:t>
            </a:r>
            <a:br>
              <a:rPr sz="4000"/>
            </a:br>
            <a:r>
              <a:rPr b="0" i="1" lang="en-US" sz="2400" spc="-1" strike="noStrike">
                <a:solidFill>
                  <a:srgbClr val="f60a26"/>
                </a:solidFill>
                <a:latin typeface="Impact"/>
              </a:rPr>
              <a:t>In case of large scale fracture of the tuberocity and alveolar bone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ony fragment may be splinted  in-situ using any method of fixation;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Wiring or plating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nd tooth extraction is to be delayed until union occur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EXTRA TIPS…….. BEFORE THE END OF THIS YEA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Malignant disease of maxilla and maxillary sinus/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Sings and symptoms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None dental maxillary pai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None inflammatory swelling of cheek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Loss of teeth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pistaxis and gingival bleeding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Narrowing of the palpebral fissure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pression of the corner of the mouth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ntra-oral swelling obliterated the sulcus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ptosis and facial parasthesia and numbnes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adiographical evidence of invasive tumo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Fistula: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s a biological tract that connect an anatomical cavity with the external surfaces or another anatomical cavity, (</a:t>
            </a:r>
            <a:r>
              <a:rPr b="1" i="1" lang="en-US" sz="2400" spc="-1" strike="noStrike">
                <a:solidFill>
                  <a:srgbClr val="a7c1cb"/>
                </a:solidFill>
                <a:latin typeface="Arial Narrow"/>
              </a:rPr>
              <a:t>unlike sinus tract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). It is always lined with a stratified squamous epithelium and the potency of the tract is preserved until epithelial cells scraped off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Factors influencing creation of oro-antral fistula: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Teeth size and configuration of the root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ypercementosis and bulbous root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nsity of alveolar bone and thickness of sinus floo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ize of the sinu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lation of sinus to the root of upper teeth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ough extraction and </a:t>
            </a:r>
            <a:r>
              <a:rPr b="0" lang="en-GB" sz="2800" spc="-1" strike="noStrike">
                <a:solidFill>
                  <a:srgbClr val="eae8e2"/>
                </a:solidFill>
                <a:latin typeface="Arial Narrow"/>
              </a:rPr>
              <a:t>misguided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 manipula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pical pathosis and attached granuloma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eriodontal diseases which may erode sinus floor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esence of cysts and neoplasm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nvasive surgery e.g. cleft and dental implants placemen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Signs and symptoms of  newly created oro-antral fistula: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ntral floor attached to roots apices of extracted tooth or teeth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racture of the alveolar process or the tuberosity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vidence of air stream passing from nostril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ubbling of blood from the socket or nostril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hange in speech tone and resonanc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adiographical evidence of sinus involvement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Confirmation of existence of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oro-antral fistula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nstruct patient to occlude the nostrils and blow genteelly “nose-blowing’ test”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f nose-blowing’ test is negative, don’t explore the opening with suction tip and/or prob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on’t attempt to irrigate the sinus to confirm diagnosis, especially if the sinus drainage is impaired due to pre-existed sinusiti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lways check radiograph for the continuity of sinus floor and presence of entrapped foreign body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Displacement of tooth or root into the maxillary sinus lining or the sinus cavity proper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t is basically a mishap incident results from a neglected act by the operator while applying wrong forc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Occurs rarely but the 3</a:t>
            </a:r>
            <a:r>
              <a:rPr b="0" lang="en-US" sz="2800" spc="-1" strike="noStrike" baseline="30000">
                <a:solidFill>
                  <a:srgbClr val="eae8e2"/>
                </a:solidFill>
                <a:latin typeface="Arial Narrow"/>
              </a:rPr>
              <a:t>rd 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olar and 2</a:t>
            </a:r>
            <a:r>
              <a:rPr b="0" lang="en-US" sz="2800" spc="-1" strike="noStrike" baseline="30000">
                <a:solidFill>
                  <a:srgbClr val="eae8e2"/>
                </a:solidFill>
                <a:latin typeface="Arial Narrow"/>
              </a:rPr>
              <a:t>nd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 premolar are the most at risk of dislodgmen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ay occur during forceful mouth opening of unconscious patient when using mouth gag of periodontaly involved teeth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ay occur with severe maxillofacial injur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n association with poor surgical techniqu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Immediate management/ 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investigations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Confirm the existence of oro-antral fistula and the presence of tooth or root in sinus using dental,occlusal, panoramic and occipito- mental radiographs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Locate the precise position of the foreign body within the sinus lining or in the sinus cavity proper “head-shaking test”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6" name="Picture 5" descr="C:\My Documents\figures\26.JPG"/>
          <p:cNvPicPr/>
          <p:nvPr/>
        </p:nvPicPr>
        <p:blipFill>
          <a:blip r:embed="rId1"/>
          <a:stretch/>
        </p:blipFill>
        <p:spPr>
          <a:xfrm>
            <a:off x="5410080" y="1676520"/>
            <a:ext cx="2479680" cy="1650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:\My Documents\figures\27.JPG"/>
          <p:cNvPicPr/>
          <p:nvPr/>
        </p:nvPicPr>
        <p:blipFill>
          <a:blip r:embed="rId2"/>
          <a:stretch/>
        </p:blipFill>
        <p:spPr>
          <a:xfrm>
            <a:off x="4724280" y="3581280"/>
            <a:ext cx="381024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Immediate management/ </a:t>
            </a:r>
            <a:br>
              <a:rPr sz="2400"/>
            </a:b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foreign body retrieval</a:t>
            </a:r>
            <a:endParaRPr b="0" lang="en-US" sz="2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flect mucoperiosteal flap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duce alveolar bone heigh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trieve the tooth or the root by permitting their movement away from the sinu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f root or tooth dislodged into the sinus proper, consider Caldwell-luc approach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Undermine the flap and replace across the bony defec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10" name="Picture 6" descr="29"/>
          <p:cNvPicPr/>
          <p:nvPr/>
        </p:nvPicPr>
        <p:blipFill>
          <a:blip r:embed="rId1"/>
          <a:stretch/>
        </p:blipFill>
        <p:spPr>
          <a:xfrm>
            <a:off x="6553080" y="533520"/>
            <a:ext cx="2176560" cy="2895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30"/>
          <p:cNvPicPr/>
          <p:nvPr/>
        </p:nvPicPr>
        <p:blipFill>
          <a:blip r:embed="rId2"/>
          <a:stretch/>
        </p:blipFill>
        <p:spPr>
          <a:xfrm>
            <a:off x="4343400" y="1676520"/>
            <a:ext cx="2209680" cy="2842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31"/>
          <p:cNvPicPr/>
          <p:nvPr/>
        </p:nvPicPr>
        <p:blipFill>
          <a:blip r:embed="rId3"/>
          <a:stretch/>
        </p:blipFill>
        <p:spPr>
          <a:xfrm>
            <a:off x="6553080" y="3657600"/>
            <a:ext cx="2133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8T17:27:00Z</dcterms:created>
  <dc:creator>A. Zahrani</dc:creator>
  <dc:description/>
  <dc:language>en-US</dc:language>
  <cp:lastModifiedBy>Hesham Almoallim</cp:lastModifiedBy>
  <dcterms:modified xsi:type="dcterms:W3CDTF">2015-10-03T11:03:42Z</dcterms:modified>
  <cp:revision>19</cp:revision>
  <dc:subject/>
  <dc:title>PowerPoint Presentation</dc:title>
</cp:coreProperties>
</file>