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F5B5-CA23-44F2-9F10-DE1710AA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B1B4-3B10-473C-B1BD-1915A037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B102-D194-4636-BF30-AC1FEA0F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D7BD-2400-4695-BBB5-6A9FA888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C388-83FE-4D16-8E82-526B125F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FB6D-D4C1-48AC-94A4-47EDC86D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5687-FE3E-4FA7-891A-A2094F71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15E-1357-423D-B158-49395371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E100-9C3E-4EB3-AF99-D57AAA20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58FF-BD2D-4712-BFA1-82D45130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5563-3B97-4712-9EB5-1B56D402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6486-7918-4645-88BB-A439C5EA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B6E4-522C-4EF6-AD4B-03C3B186D88C}" type="slidenum">
              <a:rPr b="0" lang="ar-SA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قرر أصول فقه -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- (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435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سلم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onstantia"/>
                <a:cs typeface="Traditional Arabic"/>
              </a:rPr>
              <a:t>وفاء بنت محمد العيسى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عنوان 1"/>
          <p:cNvGrpSpPr/>
          <p:nvPr/>
        </p:nvGrpSpPr>
        <p:grpSpPr>
          <a:xfrm>
            <a:off x="396720" y="237960"/>
            <a:ext cx="8345520" cy="1256040"/>
            <a:chOff x="396720" y="237960"/>
            <a:chExt cx="8345520" cy="1256040"/>
          </a:xfrm>
        </p:grpSpPr>
        <p:pic>
          <p:nvPicPr>
            <p:cNvPr id="83" name="عنوان 1" descr=""/>
            <p:cNvPicPr/>
            <p:nvPr/>
          </p:nvPicPr>
          <p:blipFill>
            <a:blip r:embed="rId2"/>
            <a:stretch/>
          </p:blipFill>
          <p:spPr>
            <a:xfrm>
              <a:off x="396720" y="237960"/>
              <a:ext cx="8345520" cy="12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874396"/>
                  </a:solidFill>
                  <a:latin typeface="Constantia"/>
                  <a:cs typeface="Al-Mothnna"/>
                </a:rPr>
                <a:t>تقسيمات الدلال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457200" y="1913040"/>
            <a:ext cx="8229600" cy="3900240"/>
          </a:xfrm>
          <a:prstGeom prst="rect">
            <a:avLst/>
          </a:prstGeom>
          <a:ln w="0">
            <a:noFill/>
          </a:ln>
        </p:spPr>
      </p:pic>
      <p:sp>
        <p:nvSpPr>
          <p:cNvPr id="86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7D0C-B4C7-4EBE-9DB3-65070DF87D5C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مربع نص 3"/>
          <p:cNvSpPr/>
          <p:nvPr/>
        </p:nvSpPr>
        <p:spPr>
          <a:xfrm>
            <a:off x="214200" y="357120"/>
            <a:ext cx="8501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34b73"/>
                </a:solidFill>
                <a:latin typeface="Andalus"/>
                <a:cs typeface="Andalus"/>
              </a:rPr>
              <a:t>الدلالة المطلقة ثلاثة أنواع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4"/>
          <p:cNvSpPr/>
          <p:nvPr/>
        </p:nvSpPr>
        <p:spPr>
          <a:xfrm>
            <a:off x="6000840" y="2214720"/>
            <a:ext cx="2571840" cy="3500280"/>
          </a:xfrm>
          <a:prstGeom prst="rect">
            <a:avLst/>
          </a:prstGeom>
          <a:solidFill>
            <a:srgbClr val="512539"/>
          </a:solidFill>
          <a:ln w="25560">
            <a:solidFill>
              <a:srgbClr val="3918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مستطيل 5"/>
          <p:cNvSpPr/>
          <p:nvPr/>
        </p:nvSpPr>
        <p:spPr>
          <a:xfrm>
            <a:off x="3357720" y="2214720"/>
            <a:ext cx="2500200" cy="3500280"/>
          </a:xfrm>
          <a:prstGeom prst="rect">
            <a:avLst/>
          </a:prstGeom>
          <a:solidFill>
            <a:srgbClr val="512539"/>
          </a:solidFill>
          <a:ln w="25560">
            <a:solidFill>
              <a:srgbClr val="3918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مربع نص 6"/>
          <p:cNvSpPr/>
          <p:nvPr/>
        </p:nvSpPr>
        <p:spPr>
          <a:xfrm>
            <a:off x="6000840" y="2571840"/>
            <a:ext cx="2500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أول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ما دلالته ( وضعية ) كدلالة الأقدار على مقدوراتها ، ومنه دلالة السبب على المسبب ، كالدلوك على وجوب الصلاة ، وكدلالة المشروط على وجود الشرط ، كالصلاة على الطهارة ، وإلا لما صحت ( و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مربع نص 7"/>
          <p:cNvSpPr/>
          <p:nvPr/>
        </p:nvSpPr>
        <p:spPr>
          <a:xfrm>
            <a:off x="3429000" y="2643120"/>
            <a:ext cx="221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نوع الثان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ما دلالت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 عقلية ) كدلالة الأثر على المؤثر ، ومنه دلالة العالم على موجده ، وهو الله سبحانه وتعالى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مستطيل 8"/>
          <p:cNvSpPr/>
          <p:nvPr/>
        </p:nvSpPr>
        <p:spPr>
          <a:xfrm>
            <a:off x="571680" y="2214720"/>
            <a:ext cx="2500200" cy="3500280"/>
          </a:xfrm>
          <a:prstGeom prst="rect">
            <a:avLst/>
          </a:prstGeom>
          <a:solidFill>
            <a:srgbClr val="512539"/>
          </a:solidFill>
          <a:ln w="25560">
            <a:solidFill>
              <a:srgbClr val="3918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مربع نص 9"/>
          <p:cNvSpPr/>
          <p:nvPr/>
        </p:nvSpPr>
        <p:spPr>
          <a:xfrm>
            <a:off x="857160" y="2571840"/>
            <a:ext cx="192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نوع الثالث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ما دلالته ( لفظية ) أي مستندة إلى وجود اللفظ</a:t>
            </a:r>
            <a:r>
              <a:rPr b="1" lang="en-US" sz="20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مربع نص 4"/>
          <p:cNvSpPr/>
          <p:nvPr/>
        </p:nvSpPr>
        <p:spPr>
          <a:xfrm>
            <a:off x="1357200" y="214200"/>
            <a:ext cx="692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200" spc="-1" strike="noStrike">
                <a:solidFill>
                  <a:srgbClr val="b24d1d"/>
                </a:solidFill>
                <a:latin typeface="Arial"/>
                <a:cs typeface="Led Italic Font"/>
              </a:rPr>
              <a:t>و الدلالة ( اللفظية ) ثلاثة أقسام 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رسم تخطيطي 8" descr=""/>
          <p:cNvPicPr/>
          <p:nvPr/>
        </p:nvPicPr>
        <p:blipFill>
          <a:blip r:embed="rId2"/>
          <a:stretch/>
        </p:blipFill>
        <p:spPr>
          <a:xfrm>
            <a:off x="-19080" y="878040"/>
            <a:ext cx="91821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عنوان 1"/>
          <p:cNvGrpSpPr/>
          <p:nvPr/>
        </p:nvGrpSpPr>
        <p:grpSpPr>
          <a:xfrm>
            <a:off x="396720" y="237960"/>
            <a:ext cx="8345520" cy="1256040"/>
            <a:chOff x="396720" y="237960"/>
            <a:chExt cx="8345520" cy="1256040"/>
          </a:xfrm>
        </p:grpSpPr>
        <p:pic>
          <p:nvPicPr>
            <p:cNvPr id="101" name="عنوان 1" descr=""/>
            <p:cNvPicPr/>
            <p:nvPr/>
          </p:nvPicPr>
          <p:blipFill>
            <a:blip r:embed="rId2"/>
            <a:stretch/>
          </p:blipFill>
          <p:spPr>
            <a:xfrm>
              <a:off x="396720" y="237960"/>
              <a:ext cx="8345520" cy="12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874396"/>
                  </a:solidFill>
                  <a:latin typeface="Constantia"/>
                  <a:cs typeface="Al-Mothnna"/>
                </a:rPr>
                <a:t>أقسام اللفظ من حيث الدلالة على المعن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ينقسم اللفظ من حيث الدلالة على المعنى إلى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 algn="r" rtl="1">
              <a:lnSpc>
                <a:spcPct val="100000"/>
              </a:lnSpc>
              <a:spcBef>
                <a:spcPts val="700"/>
              </a:spcBef>
              <a:buClr>
                <a:srgbClr val="874396"/>
              </a:buClr>
              <a:buFont typeface="Sakkal Majall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74396"/>
                </a:solidFill>
                <a:latin typeface="Sakkal Majalla"/>
                <a:cs typeface="Sakkal Majalla"/>
              </a:rPr>
              <a:t>النص: </a:t>
            </a: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هو الذي لا يحتمل إلا معنى واحداً كقوله تعالى: ”تلك عشرة كاملة“ 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 algn="r" rtl="1">
              <a:lnSpc>
                <a:spcPct val="100000"/>
              </a:lnSpc>
              <a:spcBef>
                <a:spcPts val="700"/>
              </a:spcBef>
              <a:buClr>
                <a:srgbClr val="874396"/>
              </a:buClr>
              <a:buFont typeface="Sakkal Majall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74396"/>
                </a:solidFill>
                <a:latin typeface="Sakkal Majalla"/>
                <a:cs typeface="Sakkal Majalla"/>
              </a:rPr>
              <a:t>المجمل: </a:t>
            </a: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هو أن يحتمل اللفظ أكثر من معنى على السواء كلفظ القرء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 algn="r" rtl="1">
              <a:lnSpc>
                <a:spcPct val="100000"/>
              </a:lnSpc>
              <a:spcBef>
                <a:spcPts val="700"/>
              </a:spcBef>
              <a:buClr>
                <a:srgbClr val="874396"/>
              </a:buClr>
              <a:buFont typeface="Sakkal Majall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74396"/>
                </a:solidFill>
                <a:latin typeface="Sakkal Majalla"/>
                <a:ea typeface="Sakkal Majalla"/>
              </a:rPr>
              <a:t> الظاهر: </a:t>
            </a: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هو أن يحتمل اللفظ أكثر من معنى لكنه في أحدهما أرجح فالراجح يسمى ظاهراً، مثل الأسد فهو ظاهر في الحيوان المفترس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 algn="r" rtl="1">
              <a:lnSpc>
                <a:spcPct val="100000"/>
              </a:lnSpc>
              <a:spcBef>
                <a:spcPts val="700"/>
              </a:spcBef>
              <a:buClr>
                <a:srgbClr val="874396"/>
              </a:buClr>
              <a:buFont typeface="Sakkal Majall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74396"/>
                </a:solidFill>
                <a:latin typeface="Sakkal Majalla"/>
                <a:cs typeface="Sakkal Majalla"/>
              </a:rPr>
              <a:t>المؤول: </a:t>
            </a: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هو ما احتمل اللفظ فيه أكثر من معنى وحمل على المعنى المرجوح، مثل حمل الأسد على الرجل الشجاع. فلا بد من قرينة صارفة عن الراجح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15EF-D5DF-4773-A246-D51951D2AE93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عنصر نائب للتذييل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عنوان 1"/>
          <p:cNvGrpSpPr/>
          <p:nvPr/>
        </p:nvGrpSpPr>
        <p:grpSpPr>
          <a:xfrm>
            <a:off x="396720" y="237960"/>
            <a:ext cx="8345520" cy="1256040"/>
            <a:chOff x="396720" y="237960"/>
            <a:chExt cx="8345520" cy="1256040"/>
          </a:xfrm>
        </p:grpSpPr>
        <p:pic>
          <p:nvPicPr>
            <p:cNvPr id="108" name="عنوان 1" descr=""/>
            <p:cNvPicPr/>
            <p:nvPr/>
          </p:nvPicPr>
          <p:blipFill>
            <a:blip r:embed="rId2"/>
            <a:stretch/>
          </p:blipFill>
          <p:spPr>
            <a:xfrm>
              <a:off x="396720" y="237960"/>
              <a:ext cx="8345520" cy="12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874396"/>
                  </a:solidFill>
                  <a:latin typeface="Constantia"/>
                  <a:cs typeface="Al-Mothnna"/>
                </a:rPr>
                <a:t>أقسام اللفظ من حيث الدلالة على المعن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dvertisingExtraBold"/>
              </a:rPr>
              <a:t>حكم الأقسام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dvertisingExtraBold"/>
              </a:rPr>
              <a:t>لا يعدل عن النص إلا بنسخ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dvertisingExtraBold"/>
              </a:rPr>
              <a:t>لا يعمل بالمجمل إلا بعد البيان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dvertisingExtraBold"/>
              </a:rPr>
              <a:t>لا يترك الظاهر وينتقل للمؤول إلا بقرينة صارفة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9DFC-7332-448C-941E-4562378E96AD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عنصر نائب للتذييل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wafa\Dropbox\سارة\تدريس عام 1435\أصول فقه3\الخرائط الذهنية\الدلالات_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7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مستطيل مستدير الزوايا 1"/>
          <p:cNvSpPr/>
          <p:nvPr/>
        </p:nvSpPr>
        <p:spPr>
          <a:xfrm>
            <a:off x="250920" y="500040"/>
            <a:ext cx="8250120" cy="5305320"/>
          </a:xfrm>
          <a:prstGeom prst="roundRect">
            <a:avLst>
              <a:gd name="adj" fmla="val 16667"/>
            </a:avLst>
          </a:prstGeom>
          <a:solidFill>
            <a:srgbClr val="512539">
              <a:alpha val="62000"/>
            </a:srgbClr>
          </a:solidFill>
          <a:ln w="34920">
            <a:solidFill>
              <a:srgbClr val="39182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مربع نص 2"/>
          <p:cNvSpPr/>
          <p:nvPr/>
        </p:nvSpPr>
        <p:spPr>
          <a:xfrm>
            <a:off x="4714920" y="857160"/>
            <a:ext cx="3214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 صلى الله و سلم على سيدنا محمد و على آله و صحبه أجمعين 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Monotype Koufi"/>
                <a:cs typeface="Monotype Koufi"/>
              </a:rPr>
              <a:t>استفسارات ومداخ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5" descr="label10"/>
          <p:cNvPicPr/>
          <p:nvPr/>
        </p:nvPicPr>
        <p:blipFill>
          <a:blip r:embed="rId2"/>
          <a:stretch/>
        </p:blipFill>
        <p:spPr>
          <a:xfrm>
            <a:off x="463680" y="3565440"/>
            <a:ext cx="151128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التكاليف وتوزيع الدرجا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عنصر نائب للمحتوى 7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705816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Traditional Arabic"/>
              </a:rPr>
              <a:t>البريد الالكتروني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1f97"/>
                </a:solidFill>
                <a:latin typeface="Constantia"/>
              </a:rPr>
              <a:t>walessa@ksu.edu.s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Traditional Arabic"/>
              </a:rPr>
              <a:t>الموقع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4396"/>
                </a:solidFill>
                <a:latin typeface="Constantia"/>
              </a:rPr>
              <a:t>http://fac.ksu.edu.sa/waless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52f74"/>
                </a:solidFill>
                <a:latin typeface="Constantia"/>
                <a:cs typeface="Traditional Arabic"/>
              </a:rPr>
              <a:t>تنبيهات ينبغي مراعاتها حين مراسلتي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-      التكاليف والاستفسارات ترسل إلكترونيا عبرالبريد </a:t>
            </a:r>
            <a:r>
              <a:rPr b="1" lang="en-US" sz="2400" spc="-1" strike="noStrike">
                <a:solidFill>
                  <a:srgbClr val="f11f97"/>
                </a:solidFill>
                <a:latin typeface="Constantia"/>
              </a:rPr>
              <a:t>walessa@ksu.edu.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Traditional Arabic"/>
              </a:rPr>
              <a:t>والتسليم في المواعيد المحددة عداها لن تقبل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-      أن يكون عنوان الرسالة  المرسلة كالتالي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74396"/>
                </a:solidFill>
                <a:latin typeface="Constantia"/>
                <a:ea typeface="Traditional Arabic"/>
              </a:rPr>
              <a:t>(استفسار أو تسليم </a:t>
            </a:r>
            <a:r>
              <a:rPr b="1" lang="en-US" sz="2400" spc="-1" strike="noStrike">
                <a:solidFill>
                  <a:srgbClr val="874396"/>
                </a:solidFill>
                <a:latin typeface="Constantia"/>
              </a:rPr>
              <a:t>}</a:t>
            </a:r>
            <a:r>
              <a:rPr b="1" lang="ar-SA" sz="2400" spc="-1" strike="noStrike">
                <a:solidFill>
                  <a:srgbClr val="874396"/>
                </a:solidFill>
                <a:latin typeface="Constantia"/>
                <a:cs typeface="Traditional Arabic"/>
              </a:rPr>
              <a:t>عنوان التكليف</a:t>
            </a:r>
            <a:r>
              <a:rPr b="1" lang="en-US" sz="2400" spc="-1" strike="noStrike">
                <a:solidFill>
                  <a:srgbClr val="874396"/>
                </a:solidFill>
                <a:latin typeface="Constantia"/>
              </a:rPr>
              <a:t>{</a:t>
            </a:r>
            <a:r>
              <a:rPr b="1" lang="ar-SA" sz="2400" spc="-1" strike="noStrike">
                <a:solidFill>
                  <a:srgbClr val="874396"/>
                </a:solidFill>
                <a:latin typeface="Constantia"/>
                <a:ea typeface="Traditional Arabic"/>
              </a:rPr>
              <a:t> ): اسم المقرر: اسم الطالبة، رقم الشعبة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-      تسليم التكليف في مرفق يعنون بــ اسم الطالبة- عنوان التكلي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raditional Arabic"/>
              </a:rPr>
              <a:t>أهمية طلب العل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 rot="20614200">
            <a:off x="2555640" y="1709640"/>
            <a:ext cx="4227480" cy="4176720"/>
          </a:xfrm>
          <a:prstGeom prst="rect">
            <a:avLst/>
          </a:prstGeom>
          <a:solidFill>
            <a:srgbClr val="e5c6d5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24d1d"/>
                </a:solidFill>
                <a:latin typeface="Traditional Arabic"/>
                <a:cs typeface="Traditional Arabic"/>
              </a:rPr>
              <a:t>الهمة والصبر في طلب العل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24d1d"/>
                </a:solidFill>
                <a:latin typeface="Traditional Arabic"/>
                <a:cs typeface="Traditional Arabic"/>
              </a:rPr>
              <a:t>الإخلاص في طلب العمل والاستمرارية فيه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24d1d"/>
                </a:solidFill>
                <a:latin typeface="Traditional Arabic"/>
                <a:cs typeface="Traditional Arabic"/>
              </a:rPr>
              <a:t>آفة الزمن العلم بلا عمل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24d1d"/>
                </a:solidFill>
                <a:latin typeface="Traditional Arabic"/>
                <a:cs typeface="Traditional Arabic"/>
              </a:rPr>
              <a:t>ثمار العل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24d1d"/>
                </a:solidFill>
                <a:latin typeface="Traditional Arabic"/>
                <a:cs typeface="Traditional Arabic"/>
              </a:rPr>
              <a:t>العلم الذي ينبغي لطالب العلم العمل به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" name="Picture 4" descr="C:\Users\ساره\Desktop\ماذا بعد التخرج\Untitled-1.gif"/>
          <p:cNvPicPr/>
          <p:nvPr/>
        </p:nvPicPr>
        <p:blipFill>
          <a:blip r:embed="rId2"/>
          <a:stretch/>
        </p:blipFill>
        <p:spPr>
          <a:xfrm>
            <a:off x="468360" y="2924280"/>
            <a:ext cx="260820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a4447a"/>
              </a:gs>
              <a:gs pos="100000">
                <a:srgbClr val="da59a2"/>
              </a:gs>
            </a:gsLst>
            <a:lin ang="16200000"/>
          </a:gradFill>
          <a:ln w="9360">
            <a:solidFill>
              <a:srgbClr val="cd68a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ndalus"/>
                <a:cs typeface="Andalus"/>
              </a:rPr>
              <a:t>دلالة الألفاظ وأقسامه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58920" y="4365720"/>
            <a:ext cx="6400800" cy="1752480"/>
          </a:xfrm>
          <a:prstGeom prst="rect">
            <a:avLst/>
          </a:prstGeom>
          <a:gradFill rotWithShape="0">
            <a:gsLst>
              <a:gs pos="0">
                <a:srgbClr val="ffa7d7"/>
              </a:gs>
              <a:gs pos="100000">
                <a:srgbClr val="ffe6f3"/>
              </a:gs>
            </a:gsLst>
            <a:lin ang="16200000"/>
          </a:gradFill>
          <a:ln w="9360">
            <a:solidFill>
              <a:srgbClr val="cd68a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52f74"/>
                </a:solidFill>
                <a:latin typeface="Constantia"/>
                <a:cs typeface="AL-Mohanad Bold"/>
              </a:rPr>
              <a:t>وفاء بنت محمد العيسى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onstantia"/>
                <a:cs typeface="Al-Aramco Bold"/>
              </a:rPr>
              <a:t>أصول فقه </a:t>
            </a:r>
            <a:r>
              <a:rPr b="0" lang="ar-SA" sz="3200" spc="-1" strike="noStrike">
                <a:solidFill>
                  <a:srgbClr val="898989"/>
                </a:solidFill>
                <a:latin typeface="Constantia"/>
                <a:ea typeface="Al-Aramco Bol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684360" y="333360"/>
            <a:ext cx="7772400" cy="1469880"/>
          </a:xfrm>
          <a:prstGeom prst="rect">
            <a:avLst/>
          </a:prstGeom>
          <a:solidFill>
            <a:srgbClr val="f4e7ed"/>
          </a:soli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d1c2b"/>
                </a:solidFill>
                <a:latin typeface="Constantia"/>
                <a:cs typeface="AdvertisingExtraBold"/>
              </a:rPr>
              <a:t>كلية التربية – قسم الثقافة الإسلام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صورة 0" descr="ksuLogo.jpg"/>
          <p:cNvPicPr/>
          <p:nvPr/>
        </p:nvPicPr>
        <p:blipFill>
          <a:blip r:embed="rId2"/>
          <a:stretch/>
        </p:blipFill>
        <p:spPr>
          <a:xfrm>
            <a:off x="826920" y="549360"/>
            <a:ext cx="83988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4447a"/>
              </a:gs>
              <a:gs pos="100000">
                <a:srgbClr val="da59a2"/>
              </a:gs>
            </a:gsLst>
            <a:lin ang="16200000"/>
          </a:gradFill>
          <a:ln w="9360">
            <a:solidFill>
              <a:srgbClr val="cd68a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874396"/>
                </a:solidFill>
                <a:latin typeface="Constantia"/>
                <a:cs typeface="Al-Mothnna"/>
              </a:rPr>
              <a:t>تعريف الدلال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468360" y="1600200"/>
            <a:ext cx="820728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2067-BE16-4F3F-BF2B-9E4EF5B3003A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424720" cy="4176720"/>
          </a:xfrm>
          <a:prstGeom prst="rect">
            <a:avLst/>
          </a:prstGeom>
          <a:ln w="0">
            <a:noFill/>
          </a:ln>
        </p:spPr>
      </p:pic>
      <p:grpSp>
        <p:nvGrpSpPr>
          <p:cNvPr id="69" name="عنوان 1"/>
          <p:cNvGrpSpPr/>
          <p:nvPr/>
        </p:nvGrpSpPr>
        <p:grpSpPr>
          <a:xfrm>
            <a:off x="396720" y="237960"/>
            <a:ext cx="8345520" cy="1256040"/>
            <a:chOff x="396720" y="237960"/>
            <a:chExt cx="8345520" cy="1256040"/>
          </a:xfrm>
        </p:grpSpPr>
        <p:pic>
          <p:nvPicPr>
            <p:cNvPr id="70" name="عنوان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2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874396"/>
                  </a:solidFill>
                  <a:latin typeface="Constantia"/>
                  <a:cs typeface="Al-Mothnna"/>
                </a:rPr>
                <a:t>تعريف الدلال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BFA7-E693-4E18-BA65-BE853ED407CA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457200" y="1893960"/>
            <a:ext cx="8229600" cy="3938400"/>
          </a:xfrm>
          <a:prstGeom prst="rect">
            <a:avLst/>
          </a:prstGeom>
          <a:ln w="0">
            <a:noFill/>
          </a:ln>
        </p:spPr>
      </p:pic>
      <p:grpSp>
        <p:nvGrpSpPr>
          <p:cNvPr id="76" name="عنوان 1"/>
          <p:cNvGrpSpPr/>
          <p:nvPr/>
        </p:nvGrpSpPr>
        <p:grpSpPr>
          <a:xfrm>
            <a:off x="396720" y="237960"/>
            <a:ext cx="8345520" cy="1256040"/>
            <a:chOff x="396720" y="237960"/>
            <a:chExt cx="8345520" cy="1256040"/>
          </a:xfrm>
        </p:grpSpPr>
        <p:pic>
          <p:nvPicPr>
            <p:cNvPr id="77" name="عنوان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2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874396"/>
                  </a:solidFill>
                  <a:latin typeface="Constantia"/>
                  <a:cs typeface="Al-Mothnna"/>
                </a:rPr>
                <a:t>تقسيمات الدلال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A9A3-91CA-48E0-BB1B-0D5582648215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ساره</dc:creator>
  <dc:description/>
  <dc:language>en-US</dc:language>
  <cp:lastModifiedBy>seven</cp:lastModifiedBy>
  <dcterms:modified xsi:type="dcterms:W3CDTF">2014-02-03T05:24:07Z</dcterms:modified>
  <cp:revision>226</cp:revision>
  <dc:subject/>
  <dc:title>الشريحة 1</dc:title>
</cp:coreProperties>
</file>