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2CF-DDC0-4ED5-9544-98743E9B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AF9-AC27-4F5B-934E-A4921029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009-B889-4573-8537-6478D64D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0B1-CC70-4E08-8388-17C9E344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1D2-6059-4783-95D9-88C272B5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3C7-3E3A-4BDA-A817-F9242B9C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AD7-D47B-4E5A-8F19-3EFDEC7D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31B-74D3-42D7-A179-BA719FB8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507-79D7-49B8-B739-48B90F96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5BC-636B-4602-9E31-ACE55F9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03C-6F23-4A62-A544-2F591F7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998-7365-468B-897F-93521451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0433-E195-4FA8-9F6A-CF7B68109D9C}" type="slidenum"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رر أصول فقه 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(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3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Traditional Arabic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83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7200" y="1913040"/>
            <a:ext cx="8229600" cy="3900240"/>
          </a:xfrm>
          <a:prstGeom prst="rect">
            <a:avLst/>
          </a:prstGeom>
          <a:ln w="0">
            <a:noFill/>
          </a:ln>
        </p:spPr>
      </p:pic>
      <p:sp>
        <p:nvSpPr>
          <p:cNvPr id="8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976E-5229-4FB8-A0B5-CC0ECBB1D164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مربع نص 3"/>
          <p:cNvSpPr/>
          <p:nvPr/>
        </p:nvSpPr>
        <p:spPr>
          <a:xfrm>
            <a:off x="214200" y="35712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34b73"/>
                </a:solidFill>
                <a:latin typeface="Andalus"/>
                <a:cs typeface="Andalus"/>
              </a:rPr>
              <a:t>الدلالة المطلقة ثلاثة أنواع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4"/>
          <p:cNvSpPr/>
          <p:nvPr/>
        </p:nvSpPr>
        <p:spPr>
          <a:xfrm>
            <a:off x="6000840" y="2214720"/>
            <a:ext cx="257184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ستطيل 5"/>
          <p:cNvSpPr/>
          <p:nvPr/>
        </p:nvSpPr>
        <p:spPr>
          <a:xfrm>
            <a:off x="335772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6"/>
          <p:cNvSpPr/>
          <p:nvPr/>
        </p:nvSpPr>
        <p:spPr>
          <a:xfrm>
            <a:off x="6000840" y="2571840"/>
            <a:ext cx="2500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ول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وضعية ) كدلالة الأقدار على مقدوراتها ، ومنه دلالة السبب على المسبب ، كالدلوك على وجوب الصلاة ، وكدلالة المشروط على وجود الشرط ، كالصلاة على الطهارة ، وإلا لما صحت ( و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ربع نص 7"/>
          <p:cNvSpPr/>
          <p:nvPr/>
        </p:nvSpPr>
        <p:spPr>
          <a:xfrm>
            <a:off x="3429000" y="2643120"/>
            <a:ext cx="221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ن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ما دلالت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 عقلية ) كدلالة الأثر على المؤثر ، ومنه دلالة العالم على موجده ، وهو الله سبحانه وتعالى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8"/>
          <p:cNvSpPr/>
          <p:nvPr/>
        </p:nvSpPr>
        <p:spPr>
          <a:xfrm>
            <a:off x="57168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ربع نص 9"/>
          <p:cNvSpPr/>
          <p:nvPr/>
        </p:nvSpPr>
        <p:spPr>
          <a:xfrm>
            <a:off x="857160" y="2571840"/>
            <a:ext cx="19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لث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لفظية ) أي مستندة إلى وجود اللفظ</a:t>
            </a: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مربع نص 4"/>
          <p:cNvSpPr/>
          <p:nvPr/>
        </p:nvSpPr>
        <p:spPr>
          <a:xfrm>
            <a:off x="1357200" y="214200"/>
            <a:ext cx="69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b24d1d"/>
                </a:solidFill>
                <a:latin typeface="Arial"/>
                <a:cs typeface="Led Italic Font"/>
              </a:rPr>
              <a:t>و الدلالة ( اللفظية ) ثلاثة أقسام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رسم تخطيطي 8" descr=""/>
          <p:cNvPicPr/>
          <p:nvPr/>
        </p:nvPicPr>
        <p:blipFill>
          <a:blip r:embed="rId2"/>
          <a:stretch/>
        </p:blipFill>
        <p:spPr>
          <a:xfrm>
            <a:off x="-19080" y="878040"/>
            <a:ext cx="91821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101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نقسم اللفظ من حيث الدلالة على المعنى إلى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نص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الذي لا يحتمل إلا معنى واحداً كقوله تعالى: ”تلك عشرة كاملة“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جم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على السواء كلفظ القرء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ea typeface="Sakkal Majalla"/>
              </a:rPr>
              <a:t> الظاهر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لكنه في أحدهما أرجح فالراجح يسمى ظاهراً، مثل الأسد فهو ظاهر في الحيوان المفتر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ؤو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ما احتمل اللفظ فيه أكثر من معنى وحمل على المعنى المرجوح، مثل حمل الأسد على الرجل الشجاع. فلا بد من قرينة صارفة عن الراجح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4425-637F-4812-99C5-9295D44384A4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108" name="عنوان 1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حكم الأقسام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دل عن النص إلا بنسخ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مل بالمجمل إلا بعد البيا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ترك الظاهر وينتقل للمؤول إلا بقرينة صارفة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6E0D-1061-4BEC-9567-767706955F04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wafa\Dropbox\سارة\تدريس عام 1435\أصول فقه3\الخرائط الذهنية\الدلالات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مستطيل مستدير الزوايا 1"/>
          <p:cNvSpPr/>
          <p:nvPr/>
        </p:nvSpPr>
        <p:spPr>
          <a:xfrm>
            <a:off x="250920" y="500040"/>
            <a:ext cx="8250120" cy="5305320"/>
          </a:xfrm>
          <a:prstGeom prst="roundRect">
            <a:avLst>
              <a:gd name="adj" fmla="val 16667"/>
            </a:avLst>
          </a:prstGeom>
          <a:solidFill>
            <a:srgbClr val="512539">
              <a:alpha val="62000"/>
            </a:srgbClr>
          </a:solidFill>
          <a:ln w="34920">
            <a:solidFill>
              <a:srgbClr val="3918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ربع نص 2"/>
          <p:cNvSpPr/>
          <p:nvPr/>
        </p:nvSpPr>
        <p:spPr>
          <a:xfrm>
            <a:off x="4714920" y="857160"/>
            <a:ext cx="32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 صلى الله و سلم على سيدنا محمد و على آله و صحبه أجمعين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Monotype Koufi"/>
                <a:cs typeface="Monotype Koufi"/>
              </a:rPr>
              <a:t>استفسارات ومداخ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label10"/>
          <p:cNvPicPr/>
          <p:nvPr/>
        </p:nvPicPr>
        <p:blipFill>
          <a:blip r:embed="rId2"/>
          <a:stretch/>
        </p:blipFill>
        <p:spPr>
          <a:xfrm>
            <a:off x="463680" y="3565440"/>
            <a:ext cx="15112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التكاليف وتوزيع الدرج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عنصر نائب للمحتوى 7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05816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بريد الالكتروني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موق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4396"/>
                </a:solidFill>
                <a:latin typeface="Constantia"/>
              </a:rPr>
              <a:t>http://fac.ksu.edu.sa/wales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52f74"/>
                </a:solidFill>
                <a:latin typeface="Constantia"/>
                <a:cs typeface="Traditional Arabic"/>
              </a:rPr>
              <a:t>تنبيهات ينبغي مراعاتها حين مراسلتي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التكاليف والاستفسارات ترسل إلكترونيا عبرالبريد </a:t>
            </a:r>
            <a:r>
              <a:rPr b="1" lang="en-US" sz="24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والتسليم في المواعيد المحددة عداها لن تقبل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أن يكون عنوان الرسالة  المرسلة كالتالي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(استفسار أو تسليم 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}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cs typeface="Traditional Arabic"/>
              </a:rPr>
              <a:t>عنوان التكليف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{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 ): اسم المقرر: اسم الطالبة، رقم الشعب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تسليم التكليف في مرفق يعنون بــ اسم الطالبة- عنوان التكلي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raditional Arabic"/>
              </a:rPr>
              <a:t>أهمية طلب الع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 rot="20614200">
            <a:off x="2555640" y="1709640"/>
            <a:ext cx="4227480" cy="4176720"/>
          </a:xfrm>
          <a:prstGeom prst="rect">
            <a:avLst/>
          </a:prstGeom>
          <a:solidFill>
            <a:srgbClr val="e5c6d5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همة والصبر في طلب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إخلاص في طلب العمل والاستمرارية في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آفة الزمن العلم بلا عمل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ثمار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علم الذي ينبغي لطالب العلم العمل ب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4" descr="C:\Users\ساره\Desktop\ماذا بعد التخرج\Untitled-1.gif"/>
          <p:cNvPicPr/>
          <p:nvPr/>
        </p:nvPicPr>
        <p:blipFill>
          <a:blip r:embed="rId2"/>
          <a:stretch/>
        </p:blipFill>
        <p:spPr>
          <a:xfrm>
            <a:off x="468360" y="2924280"/>
            <a:ext cx="26082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cs typeface="Andalus"/>
              </a:rPr>
              <a:t>دلالة الألفاظ وأقسام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fa7d7"/>
              </a:gs>
              <a:gs pos="100000">
                <a:srgbClr val="ffe6f3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52f74"/>
                </a:solidFill>
                <a:latin typeface="Constantia"/>
                <a:cs typeface="AL-Mohanad Bold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Al-Aramco Bold"/>
              </a:rPr>
              <a:t>أصول فقه </a:t>
            </a:r>
            <a:r>
              <a:rPr b="0" lang="ar-SA" sz="3200" spc="-1" strike="noStrike">
                <a:solidFill>
                  <a:srgbClr val="898989"/>
                </a:solidFill>
                <a:latin typeface="Constantia"/>
                <a:ea typeface="Al-Aramco Bol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684360" y="333360"/>
            <a:ext cx="7772400" cy="1469880"/>
          </a:xfrm>
          <a:prstGeom prst="rect">
            <a:avLst/>
          </a:prstGeom>
          <a:solidFill>
            <a:srgbClr val="f4e7ed"/>
          </a:soli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d1c2b"/>
                </a:solidFill>
                <a:latin typeface="Constantia"/>
                <a:cs typeface="AdvertisingExtraBold"/>
              </a:rPr>
              <a:t>كلية التربية – قسم الثقافة الإسلام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صورة 0" descr="ksuLogo.jpg"/>
          <p:cNvPicPr/>
          <p:nvPr/>
        </p:nvPicPr>
        <p:blipFill>
          <a:blip r:embed="rId2"/>
          <a:stretch/>
        </p:blipFill>
        <p:spPr>
          <a:xfrm>
            <a:off x="826920" y="549360"/>
            <a:ext cx="8398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74396"/>
                </a:solidFill>
                <a:latin typeface="Constantia"/>
                <a:cs typeface="Al-Mothnna"/>
              </a:rPr>
              <a:t>تعريف الدلا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68360" y="1600200"/>
            <a:ext cx="820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28EE-3633-4A07-BC39-C0D1FB0B3A7A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69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70" name="عنوان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عريف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D30D-68F3-4EA0-94FE-3D2160373747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1893960"/>
            <a:ext cx="8229600" cy="3938400"/>
          </a:xfrm>
          <a:prstGeom prst="rect">
            <a:avLst/>
          </a:prstGeom>
          <a:ln w="0">
            <a:noFill/>
          </a:ln>
        </p:spPr>
      </p:pic>
      <p:grpSp>
        <p:nvGrpSpPr>
          <p:cNvPr id="76" name="عنوان 1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77" name="عنوان 1" descr=""/>
            <p:cNvPicPr/>
            <p:nvPr/>
          </p:nvPicPr>
          <p:blipFill>
            <a:blip r:embed="rId3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AA93-14C5-4727-BFB1-DB8A6260CF4D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ساره</dc:creator>
  <dc:description/>
  <dc:language>en-US</dc:language>
  <cp:lastModifiedBy>seven</cp:lastModifiedBy>
  <dcterms:modified xsi:type="dcterms:W3CDTF">2014-02-03T05:24:07Z</dcterms:modified>
  <cp:revision>226</cp:revision>
  <dc:subject/>
  <dc:title>الشريحة 1</dc:title>
</cp:coreProperties>
</file>