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0E-E301-4FB9-B5BF-EC3F242C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317-3092-4637-A38D-00696CC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924-4E12-462B-900D-3A59F8FF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CDD-FBFC-4DD9-874A-272C13B2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315-FF8E-4C8E-8D47-259E874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E33-E520-4BC0-B9ED-F810666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EA5-128F-4D92-B1E3-7D383FB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CD2-25CE-4CB2-BEE1-2BE4910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28F-1203-48D0-953D-A526E5C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C6-85BC-4A27-BF35-C0E51F9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458-DE8D-47BC-8902-2F657AE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C04-9DB0-4E01-B4D4-8710D35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BA66-33A0-483D-AA29-F89450E56125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6D5-E7AD-4318-A677-893AF27BB8A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9080" y="878040"/>
            <a:ext cx="9182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158-34A3-4C03-A922-EBFAFEEA73C0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F3EF-5E20-48C4-9FD1-E5A15E835430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3680" y="3565440"/>
            <a:ext cx="15112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581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EE08-EB50-4A1C-91A7-595B4A6AA48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13C-715A-49A1-AD9C-02D582568E25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0F7-43BC-4C0A-B993-DDF5333A5B6E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seven</cp:lastModifiedBy>
  <dcterms:modified xsi:type="dcterms:W3CDTF">2014-02-03T05:24:07Z</dcterms:modified>
  <cp:revision>226</cp:revision>
  <dc:subject/>
  <dc:title>الشريحة 1</dc:title>
</cp:coreProperties>
</file>