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E99-C9BD-486F-8DBB-4C46B702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96E-0B78-4753-9077-4D44DFCF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CE6-DF29-4978-B5ED-DB5179B4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454-CD11-48A9-8171-F9203139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9E5-0BE4-4AAA-9DC0-BB4549BD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E36-EDAE-44E5-B57A-20B506AE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01F-8E58-4FF4-9D3C-05E65A0E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B9C-7AF7-46C6-AD3A-E7C66E04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492-C2B9-41DA-B8AE-31A672F6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6D7-95F3-42DA-8D05-EC23EE91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97D-324D-40E6-87C0-3B7E2BBA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692-24B3-4059-B426-20A438D1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B53B-AF9F-45E2-8E09-D3DC3DB51580}" type="slidenum">
              <a:rPr b="0" lang="ar-SA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قرر أصول فقه -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(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435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سلم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Traditional Arabic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عنوان 1"/>
          <p:cNvGrpSpPr/>
          <p:nvPr/>
        </p:nvGrpSpPr>
        <p:grpSpPr>
          <a:xfrm>
            <a:off x="401760" y="244440"/>
            <a:ext cx="8340480" cy="1408320"/>
            <a:chOff x="401760" y="244440"/>
            <a:chExt cx="8340480" cy="1408320"/>
          </a:xfrm>
        </p:grpSpPr>
        <p:pic>
          <p:nvPicPr>
            <p:cNvPr id="83" name="عنوان 1" descr=""/>
            <p:cNvPicPr/>
            <p:nvPr/>
          </p:nvPicPr>
          <p:blipFill>
            <a:blip r:embed="rId2"/>
            <a:stretch/>
          </p:blipFill>
          <p:spPr>
            <a:xfrm>
              <a:off x="401760" y="244440"/>
              <a:ext cx="83404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7200" y="1913040"/>
            <a:ext cx="8229600" cy="3900240"/>
          </a:xfrm>
          <a:prstGeom prst="rect">
            <a:avLst/>
          </a:prstGeom>
          <a:ln w="0">
            <a:noFill/>
          </a:ln>
        </p:spPr>
      </p:pic>
      <p:sp>
        <p:nvSpPr>
          <p:cNvPr id="8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4EA2-5F0A-4649-8A0C-AE0FCAD539CE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مربع نص 3"/>
          <p:cNvSpPr/>
          <p:nvPr/>
        </p:nvSpPr>
        <p:spPr>
          <a:xfrm>
            <a:off x="214200" y="35712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34b73"/>
                </a:solidFill>
                <a:latin typeface="Andalus"/>
                <a:cs typeface="Andalus"/>
              </a:rPr>
              <a:t>الدلالة المطلقة ثلاثة أنواع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4"/>
          <p:cNvSpPr/>
          <p:nvPr/>
        </p:nvSpPr>
        <p:spPr>
          <a:xfrm>
            <a:off x="6000840" y="2214720"/>
            <a:ext cx="257184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مستطيل 5"/>
          <p:cNvSpPr/>
          <p:nvPr/>
        </p:nvSpPr>
        <p:spPr>
          <a:xfrm>
            <a:off x="335772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ربع نص 6"/>
          <p:cNvSpPr/>
          <p:nvPr/>
        </p:nvSpPr>
        <p:spPr>
          <a:xfrm>
            <a:off x="6000840" y="2571840"/>
            <a:ext cx="2500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أول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وضعية ) كدلالة الأقدار على مقدوراتها ، ومنه دلالة السبب على المسبب ، كالدلوك على وجوب الصلاة ، وكدلالة المشروط على وجود الشرط ، كالصلاة على الطهارة ، وإلا لما صحت ( و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مربع نص 7"/>
          <p:cNvSpPr/>
          <p:nvPr/>
        </p:nvSpPr>
        <p:spPr>
          <a:xfrm>
            <a:off x="3429000" y="2643120"/>
            <a:ext cx="221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ن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ما دلالت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( عقلية ) كدلالة الأثر على المؤثر ، ومنه دلالة العالم على موجده ، وهو الله سبحانه وتعالى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8"/>
          <p:cNvSpPr/>
          <p:nvPr/>
        </p:nvSpPr>
        <p:spPr>
          <a:xfrm>
            <a:off x="571680" y="2214720"/>
            <a:ext cx="2500200" cy="3500280"/>
          </a:xfrm>
          <a:prstGeom prst="rect">
            <a:avLst/>
          </a:prstGeom>
          <a:solidFill>
            <a:srgbClr val="512539"/>
          </a:solidFill>
          <a:ln w="25560">
            <a:solidFill>
              <a:srgbClr val="391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ربع نص 9"/>
          <p:cNvSpPr/>
          <p:nvPr/>
        </p:nvSpPr>
        <p:spPr>
          <a:xfrm>
            <a:off x="857160" y="2571840"/>
            <a:ext cx="19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النوع الثالث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akkal Majalla"/>
                <a:cs typeface="Sakkal Majalla"/>
              </a:rPr>
              <a:t>ما دلالته ( لفظية ) أي مستندة إلى وجود اللفظ</a:t>
            </a:r>
            <a:r>
              <a:rPr b="1" lang="en-US" sz="2000" spc="-1" strike="noStrike">
                <a:solidFill>
                  <a:srgbClr val="ffffff"/>
                </a:solidFill>
                <a:latin typeface="Sakkal Majalla"/>
                <a:ea typeface="Sakkal Majalla"/>
              </a:rPr>
              <a:t>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مربع نص 4"/>
          <p:cNvSpPr/>
          <p:nvPr/>
        </p:nvSpPr>
        <p:spPr>
          <a:xfrm>
            <a:off x="1357200" y="214200"/>
            <a:ext cx="69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b24d1d"/>
                </a:solidFill>
                <a:latin typeface="Arial"/>
                <a:cs typeface="Led Italic Font"/>
              </a:rPr>
              <a:t>و الدلالة ( اللفظية ) ثلاثة أقسام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رسم تخطيطي 8" descr=""/>
          <p:cNvPicPr/>
          <p:nvPr/>
        </p:nvPicPr>
        <p:blipFill>
          <a:blip r:embed="rId2"/>
          <a:stretch/>
        </p:blipFill>
        <p:spPr>
          <a:xfrm>
            <a:off x="-12600" y="878040"/>
            <a:ext cx="91692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عنوان 1"/>
          <p:cNvGrpSpPr/>
          <p:nvPr/>
        </p:nvGrpSpPr>
        <p:grpSpPr>
          <a:xfrm>
            <a:off x="401760" y="244440"/>
            <a:ext cx="8340480" cy="1285920"/>
            <a:chOff x="401760" y="244440"/>
            <a:chExt cx="8340480" cy="1285920"/>
          </a:xfrm>
        </p:grpSpPr>
        <p:pic>
          <p:nvPicPr>
            <p:cNvPr id="101" name="عنوان 1" descr=""/>
            <p:cNvPicPr/>
            <p:nvPr/>
          </p:nvPicPr>
          <p:blipFill>
            <a:blip r:embed="rId2"/>
            <a:stretch/>
          </p:blipFill>
          <p:spPr>
            <a:xfrm>
              <a:off x="401760" y="244440"/>
              <a:ext cx="83404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نقسم اللفظ من حيث الدلالة على المعنى إلى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نص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الذي لا يحتمل إلا معنى واحداً كقوله تعالى: ”تلك عشرة كاملة“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جم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على السواء كلفظ القرء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ea typeface="Sakkal Majalla"/>
              </a:rPr>
              <a:t> الظاهر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أن يحتمل اللفظ أكثر من معنى لكنه في أحدهما أرجح فالراجح يسمى ظاهراً، مثل الأسد فهو ظاهر في الحيوان المفتر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 algn="r" rtl="1">
              <a:lnSpc>
                <a:spcPct val="100000"/>
              </a:lnSpc>
              <a:spcBef>
                <a:spcPts val="700"/>
              </a:spcBef>
              <a:buClr>
                <a:srgbClr val="874396"/>
              </a:buClr>
              <a:buFont typeface="Sakkal Majall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74396"/>
                </a:solidFill>
                <a:latin typeface="Sakkal Majalla"/>
                <a:cs typeface="Sakkal Majalla"/>
              </a:rPr>
              <a:t>المؤول: </a:t>
            </a: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و ما احتمل اللفظ فيه أكثر من معنى وحمل على المعنى المرجوح، مثل حمل الأسد على الرجل الشجاع. فلا بد من قرينة صارفة عن الراجح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7D61-2565-4210-8992-83F796CDDE46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عنوان 1"/>
          <p:cNvGrpSpPr/>
          <p:nvPr/>
        </p:nvGrpSpPr>
        <p:grpSpPr>
          <a:xfrm>
            <a:off x="401760" y="244440"/>
            <a:ext cx="8340480" cy="1408320"/>
            <a:chOff x="401760" y="244440"/>
            <a:chExt cx="8340480" cy="1408320"/>
          </a:xfrm>
        </p:grpSpPr>
        <p:pic>
          <p:nvPicPr>
            <p:cNvPr id="108" name="عنوان 1" descr=""/>
            <p:cNvPicPr/>
            <p:nvPr/>
          </p:nvPicPr>
          <p:blipFill>
            <a:blip r:embed="rId2"/>
            <a:stretch/>
          </p:blipFill>
          <p:spPr>
            <a:xfrm>
              <a:off x="401760" y="244440"/>
              <a:ext cx="83404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أقسام اللفظ من حيث الدلالة على المعن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حكم الأقسام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دل عن النص إلا بنسخ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عمل بالمجمل إلا بعد البيان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dvertisingExtraBold"/>
              </a:rPr>
              <a:t>لا يترك الظاهر وينتقل للمؤول إلا بقرينة صارفة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BC02-10A0-4BE6-A76D-CA26CA113E98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عنصر نائب للتذييل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wafa\Dropbox\سارة\تدريس عام 1435\أصول فقه3\الخرائط الذهنية\الدلالات_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7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مستطيل مستدير الزوايا 1"/>
          <p:cNvSpPr/>
          <p:nvPr/>
        </p:nvSpPr>
        <p:spPr>
          <a:xfrm>
            <a:off x="250920" y="500040"/>
            <a:ext cx="8250120" cy="5305320"/>
          </a:xfrm>
          <a:prstGeom prst="roundRect">
            <a:avLst>
              <a:gd name="adj" fmla="val 16667"/>
            </a:avLst>
          </a:prstGeom>
          <a:solidFill>
            <a:srgbClr val="512539">
              <a:alpha val="62000"/>
            </a:srgbClr>
          </a:solidFill>
          <a:ln w="34920">
            <a:solidFill>
              <a:srgbClr val="39182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ربع نص 2"/>
          <p:cNvSpPr/>
          <p:nvPr/>
        </p:nvSpPr>
        <p:spPr>
          <a:xfrm>
            <a:off x="4714920" y="857160"/>
            <a:ext cx="321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 صلى الله و سلم على سيدنا محمد و على آله و صحبه أجمعين 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Monotype Koufi"/>
                <a:cs typeface="Monotype Koufi"/>
              </a:rPr>
              <a:t>استفسارات ومداخ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5" descr="label10"/>
          <p:cNvPicPr/>
          <p:nvPr/>
        </p:nvPicPr>
        <p:blipFill>
          <a:blip r:embed="rId2"/>
          <a:stretch/>
        </p:blipFill>
        <p:spPr>
          <a:xfrm>
            <a:off x="469800" y="3571920"/>
            <a:ext cx="14986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التكاليف وتوزيع الدرج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عنصر نائب للمحتوى 7" descr=""/>
          <p:cNvPicPr/>
          <p:nvPr/>
        </p:nvPicPr>
        <p:blipFill>
          <a:blip r:embed="rId2"/>
          <a:stretch/>
        </p:blipFill>
        <p:spPr>
          <a:xfrm>
            <a:off x="360360" y="1384200"/>
            <a:ext cx="766764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بريد الالكتروني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الموق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4396"/>
                </a:solidFill>
                <a:latin typeface="Constantia"/>
              </a:rPr>
              <a:t>http://fac.ksu.edu.sa/wales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52f74"/>
                </a:solidFill>
                <a:latin typeface="Constantia"/>
                <a:cs typeface="Traditional Arabic"/>
              </a:rPr>
              <a:t>تنبيهات ينبغي مراعاتها حين مراسلتي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التكاليف والاستفسارات ترسل إلكترونيا عبرالبريد </a:t>
            </a:r>
            <a:r>
              <a:rPr b="1" lang="en-US" sz="2400" spc="-1" strike="noStrike">
                <a:solidFill>
                  <a:srgbClr val="f11f97"/>
                </a:solidFill>
                <a:latin typeface="Constantia"/>
              </a:rPr>
              <a:t>walessa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Traditional Arabic"/>
              </a:rPr>
              <a:t>والتسليم في المواعيد المحددة عداها لن تقبل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أن يكون عنوان الرسالة  المرسلة كالتالي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(استفسار أو تسليم 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}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cs typeface="Traditional Arabic"/>
              </a:rPr>
              <a:t>عنوان التكليف</a:t>
            </a:r>
            <a:r>
              <a:rPr b="1" lang="en-US" sz="2400" spc="-1" strike="noStrike">
                <a:solidFill>
                  <a:srgbClr val="874396"/>
                </a:solidFill>
                <a:latin typeface="Constantia"/>
              </a:rPr>
              <a:t>{</a:t>
            </a:r>
            <a:r>
              <a:rPr b="1" lang="ar-SA" sz="2400" spc="-1" strike="noStrike">
                <a:solidFill>
                  <a:srgbClr val="874396"/>
                </a:solidFill>
                <a:latin typeface="Constantia"/>
                <a:ea typeface="Traditional Arabic"/>
              </a:rPr>
              <a:t> ): اسم المقرر: اسم الطالبة، رقم الشعبة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-      تسليم التكليف في مرفق يعنون بــ اسم الطالبة- عنوان التكلي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Traditional Arab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raditional Arabic"/>
              </a:rPr>
              <a:t>أهمية طلب الع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 rot="20614200">
            <a:off x="2555640" y="1709640"/>
            <a:ext cx="4227480" cy="4176720"/>
          </a:xfrm>
          <a:prstGeom prst="rect">
            <a:avLst/>
          </a:prstGeom>
          <a:solidFill>
            <a:srgbClr val="e5c6d5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همة والصبر في طلب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إخلاص في طلب العمل والاستمرارية في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آفة الزمن العلم بلا عمل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ثمار العل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24d1d"/>
                </a:solidFill>
                <a:latin typeface="Traditional Arabic"/>
                <a:cs typeface="Traditional Arabic"/>
              </a:rPr>
              <a:t>العلم الذي ينبغي لطالب العلم العمل ب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spcBef>
                <a:spcPts val="649"/>
              </a:spcBef>
              <a:buClr>
                <a:srgbClr val="b24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4" descr="C:\Users\ساره\Desktop\ماذا بعد التخرج\Untitled-1.gif"/>
          <p:cNvPicPr/>
          <p:nvPr/>
        </p:nvPicPr>
        <p:blipFill>
          <a:blip r:embed="rId2"/>
          <a:stretch/>
        </p:blipFill>
        <p:spPr>
          <a:xfrm>
            <a:off x="468360" y="2924280"/>
            <a:ext cx="26082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ndalus"/>
                <a:cs typeface="Andalus"/>
              </a:rPr>
              <a:t>دلالة الألفاظ وأقسام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58920" y="4365720"/>
            <a:ext cx="6400800" cy="1752480"/>
          </a:xfrm>
          <a:prstGeom prst="rect">
            <a:avLst/>
          </a:prstGeom>
          <a:gradFill rotWithShape="0">
            <a:gsLst>
              <a:gs pos="0">
                <a:srgbClr val="ffa7d7"/>
              </a:gs>
              <a:gs pos="100000">
                <a:srgbClr val="ffe6f3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52f74"/>
                </a:solidFill>
                <a:latin typeface="Constantia"/>
                <a:cs typeface="AL-Mohanad Bold"/>
              </a:rPr>
              <a:t>وفاء بنت محمد العيس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onstantia"/>
                <a:cs typeface="Al-Aramco Bold"/>
              </a:rPr>
              <a:t>أصول فقه </a:t>
            </a:r>
            <a:r>
              <a:rPr b="0" lang="ar-SA" sz="3200" spc="-1" strike="noStrike">
                <a:solidFill>
                  <a:srgbClr val="898989"/>
                </a:solidFill>
                <a:latin typeface="Constantia"/>
                <a:ea typeface="Al-Aramco Bol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684360" y="333360"/>
            <a:ext cx="7772400" cy="1469880"/>
          </a:xfrm>
          <a:prstGeom prst="rect">
            <a:avLst/>
          </a:prstGeom>
          <a:solidFill>
            <a:srgbClr val="f4e7ed"/>
          </a:soli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d1c2b"/>
                </a:solidFill>
                <a:latin typeface="Constantia"/>
                <a:cs typeface="AdvertisingExtraBold"/>
              </a:rPr>
              <a:t>كلية التربية – قسم الثقافة الإسلام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صورة 0" descr="ksuLogo.jpg"/>
          <p:cNvPicPr/>
          <p:nvPr/>
        </p:nvPicPr>
        <p:blipFill>
          <a:blip r:embed="rId2"/>
          <a:stretch/>
        </p:blipFill>
        <p:spPr>
          <a:xfrm>
            <a:off x="826920" y="549360"/>
            <a:ext cx="8398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4447a"/>
              </a:gs>
              <a:gs pos="100000">
                <a:srgbClr val="da59a2"/>
              </a:gs>
            </a:gsLst>
            <a:lin ang="16200000"/>
          </a:gradFill>
          <a:ln w="9360">
            <a:solidFill>
              <a:srgbClr val="cd68a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74396"/>
                </a:solidFill>
                <a:latin typeface="Constantia"/>
                <a:cs typeface="Al-Mothnna"/>
              </a:rPr>
              <a:t>تعريف الدلا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68360" y="1600200"/>
            <a:ext cx="820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E84C-808B-47E7-A75A-538D1B102707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247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69" name="عنوان 1"/>
          <p:cNvGrpSpPr/>
          <p:nvPr/>
        </p:nvGrpSpPr>
        <p:grpSpPr>
          <a:xfrm>
            <a:off x="401760" y="244440"/>
            <a:ext cx="8340480" cy="1408320"/>
            <a:chOff x="401760" y="244440"/>
            <a:chExt cx="8340480" cy="1408320"/>
          </a:xfrm>
        </p:grpSpPr>
        <p:pic>
          <p:nvPicPr>
            <p:cNvPr id="70" name="عنوان 1" descr=""/>
            <p:cNvPicPr/>
            <p:nvPr/>
          </p:nvPicPr>
          <p:blipFill>
            <a:blip r:embed="rId3"/>
            <a:stretch/>
          </p:blipFill>
          <p:spPr>
            <a:xfrm>
              <a:off x="401760" y="244440"/>
              <a:ext cx="83404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عريف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80AF-B8A1-4D8C-9106-0CA94A75D237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F:\ع\عروض بوروبينت\أهمية الأسرة ومكانتها في الإسلام\الخلفية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1893960"/>
            <a:ext cx="8229600" cy="3938400"/>
          </a:xfrm>
          <a:prstGeom prst="rect">
            <a:avLst/>
          </a:prstGeom>
          <a:ln w="0">
            <a:noFill/>
          </a:ln>
        </p:spPr>
      </p:pic>
      <p:grpSp>
        <p:nvGrpSpPr>
          <p:cNvPr id="76" name="عنوان 1"/>
          <p:cNvGrpSpPr/>
          <p:nvPr/>
        </p:nvGrpSpPr>
        <p:grpSpPr>
          <a:xfrm>
            <a:off x="401760" y="244440"/>
            <a:ext cx="8340480" cy="1408320"/>
            <a:chOff x="401760" y="244440"/>
            <a:chExt cx="8340480" cy="1408320"/>
          </a:xfrm>
        </p:grpSpPr>
        <p:pic>
          <p:nvPicPr>
            <p:cNvPr id="77" name="عنوان 1" descr=""/>
            <p:cNvPicPr/>
            <p:nvPr/>
          </p:nvPicPr>
          <p:blipFill>
            <a:blip r:embed="rId3"/>
            <a:stretch/>
          </p:blipFill>
          <p:spPr>
            <a:xfrm>
              <a:off x="401760" y="244440"/>
              <a:ext cx="83404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874396"/>
                  </a:solidFill>
                  <a:latin typeface="Constantia"/>
                  <a:cs typeface="Al-Mothnna"/>
                </a:rPr>
                <a:t>تقسيمات الدلال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C11F-F95E-4C7E-8760-07CF70E4F596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onstantia"/>
              </a:rPr>
              <a:t>وفاء بنت محمد العيس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ساره</dc:creator>
  <dc:description/>
  <dc:language>en-US</dc:language>
  <cp:lastModifiedBy>وفاء بنت محمد العيسى</cp:lastModifiedBy>
  <dcterms:modified xsi:type="dcterms:W3CDTF">2016-01-30T13:06:43Z</dcterms:modified>
  <cp:revision>227</cp:revision>
  <dc:subject/>
  <dc:title>الشريحة 1</dc:title>
</cp:coreProperties>
</file>