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DD4-EF23-4D20-AED3-D06A2FE0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B75-3F7D-4F4D-B4DA-437E52EC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693-9210-418A-9795-A6C87F2C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97F-8D77-4EB6-AEB6-F3A35B80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8935-8ED3-4BD6-B761-825F7693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41D5-5ACF-4AD3-8299-756F76E3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B96F-EE2C-4DFC-B5A5-8E53E686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CED7-1B8B-4F3E-B035-F6ADF944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B4AB-15DF-483D-B639-4336706F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549B-6E01-457D-8E8C-C5E41E43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876E-31DD-4072-B12B-8EEBD6CC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9E8E-5064-4DF8-93F0-A4AE11B7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EA07-EDCB-4D12-9442-7BA1F5F4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BC65-69C5-4DA1-AE06-46C0FAC4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AAD9-824B-426A-BBB9-E95B34EF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7043-B26D-49BB-BA17-4E4E726F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6CFF-1F8F-41FA-B433-59941ED4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BE1-42B8-4A57-B9B4-924A3D71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454-D236-46B4-A8CB-7C7432CD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0F9-CF55-4712-B5F3-B6CF8CFA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BEA-8862-4377-88BA-EE0784F2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C23-B5D7-402A-AC7D-5FD5B08B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A5F-7606-4A9C-8570-B2AB332E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2D2-60BF-44CB-9366-DB64F6E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D8F4-2DFA-4F07-9212-A05872B24896}" type="slidenum">
              <a:rPr b="0" lang="en-US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B160-728B-4069-8BC8-422DB4451E18}" type="slidenum">
              <a:rPr b="0" lang="en-US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boundless.com/microbiology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197360" y="2209680"/>
            <a:ext cx="67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MBio 140 – General Micro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950560" y="3886200"/>
            <a:ext cx="32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r. Ayman Mub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990720" y="2274840"/>
            <a:ext cx="647676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ecture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Sun Tue 10:00 -10:5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redi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3 hrs (2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Comic Sans MS"/>
              </a:rPr>
              <a:t>Recommended textbook &amp; Useful Online res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- Alcamo’s Fundamentals of Microbiology,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edition. Jeffrey C. Pommerville. 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-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Comic Sans MS"/>
                <a:ea typeface="Comic Sans MS"/>
                <a:hlinkClick r:id="rId1"/>
              </a:rPr>
              <a:t>https://www.boundless.com/microbiolog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2526480" y="83808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urse Inform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14400" y="152388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undamental of Microbiology - Review of the pioneer Microbiologist –Development of Microbiology – Methods of Studying Microorganisms – Classification of Microorganisms - Structure of Microbial Cell –Nutrition and Microbial Metabolism –Growth and Reproduction – Relationships with other Organism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863640" y="838080"/>
            <a:ext cx="31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enera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250640" y="1828800"/>
            <a:ext cx="3980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- Microbiolog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3- Classification of micro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4- Prokaryot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- Phycology (alg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6- My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7- Vir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8- Immu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633400" y="914400"/>
            <a:ext cx="37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pics 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914400" y="1600200"/>
          <a:ext cx="7696080" cy="30639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68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Ass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10 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Quiz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Mid-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Labor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3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40 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3"/>
          <p:cNvSpPr/>
          <p:nvPr/>
        </p:nvSpPr>
        <p:spPr>
          <a:xfrm>
            <a:off x="765000" y="533520"/>
            <a:ext cx="33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rad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838080" y="56386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signment deadline: Week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143000" y="762120"/>
            <a:ext cx="662940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crobiology…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y of microorganisms that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Exis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 single cells or clusters and must be viewed individually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id of 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icrobiology is a broad discipline. Includes Bacteriology, Virology, Mycology, Parasitology &amp; many other -olog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22:48:36Z</dcterms:created>
  <dc:creator>Ayman</dc:creator>
  <dc:description/>
  <dc:language>en-US</dc:language>
  <cp:lastModifiedBy>Ayman Mubarak</cp:lastModifiedBy>
  <dcterms:modified xsi:type="dcterms:W3CDTF">2016-01-25T22:21:47Z</dcterms:modified>
  <cp:revision>258</cp:revision>
  <dc:subject/>
  <dc:title>الشريحة 1</dc:title>
</cp:coreProperties>
</file>