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56C1-102B-43AC-B93E-F29602B01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8F7B-C494-42DC-9B8F-433A6D44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E0B6-6D24-4F5A-AF58-4CE4B5A86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A5CD-A56A-493D-985A-1573CB655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1DE9-6A07-42E3-B20D-F159CA58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8D49-FF22-4077-9786-862DBBD0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3877-35E2-41BD-ACF8-E9D042A4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3041-C713-4765-A4CB-2CFCBD1D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69DD-593E-4F91-8592-F7E0DF52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C49B-81B0-480D-8A89-69DA7FBD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7438-CB19-47E5-AA5D-591C8D26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F69B-DE68-4532-903C-EE76C698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AB67-28D1-4F1F-A989-4E80767D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2632-5A08-4CFB-ADA6-D038321A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C88F-6094-489F-BF45-54DE863B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3890-7AE9-459F-9677-9AC635CDD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752B-C328-4BCB-B709-89D3FA56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605A-5E14-4C40-A146-B8F5B70B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9247-1C6E-4C27-A306-3A76A9D3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305D-72D2-4AF4-8CFE-493CC75C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AD62-A518-403B-82E0-02CC7CF5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7008-A1EB-4620-8DE6-3BB153E4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EAD5-B571-4538-A268-9EBE3F10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A4F7-8292-4054-9774-E81B6863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D4EA-DAD7-4F12-A76A-7F32138982FB}" type="slidenum">
              <a:rPr b="0" lang="en-US" sz="3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5600-8B49-4F68-9C96-D32662F17257}" type="slidenum">
              <a:rPr b="0" lang="en-US" sz="3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boundless.com/microbiology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df4">
            <a:alpha val="4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1197360" y="2209680"/>
            <a:ext cx="678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MBio 140 – General Micro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2950560" y="3886200"/>
            <a:ext cx="32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r. Ayman Muba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990720" y="2274840"/>
            <a:ext cx="6476760" cy="36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Lecture ti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: Sun Tue 10:00 -10:50 a.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Credit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: 3 hrs (2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Comic Sans MS"/>
              </a:rPr>
              <a:t>Recommended textbook &amp; Useful Online res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1- Alcamo’s Fundamentals of Microbiology, 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  <a:ea typeface="Comic Sans MS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edition. Jeffrey C. Pommerville. 201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2- </a:t>
            </a:r>
            <a:r>
              <a:rPr b="0" lang="en-US" sz="1800" spc="-1" strike="noStrike" u="sng">
                <a:solidFill>
                  <a:srgbClr val="7030a0"/>
                </a:solidFill>
                <a:uFillTx/>
                <a:latin typeface="Comic Sans MS"/>
                <a:ea typeface="Comic Sans MS"/>
                <a:hlinkClick r:id="rId1"/>
              </a:rPr>
              <a:t>https://www.boundless.com/microbiolog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2526480" y="838080"/>
            <a:ext cx="378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Course Inform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914400" y="1523880"/>
            <a:ext cx="7391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Fundamental of Microbiology - Review of the pioneer Microbiologist –Development of Microbiology – Methods of Studying Microorganisms – Classification of Microorganisms - Structure of Microbial Cell –Nutrition and Microbial Metabolism –Growth and Reproduction – Relationships with other Organisms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863640" y="838080"/>
            <a:ext cx="31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General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1250640" y="1828800"/>
            <a:ext cx="3980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1-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2- Microbiology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3- Classification of microbi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4- Prokaryote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5- Phycology (alge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6- My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7- Vir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8- Immu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2633400" y="914400"/>
            <a:ext cx="37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opics  to be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914400" y="1600200"/>
          <a:ext cx="7696080" cy="306396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685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omic Sans MS"/>
                        </a:rPr>
                        <a:t>Crit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omic Sans MS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omic Sans MS"/>
                        </a:rPr>
                        <a:t>Assig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omic Sans MS"/>
                        </a:rPr>
                        <a:t>10 %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omic Sans MS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omic Sans MS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omic Sans MS"/>
                        </a:rPr>
                        <a:t>Quizz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omic Sans MS"/>
                        </a:rPr>
                        <a:t>1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omic Sans MS"/>
                        </a:rPr>
                        <a:t>Mid-te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omic Sans MS"/>
                        </a:rPr>
                        <a:t>1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omic Sans MS"/>
                        </a:rPr>
                        <a:t>Labora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omic Sans MS"/>
                        </a:rPr>
                        <a:t>3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omic Sans MS"/>
                        </a:rPr>
                        <a:t>Final ex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omic Sans MS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omic Sans MS"/>
                        </a:rPr>
                        <a:t>40 %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omic Sans MS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Rectangle 3"/>
          <p:cNvSpPr/>
          <p:nvPr/>
        </p:nvSpPr>
        <p:spPr>
          <a:xfrm>
            <a:off x="765000" y="533520"/>
            <a:ext cx="33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Grad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838080" y="563868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Assignment deadline: Week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1143000" y="762120"/>
            <a:ext cx="6629400" cy="40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crobiology…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tudy of microorganisms that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Exist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as single cells or clusters and must be viewed individually with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aid of a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Micro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icrobiology is a broad discipline. Includes Bacteriology, Virology, Mycology, Parasitology &amp; many other -olog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22:48:36Z</dcterms:created>
  <dc:creator>Ayman</dc:creator>
  <dc:description/>
  <dc:language>en-US</dc:language>
  <cp:lastModifiedBy>Ayman Mubarak</cp:lastModifiedBy>
  <dcterms:modified xsi:type="dcterms:W3CDTF">2016-01-25T22:21:47Z</dcterms:modified>
  <cp:revision>258</cp:revision>
  <dc:subject/>
  <dc:title>الشريحة 1</dc:title>
</cp:coreProperties>
</file>