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30.png" ContentType="image/png"/>
  <Override PartName="/ppt/media/image28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3.png" ContentType="image/png"/>
  <Override PartName="/ppt/media/image47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4FB-348B-45F1-BE9F-E244787F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AE1-5C93-4D7D-B388-B8E0B00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D93-8B3D-4DC3-9A27-3CDCC048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5A4-AA6D-406A-A3E2-02F95860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012-57A1-4FDC-BDCC-CFADF387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254-10F4-413F-85ED-BDF4129B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23A-61C1-4424-97D2-9710405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267-D325-4CEE-A10F-7612253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726-D09E-4847-B2A2-BE609F68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20D-7E4C-44BA-BD4A-894AE6D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A42-9316-4691-819B-3DD3754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0B7-07C0-475D-AF82-80F746A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720F-65C0-4298-B4F9-68931A53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y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0080" y="65070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Copyright © The McGraw-Hill Companies, Inc. 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444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27E2-EE34-4481-B384-D702D625C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bination of two or more substances in which the substances retain their distinct id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16002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of the mixture is the same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erogene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is not uniform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743560" y="2057400"/>
            <a:ext cx="5676480" cy="1685880"/>
            <a:chOff x="2743560" y="2057400"/>
            <a:chExt cx="5676480" cy="1685880"/>
          </a:xfrm>
        </p:grpSpPr>
        <p:sp>
          <p:nvSpPr>
            <p:cNvPr id="103" name="Text Box 6"/>
            <p:cNvSpPr/>
            <p:nvPr/>
          </p:nvSpPr>
          <p:spPr>
            <a:xfrm>
              <a:off x="2743560" y="2743200"/>
              <a:ext cx="362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ft drink, milk, sol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5" descr=""/>
            <p:cNvPicPr/>
            <p:nvPr/>
          </p:nvPicPr>
          <p:blipFill>
            <a:blip r:embed="rId1"/>
            <a:stretch/>
          </p:blipFill>
          <p:spPr>
            <a:xfrm>
              <a:off x="7086600" y="2057400"/>
              <a:ext cx="133344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6"/>
            <p:cNvSpPr/>
            <p:nvPr/>
          </p:nvSpPr>
          <p:spPr>
            <a:xfrm>
              <a:off x="5867280" y="3166920"/>
              <a:ext cx="11430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228600" y="5181480"/>
            <a:ext cx="5865840" cy="1341720"/>
            <a:chOff x="228600" y="5181480"/>
            <a:chExt cx="5865840" cy="1341720"/>
          </a:xfrm>
        </p:grpSpPr>
        <p:sp>
          <p:nvSpPr>
            <p:cNvPr id="107" name="Text Box 8"/>
            <p:cNvSpPr/>
            <p:nvPr/>
          </p:nvSpPr>
          <p:spPr>
            <a:xfrm>
              <a:off x="3060720" y="5334120"/>
              <a:ext cx="30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ment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ron filings in s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9" descr="cha56011_0104"/>
            <p:cNvPicPr/>
            <p:nvPr/>
          </p:nvPicPr>
          <p:blipFill>
            <a:blip r:embed="rId2"/>
            <a:srcRect l="0" t="40533" r="52024" b="0"/>
            <a:stretch/>
          </p:blipFill>
          <p:spPr>
            <a:xfrm>
              <a:off x="228600" y="5181480"/>
              <a:ext cx="21081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7"/>
            <p:cNvSpPr/>
            <p:nvPr/>
          </p:nvSpPr>
          <p:spPr>
            <a:xfrm flipH="1" flipV="1">
              <a:off x="1871280" y="5943240"/>
              <a:ext cx="12193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A00-6EE6-4F20-AC56-94F3FCDFB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3808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separate a mixture into its pur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4597560" y="2322360"/>
            <a:ext cx="4394160" cy="2861640"/>
            <a:chOff x="4597560" y="2322360"/>
            <a:chExt cx="4394160" cy="2861640"/>
          </a:xfrm>
        </p:grpSpPr>
        <p:pic>
          <p:nvPicPr>
            <p:cNvPr id="113" name="Picture 6" descr="cha56011_0104"/>
            <p:cNvPicPr/>
            <p:nvPr/>
          </p:nvPicPr>
          <p:blipFill>
            <a:blip r:embed="rId1"/>
            <a:stretch/>
          </p:blipFill>
          <p:spPr>
            <a:xfrm>
              <a:off x="4597560" y="232236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6196680" y="472428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g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457200" y="1828800"/>
            <a:ext cx="3700440" cy="4004640"/>
            <a:chOff x="457200" y="1828800"/>
            <a:chExt cx="3700440" cy="4004640"/>
          </a:xfrm>
        </p:grpSpPr>
        <p:pic>
          <p:nvPicPr>
            <p:cNvPr id="116" name="Picture 13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70044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1070280" y="537372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t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D55E-BE2C-4504-BC1D-1CF78E8F4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84280" y="228600"/>
            <a:ext cx="797544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eparated into simpler substances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4 elements have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 elements occur naturally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, aluminum, lead, oxygen, carbon,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elements have been created by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etium, americium, seabor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086600" y="3505320"/>
            <a:ext cx="1724040" cy="142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3205080" y="3479760"/>
            <a:ext cx="2509920" cy="147312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>
            <a:off x="3352680" y="31528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7381800" y="3186000"/>
            <a:ext cx="4669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B5F9-CF87-4E51-8B4C-D5FE186BB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644-F51B-45C7-AC02-3ECC5F009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3352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composed of atoms of two or more elements chemically united in fixed prop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1016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s can only be separated into their pure components (elements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367280" y="3886200"/>
            <a:ext cx="1649880" cy="2044800"/>
            <a:chOff x="1367280" y="3886200"/>
            <a:chExt cx="1649880" cy="2044800"/>
          </a:xfrm>
        </p:grpSpPr>
        <p:pic>
          <p:nvPicPr>
            <p:cNvPr id="130" name="Picture 17" descr=""/>
            <p:cNvPicPr/>
            <p:nvPr/>
          </p:nvPicPr>
          <p:blipFill>
            <a:blip r:embed="rId1"/>
            <a:stretch/>
          </p:blipFill>
          <p:spPr>
            <a:xfrm>
              <a:off x="1432080" y="3886200"/>
              <a:ext cx="153972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0"/>
            <p:cNvSpPr/>
            <p:nvPr/>
          </p:nvSpPr>
          <p:spPr>
            <a:xfrm>
              <a:off x="1367280" y="5562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thium fluor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3800520" y="3886200"/>
            <a:ext cx="1762200" cy="2092320"/>
            <a:chOff x="3800520" y="3886200"/>
            <a:chExt cx="1762200" cy="2092320"/>
          </a:xfrm>
        </p:grpSpPr>
        <p:pic>
          <p:nvPicPr>
            <p:cNvPr id="133" name="Picture 18" descr=""/>
            <p:cNvPicPr/>
            <p:nvPr/>
          </p:nvPicPr>
          <p:blipFill>
            <a:blip r:embed="rId2"/>
            <a:stretch/>
          </p:blipFill>
          <p:spPr>
            <a:xfrm>
              <a:off x="3800520" y="3886200"/>
              <a:ext cx="17622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1"/>
            <p:cNvSpPr/>
            <p:nvPr/>
          </p:nvSpPr>
          <p:spPr>
            <a:xfrm>
              <a:off x="4307400" y="5610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6017400" y="3886200"/>
            <a:ext cx="2588760" cy="2135160"/>
            <a:chOff x="6017400" y="3886200"/>
            <a:chExt cx="2588760" cy="2135160"/>
          </a:xfrm>
        </p:grpSpPr>
        <p:pic>
          <p:nvPicPr>
            <p:cNvPr id="136" name="Picture 19" descr=""/>
            <p:cNvPicPr/>
            <p:nvPr/>
          </p:nvPicPr>
          <p:blipFill>
            <a:blip r:embed="rId3"/>
            <a:stretch/>
          </p:blipFill>
          <p:spPr>
            <a:xfrm>
              <a:off x="6418440" y="3886200"/>
              <a:ext cx="15825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2"/>
            <p:cNvSpPr/>
            <p:nvPr/>
          </p:nvSpPr>
          <p:spPr>
            <a:xfrm>
              <a:off x="6017400" y="5653080"/>
              <a:ext cx="25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y ice – carbon diox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EB6F-59BE-4B3A-A599-5C985B209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0" y="1666800"/>
            <a:ext cx="91440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DC51-78A8-4B05-879E-5F95500C4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9320" y="2743200"/>
            <a:ext cx="206388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16680" y="25884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:  Th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3502080" y="2514600"/>
            <a:ext cx="2136600" cy="29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6434280" y="1709640"/>
            <a:ext cx="22525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3642-9C57-41FF-A020-225ADAB3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6320" y="76320"/>
            <a:ext cx="89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States of Matter:  Effect of a Hot Poker on a Block of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49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9"/>
            <p:cNvSpPr/>
            <p:nvPr/>
          </p:nvSpPr>
          <p:spPr>
            <a:xfrm>
              <a:off x="5985360" y="5511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138040" y="556272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5091840" y="15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73F-C450-497F-8990-DEFCC440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alter the composition or identity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3016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ters the composition or identity of the substance(s)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249920" y="2101680"/>
            <a:ext cx="6735240" cy="947160"/>
            <a:chOff x="1249920" y="2101680"/>
            <a:chExt cx="6735240" cy="947160"/>
          </a:xfrm>
        </p:grpSpPr>
        <p:sp>
          <p:nvSpPr>
            <p:cNvPr id="157" name="Text Box 6"/>
            <p:cNvSpPr/>
            <p:nvPr/>
          </p:nvSpPr>
          <p:spPr>
            <a:xfrm>
              <a:off x="1249920" y="2344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ce mel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149800" y="2101680"/>
              <a:ext cx="283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gar dissolving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 wa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609480" y="4086360"/>
            <a:ext cx="7391520" cy="2695320"/>
            <a:chOff x="609480" y="4086360"/>
            <a:chExt cx="7391520" cy="2695320"/>
          </a:xfrm>
        </p:grpSpPr>
        <p:pic>
          <p:nvPicPr>
            <p:cNvPr id="160" name="Picture 16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835440" y="4086360"/>
              <a:ext cx="41655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7"/>
            <p:cNvSpPr/>
            <p:nvPr/>
          </p:nvSpPr>
          <p:spPr>
            <a:xfrm>
              <a:off x="609480" y="50227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"/>
          <p:cNvSpPr/>
          <p:nvPr/>
        </p:nvSpPr>
        <p:spPr>
          <a:xfrm>
            <a:off x="2844000" y="29844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F3D-D806-445E-9784-2E7DB391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0880" y="838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depends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35053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00200" y="1981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00200" y="50767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64760" y="9216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and Intensiv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3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44604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4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128600" cy="1357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"/>
          <p:cNvPicPr/>
          <p:nvPr/>
        </p:nvPicPr>
        <p:blipFill>
          <a:blip r:embed="rId3"/>
          <a:stretch/>
        </p:blipFill>
        <p:spPr>
          <a:xfrm>
            <a:off x="4583160" y="4724280"/>
            <a:ext cx="29376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78000" y="914400"/>
            <a:ext cx="830880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20C-67FD-48C7-9BE6-7097FEA9A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A64-1832-40D3-8491-2AB848B8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8"/>
          <p:cNvSpPr/>
          <p:nvPr/>
        </p:nvSpPr>
        <p:spPr>
          <a:xfrm>
            <a:off x="1527840" y="25884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ystem of Units (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0" descr=""/>
          <p:cNvPicPr/>
          <p:nvPr/>
        </p:nvPicPr>
        <p:blipFill>
          <a:blip r:embed="rId1"/>
          <a:stretch/>
        </p:blipFill>
        <p:spPr>
          <a:xfrm>
            <a:off x="0" y="1447920"/>
            <a:ext cx="8458200" cy="3692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990720" y="54100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وحدات المشتقة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derived units</a:t>
            </a:r>
            <a:br>
              <a:rPr sz="2400"/>
            </a:b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وهي وحدات مشتقة من الوحدات الأساسية وهي حسب الجدول التالي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: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2760" y="2222640"/>
          <a:ext cx="7648560" cy="3487680"/>
        </p:xfrm>
        <a:graphic>
          <a:graphicData uri="http://schemas.openxmlformats.org/drawingml/2006/table">
            <a:tbl>
              <a:tblPr/>
              <a:tblGrid>
                <a:gridCol w="947520"/>
                <a:gridCol w="825480"/>
                <a:gridCol w="1586160"/>
                <a:gridCol w="1398240"/>
                <a:gridCol w="1476720"/>
                <a:gridCol w="1414440"/>
              </a:tblGrid>
              <a:tr h="5176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رم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I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وح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804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quare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ر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مسا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حج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g/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جم/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ilogram/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يلوجرام/ المتر ال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ثا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elocity (spe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سرعة  الخط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Tahoma"/>
                          <a:ea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ccel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عجلة ( التسارع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E81-B3B5-43E2-BEC1-1D0136DD4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9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203-AF36-4A27-BA02-894EB73C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304920"/>
            <a:ext cx="92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er - anything that occupies space and ha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114300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asure of the quantit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 of mass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34290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orce that gravity exerts o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5565240" y="4343400"/>
            <a:ext cx="3425400" cy="1602720"/>
            <a:chOff x="5565240" y="4343400"/>
            <a:chExt cx="3425400" cy="1602720"/>
          </a:xfrm>
        </p:grpSpPr>
        <p:sp>
          <p:nvSpPr>
            <p:cNvPr id="185" name="Text Box 12"/>
            <p:cNvSpPr/>
            <p:nvPr/>
          </p:nvSpPr>
          <p:spPr>
            <a:xfrm>
              <a:off x="5565240" y="4343400"/>
              <a:ext cx="342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1 kg bar will wei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6297480" y="495288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kg on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137640" y="548640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1 kg on m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306000" y="4343400"/>
            <a:ext cx="5275800" cy="2266920"/>
            <a:chOff x="306000" y="4343400"/>
            <a:chExt cx="5275800" cy="2266920"/>
          </a:xfrm>
        </p:grpSpPr>
        <p:grpSp>
          <p:nvGrpSpPr>
            <p:cNvPr id="189" name="Group 15"/>
            <p:cNvGrpSpPr/>
            <p:nvPr/>
          </p:nvGrpSpPr>
          <p:grpSpPr>
            <a:xfrm>
              <a:off x="306000" y="4343400"/>
              <a:ext cx="3020040" cy="1602720"/>
              <a:chOff x="306000" y="4343400"/>
              <a:chExt cx="3020040" cy="1602720"/>
            </a:xfrm>
          </p:grpSpPr>
          <p:sp>
            <p:nvSpPr>
              <p:cNvPr id="190" name="Text Box 5"/>
              <p:cNvSpPr/>
              <p:nvPr/>
            </p:nvSpPr>
            <p:spPr>
              <a:xfrm>
                <a:off x="306000" y="4343400"/>
                <a:ext cx="302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weight =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x ma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"/>
              <p:cNvSpPr/>
              <p:nvPr/>
            </p:nvSpPr>
            <p:spPr>
              <a:xfrm>
                <a:off x="577440" y="4952880"/>
                <a:ext cx="239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earth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7"/>
              <p:cNvSpPr/>
              <p:nvPr/>
            </p:nvSpPr>
            <p:spPr>
              <a:xfrm>
                <a:off x="577800" y="5486400"/>
                <a:ext cx="24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moon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18" descr=""/>
            <p:cNvPicPr/>
            <p:nvPr/>
          </p:nvPicPr>
          <p:blipFill>
            <a:blip r:embed="rId1"/>
            <a:stretch/>
          </p:blipFill>
          <p:spPr>
            <a:xfrm>
              <a:off x="3276720" y="4876920"/>
              <a:ext cx="2305080" cy="17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54DC-F794-4EF7-9AF0-1B76711F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0760" y="304920"/>
            <a:ext cx="90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volume is 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16040" y="990720"/>
            <a:ext cx="54406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405240" y="1650960"/>
            <a:ext cx="54604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ext Box 7" descr=""/>
          <p:cNvPicPr/>
          <p:nvPr/>
        </p:nvPicPr>
        <p:blipFill>
          <a:blip r:embed="rId1"/>
          <a:stretch/>
        </p:blipFill>
        <p:spPr>
          <a:xfrm>
            <a:off x="3176640" y="2249640"/>
            <a:ext cx="5851440" cy="749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5005080" y="2971800"/>
            <a:ext cx="226260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L = 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2"/>
          <a:srcRect l="61885" t="13502" r="9002" b="0"/>
          <a:stretch/>
        </p:blipFill>
        <p:spPr>
          <a:xfrm>
            <a:off x="7508880" y="2895480"/>
            <a:ext cx="1635120" cy="3632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3065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45F-260C-4B95-8AA9-4132D7F88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26640" y="24300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065680" y="903240"/>
            <a:ext cx="50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g/mL =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915120" y="1828800"/>
            <a:ext cx="3074400" cy="928440"/>
            <a:chOff x="915120" y="1828800"/>
            <a:chExt cx="3074400" cy="928440"/>
          </a:xfrm>
        </p:grpSpPr>
        <p:sp>
          <p:nvSpPr>
            <p:cNvPr id="206" name="Text Box 4"/>
            <p:cNvSpPr/>
            <p:nvPr/>
          </p:nvSpPr>
          <p:spPr>
            <a:xfrm>
              <a:off x="915120" y="2058840"/>
              <a:ext cx="17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ensity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787480" y="182880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"/>
            <p:cNvSpPr/>
            <p:nvPr/>
          </p:nvSpPr>
          <p:spPr>
            <a:xfrm>
              <a:off x="2661120" y="223668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658600" y="23241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3"/>
          <p:cNvGrpSpPr/>
          <p:nvPr/>
        </p:nvGrpSpPr>
        <p:grpSpPr>
          <a:xfrm>
            <a:off x="5831280" y="1879560"/>
            <a:ext cx="1331640" cy="876240"/>
            <a:chOff x="5831280" y="1879560"/>
            <a:chExt cx="1331640" cy="876240"/>
          </a:xfrm>
        </p:grpSpPr>
        <p:sp>
          <p:nvSpPr>
            <p:cNvPr id="211" name="Text Box 9"/>
            <p:cNvSpPr/>
            <p:nvPr/>
          </p:nvSpPr>
          <p:spPr>
            <a:xfrm>
              <a:off x="5831280" y="207180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6644520" y="1879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6618600" y="2235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6629760" y="23306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6"/>
          <p:cNvSpPr/>
          <p:nvPr/>
        </p:nvSpPr>
        <p:spPr>
          <a:xfrm>
            <a:off x="533520" y="34941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iece of platinum metal with a density of 21.5 g/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has a volume of 4.49 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What is its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1373400" y="4572000"/>
            <a:ext cx="1331640" cy="876240"/>
            <a:chOff x="1373400" y="4572000"/>
            <a:chExt cx="1331640" cy="876240"/>
          </a:xfrm>
        </p:grpSpPr>
        <p:sp>
          <p:nvSpPr>
            <p:cNvPr id="217" name="Text Box 18"/>
            <p:cNvSpPr/>
            <p:nvPr/>
          </p:nvSpPr>
          <p:spPr>
            <a:xfrm>
              <a:off x="1373400" y="47642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2186640" y="4572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2160720" y="4927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2171880" y="5023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2"/>
          <p:cNvSpPr/>
          <p:nvPr/>
        </p:nvSpPr>
        <p:spPr>
          <a:xfrm>
            <a:off x="1284120" y="5500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447048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622296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916720" y="5499000"/>
            <a:ext cx="53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1.5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4.49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0068-FBF8-489A-977E-27C24EEE0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3520" y="1905120"/>
            <a:ext cx="685800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g/m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772560" y="76212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6652-83AA-419B-8F7D-7A52FFB8D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479680" y="0"/>
            <a:ext cx="39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1EB-319D-481A-B6B9-A3941E50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5"/>
          <p:cNvGrpSpPr/>
          <p:nvPr/>
        </p:nvGrpSpPr>
        <p:grpSpPr>
          <a:xfrm>
            <a:off x="1981080" y="1600200"/>
            <a:ext cx="2210040" cy="4335480"/>
            <a:chOff x="1981080" y="1600200"/>
            <a:chExt cx="2210040" cy="4335480"/>
          </a:xfrm>
        </p:grpSpPr>
        <p:pic>
          <p:nvPicPr>
            <p:cNvPr id="232" name="Picture 29" descr=""/>
            <p:cNvPicPr/>
            <p:nvPr/>
          </p:nvPicPr>
          <p:blipFill>
            <a:blip r:embed="rId1"/>
            <a:stretch/>
          </p:blipFill>
          <p:spPr>
            <a:xfrm>
              <a:off x="1981080" y="160020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4" descr=""/>
            <p:cNvPicPr/>
            <p:nvPr/>
          </p:nvPicPr>
          <p:blipFill>
            <a:blip r:embed="rId2"/>
            <a:stretch/>
          </p:blipFill>
          <p:spPr>
            <a:xfrm>
              <a:off x="3490920" y="541008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1" descr=""/>
          <p:cNvPicPr/>
          <p:nvPr/>
        </p:nvPicPr>
        <p:blipFill>
          <a:blip r:embed="rId3"/>
          <a:stretch/>
        </p:blipFill>
        <p:spPr>
          <a:xfrm>
            <a:off x="3681360" y="540072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4"/>
          <a:stretch/>
        </p:blipFill>
        <p:spPr>
          <a:xfrm>
            <a:off x="4838760" y="4067280"/>
            <a:ext cx="271440" cy="26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261120" y="15238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6154200" y="4003560"/>
            <a:ext cx="2961000" cy="874800"/>
            <a:chOff x="6154200" y="4003560"/>
            <a:chExt cx="2961000" cy="874800"/>
          </a:xfrm>
        </p:grpSpPr>
        <p:sp>
          <p:nvSpPr>
            <p:cNvPr id="238" name="Text Box 4"/>
            <p:cNvSpPr/>
            <p:nvPr/>
          </p:nvSpPr>
          <p:spPr>
            <a:xfrm>
              <a:off x="6154200" y="417816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7067520" y="4003560"/>
              <a:ext cx="393120" cy="874800"/>
              <a:chOff x="7067520" y="4003560"/>
              <a:chExt cx="393120" cy="874800"/>
            </a:xfrm>
          </p:grpSpPr>
          <p:sp>
            <p:nvSpPr>
              <p:cNvPr id="240" name="Text Box 5"/>
              <p:cNvSpPr/>
              <p:nvPr/>
            </p:nvSpPr>
            <p:spPr>
              <a:xfrm>
                <a:off x="7081920" y="40035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"/>
              <p:cNvSpPr/>
              <p:nvPr/>
            </p:nvSpPr>
            <p:spPr>
              <a:xfrm>
                <a:off x="7081920" y="4357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7067520" y="44593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 Box 11"/>
          <p:cNvSpPr/>
          <p:nvPr/>
        </p:nvSpPr>
        <p:spPr>
          <a:xfrm>
            <a:off x="6493680" y="207324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 K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3 K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431040" y="4892760"/>
            <a:ext cx="24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"/>
          <p:cNvPicPr/>
          <p:nvPr/>
        </p:nvPicPr>
        <p:blipFill>
          <a:blip r:embed="rId5"/>
          <a:stretch/>
        </p:blipFill>
        <p:spPr>
          <a:xfrm>
            <a:off x="380880" y="155268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3"/>
          <p:cNvGrpSpPr/>
          <p:nvPr/>
        </p:nvGrpSpPr>
        <p:grpSpPr>
          <a:xfrm>
            <a:off x="3581280" y="1828800"/>
            <a:ext cx="547920" cy="2633760"/>
            <a:chOff x="3581280" y="1828800"/>
            <a:chExt cx="547920" cy="2633760"/>
          </a:xfrm>
        </p:grpSpPr>
        <p:pic>
          <p:nvPicPr>
            <p:cNvPr id="247" name="Picture 30" descr=""/>
            <p:cNvPicPr/>
            <p:nvPr/>
          </p:nvPicPr>
          <p:blipFill>
            <a:blip r:embed="rId6"/>
            <a:stretch/>
          </p:blipFill>
          <p:spPr>
            <a:xfrm>
              <a:off x="3795840" y="18288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1" descr=""/>
            <p:cNvPicPr/>
            <p:nvPr/>
          </p:nvPicPr>
          <p:blipFill>
            <a:blip r:embed="rId7"/>
            <a:stretch/>
          </p:blipFill>
          <p:spPr>
            <a:xfrm>
              <a:off x="3762360" y="336708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2" descr=""/>
            <p:cNvPicPr/>
            <p:nvPr/>
          </p:nvPicPr>
          <p:blipFill>
            <a:blip r:embed="rId8"/>
            <a:stretch/>
          </p:blipFill>
          <p:spPr>
            <a:xfrm>
              <a:off x="3581280" y="359568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3" descr=""/>
            <p:cNvPicPr/>
            <p:nvPr/>
          </p:nvPicPr>
          <p:blipFill>
            <a:blip r:embed="rId9"/>
            <a:stretch/>
          </p:blipFill>
          <p:spPr>
            <a:xfrm>
              <a:off x="3824280" y="423396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8"/>
          <p:cNvGrpSpPr/>
          <p:nvPr/>
        </p:nvGrpSpPr>
        <p:grpSpPr>
          <a:xfrm>
            <a:off x="3768840" y="1571760"/>
            <a:ext cx="1312920" cy="4185720"/>
            <a:chOff x="3768840" y="1571760"/>
            <a:chExt cx="1312920" cy="4185720"/>
          </a:xfrm>
        </p:grpSpPr>
        <p:pic>
          <p:nvPicPr>
            <p:cNvPr id="252" name="Picture 36" descr=""/>
            <p:cNvPicPr/>
            <p:nvPr/>
          </p:nvPicPr>
          <p:blipFill>
            <a:blip r:embed="rId10"/>
            <a:stretch/>
          </p:blipFill>
          <p:spPr>
            <a:xfrm>
              <a:off x="4040280" y="157176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7" descr=""/>
            <p:cNvPicPr/>
            <p:nvPr/>
          </p:nvPicPr>
          <p:blipFill>
            <a:blip r:embed="rId11"/>
            <a:stretch/>
          </p:blipFill>
          <p:spPr>
            <a:xfrm>
              <a:off x="3768840" y="556740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4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emperature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982-FB44-4088-8CE1-A16AFBE9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04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vert 172.9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 to degrees Cels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3342960" y="1066680"/>
            <a:ext cx="2961000" cy="874800"/>
            <a:chOff x="3342960" y="1066680"/>
            <a:chExt cx="2961000" cy="874800"/>
          </a:xfrm>
        </p:grpSpPr>
        <p:sp>
          <p:nvSpPr>
            <p:cNvPr id="258" name="Text Box 6"/>
            <p:cNvSpPr/>
            <p:nvPr/>
          </p:nvSpPr>
          <p:spPr>
            <a:xfrm>
              <a:off x="3342960" y="124128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7"/>
            <p:cNvGrpSpPr/>
            <p:nvPr/>
          </p:nvGrpSpPr>
          <p:grpSpPr>
            <a:xfrm>
              <a:off x="4256280" y="1066680"/>
              <a:ext cx="393120" cy="874800"/>
              <a:chOff x="4256280" y="1066680"/>
              <a:chExt cx="393120" cy="874800"/>
            </a:xfrm>
          </p:grpSpPr>
          <p:sp>
            <p:nvSpPr>
              <p:cNvPr id="260" name="Text Box 8"/>
              <p:cNvSpPr/>
              <p:nvPr/>
            </p:nvSpPr>
            <p:spPr>
              <a:xfrm>
                <a:off x="4270680" y="1066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4270680" y="1420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"/>
              <p:cNvSpPr/>
              <p:nvPr/>
            </p:nvSpPr>
            <p:spPr>
              <a:xfrm>
                <a:off x="4256280" y="1522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7"/>
          <p:cNvGrpSpPr/>
          <p:nvPr/>
        </p:nvGrpSpPr>
        <p:grpSpPr>
          <a:xfrm>
            <a:off x="2560320" y="1793880"/>
            <a:ext cx="2951640" cy="874800"/>
            <a:chOff x="2560320" y="1793880"/>
            <a:chExt cx="2951640" cy="874800"/>
          </a:xfrm>
        </p:grpSpPr>
        <p:sp>
          <p:nvSpPr>
            <p:cNvPr id="264" name="Text Box 12"/>
            <p:cNvSpPr/>
            <p:nvPr/>
          </p:nvSpPr>
          <p:spPr>
            <a:xfrm>
              <a:off x="2560320" y="1968480"/>
              <a:ext cx="29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3"/>
            <p:cNvGrpSpPr/>
            <p:nvPr/>
          </p:nvGrpSpPr>
          <p:grpSpPr>
            <a:xfrm>
              <a:off x="4248000" y="1793880"/>
              <a:ext cx="393120" cy="874800"/>
              <a:chOff x="4248000" y="1793880"/>
              <a:chExt cx="393120" cy="874800"/>
            </a:xfrm>
          </p:grpSpPr>
          <p:sp>
            <p:nvSpPr>
              <p:cNvPr id="266" name="Text Box 14"/>
              <p:cNvSpPr/>
              <p:nvPr/>
            </p:nvSpPr>
            <p:spPr>
              <a:xfrm>
                <a:off x="4262400" y="1793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"/>
              <p:cNvSpPr/>
              <p:nvPr/>
            </p:nvSpPr>
            <p:spPr>
              <a:xfrm>
                <a:off x="4262400" y="2148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4248000" y="2249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31"/>
          <p:cNvGrpSpPr/>
          <p:nvPr/>
        </p:nvGrpSpPr>
        <p:grpSpPr>
          <a:xfrm>
            <a:off x="1646280" y="2666880"/>
            <a:ext cx="3004560" cy="914400"/>
            <a:chOff x="1646280" y="2666880"/>
            <a:chExt cx="3004560" cy="914400"/>
          </a:xfrm>
        </p:grpSpPr>
        <p:sp>
          <p:nvSpPr>
            <p:cNvPr id="270" name="Text Box 25"/>
            <p:cNvSpPr/>
            <p:nvPr/>
          </p:nvSpPr>
          <p:spPr>
            <a:xfrm>
              <a:off x="2055600" y="2803320"/>
              <a:ext cx="259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 =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0"/>
            <p:cNvGrpSpPr/>
            <p:nvPr/>
          </p:nvGrpSpPr>
          <p:grpSpPr>
            <a:xfrm>
              <a:off x="1646280" y="2666880"/>
              <a:ext cx="380880" cy="914400"/>
              <a:chOff x="1646280" y="2666880"/>
              <a:chExt cx="380880" cy="914400"/>
            </a:xfrm>
          </p:grpSpPr>
          <p:sp>
            <p:nvSpPr>
              <p:cNvPr id="272" name="Text Box 27"/>
              <p:cNvSpPr/>
              <p:nvPr/>
            </p:nvSpPr>
            <p:spPr>
              <a:xfrm>
                <a:off x="1648080" y="3060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8"/>
              <p:cNvSpPr/>
              <p:nvPr/>
            </p:nvSpPr>
            <p:spPr>
              <a:xfrm>
                <a:off x="1648080" y="2666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1646280" y="3122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8"/>
          <p:cNvGrpSpPr/>
          <p:nvPr/>
        </p:nvGrpSpPr>
        <p:grpSpPr>
          <a:xfrm>
            <a:off x="3317760" y="3430440"/>
            <a:ext cx="3189600" cy="914400"/>
            <a:chOff x="3317760" y="3430440"/>
            <a:chExt cx="3189600" cy="914400"/>
          </a:xfrm>
        </p:grpSpPr>
        <p:sp>
          <p:nvSpPr>
            <p:cNvPr id="276" name="Text Box 33"/>
            <p:cNvSpPr/>
            <p:nvPr/>
          </p:nvSpPr>
          <p:spPr>
            <a:xfrm>
              <a:off x="3317760" y="3581280"/>
              <a:ext cx="31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34"/>
            <p:cNvGrpSpPr/>
            <p:nvPr/>
          </p:nvGrpSpPr>
          <p:grpSpPr>
            <a:xfrm>
              <a:off x="4226040" y="3430440"/>
              <a:ext cx="380880" cy="914400"/>
              <a:chOff x="4226040" y="3430440"/>
              <a:chExt cx="380880" cy="914400"/>
            </a:xfrm>
          </p:grpSpPr>
          <p:sp>
            <p:nvSpPr>
              <p:cNvPr id="278" name="Text Box 35"/>
              <p:cNvSpPr/>
              <p:nvPr/>
            </p:nvSpPr>
            <p:spPr>
              <a:xfrm>
                <a:off x="4227840" y="3824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36"/>
              <p:cNvSpPr/>
              <p:nvPr/>
            </p:nvSpPr>
            <p:spPr>
              <a:xfrm>
                <a:off x="4227840" y="3430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7"/>
              <p:cNvSpPr/>
              <p:nvPr/>
            </p:nvSpPr>
            <p:spPr>
              <a:xfrm>
                <a:off x="4226040" y="3886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9"/>
          <p:cNvGrpSpPr/>
          <p:nvPr/>
        </p:nvGrpSpPr>
        <p:grpSpPr>
          <a:xfrm>
            <a:off x="3312000" y="4268880"/>
            <a:ext cx="4848840" cy="914040"/>
            <a:chOff x="3312000" y="4268880"/>
            <a:chExt cx="4848840" cy="914040"/>
          </a:xfrm>
        </p:grpSpPr>
        <p:sp>
          <p:nvSpPr>
            <p:cNvPr id="282" name="Text Box 40"/>
            <p:cNvSpPr/>
            <p:nvPr/>
          </p:nvSpPr>
          <p:spPr>
            <a:xfrm>
              <a:off x="3312000" y="4419360"/>
              <a:ext cx="484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172.9 – 32) = 78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41"/>
            <p:cNvGrpSpPr/>
            <p:nvPr/>
          </p:nvGrpSpPr>
          <p:grpSpPr>
            <a:xfrm>
              <a:off x="4230720" y="4268880"/>
              <a:ext cx="380880" cy="914040"/>
              <a:chOff x="4230720" y="4268880"/>
              <a:chExt cx="380880" cy="914040"/>
            </a:xfrm>
          </p:grpSpPr>
          <p:sp>
            <p:nvSpPr>
              <p:cNvPr id="284" name="Text Box 42"/>
              <p:cNvSpPr/>
              <p:nvPr/>
            </p:nvSpPr>
            <p:spPr>
              <a:xfrm>
                <a:off x="4232520" y="4662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43"/>
              <p:cNvSpPr/>
              <p:nvPr/>
            </p:nvSpPr>
            <p:spPr>
              <a:xfrm>
                <a:off x="4232520" y="4268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4"/>
              <p:cNvSpPr/>
              <p:nvPr/>
            </p:nvSpPr>
            <p:spPr>
              <a:xfrm>
                <a:off x="4230720" y="472428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E0DC-2443-4FE6-8E41-12805C26E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990720"/>
            <a:ext cx="426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and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ery with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s and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724280" y="4071960"/>
            <a:ext cx="426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743200" cy="21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8191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C39-557E-4AD5-B5AA-5B455538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rcRect l="17809" t="9998" r="18456" b="0"/>
          <a:stretch/>
        </p:blipFill>
        <p:spPr>
          <a:xfrm>
            <a:off x="0" y="1311120"/>
            <a:ext cx="446076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5716440" y="1476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b = 4.4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579920" y="2057400"/>
            <a:ext cx="4191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536 kg x 9.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kg m/s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1 newton (N) = 1 kg m/s</a:t>
            </a:r>
            <a:r>
              <a:rPr b="0" lang="en-US" sz="2400" spc="-1" strike="noStrike" baseline="30000">
                <a:solidFill>
                  <a:srgbClr val="00997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891960" y="1573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542400" y="635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B6CC-A4CD-4FA6-9911-D16C6581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5394240" y="-395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477720" y="-106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77720" y="471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304920" y="17064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إعتبا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حدات قياس الطاق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ي نفس واحدت قياس الشغل في الوحدا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فكلاهما يتم قياسه بوحده الجول ورزمها هو ( </a:t>
            </a:r>
            <a:r>
              <a:rPr b="0" i="1" lang="ar-SA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الجول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) الشغل الذي يقوم به نيوتن واحد على مسافه قدرها واحد م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phic 15" descr=""/>
          <p:cNvPicPr/>
          <p:nvPr/>
        </p:nvPicPr>
        <p:blipFill>
          <a:blip r:embed="rId1"/>
          <a:stretch/>
        </p:blipFill>
        <p:spPr>
          <a:xfrm>
            <a:off x="1082520" y="3200400"/>
            <a:ext cx="5470560" cy="1165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6"/>
          <p:cNvSpPr/>
          <p:nvPr/>
        </p:nvSpPr>
        <p:spPr>
          <a:xfrm>
            <a:off x="914400" y="458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J =N.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2682000" y="38088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Energy 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194640" y="933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54D2-80B0-4F4E-87C8-99A1D374A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1828800" y="685800"/>
            <a:ext cx="7162920" cy="1214280"/>
            <a:chOff x="1828800" y="685800"/>
            <a:chExt cx="7162920" cy="1214280"/>
          </a:xfrm>
        </p:grpSpPr>
        <p:sp>
          <p:nvSpPr>
            <p:cNvPr id="305" name="Text Box 5"/>
            <p:cNvSpPr/>
            <p:nvPr/>
          </p:nvSpPr>
          <p:spPr>
            <a:xfrm>
              <a:off x="1828800" y="6858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number of atoms in 12 g of carb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2212920" y="1379520"/>
              <a:ext cx="56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02,200,000,000,000,000,0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7"/>
          <p:cNvSpPr/>
          <p:nvPr/>
        </p:nvSpPr>
        <p:spPr>
          <a:xfrm>
            <a:off x="3539880" y="207324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952560" y="2766960"/>
            <a:ext cx="7238880" cy="1214280"/>
            <a:chOff x="952560" y="2766960"/>
            <a:chExt cx="7238880" cy="1214280"/>
          </a:xfrm>
        </p:grpSpPr>
        <p:sp>
          <p:nvSpPr>
            <p:cNvPr id="309" name="Text Box 8"/>
            <p:cNvSpPr/>
            <p:nvPr/>
          </p:nvSpPr>
          <p:spPr>
            <a:xfrm>
              <a:off x="952560" y="276696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mass of a single carbon atom in gram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864440" y="3460680"/>
              <a:ext cx="54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000000000000000000001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0"/>
          <p:cNvSpPr/>
          <p:nvPr/>
        </p:nvSpPr>
        <p:spPr>
          <a:xfrm>
            <a:off x="3606480" y="41544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3912120" y="4815000"/>
            <a:ext cx="132408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37120" y="525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a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945400" y="525780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6"/>
          <p:cNvSpPr/>
          <p:nvPr/>
        </p:nvSpPr>
        <p:spPr>
          <a:xfrm flipV="1">
            <a:off x="838080" y="5105160"/>
            <a:ext cx="31244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 flipV="1">
            <a:off x="5181480" y="502920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B5C2-4245-4713-A2C4-5ED104966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08160" y="762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5692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14280" y="220968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 = 5.6876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558720" y="1244520"/>
            <a:ext cx="2994120" cy="459720"/>
            <a:chOff x="558720" y="1244520"/>
            <a:chExt cx="2994120" cy="459720"/>
          </a:xfrm>
        </p:grpSpPr>
        <p:sp>
          <p:nvSpPr>
            <p:cNvPr id="323" name="Line 7"/>
            <p:cNvSpPr/>
            <p:nvPr/>
          </p:nvSpPr>
          <p:spPr>
            <a:xfrm flipH="1">
              <a:off x="558720" y="14731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0"/>
            <p:cNvSpPr/>
            <p:nvPr/>
          </p:nvSpPr>
          <p:spPr>
            <a:xfrm>
              <a:off x="1000800" y="124452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2"/>
          <p:cNvSpPr/>
          <p:nvPr/>
        </p:nvSpPr>
        <p:spPr>
          <a:xfrm>
            <a:off x="5014440" y="762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2888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014440" y="22096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 = 7.7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5278320" y="1244520"/>
            <a:ext cx="3633840" cy="459720"/>
            <a:chOff x="5278320" y="1244520"/>
            <a:chExt cx="3633840" cy="459720"/>
          </a:xfrm>
        </p:grpSpPr>
        <p:sp>
          <p:nvSpPr>
            <p:cNvPr id="329" name="Line 16"/>
            <p:cNvSpPr/>
            <p:nvPr/>
          </p:nvSpPr>
          <p:spPr>
            <a:xfrm>
              <a:off x="5278320" y="1473120"/>
              <a:ext cx="893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6174000" y="124452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9"/>
          <p:cNvSpPr/>
          <p:nvPr/>
        </p:nvSpPr>
        <p:spPr>
          <a:xfrm>
            <a:off x="290880" y="303696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212760" y="3733920"/>
            <a:ext cx="4206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quantity with the same expon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onent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5046480" y="37846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.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869000" y="4330800"/>
            <a:ext cx="34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3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6585480" y="48769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0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4CA5-F9DF-4850-B9D7-B5274F804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31120" y="1027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45520" y="1600200"/>
            <a:ext cx="396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965840" y="1447920"/>
            <a:ext cx="36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x (7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7.0) x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30760" y="34815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44440" y="4054320"/>
            <a:ext cx="4563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422320" y="3581280"/>
            <a:ext cx="31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5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8.5 ÷ 5.0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3120-06B1-44D9-A7DB-5CBEE890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28600" y="914400"/>
            <a:ext cx="861048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igit that is not zero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34 kg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between nonzero digi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6 m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to the left of the first nonzero digi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 L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greater than 1, then all zeros to the right of the decimal point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mg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less than 1, then only the zeros that are at the end and in the middle of the number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420 g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458D-11CA-4E16-B7B8-920FC0F3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486080" y="4572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significant figures are in each of the following measu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281240" y="1638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361480" y="163836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282320" y="241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361480" y="2413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288080" y="32004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32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5361480" y="32004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1289160" y="39816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361480" y="398772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281960" y="4762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5361480" y="47624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220-78B7-4FD1-8755-C93203901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81360" y="91440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81720" y="1523880"/>
            <a:ext cx="86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cannot have more digits to the right of the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than any of the original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8"/>
          <p:cNvGrpSpPr/>
          <p:nvPr/>
        </p:nvGrpSpPr>
        <p:grpSpPr>
          <a:xfrm>
            <a:off x="698400" y="2478240"/>
            <a:ext cx="1165680" cy="1245240"/>
            <a:chOff x="698400" y="2478240"/>
            <a:chExt cx="1165680" cy="1245240"/>
          </a:xfrm>
        </p:grpSpPr>
        <p:sp>
          <p:nvSpPr>
            <p:cNvPr id="364" name="Text Box 8"/>
            <p:cNvSpPr/>
            <p:nvPr/>
          </p:nvSpPr>
          <p:spPr>
            <a:xfrm>
              <a:off x="748800" y="24782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9.3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916200" y="28195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731520" y="2819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69840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752040" y="32637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.4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0"/>
          <p:cNvGrpSpPr/>
          <p:nvPr/>
        </p:nvGrpSpPr>
        <p:grpSpPr>
          <a:xfrm>
            <a:off x="1904760" y="3263760"/>
            <a:ext cx="3155760" cy="459720"/>
            <a:chOff x="1904760" y="3263760"/>
            <a:chExt cx="3155760" cy="459720"/>
          </a:xfrm>
        </p:grpSpPr>
        <p:sp>
          <p:nvSpPr>
            <p:cNvPr id="370" name="Line 14"/>
            <p:cNvSpPr/>
            <p:nvPr/>
          </p:nvSpPr>
          <p:spPr>
            <a:xfrm flipH="1">
              <a:off x="1904760" y="34797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2657880" y="326376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9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1904760" y="2819520"/>
            <a:ext cx="6307200" cy="459720"/>
            <a:chOff x="1904760" y="2819520"/>
            <a:chExt cx="6307200" cy="459720"/>
          </a:xfrm>
        </p:grpSpPr>
        <p:sp>
          <p:nvSpPr>
            <p:cNvPr id="373" name="Line 16"/>
            <p:cNvSpPr/>
            <p:nvPr/>
          </p:nvSpPr>
          <p:spPr>
            <a:xfrm flipH="1">
              <a:off x="1904760" y="3048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2662200" y="2819520"/>
              <a:ext cx="55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significant figure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1"/>
          <p:cNvGrpSpPr/>
          <p:nvPr/>
        </p:nvGrpSpPr>
        <p:grpSpPr>
          <a:xfrm>
            <a:off x="815400" y="4267080"/>
            <a:ext cx="1213920" cy="1183680"/>
            <a:chOff x="815400" y="4267080"/>
            <a:chExt cx="1213920" cy="1183680"/>
          </a:xfrm>
        </p:grpSpPr>
        <p:sp>
          <p:nvSpPr>
            <p:cNvPr id="376" name="Text Box 21"/>
            <p:cNvSpPr/>
            <p:nvPr/>
          </p:nvSpPr>
          <p:spPr>
            <a:xfrm>
              <a:off x="916560" y="426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2"/>
            <p:cNvSpPr/>
            <p:nvPr/>
          </p:nvSpPr>
          <p:spPr>
            <a:xfrm>
              <a:off x="815400" y="457200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1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3"/>
            <p:cNvSpPr/>
            <p:nvPr/>
          </p:nvSpPr>
          <p:spPr>
            <a:xfrm>
              <a:off x="838080" y="50292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4"/>
            <p:cNvSpPr/>
            <p:nvPr/>
          </p:nvSpPr>
          <p:spPr>
            <a:xfrm>
              <a:off x="916920" y="49910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8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5"/>
          <p:cNvGrpSpPr/>
          <p:nvPr/>
        </p:nvGrpSpPr>
        <p:grpSpPr>
          <a:xfrm>
            <a:off x="1904760" y="4267080"/>
            <a:ext cx="6425280" cy="459720"/>
            <a:chOff x="1904760" y="4267080"/>
            <a:chExt cx="6425280" cy="459720"/>
          </a:xfrm>
        </p:grpSpPr>
        <p:sp>
          <p:nvSpPr>
            <p:cNvPr id="381" name="Line 26"/>
            <p:cNvSpPr/>
            <p:nvPr/>
          </p:nvSpPr>
          <p:spPr>
            <a:xfrm flipH="1">
              <a:off x="1904760" y="44956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7"/>
            <p:cNvSpPr/>
            <p:nvPr/>
          </p:nvSpPr>
          <p:spPr>
            <a:xfrm>
              <a:off x="2661480" y="426708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 significant figures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8"/>
          <p:cNvGrpSpPr/>
          <p:nvPr/>
        </p:nvGrpSpPr>
        <p:grpSpPr>
          <a:xfrm>
            <a:off x="1904760" y="4991040"/>
            <a:ext cx="3155760" cy="459720"/>
            <a:chOff x="1904760" y="4991040"/>
            <a:chExt cx="3155760" cy="459720"/>
          </a:xfrm>
        </p:grpSpPr>
        <p:sp>
          <p:nvSpPr>
            <p:cNvPr id="384" name="Line 29"/>
            <p:cNvSpPr/>
            <p:nvPr/>
          </p:nvSpPr>
          <p:spPr>
            <a:xfrm flipH="1">
              <a:off x="1904760" y="52070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2657880" y="499104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0.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2B3-3AA9-463E-9B7C-53302481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0680" y="93024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 o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160" y="15397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ignificant figures in the result is set by the original number that h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199600" y="251460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1 x 3.6666 = 16.536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895720" y="25146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1881720" y="2908440"/>
            <a:ext cx="1383120" cy="980280"/>
            <a:chOff x="1881720" y="2908440"/>
            <a:chExt cx="1383120" cy="980280"/>
          </a:xfrm>
        </p:grpSpPr>
        <p:sp>
          <p:nvSpPr>
            <p:cNvPr id="393" name="Line 10"/>
            <p:cNvSpPr/>
            <p:nvPr/>
          </p:nvSpPr>
          <p:spPr>
            <a:xfrm flipV="1">
              <a:off x="2577960" y="29084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1881720" y="3429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4485240" y="2908080"/>
            <a:ext cx="1383120" cy="1346040"/>
            <a:chOff x="4485240" y="2908080"/>
            <a:chExt cx="1383120" cy="1346040"/>
          </a:xfrm>
        </p:grpSpPr>
        <p:sp>
          <p:nvSpPr>
            <p:cNvPr id="396" name="Line 14"/>
            <p:cNvSpPr/>
            <p:nvPr/>
          </p:nvSpPr>
          <p:spPr>
            <a:xfrm flipV="1">
              <a:off x="5181480" y="29080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4485240" y="3428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6"/>
          <p:cNvSpPr/>
          <p:nvPr/>
        </p:nvSpPr>
        <p:spPr>
          <a:xfrm>
            <a:off x="2211120" y="449568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112.04 = 0.0606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830960" y="4915080"/>
            <a:ext cx="1383120" cy="980280"/>
            <a:chOff x="1830960" y="4915080"/>
            <a:chExt cx="1383120" cy="980280"/>
          </a:xfrm>
        </p:grpSpPr>
        <p:sp>
          <p:nvSpPr>
            <p:cNvPr id="400" name="Line 18"/>
            <p:cNvSpPr/>
            <p:nvPr/>
          </p:nvSpPr>
          <p:spPr>
            <a:xfrm flipV="1">
              <a:off x="2527200" y="49150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1830960" y="543564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0"/>
          <p:cNvGrpSpPr/>
          <p:nvPr/>
        </p:nvGrpSpPr>
        <p:grpSpPr>
          <a:xfrm>
            <a:off x="4494960" y="4879800"/>
            <a:ext cx="1383120" cy="1346040"/>
            <a:chOff x="4494960" y="4879800"/>
            <a:chExt cx="1383120" cy="1346040"/>
          </a:xfrm>
        </p:grpSpPr>
        <p:sp>
          <p:nvSpPr>
            <p:cNvPr id="403" name="Line 21"/>
            <p:cNvSpPr/>
            <p:nvPr/>
          </p:nvSpPr>
          <p:spPr>
            <a:xfrm flipV="1">
              <a:off x="5191200" y="48798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4494960" y="540036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23"/>
          <p:cNvSpPr/>
          <p:nvPr/>
        </p:nvSpPr>
        <p:spPr>
          <a:xfrm>
            <a:off x="5754600" y="4495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3B5-AE4C-45EF-B4C2-2DA50AD98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46880" y="93024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ct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8680" y="1487520"/>
            <a:ext cx="86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from definitions or numbers of objects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an infinite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31120" y="2971800"/>
            <a:ext cx="84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of three measured lengths; 6.64, 6.68 and 6.7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2"/>
          <p:cNvGrpSpPr/>
          <p:nvPr/>
        </p:nvGrpSpPr>
        <p:grpSpPr>
          <a:xfrm>
            <a:off x="1838160" y="3938760"/>
            <a:ext cx="5090400" cy="864360"/>
            <a:chOff x="1838160" y="3938760"/>
            <a:chExt cx="5090400" cy="864360"/>
          </a:xfrm>
        </p:grpSpPr>
        <p:grpSp>
          <p:nvGrpSpPr>
            <p:cNvPr id="412" name="Group 10"/>
            <p:cNvGrpSpPr/>
            <p:nvPr/>
          </p:nvGrpSpPr>
          <p:grpSpPr>
            <a:xfrm>
              <a:off x="1838160" y="3938760"/>
              <a:ext cx="2657160" cy="864360"/>
              <a:chOff x="1838160" y="3938760"/>
              <a:chExt cx="2657160" cy="864360"/>
            </a:xfrm>
          </p:grpSpPr>
          <p:sp>
            <p:nvSpPr>
              <p:cNvPr id="413" name="Text Box 7"/>
              <p:cNvSpPr/>
              <p:nvPr/>
            </p:nvSpPr>
            <p:spPr>
              <a:xfrm>
                <a:off x="1838160" y="3938760"/>
                <a:ext cx="265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.64 + 6.68 + 6.7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8"/>
              <p:cNvSpPr/>
              <p:nvPr/>
            </p:nvSpPr>
            <p:spPr>
              <a:xfrm>
                <a:off x="1922400" y="4356360"/>
                <a:ext cx="243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9"/>
              <p:cNvSpPr/>
              <p:nvPr/>
            </p:nvSpPr>
            <p:spPr>
              <a:xfrm>
                <a:off x="2978280" y="4343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11"/>
            <p:cNvSpPr/>
            <p:nvPr/>
          </p:nvSpPr>
          <p:spPr>
            <a:xfrm>
              <a:off x="4356720" y="412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6.67333 = 6.6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4"/>
          <p:cNvSpPr/>
          <p:nvPr/>
        </p:nvSpPr>
        <p:spPr>
          <a:xfrm>
            <a:off x="2422440" y="51814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3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6"/>
          <p:cNvGrpSpPr/>
          <p:nvPr/>
        </p:nvGrpSpPr>
        <p:grpSpPr>
          <a:xfrm>
            <a:off x="6738480" y="4127400"/>
            <a:ext cx="613440" cy="459720"/>
            <a:chOff x="6738480" y="4127400"/>
            <a:chExt cx="613440" cy="459720"/>
          </a:xfrm>
        </p:grpSpPr>
        <p:sp>
          <p:nvSpPr>
            <p:cNvPr id="419" name="Text Box 13"/>
            <p:cNvSpPr/>
            <p:nvPr/>
          </p:nvSpPr>
          <p:spPr>
            <a:xfrm>
              <a:off x="6738480" y="41274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6858000" y="4191120"/>
              <a:ext cx="38088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0ACD-8984-4947-8A17-7700E9D7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320" y="1143000"/>
            <a:ext cx="6095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ers, ceramics, liquid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-temperature super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comp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0" y="4071960"/>
            <a:ext cx="441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ally modifi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”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13984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838080" y="41878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16DB-9F9E-45C4-BFB6-6321456D4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14480" y="2905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measurement is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set of measurements ar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878400" y="479412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64176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67404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01_13"/>
          <p:cNvPicPr/>
          <p:nvPr/>
        </p:nvPicPr>
        <p:blipFill>
          <a:blip r:embed="rId1"/>
          <a:srcRect l="0" t="4030" r="0" b="13630"/>
          <a:stretch/>
        </p:blipFill>
        <p:spPr>
          <a:xfrm>
            <a:off x="152280" y="1830240"/>
            <a:ext cx="883944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89A9-B130-4C62-835A-6C6F8CB4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40720" y="16668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28600" y="99072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ich unit conversion factor(s)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units through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units cancel except for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red uni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 problem was solved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918000" y="350532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quantity x conversion factor = desire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8"/>
          <p:cNvSpPr/>
          <p:nvPr/>
        </p:nvSpPr>
        <p:spPr>
          <a:xfrm>
            <a:off x="1830960" y="47181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unit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2"/>
          <p:cNvSpPr/>
          <p:nvPr/>
        </p:nvSpPr>
        <p:spPr>
          <a:xfrm>
            <a:off x="5349240" y="47242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esired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4"/>
          <p:cNvGrpSpPr/>
          <p:nvPr/>
        </p:nvGrpSpPr>
        <p:grpSpPr>
          <a:xfrm>
            <a:off x="3630600" y="4495680"/>
            <a:ext cx="1755000" cy="953640"/>
            <a:chOff x="3630600" y="4495680"/>
            <a:chExt cx="1755000" cy="953640"/>
          </a:xfrm>
        </p:grpSpPr>
        <p:sp>
          <p:nvSpPr>
            <p:cNvPr id="434" name="Text Box 39"/>
            <p:cNvSpPr/>
            <p:nvPr/>
          </p:nvSpPr>
          <p:spPr>
            <a:xfrm>
              <a:off x="3630600" y="44956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red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0"/>
            <p:cNvSpPr/>
            <p:nvPr/>
          </p:nvSpPr>
          <p:spPr>
            <a:xfrm>
              <a:off x="3765240" y="49896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n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>
              <a:off x="3670200" y="49705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46"/>
          <p:cNvSpPr/>
          <p:nvPr/>
        </p:nvSpPr>
        <p:spPr>
          <a:xfrm flipV="1">
            <a:off x="2057400" y="4647960"/>
            <a:ext cx="10666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97E-0168-497F-9F3E-9A495959E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61520" y="54756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65720" y="297180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Unit 1 L = 1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63560" y="3606840"/>
            <a:ext cx="4340160" cy="891360"/>
            <a:chOff x="763560" y="3606840"/>
            <a:chExt cx="4340160" cy="891360"/>
          </a:xfrm>
        </p:grpSpPr>
        <p:grpSp>
          <p:nvGrpSpPr>
            <p:cNvPr id="443" name="Group 8"/>
            <p:cNvGrpSpPr/>
            <p:nvPr/>
          </p:nvGrpSpPr>
          <p:grpSpPr>
            <a:xfrm>
              <a:off x="2085480" y="3606840"/>
              <a:ext cx="1366560" cy="891360"/>
              <a:chOff x="2085480" y="3606840"/>
              <a:chExt cx="1366560" cy="891360"/>
            </a:xfrm>
          </p:grpSpPr>
          <p:sp>
            <p:nvSpPr>
              <p:cNvPr id="444" name="Text Box 9"/>
              <p:cNvSpPr/>
              <p:nvPr/>
            </p:nvSpPr>
            <p:spPr>
              <a:xfrm>
                <a:off x="2509200" y="4038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0"/>
              <p:cNvSpPr/>
              <p:nvPr/>
            </p:nvSpPr>
            <p:spPr>
              <a:xfrm>
                <a:off x="2085480" y="360684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00 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1"/>
              <p:cNvSpPr/>
              <p:nvPr/>
            </p:nvSpPr>
            <p:spPr>
              <a:xfrm>
                <a:off x="2159280" y="4063680"/>
                <a:ext cx="12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12"/>
            <p:cNvSpPr/>
            <p:nvPr/>
          </p:nvSpPr>
          <p:spPr>
            <a:xfrm>
              <a:off x="763560" y="38098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3473640" y="383508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63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Line 14"/>
          <p:cNvSpPr/>
          <p:nvPr/>
        </p:nvSpPr>
        <p:spPr>
          <a:xfrm flipV="1">
            <a:off x="1473120" y="3936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V="1">
            <a:off x="2730600" y="41400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2896560" y="4635360"/>
            <a:ext cx="4950000" cy="853200"/>
            <a:chOff x="2896560" y="4635360"/>
            <a:chExt cx="4950000" cy="853200"/>
          </a:xfrm>
        </p:grpSpPr>
        <p:sp>
          <p:nvSpPr>
            <p:cNvPr id="452" name="Text Box 17"/>
            <p:cNvSpPr/>
            <p:nvPr/>
          </p:nvSpPr>
          <p:spPr>
            <a:xfrm>
              <a:off x="4642200" y="4635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4218840" y="502884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>
              <a:off x="4292280" y="50544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2896560" y="48002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5607720" y="48258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0.0016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2"/>
            <p:cNvGrpSpPr/>
            <p:nvPr/>
          </p:nvGrpSpPr>
          <p:grpSpPr>
            <a:xfrm>
              <a:off x="7242120" y="4647960"/>
              <a:ext cx="604440" cy="840600"/>
              <a:chOff x="7242120" y="4647960"/>
              <a:chExt cx="604440" cy="840600"/>
            </a:xfrm>
          </p:grpSpPr>
          <p:sp>
            <p:nvSpPr>
              <p:cNvPr id="458" name="Line 23"/>
              <p:cNvSpPr/>
              <p:nvPr/>
            </p:nvSpPr>
            <p:spPr>
              <a:xfrm>
                <a:off x="7316640" y="50544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4"/>
              <p:cNvSpPr/>
              <p:nvPr/>
            </p:nvSpPr>
            <p:spPr>
              <a:xfrm>
                <a:off x="7302960" y="46479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5"/>
              <p:cNvSpPr/>
              <p:nvPr/>
            </p:nvSpPr>
            <p:spPr>
              <a:xfrm>
                <a:off x="7242120" y="50288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26"/>
          <p:cNvGrpSpPr/>
          <p:nvPr/>
        </p:nvGrpSpPr>
        <p:grpSpPr>
          <a:xfrm>
            <a:off x="2971800" y="4648320"/>
            <a:ext cx="4952880" cy="761760"/>
            <a:chOff x="2971800" y="4648320"/>
            <a:chExt cx="4952880" cy="761760"/>
          </a:xfrm>
        </p:grpSpPr>
        <p:sp>
          <p:nvSpPr>
            <p:cNvPr id="462" name="Line 27"/>
            <p:cNvSpPr/>
            <p:nvPr/>
          </p:nvSpPr>
          <p:spPr>
            <a:xfrm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8"/>
            <p:cNvSpPr/>
            <p:nvPr/>
          </p:nvSpPr>
          <p:spPr>
            <a:xfrm flipH="1"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Line 29"/>
          <p:cNvSpPr/>
          <p:nvPr/>
        </p:nvSpPr>
        <p:spPr>
          <a:xfrm>
            <a:off x="3733920" y="439416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0"/>
          <p:cNvSpPr/>
          <p:nvPr/>
        </p:nvSpPr>
        <p:spPr>
          <a:xfrm>
            <a:off x="4952880" y="42670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1"/>
          <p:cNvSpPr/>
          <p:nvPr/>
        </p:nvSpPr>
        <p:spPr>
          <a:xfrm flipV="1">
            <a:off x="5257800" y="533412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2"/>
          <p:cNvSpPr/>
          <p:nvPr/>
        </p:nvSpPr>
        <p:spPr>
          <a:xfrm>
            <a:off x="7493040" y="4127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908720" y="1614600"/>
            <a:ext cx="47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mL are in 1.63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8D5-B28A-4F08-8332-F59FFE52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peed of sound in air is about 343 m/s.  What is this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092960" y="35053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 = 1609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856680" y="35053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n = 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6351480" y="35053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our = 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3"/>
          <p:cNvGrpSpPr/>
          <p:nvPr/>
        </p:nvGrpSpPr>
        <p:grpSpPr>
          <a:xfrm>
            <a:off x="764640" y="4840200"/>
            <a:ext cx="1135800" cy="801000"/>
            <a:chOff x="764640" y="4840200"/>
            <a:chExt cx="1135800" cy="801000"/>
          </a:xfrm>
        </p:grpSpPr>
        <p:sp>
          <p:nvSpPr>
            <p:cNvPr id="475" name="Text Box 7"/>
            <p:cNvSpPr/>
            <p:nvPr/>
          </p:nvSpPr>
          <p:spPr>
            <a:xfrm>
              <a:off x="764640" y="50194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1"/>
            <p:cNvGrpSpPr/>
            <p:nvPr/>
          </p:nvGrpSpPr>
          <p:grpSpPr>
            <a:xfrm>
              <a:off x="1465200" y="4840200"/>
              <a:ext cx="435240" cy="801000"/>
              <a:chOff x="1465200" y="4840200"/>
              <a:chExt cx="435240" cy="80100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465200" y="4840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1513080" y="518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1479600" y="5257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30"/>
          <p:cNvGrpSpPr/>
          <p:nvPr/>
        </p:nvGrpSpPr>
        <p:grpSpPr>
          <a:xfrm>
            <a:off x="1852920" y="4827600"/>
            <a:ext cx="1437480" cy="889920"/>
            <a:chOff x="1852920" y="4827600"/>
            <a:chExt cx="1437480" cy="889920"/>
          </a:xfrm>
        </p:grpSpPr>
        <p:sp>
          <p:nvSpPr>
            <p:cNvPr id="481" name="Text Box 14"/>
            <p:cNvSpPr/>
            <p:nvPr/>
          </p:nvSpPr>
          <p:spPr>
            <a:xfrm>
              <a:off x="185292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8"/>
            <p:cNvGrpSpPr/>
            <p:nvPr/>
          </p:nvGrpSpPr>
          <p:grpSpPr>
            <a:xfrm>
              <a:off x="2093040" y="4827600"/>
              <a:ext cx="1197360" cy="889920"/>
              <a:chOff x="2093040" y="4827600"/>
              <a:chExt cx="1197360" cy="889920"/>
            </a:xfrm>
          </p:grpSpPr>
          <p:sp>
            <p:nvSpPr>
              <p:cNvPr id="483" name="Text Box 15"/>
              <p:cNvSpPr/>
              <p:nvPr/>
            </p:nvSpPr>
            <p:spPr>
              <a:xfrm>
                <a:off x="2287800" y="4827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"/>
              <p:cNvSpPr/>
              <p:nvPr/>
            </p:nvSpPr>
            <p:spPr>
              <a:xfrm>
                <a:off x="222552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7"/>
              <p:cNvSpPr/>
              <p:nvPr/>
            </p:nvSpPr>
            <p:spPr>
              <a:xfrm>
                <a:off x="2093040" y="5257800"/>
                <a:ext cx="119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09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31"/>
          <p:cNvGrpSpPr/>
          <p:nvPr/>
        </p:nvGrpSpPr>
        <p:grpSpPr>
          <a:xfrm>
            <a:off x="3281400" y="4827600"/>
            <a:ext cx="1382400" cy="889920"/>
            <a:chOff x="3281400" y="4827600"/>
            <a:chExt cx="1382400" cy="889920"/>
          </a:xfrm>
        </p:grpSpPr>
        <p:grpSp>
          <p:nvGrpSpPr>
            <p:cNvPr id="487" name="Group 20"/>
            <p:cNvGrpSpPr/>
            <p:nvPr/>
          </p:nvGrpSpPr>
          <p:grpSpPr>
            <a:xfrm>
              <a:off x="3414960" y="4827600"/>
              <a:ext cx="1248840" cy="889920"/>
              <a:chOff x="3414960" y="4827600"/>
              <a:chExt cx="1248840" cy="889920"/>
            </a:xfrm>
          </p:grpSpPr>
          <p:sp>
            <p:nvSpPr>
              <p:cNvPr id="488" name="Text Box 21"/>
              <p:cNvSpPr/>
              <p:nvPr/>
            </p:nvSpPr>
            <p:spPr>
              <a:xfrm>
                <a:off x="3734640" y="4827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367308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23"/>
              <p:cNvSpPr/>
              <p:nvPr/>
            </p:nvSpPr>
            <p:spPr>
              <a:xfrm>
                <a:off x="3414960" y="5257800"/>
                <a:ext cx="118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 Box 28"/>
            <p:cNvSpPr/>
            <p:nvPr/>
          </p:nvSpPr>
          <p:spPr>
            <a:xfrm>
              <a:off x="328140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32"/>
          <p:cNvGrpSpPr/>
          <p:nvPr/>
        </p:nvGrpSpPr>
        <p:grpSpPr>
          <a:xfrm>
            <a:off x="4773960" y="4827600"/>
            <a:ext cx="1483200" cy="889920"/>
            <a:chOff x="4773960" y="4827600"/>
            <a:chExt cx="1483200" cy="889920"/>
          </a:xfrm>
        </p:grpSpPr>
        <p:sp>
          <p:nvSpPr>
            <p:cNvPr id="493" name="Text Box 25"/>
            <p:cNvSpPr/>
            <p:nvPr/>
          </p:nvSpPr>
          <p:spPr>
            <a:xfrm>
              <a:off x="5162040" y="4827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519768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7"/>
            <p:cNvSpPr/>
            <p:nvPr/>
          </p:nvSpPr>
          <p:spPr>
            <a:xfrm>
              <a:off x="4880520" y="5257800"/>
              <a:ext cx="13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9"/>
            <p:cNvSpPr/>
            <p:nvPr/>
          </p:nvSpPr>
          <p:spPr>
            <a:xfrm>
              <a:off x="477396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40"/>
          <p:cNvGrpSpPr/>
          <p:nvPr/>
        </p:nvGrpSpPr>
        <p:grpSpPr>
          <a:xfrm>
            <a:off x="6224760" y="4840200"/>
            <a:ext cx="1662480" cy="851760"/>
            <a:chOff x="6224760" y="4840200"/>
            <a:chExt cx="1662480" cy="851760"/>
          </a:xfrm>
        </p:grpSpPr>
        <p:sp>
          <p:nvSpPr>
            <p:cNvPr id="498" name="Text Box 34"/>
            <p:cNvSpPr/>
            <p:nvPr/>
          </p:nvSpPr>
          <p:spPr>
            <a:xfrm>
              <a:off x="6224760" y="5030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8"/>
            <p:cNvGrpSpPr/>
            <p:nvPr/>
          </p:nvGrpSpPr>
          <p:grpSpPr>
            <a:xfrm>
              <a:off x="7097040" y="4840200"/>
              <a:ext cx="790200" cy="851760"/>
              <a:chOff x="7097040" y="4840200"/>
              <a:chExt cx="790200" cy="851760"/>
            </a:xfrm>
          </p:grpSpPr>
          <p:sp>
            <p:nvSpPr>
              <p:cNvPr id="500" name="Text Box 35"/>
              <p:cNvSpPr/>
              <p:nvPr/>
            </p:nvSpPr>
            <p:spPr>
              <a:xfrm>
                <a:off x="7233120" y="48402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6"/>
              <p:cNvSpPr/>
              <p:nvPr/>
            </p:nvSpPr>
            <p:spPr>
              <a:xfrm>
                <a:off x="7097040" y="5232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7"/>
              <p:cNvSpPr/>
              <p:nvPr/>
            </p:nvSpPr>
            <p:spPr>
              <a:xfrm>
                <a:off x="7170480" y="525744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Line 39"/>
          <p:cNvSpPr/>
          <p:nvPr/>
        </p:nvSpPr>
        <p:spPr>
          <a:xfrm>
            <a:off x="16794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1"/>
          <p:cNvSpPr/>
          <p:nvPr/>
        </p:nvSpPr>
        <p:spPr>
          <a:xfrm flipV="1">
            <a:off x="3038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2"/>
          <p:cNvSpPr/>
          <p:nvPr/>
        </p:nvSpPr>
        <p:spPr>
          <a:xfrm>
            <a:off x="43848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594684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4"/>
          <p:cNvSpPr/>
          <p:nvPr/>
        </p:nvSpPr>
        <p:spPr>
          <a:xfrm flipV="1">
            <a:off x="1679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5"/>
          <p:cNvSpPr/>
          <p:nvPr/>
        </p:nvSpPr>
        <p:spPr>
          <a:xfrm flipV="1">
            <a:off x="430848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6"/>
          <p:cNvSpPr/>
          <p:nvPr/>
        </p:nvSpPr>
        <p:spPr>
          <a:xfrm flipV="1">
            <a:off x="1552680" y="496548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7"/>
          <p:cNvSpPr/>
          <p:nvPr/>
        </p:nvSpPr>
        <p:spPr>
          <a:xfrm flipV="1">
            <a:off x="2936880" y="5409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8"/>
          <p:cNvSpPr/>
          <p:nvPr/>
        </p:nvSpPr>
        <p:spPr>
          <a:xfrm flipV="1">
            <a:off x="1565280" y="5295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9"/>
          <p:cNvSpPr/>
          <p:nvPr/>
        </p:nvSpPr>
        <p:spPr>
          <a:xfrm flipV="1">
            <a:off x="430848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50"/>
          <p:cNvSpPr/>
          <p:nvPr/>
        </p:nvSpPr>
        <p:spPr>
          <a:xfrm flipV="1">
            <a:off x="4194000" y="5384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1"/>
          <p:cNvSpPr/>
          <p:nvPr/>
        </p:nvSpPr>
        <p:spPr>
          <a:xfrm flipV="1">
            <a:off x="583236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2"/>
          <p:cNvSpPr/>
          <p:nvPr/>
        </p:nvSpPr>
        <p:spPr>
          <a:xfrm>
            <a:off x="2322000" y="20178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s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2323440" y="26668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3199680" y="13716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rs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F1FB-7AED-4E65-AA47-B5BB4F15A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1_02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1676520"/>
            <a:ext cx="8839440" cy="3674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1720" y="114300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593320" y="11430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F449-FBBD-42EC-AACE-DD303685F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80880" y="304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ystematic approach t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othe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tentative explanation for a set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3270240" y="5105520"/>
            <a:ext cx="2588760" cy="1066320"/>
            <a:chOff x="3270240" y="5105520"/>
            <a:chExt cx="2588760" cy="1066320"/>
          </a:xfrm>
        </p:grpSpPr>
        <p:sp>
          <p:nvSpPr>
            <p:cNvPr id="69" name="Text Box 8"/>
            <p:cNvSpPr/>
            <p:nvPr/>
          </p:nvSpPr>
          <p:spPr>
            <a:xfrm>
              <a:off x="3270240" y="54100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sted     modif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2" descr=""/>
          <p:cNvPicPr/>
          <p:nvPr/>
        </p:nvPicPr>
        <p:blipFill>
          <a:blip r:embed="rId1"/>
          <a:stretch/>
        </p:blipFill>
        <p:spPr>
          <a:xfrm>
            <a:off x="57240" y="1722600"/>
            <a:ext cx="9163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0D83-1062-4C67-A66A-142D55E4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80880" y="30942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unifying principle that explains a body of facts and/or those laws that are based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80880" y="3049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ncise statement of a relationship between phenomena that is always the same under the sam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916560" y="51055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70400" y="20574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5" descr=""/>
          <p:cNvPicPr/>
          <p:nvPr/>
        </p:nvPicPr>
        <p:blipFill>
          <a:blip r:embed="rId1"/>
          <a:stretch/>
        </p:blipFill>
        <p:spPr>
          <a:xfrm>
            <a:off x="3505320" y="4505400"/>
            <a:ext cx="449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4AD6-DE30-4D6C-BC5C-B8C27210C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I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8437" t="11835" r="9080" b="0"/>
          <a:stretch/>
        </p:blipFill>
        <p:spPr>
          <a:xfrm>
            <a:off x="0" y="2362320"/>
            <a:ext cx="4572000" cy="3663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80880" y="114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40 George Gam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othes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e universe began with a gigantic explosion or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9596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373392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ic backgroun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8600" y="53352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 and the Big Ba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A20A-DB07-4077-8B0A-80F61A68F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21337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thing that occupies space and ha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orm of matter that has a definite composition and distinct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440" y="533520"/>
            <a:ext cx="84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study of matter an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5"/>
          <p:cNvGrpSpPr/>
          <p:nvPr/>
        </p:nvGrpSpPr>
        <p:grpSpPr>
          <a:xfrm>
            <a:off x="838080" y="4572000"/>
            <a:ext cx="1625760" cy="1928880"/>
            <a:chOff x="838080" y="4572000"/>
            <a:chExt cx="1625760" cy="1928880"/>
          </a:xfrm>
        </p:grpSpPr>
        <p:pic>
          <p:nvPicPr>
            <p:cNvPr id="90" name="Picture 21" descr=""/>
            <p:cNvPicPr/>
            <p:nvPr/>
          </p:nvPicPr>
          <p:blipFill>
            <a:blip r:embed="rId1"/>
            <a:stretch/>
          </p:blipFill>
          <p:spPr>
            <a:xfrm>
              <a:off x="838080" y="4572000"/>
              <a:ext cx="160020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3"/>
            <p:cNvSpPr/>
            <p:nvPr/>
          </p:nvSpPr>
          <p:spPr>
            <a:xfrm>
              <a:off x="865800" y="6132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 nitro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3048120" y="4597560"/>
            <a:ext cx="1904760" cy="1895400"/>
            <a:chOff x="3048120" y="4597560"/>
            <a:chExt cx="1904760" cy="1895400"/>
          </a:xfrm>
        </p:grpSpPr>
        <p:pic>
          <p:nvPicPr>
            <p:cNvPr id="93" name="Picture 22" descr=""/>
            <p:cNvPicPr/>
            <p:nvPr/>
          </p:nvPicPr>
          <p:blipFill>
            <a:blip r:embed="rId2"/>
            <a:stretch/>
          </p:blipFill>
          <p:spPr>
            <a:xfrm>
              <a:off x="3048120" y="4597560"/>
              <a:ext cx="190476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3361680" y="61246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ld ing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9"/>
          <p:cNvGrpSpPr/>
          <p:nvPr/>
        </p:nvGrpSpPr>
        <p:grpSpPr>
          <a:xfrm>
            <a:off x="5486400" y="4648320"/>
            <a:ext cx="2333520" cy="1892160"/>
            <a:chOff x="5486400" y="4648320"/>
            <a:chExt cx="2333520" cy="1892160"/>
          </a:xfrm>
        </p:grpSpPr>
        <p:pic>
          <p:nvPicPr>
            <p:cNvPr id="96" name="Picture 27" descr=""/>
            <p:cNvPicPr/>
            <p:nvPr/>
          </p:nvPicPr>
          <p:blipFill>
            <a:blip r:embed="rId3"/>
            <a:stretch/>
          </p:blipFill>
          <p:spPr>
            <a:xfrm>
              <a:off x="5486400" y="4648320"/>
              <a:ext cx="233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8"/>
            <p:cNvSpPr/>
            <p:nvPr/>
          </p:nvSpPr>
          <p:spPr>
            <a:xfrm>
              <a:off x="5889240" y="617220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icon crys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15:29:02Z</dcterms:created>
  <dc:creator>J. David Robertson</dc:creator>
  <dc:description/>
  <dc:language>en-US</dc:language>
  <cp:lastModifiedBy>Eman Al-Abdulkareem</cp:lastModifiedBy>
  <dcterms:modified xsi:type="dcterms:W3CDTF">2017-09-23T20:44:47Z</dcterms:modified>
  <cp:revision>111</cp:revision>
  <dc:subject/>
  <dc:title>Chemistry:  The Study of Change</dc:title>
</cp:coreProperties>
</file>