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30.png" ContentType="image/png"/>
  <Override PartName="/ppt/media/image28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43.png" ContentType="image/png"/>
  <Override PartName="/ppt/media/image47.jpeg" ContentType="image/jpe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7B9-8175-45AB-8B01-E989FA3C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681-F6EF-4D4B-AF64-5FD79544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203-7F8D-4E5D-9BDA-11719AFD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B7B-8576-4DA4-A8B8-95AC5653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5D7-F653-4003-918A-4E0DB82C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21B-0EB7-401A-80BD-93AF4939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AB3-D927-42AC-9EC5-552D9DE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40D-6AFC-4553-8382-9F48AE28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B98-018F-478B-AF2A-7CDEDBBD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B7B-FDC7-4D84-A467-DAB974FC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DBE-5344-4ADD-9AE4-D8F6F024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C1E-8A0B-42E0-A35E-846EE3E4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554C-4C25-412E-B119-A19FAD594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udy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70080" y="65070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Copyright © The McGraw-Hill Companies, Inc. 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34448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00A7-288D-4A2A-AE64-30DEB2923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bination of two or more substances in which the substances retain their distinct ident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16002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osition of the mixture is the same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088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erogene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osition is not uniform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2743560" y="2057400"/>
            <a:ext cx="5676480" cy="1685880"/>
            <a:chOff x="2743560" y="2057400"/>
            <a:chExt cx="5676480" cy="1685880"/>
          </a:xfrm>
        </p:grpSpPr>
        <p:sp>
          <p:nvSpPr>
            <p:cNvPr id="103" name="Text Box 6"/>
            <p:cNvSpPr/>
            <p:nvPr/>
          </p:nvSpPr>
          <p:spPr>
            <a:xfrm>
              <a:off x="2743560" y="2743200"/>
              <a:ext cx="362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ft drink, milk, sol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5" descr=""/>
            <p:cNvPicPr/>
            <p:nvPr/>
          </p:nvPicPr>
          <p:blipFill>
            <a:blip r:embed="rId1"/>
            <a:stretch/>
          </p:blipFill>
          <p:spPr>
            <a:xfrm>
              <a:off x="7086600" y="2057400"/>
              <a:ext cx="133344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16"/>
            <p:cNvSpPr/>
            <p:nvPr/>
          </p:nvSpPr>
          <p:spPr>
            <a:xfrm>
              <a:off x="5867280" y="3166920"/>
              <a:ext cx="11430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9"/>
          <p:cNvGrpSpPr/>
          <p:nvPr/>
        </p:nvGrpSpPr>
        <p:grpSpPr>
          <a:xfrm>
            <a:off x="228600" y="5181480"/>
            <a:ext cx="5865840" cy="1341720"/>
            <a:chOff x="228600" y="5181480"/>
            <a:chExt cx="5865840" cy="1341720"/>
          </a:xfrm>
        </p:grpSpPr>
        <p:sp>
          <p:nvSpPr>
            <p:cNvPr id="107" name="Text Box 8"/>
            <p:cNvSpPr/>
            <p:nvPr/>
          </p:nvSpPr>
          <p:spPr>
            <a:xfrm>
              <a:off x="3060720" y="5334120"/>
              <a:ext cx="30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ement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ron filings in s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9" descr="cha56011_0104"/>
            <p:cNvPicPr/>
            <p:nvPr/>
          </p:nvPicPr>
          <p:blipFill>
            <a:blip r:embed="rId2"/>
            <a:srcRect l="0" t="40533" r="52024" b="0"/>
            <a:stretch/>
          </p:blipFill>
          <p:spPr>
            <a:xfrm>
              <a:off x="228600" y="5181480"/>
              <a:ext cx="210816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17"/>
            <p:cNvSpPr/>
            <p:nvPr/>
          </p:nvSpPr>
          <p:spPr>
            <a:xfrm flipH="1" flipV="1">
              <a:off x="1871280" y="5943240"/>
              <a:ext cx="12193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A135-2D4D-4EC9-83C2-09A8E5B34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3808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m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to separate a mixture into its pure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4597560" y="2322360"/>
            <a:ext cx="4394160" cy="2861640"/>
            <a:chOff x="4597560" y="2322360"/>
            <a:chExt cx="4394160" cy="2861640"/>
          </a:xfrm>
        </p:grpSpPr>
        <p:pic>
          <p:nvPicPr>
            <p:cNvPr id="113" name="Picture 6" descr="cha56011_0104"/>
            <p:cNvPicPr/>
            <p:nvPr/>
          </p:nvPicPr>
          <p:blipFill>
            <a:blip r:embed="rId1"/>
            <a:stretch/>
          </p:blipFill>
          <p:spPr>
            <a:xfrm>
              <a:off x="4597560" y="2322360"/>
              <a:ext cx="439416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6196680" y="472428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g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457200" y="1828800"/>
            <a:ext cx="3700440" cy="4004640"/>
            <a:chOff x="457200" y="1828800"/>
            <a:chExt cx="3700440" cy="4004640"/>
          </a:xfrm>
        </p:grpSpPr>
        <p:pic>
          <p:nvPicPr>
            <p:cNvPr id="116" name="Picture 13" descr=""/>
            <p:cNvPicPr/>
            <p:nvPr/>
          </p:nvPicPr>
          <p:blipFill>
            <a:blip r:embed="rId2"/>
            <a:stretch/>
          </p:blipFill>
          <p:spPr>
            <a:xfrm>
              <a:off x="457200" y="1828800"/>
              <a:ext cx="3700440" cy="34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1070280" y="537372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ti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E883-D2E5-48FA-AADF-52654030C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84280" y="228600"/>
            <a:ext cx="797544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eparated into simpler substances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4 elements have been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 elements occur naturally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, aluminum, lead, oxygen, carbon,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elements have been created by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etium, americium, seabor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7086600" y="3505320"/>
            <a:ext cx="1724040" cy="1423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3205080" y="3479760"/>
            <a:ext cx="2509920" cy="1473120"/>
          </a:xfrm>
          <a:prstGeom prst="rect">
            <a:avLst/>
          </a:prstGeom>
          <a:ln w="0">
            <a:noFill/>
          </a:ln>
        </p:spPr>
      </p:pic>
      <p:sp>
        <p:nvSpPr>
          <p:cNvPr id="122" name="Line 11"/>
          <p:cNvSpPr/>
          <p:nvPr/>
        </p:nvSpPr>
        <p:spPr>
          <a:xfrm>
            <a:off x="3352680" y="315288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7381800" y="3186000"/>
            <a:ext cx="4669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98ED-07CD-4D37-8B90-64776C63A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68436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53B3-17EF-444C-9943-C782E0298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33520" y="457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composed of atoms of two or more elements chemically united in fixed prop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1016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s can only be separated into their pure components (elements)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1367280" y="3886200"/>
            <a:ext cx="1649880" cy="2044800"/>
            <a:chOff x="1367280" y="3886200"/>
            <a:chExt cx="1649880" cy="2044800"/>
          </a:xfrm>
        </p:grpSpPr>
        <p:pic>
          <p:nvPicPr>
            <p:cNvPr id="130" name="Picture 17" descr=""/>
            <p:cNvPicPr/>
            <p:nvPr/>
          </p:nvPicPr>
          <p:blipFill>
            <a:blip r:embed="rId1"/>
            <a:stretch/>
          </p:blipFill>
          <p:spPr>
            <a:xfrm>
              <a:off x="1432080" y="3886200"/>
              <a:ext cx="153972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0"/>
            <p:cNvSpPr/>
            <p:nvPr/>
          </p:nvSpPr>
          <p:spPr>
            <a:xfrm>
              <a:off x="1367280" y="556272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thium fluor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3800520" y="3886200"/>
            <a:ext cx="1762200" cy="2092320"/>
            <a:chOff x="3800520" y="3886200"/>
            <a:chExt cx="1762200" cy="2092320"/>
          </a:xfrm>
        </p:grpSpPr>
        <p:pic>
          <p:nvPicPr>
            <p:cNvPr id="133" name="Picture 18" descr=""/>
            <p:cNvPicPr/>
            <p:nvPr/>
          </p:nvPicPr>
          <p:blipFill>
            <a:blip r:embed="rId2"/>
            <a:stretch/>
          </p:blipFill>
          <p:spPr>
            <a:xfrm>
              <a:off x="3800520" y="3886200"/>
              <a:ext cx="17622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1"/>
            <p:cNvSpPr/>
            <p:nvPr/>
          </p:nvSpPr>
          <p:spPr>
            <a:xfrm>
              <a:off x="4307400" y="5610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6017400" y="3886200"/>
            <a:ext cx="2588760" cy="2135160"/>
            <a:chOff x="6017400" y="3886200"/>
            <a:chExt cx="2588760" cy="2135160"/>
          </a:xfrm>
        </p:grpSpPr>
        <p:pic>
          <p:nvPicPr>
            <p:cNvPr id="136" name="Picture 19" descr=""/>
            <p:cNvPicPr/>
            <p:nvPr/>
          </p:nvPicPr>
          <p:blipFill>
            <a:blip r:embed="rId3"/>
            <a:stretch/>
          </p:blipFill>
          <p:spPr>
            <a:xfrm>
              <a:off x="6418440" y="3886200"/>
              <a:ext cx="15825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2"/>
            <p:cNvSpPr/>
            <p:nvPr/>
          </p:nvSpPr>
          <p:spPr>
            <a:xfrm>
              <a:off x="6017400" y="5653080"/>
              <a:ext cx="25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y ice – carbon diox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0477-9CDF-4B0A-BF23-FF0DB99A3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0" y="1666800"/>
            <a:ext cx="91440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59A2-89CE-4EE8-8D5A-E16A19747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79320" y="2743200"/>
            <a:ext cx="2063880" cy="2438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16680" y="25884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:  Th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3502080" y="2514600"/>
            <a:ext cx="2136600" cy="29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6434280" y="1709640"/>
            <a:ext cx="22525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F7F6-3FE7-4043-B9F7-C11D34A0F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6320" y="76320"/>
            <a:ext cx="89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States of Matter:  Effect of a Hot Poker on a Block of 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2"/>
          <p:cNvGrpSpPr/>
          <p:nvPr/>
        </p:nvGrpSpPr>
        <p:grpSpPr>
          <a:xfrm>
            <a:off x="1981080" y="1219320"/>
            <a:ext cx="5257800" cy="5333760"/>
            <a:chOff x="1981080" y="1219320"/>
            <a:chExt cx="5257800" cy="5333760"/>
          </a:xfrm>
        </p:grpSpPr>
        <p:pic>
          <p:nvPicPr>
            <p:cNvPr id="149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981080" y="1219320"/>
              <a:ext cx="525780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9"/>
            <p:cNvSpPr/>
            <p:nvPr/>
          </p:nvSpPr>
          <p:spPr>
            <a:xfrm>
              <a:off x="5985360" y="55119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2138040" y="556272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5091840" y="15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85DF-F1C4-4C42-AA11-35E588EDC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219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alter the composition or identity of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3016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ters the composition or identity of the substance(s)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249920" y="2101680"/>
            <a:ext cx="6735240" cy="947160"/>
            <a:chOff x="1249920" y="2101680"/>
            <a:chExt cx="6735240" cy="947160"/>
          </a:xfrm>
        </p:grpSpPr>
        <p:sp>
          <p:nvSpPr>
            <p:cNvPr id="157" name="Text Box 6"/>
            <p:cNvSpPr/>
            <p:nvPr/>
          </p:nvSpPr>
          <p:spPr>
            <a:xfrm>
              <a:off x="1249920" y="234468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ce mel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149800" y="2101680"/>
              <a:ext cx="283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gar dissolving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 wa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609480" y="4086360"/>
            <a:ext cx="7391520" cy="2695320"/>
            <a:chOff x="609480" y="4086360"/>
            <a:chExt cx="7391520" cy="2695320"/>
          </a:xfrm>
        </p:grpSpPr>
        <p:pic>
          <p:nvPicPr>
            <p:cNvPr id="160" name="Picture 16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3835440" y="4086360"/>
              <a:ext cx="41655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7"/>
            <p:cNvSpPr/>
            <p:nvPr/>
          </p:nvSpPr>
          <p:spPr>
            <a:xfrm>
              <a:off x="609480" y="50227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"/>
          <p:cNvSpPr/>
          <p:nvPr/>
        </p:nvSpPr>
        <p:spPr>
          <a:xfrm>
            <a:off x="2844000" y="298440"/>
            <a:ext cx="34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F315-9213-4120-ABAA-E0739264D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80880" y="838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tensive proper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material depends upon how much matter is is being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0880" y="350532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nsive proper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materi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 upon how much matter is is being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600200" y="198108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00200" y="50767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364760" y="92160"/>
            <a:ext cx="64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and Intensiv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3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44604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4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1128600" cy="1357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5" descr=""/>
          <p:cNvPicPr/>
          <p:nvPr/>
        </p:nvPicPr>
        <p:blipFill>
          <a:blip r:embed="rId3"/>
          <a:stretch/>
        </p:blipFill>
        <p:spPr>
          <a:xfrm>
            <a:off x="4583160" y="4724280"/>
            <a:ext cx="293760" cy="18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2" descr=""/>
          <p:cNvPicPr/>
          <p:nvPr/>
        </p:nvPicPr>
        <p:blipFill>
          <a:blip r:embed="rId1"/>
          <a:stretch/>
        </p:blipFill>
        <p:spPr>
          <a:xfrm>
            <a:off x="378000" y="914400"/>
            <a:ext cx="8308800" cy="5181480"/>
          </a:xfrm>
          <a:prstGeom prst="rect">
            <a:avLst/>
          </a:prstGeom>
          <a:ln w="0">
            <a:noFill/>
          </a:ln>
        </p:spPr>
      </p:pic>
      <p:sp>
        <p:nvSpPr>
          <p:cNvPr id="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77AD-2B9D-4D30-9720-E6098890B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68E3-4CD7-4321-9DD3-96EA6E3D5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8"/>
          <p:cNvSpPr/>
          <p:nvPr/>
        </p:nvSpPr>
        <p:spPr>
          <a:xfrm>
            <a:off x="1527840" y="25884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ystem of Units (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0" descr=""/>
          <p:cNvPicPr/>
          <p:nvPr/>
        </p:nvPicPr>
        <p:blipFill>
          <a:blip r:embed="rId1"/>
          <a:stretch/>
        </p:blipFill>
        <p:spPr>
          <a:xfrm>
            <a:off x="0" y="1447920"/>
            <a:ext cx="8458200" cy="36925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990720" y="54100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وحدات المشتقة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derived units</a:t>
            </a:r>
            <a:br>
              <a:rPr sz="2400"/>
            </a:b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وهي وحدات مشتقة من الوحدات الأساسية وهي حسب الجدول التالي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Y" sz="2400" spc="-1" strike="noStrike">
                <a:solidFill>
                  <a:srgbClr val="000000"/>
                </a:solidFill>
                <a:latin typeface="Tahoma"/>
              </a:rPr>
              <a:t>: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2760" y="2222640"/>
          <a:ext cx="7648560" cy="3487680"/>
        </p:xfrm>
        <a:graphic>
          <a:graphicData uri="http://schemas.openxmlformats.org/drawingml/2006/table">
            <a:tbl>
              <a:tblPr/>
              <a:tblGrid>
                <a:gridCol w="947520"/>
                <a:gridCol w="825480"/>
                <a:gridCol w="1586160"/>
                <a:gridCol w="1398240"/>
                <a:gridCol w="1476720"/>
                <a:gridCol w="1414440"/>
              </a:tblGrid>
              <a:tr h="517680"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رم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I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وح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كم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1804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square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تر مر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مسا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cubic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تر مكع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حج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Kg/m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كجم/م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Kilogram/cubic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كيلوجرام/ المتر المكع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كثاف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/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eter/second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Tahoma"/>
                          <a:cs typeface="Verdana"/>
                        </a:rPr>
                        <a:t>متر/ثان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Velocity (spe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سرعة  الخط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/s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م/ث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Meter/second</a:t>
                      </a:r>
                      <a:r>
                        <a:rPr b="1" lang="en-US" sz="1400" spc="-1" strike="noStrike" baseline="30000">
                          <a:solidFill>
                            <a:srgbClr val="444444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Tahoma"/>
                          <a:cs typeface="Verdana"/>
                        </a:rPr>
                        <a:t>متر/ثانية</a:t>
                      </a:r>
                      <a:r>
                        <a:rPr b="1" lang="ar-SY" sz="1400" spc="-1" strike="noStrike" baseline="30000">
                          <a:solidFill>
                            <a:srgbClr val="444444"/>
                          </a:solidFill>
                          <a:latin typeface="Tahoma"/>
                          <a:ea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Accel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400" spc="-1" strike="noStrike">
                          <a:solidFill>
                            <a:srgbClr val="444444"/>
                          </a:solidFill>
                          <a:latin typeface="Verdana"/>
                        </a:rPr>
                        <a:t>العجلة ( التسارع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061-17F3-430A-BA52-E0630986A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9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1532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859-C2A5-46C9-A6C8-F32D55D61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304920"/>
            <a:ext cx="929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ter - anything that occupies space and has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09480" y="1143000"/>
            <a:ext cx="7925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easure of the quantity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 of mass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kg = 1000 g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09480" y="34290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orce that gravity exerts on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5565240" y="4343400"/>
            <a:ext cx="3425400" cy="1602720"/>
            <a:chOff x="5565240" y="4343400"/>
            <a:chExt cx="3425400" cy="1602720"/>
          </a:xfrm>
        </p:grpSpPr>
        <p:sp>
          <p:nvSpPr>
            <p:cNvPr id="185" name="Text Box 12"/>
            <p:cNvSpPr/>
            <p:nvPr/>
          </p:nvSpPr>
          <p:spPr>
            <a:xfrm>
              <a:off x="5565240" y="4343400"/>
              <a:ext cx="342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1 kg bar will weig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6297480" y="495288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kg on 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137640" y="5486400"/>
              <a:ext cx="22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1 kg on m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306000" y="4343400"/>
            <a:ext cx="5275800" cy="2266920"/>
            <a:chOff x="306000" y="4343400"/>
            <a:chExt cx="5275800" cy="2266920"/>
          </a:xfrm>
        </p:grpSpPr>
        <p:grpSp>
          <p:nvGrpSpPr>
            <p:cNvPr id="189" name="Group 15"/>
            <p:cNvGrpSpPr/>
            <p:nvPr/>
          </p:nvGrpSpPr>
          <p:grpSpPr>
            <a:xfrm>
              <a:off x="306000" y="4343400"/>
              <a:ext cx="3020040" cy="1602720"/>
              <a:chOff x="306000" y="4343400"/>
              <a:chExt cx="3020040" cy="1602720"/>
            </a:xfrm>
          </p:grpSpPr>
          <p:sp>
            <p:nvSpPr>
              <p:cNvPr id="190" name="Text Box 5"/>
              <p:cNvSpPr/>
              <p:nvPr/>
            </p:nvSpPr>
            <p:spPr>
              <a:xfrm>
                <a:off x="306000" y="4343400"/>
                <a:ext cx="302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weight =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x ma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"/>
              <p:cNvSpPr/>
              <p:nvPr/>
            </p:nvSpPr>
            <p:spPr>
              <a:xfrm>
                <a:off x="577440" y="4952880"/>
                <a:ext cx="239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n earth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7"/>
              <p:cNvSpPr/>
              <p:nvPr/>
            </p:nvSpPr>
            <p:spPr>
              <a:xfrm>
                <a:off x="577800" y="5486400"/>
                <a:ext cx="246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n moon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~ 0.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18" descr=""/>
            <p:cNvPicPr/>
            <p:nvPr/>
          </p:nvPicPr>
          <p:blipFill>
            <a:blip r:embed="rId1"/>
            <a:stretch/>
          </p:blipFill>
          <p:spPr>
            <a:xfrm>
              <a:off x="3276720" y="4876920"/>
              <a:ext cx="2305080" cy="17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7F39-C69D-44BC-98BC-6FAE0201A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0760" y="304920"/>
            <a:ext cx="90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volume is 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416040" y="990720"/>
            <a:ext cx="54406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405240" y="1650960"/>
            <a:ext cx="54604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ext Box 7" descr=""/>
          <p:cNvPicPr/>
          <p:nvPr/>
        </p:nvPicPr>
        <p:blipFill>
          <a:blip r:embed="rId1"/>
          <a:stretch/>
        </p:blipFill>
        <p:spPr>
          <a:xfrm>
            <a:off x="3176640" y="2249640"/>
            <a:ext cx="5851440" cy="7491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5005080" y="2971800"/>
            <a:ext cx="226260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L = 1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2"/>
          <a:srcRect l="61885" t="13502" r="9002" b="0"/>
          <a:stretch/>
        </p:blipFill>
        <p:spPr>
          <a:xfrm>
            <a:off x="7508880" y="2895480"/>
            <a:ext cx="1635120" cy="3632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3065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F7FD-2745-4BCD-B606-F987C1663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926640" y="243000"/>
            <a:ext cx="73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density is 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kg/m</a:t>
            </a:r>
            <a:r>
              <a:rPr b="0" lang="en-US" sz="2800" spc="-1" strike="noStrike" baseline="30000">
                <a:solidFill>
                  <a:srgbClr val="00997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065680" y="903240"/>
            <a:ext cx="50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g/mL =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915120" y="1828800"/>
            <a:ext cx="3074400" cy="928440"/>
            <a:chOff x="915120" y="1828800"/>
            <a:chExt cx="3074400" cy="928440"/>
          </a:xfrm>
        </p:grpSpPr>
        <p:sp>
          <p:nvSpPr>
            <p:cNvPr id="206" name="Text Box 4"/>
            <p:cNvSpPr/>
            <p:nvPr/>
          </p:nvSpPr>
          <p:spPr>
            <a:xfrm>
              <a:off x="915120" y="2058840"/>
              <a:ext cx="17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ensity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"/>
            <p:cNvSpPr/>
            <p:nvPr/>
          </p:nvSpPr>
          <p:spPr>
            <a:xfrm>
              <a:off x="2787480" y="182880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6"/>
            <p:cNvSpPr/>
            <p:nvPr/>
          </p:nvSpPr>
          <p:spPr>
            <a:xfrm>
              <a:off x="2661120" y="2236680"/>
              <a:ext cx="13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658600" y="23241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3"/>
          <p:cNvGrpSpPr/>
          <p:nvPr/>
        </p:nvGrpSpPr>
        <p:grpSpPr>
          <a:xfrm>
            <a:off x="5831280" y="1879560"/>
            <a:ext cx="1331640" cy="876240"/>
            <a:chOff x="5831280" y="1879560"/>
            <a:chExt cx="1331640" cy="876240"/>
          </a:xfrm>
        </p:grpSpPr>
        <p:sp>
          <p:nvSpPr>
            <p:cNvPr id="211" name="Text Box 9"/>
            <p:cNvSpPr/>
            <p:nvPr/>
          </p:nvSpPr>
          <p:spPr>
            <a:xfrm>
              <a:off x="5831280" y="207180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6644520" y="18795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6618600" y="2235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6629760" y="233064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6"/>
          <p:cNvSpPr/>
          <p:nvPr/>
        </p:nvSpPr>
        <p:spPr>
          <a:xfrm>
            <a:off x="533520" y="349416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piece of platinum metal with a density of 21.5 g/cm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has a volume of 4.49 cm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What is its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1373400" y="4572000"/>
            <a:ext cx="1331640" cy="876240"/>
            <a:chOff x="1373400" y="4572000"/>
            <a:chExt cx="1331640" cy="876240"/>
          </a:xfrm>
        </p:grpSpPr>
        <p:sp>
          <p:nvSpPr>
            <p:cNvPr id="217" name="Text Box 18"/>
            <p:cNvSpPr/>
            <p:nvPr/>
          </p:nvSpPr>
          <p:spPr>
            <a:xfrm>
              <a:off x="1373400" y="476424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2186640" y="457200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0"/>
            <p:cNvSpPr/>
            <p:nvPr/>
          </p:nvSpPr>
          <p:spPr>
            <a:xfrm>
              <a:off x="2160720" y="4927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>
              <a:off x="2171880" y="5023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22"/>
          <p:cNvSpPr/>
          <p:nvPr/>
        </p:nvSpPr>
        <p:spPr>
          <a:xfrm>
            <a:off x="1284120" y="55008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4470480" y="5638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4"/>
          <p:cNvSpPr/>
          <p:nvPr/>
        </p:nvSpPr>
        <p:spPr>
          <a:xfrm flipV="1">
            <a:off x="6222960" y="5638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2916720" y="5499000"/>
            <a:ext cx="53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1.5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4.49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0CAC-C6F9-4A78-9BB1-7F3493DBD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33520" y="1905120"/>
            <a:ext cx="6858000" cy="106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g/m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L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g/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772560" y="762120"/>
            <a:ext cx="73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I derived unit for density is 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kg/m</a:t>
            </a:r>
            <a:r>
              <a:rPr b="0" lang="en-US" sz="2800" spc="-1" strike="noStrike" baseline="30000">
                <a:solidFill>
                  <a:srgbClr val="00997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836D-B722-46C0-8560-733F468FB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479680" y="0"/>
            <a:ext cx="391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9CA6-D9E9-4FCC-909D-1BA93BA30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5"/>
          <p:cNvGrpSpPr/>
          <p:nvPr/>
        </p:nvGrpSpPr>
        <p:grpSpPr>
          <a:xfrm>
            <a:off x="1981080" y="1600200"/>
            <a:ext cx="2210040" cy="4335480"/>
            <a:chOff x="1981080" y="1600200"/>
            <a:chExt cx="2210040" cy="4335480"/>
          </a:xfrm>
        </p:grpSpPr>
        <p:pic>
          <p:nvPicPr>
            <p:cNvPr id="232" name="Picture 29" descr=""/>
            <p:cNvPicPr/>
            <p:nvPr/>
          </p:nvPicPr>
          <p:blipFill>
            <a:blip r:embed="rId1"/>
            <a:stretch/>
          </p:blipFill>
          <p:spPr>
            <a:xfrm>
              <a:off x="1981080" y="160020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34" descr=""/>
            <p:cNvPicPr/>
            <p:nvPr/>
          </p:nvPicPr>
          <p:blipFill>
            <a:blip r:embed="rId2"/>
            <a:stretch/>
          </p:blipFill>
          <p:spPr>
            <a:xfrm>
              <a:off x="3490920" y="541008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Picture 41" descr=""/>
          <p:cNvPicPr/>
          <p:nvPr/>
        </p:nvPicPr>
        <p:blipFill>
          <a:blip r:embed="rId3"/>
          <a:stretch/>
        </p:blipFill>
        <p:spPr>
          <a:xfrm>
            <a:off x="3681360" y="540072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7" descr=""/>
          <p:cNvPicPr/>
          <p:nvPr/>
        </p:nvPicPr>
        <p:blipFill>
          <a:blip r:embed="rId4"/>
          <a:stretch/>
        </p:blipFill>
        <p:spPr>
          <a:xfrm>
            <a:off x="4838760" y="4067280"/>
            <a:ext cx="271440" cy="263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261120" y="152388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+ 27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9"/>
          <p:cNvGrpSpPr/>
          <p:nvPr/>
        </p:nvGrpSpPr>
        <p:grpSpPr>
          <a:xfrm>
            <a:off x="6154200" y="4003560"/>
            <a:ext cx="2961000" cy="874800"/>
            <a:chOff x="6154200" y="4003560"/>
            <a:chExt cx="2961000" cy="874800"/>
          </a:xfrm>
        </p:grpSpPr>
        <p:sp>
          <p:nvSpPr>
            <p:cNvPr id="238" name="Text Box 4"/>
            <p:cNvSpPr/>
            <p:nvPr/>
          </p:nvSpPr>
          <p:spPr>
            <a:xfrm>
              <a:off x="6154200" y="4178160"/>
              <a:ext cx="29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7067520" y="4003560"/>
              <a:ext cx="393120" cy="874800"/>
              <a:chOff x="7067520" y="4003560"/>
              <a:chExt cx="393120" cy="874800"/>
            </a:xfrm>
          </p:grpSpPr>
          <p:sp>
            <p:nvSpPr>
              <p:cNvPr id="240" name="Text Box 5"/>
              <p:cNvSpPr/>
              <p:nvPr/>
            </p:nvSpPr>
            <p:spPr>
              <a:xfrm>
                <a:off x="7081920" y="40035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6"/>
              <p:cNvSpPr/>
              <p:nvPr/>
            </p:nvSpPr>
            <p:spPr>
              <a:xfrm>
                <a:off x="7081920" y="43578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7067520" y="44593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 Box 11"/>
          <p:cNvSpPr/>
          <p:nvPr/>
        </p:nvSpPr>
        <p:spPr>
          <a:xfrm>
            <a:off x="6493680" y="207324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3 K = 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3 K =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431040" y="4892760"/>
            <a:ext cx="240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5" descr=""/>
          <p:cNvPicPr/>
          <p:nvPr/>
        </p:nvPicPr>
        <p:blipFill>
          <a:blip r:embed="rId5"/>
          <a:stretch/>
        </p:blipFill>
        <p:spPr>
          <a:xfrm>
            <a:off x="380880" y="155268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43"/>
          <p:cNvGrpSpPr/>
          <p:nvPr/>
        </p:nvGrpSpPr>
        <p:grpSpPr>
          <a:xfrm>
            <a:off x="3581280" y="1828800"/>
            <a:ext cx="547920" cy="2633760"/>
            <a:chOff x="3581280" y="1828800"/>
            <a:chExt cx="547920" cy="2633760"/>
          </a:xfrm>
        </p:grpSpPr>
        <p:pic>
          <p:nvPicPr>
            <p:cNvPr id="247" name="Picture 30" descr=""/>
            <p:cNvPicPr/>
            <p:nvPr/>
          </p:nvPicPr>
          <p:blipFill>
            <a:blip r:embed="rId6"/>
            <a:stretch/>
          </p:blipFill>
          <p:spPr>
            <a:xfrm>
              <a:off x="3795840" y="18288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1" descr=""/>
            <p:cNvPicPr/>
            <p:nvPr/>
          </p:nvPicPr>
          <p:blipFill>
            <a:blip r:embed="rId7"/>
            <a:stretch/>
          </p:blipFill>
          <p:spPr>
            <a:xfrm>
              <a:off x="3762360" y="336708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32" descr=""/>
            <p:cNvPicPr/>
            <p:nvPr/>
          </p:nvPicPr>
          <p:blipFill>
            <a:blip r:embed="rId8"/>
            <a:stretch/>
          </p:blipFill>
          <p:spPr>
            <a:xfrm>
              <a:off x="3581280" y="359568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33" descr=""/>
            <p:cNvPicPr/>
            <p:nvPr/>
          </p:nvPicPr>
          <p:blipFill>
            <a:blip r:embed="rId9"/>
            <a:stretch/>
          </p:blipFill>
          <p:spPr>
            <a:xfrm>
              <a:off x="3824280" y="423396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38"/>
          <p:cNvGrpSpPr/>
          <p:nvPr/>
        </p:nvGrpSpPr>
        <p:grpSpPr>
          <a:xfrm>
            <a:off x="3768840" y="1571760"/>
            <a:ext cx="1312920" cy="4185720"/>
            <a:chOff x="3768840" y="1571760"/>
            <a:chExt cx="1312920" cy="4185720"/>
          </a:xfrm>
        </p:grpSpPr>
        <p:pic>
          <p:nvPicPr>
            <p:cNvPr id="252" name="Picture 36" descr=""/>
            <p:cNvPicPr/>
            <p:nvPr/>
          </p:nvPicPr>
          <p:blipFill>
            <a:blip r:embed="rId10"/>
            <a:stretch/>
          </p:blipFill>
          <p:spPr>
            <a:xfrm>
              <a:off x="4040280" y="157176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37" descr=""/>
            <p:cNvPicPr/>
            <p:nvPr/>
          </p:nvPicPr>
          <p:blipFill>
            <a:blip r:embed="rId11"/>
            <a:stretch/>
          </p:blipFill>
          <p:spPr>
            <a:xfrm>
              <a:off x="3768840" y="556740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 Box 4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of Temperature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D811-283D-473B-A19E-5B4EB42F4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80880" y="304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vert 172.9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 to degrees Cels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"/>
          <p:cNvGrpSpPr/>
          <p:nvPr/>
        </p:nvGrpSpPr>
        <p:grpSpPr>
          <a:xfrm>
            <a:off x="3342960" y="1066680"/>
            <a:ext cx="2961000" cy="874800"/>
            <a:chOff x="3342960" y="1066680"/>
            <a:chExt cx="2961000" cy="874800"/>
          </a:xfrm>
        </p:grpSpPr>
        <p:sp>
          <p:nvSpPr>
            <p:cNvPr id="258" name="Text Box 6"/>
            <p:cNvSpPr/>
            <p:nvPr/>
          </p:nvSpPr>
          <p:spPr>
            <a:xfrm>
              <a:off x="3342960" y="1241280"/>
              <a:ext cx="29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7"/>
            <p:cNvGrpSpPr/>
            <p:nvPr/>
          </p:nvGrpSpPr>
          <p:grpSpPr>
            <a:xfrm>
              <a:off x="4256280" y="1066680"/>
              <a:ext cx="393120" cy="874800"/>
              <a:chOff x="4256280" y="1066680"/>
              <a:chExt cx="393120" cy="874800"/>
            </a:xfrm>
          </p:grpSpPr>
          <p:sp>
            <p:nvSpPr>
              <p:cNvPr id="260" name="Text Box 8"/>
              <p:cNvSpPr/>
              <p:nvPr/>
            </p:nvSpPr>
            <p:spPr>
              <a:xfrm>
                <a:off x="4270680" y="1066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9"/>
              <p:cNvSpPr/>
              <p:nvPr/>
            </p:nvSpPr>
            <p:spPr>
              <a:xfrm>
                <a:off x="4270680" y="1420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0"/>
              <p:cNvSpPr/>
              <p:nvPr/>
            </p:nvSpPr>
            <p:spPr>
              <a:xfrm>
                <a:off x="4256280" y="15224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17"/>
          <p:cNvGrpSpPr/>
          <p:nvPr/>
        </p:nvGrpSpPr>
        <p:grpSpPr>
          <a:xfrm>
            <a:off x="2560320" y="1793880"/>
            <a:ext cx="2951640" cy="874800"/>
            <a:chOff x="2560320" y="1793880"/>
            <a:chExt cx="2951640" cy="874800"/>
          </a:xfrm>
        </p:grpSpPr>
        <p:sp>
          <p:nvSpPr>
            <p:cNvPr id="264" name="Text Box 12"/>
            <p:cNvSpPr/>
            <p:nvPr/>
          </p:nvSpPr>
          <p:spPr>
            <a:xfrm>
              <a:off x="2560320" y="1968480"/>
              <a:ext cx="29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 =       x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3"/>
            <p:cNvGrpSpPr/>
            <p:nvPr/>
          </p:nvGrpSpPr>
          <p:grpSpPr>
            <a:xfrm>
              <a:off x="4248000" y="1793880"/>
              <a:ext cx="393120" cy="874800"/>
              <a:chOff x="4248000" y="1793880"/>
              <a:chExt cx="393120" cy="874800"/>
            </a:xfrm>
          </p:grpSpPr>
          <p:sp>
            <p:nvSpPr>
              <p:cNvPr id="266" name="Text Box 14"/>
              <p:cNvSpPr/>
              <p:nvPr/>
            </p:nvSpPr>
            <p:spPr>
              <a:xfrm>
                <a:off x="4262400" y="1793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5"/>
              <p:cNvSpPr/>
              <p:nvPr/>
            </p:nvSpPr>
            <p:spPr>
              <a:xfrm>
                <a:off x="4262400" y="2148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4248000" y="22496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31"/>
          <p:cNvGrpSpPr/>
          <p:nvPr/>
        </p:nvGrpSpPr>
        <p:grpSpPr>
          <a:xfrm>
            <a:off x="1646280" y="2666880"/>
            <a:ext cx="3004560" cy="914400"/>
            <a:chOff x="1646280" y="2666880"/>
            <a:chExt cx="3004560" cy="914400"/>
          </a:xfrm>
        </p:grpSpPr>
        <p:sp>
          <p:nvSpPr>
            <p:cNvPr id="270" name="Text Box 25"/>
            <p:cNvSpPr/>
            <p:nvPr/>
          </p:nvSpPr>
          <p:spPr>
            <a:xfrm>
              <a:off x="2055600" y="2803320"/>
              <a:ext cx="259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) =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0"/>
            <p:cNvGrpSpPr/>
            <p:nvPr/>
          </p:nvGrpSpPr>
          <p:grpSpPr>
            <a:xfrm>
              <a:off x="1646280" y="2666880"/>
              <a:ext cx="380880" cy="914400"/>
              <a:chOff x="1646280" y="2666880"/>
              <a:chExt cx="380880" cy="914400"/>
            </a:xfrm>
          </p:grpSpPr>
          <p:sp>
            <p:nvSpPr>
              <p:cNvPr id="272" name="Text Box 27"/>
              <p:cNvSpPr/>
              <p:nvPr/>
            </p:nvSpPr>
            <p:spPr>
              <a:xfrm>
                <a:off x="1648080" y="3060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28"/>
              <p:cNvSpPr/>
              <p:nvPr/>
            </p:nvSpPr>
            <p:spPr>
              <a:xfrm>
                <a:off x="1648080" y="2666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9"/>
              <p:cNvSpPr/>
              <p:nvPr/>
            </p:nvSpPr>
            <p:spPr>
              <a:xfrm>
                <a:off x="1646280" y="31226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38"/>
          <p:cNvGrpSpPr/>
          <p:nvPr/>
        </p:nvGrpSpPr>
        <p:grpSpPr>
          <a:xfrm>
            <a:off x="3317760" y="3430440"/>
            <a:ext cx="3189600" cy="914400"/>
            <a:chOff x="3317760" y="3430440"/>
            <a:chExt cx="3189600" cy="914400"/>
          </a:xfrm>
        </p:grpSpPr>
        <p:sp>
          <p:nvSpPr>
            <p:cNvPr id="276" name="Text Box 33"/>
            <p:cNvSpPr/>
            <p:nvPr/>
          </p:nvSpPr>
          <p:spPr>
            <a:xfrm>
              <a:off x="3317760" y="3581280"/>
              <a:ext cx="31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=       x 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– 3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34"/>
            <p:cNvGrpSpPr/>
            <p:nvPr/>
          </p:nvGrpSpPr>
          <p:grpSpPr>
            <a:xfrm>
              <a:off x="4226040" y="3430440"/>
              <a:ext cx="380880" cy="914400"/>
              <a:chOff x="4226040" y="3430440"/>
              <a:chExt cx="380880" cy="914400"/>
            </a:xfrm>
          </p:grpSpPr>
          <p:sp>
            <p:nvSpPr>
              <p:cNvPr id="278" name="Text Box 35"/>
              <p:cNvSpPr/>
              <p:nvPr/>
            </p:nvSpPr>
            <p:spPr>
              <a:xfrm>
                <a:off x="4227840" y="38242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36"/>
              <p:cNvSpPr/>
              <p:nvPr/>
            </p:nvSpPr>
            <p:spPr>
              <a:xfrm>
                <a:off x="4227840" y="3430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37"/>
              <p:cNvSpPr/>
              <p:nvPr/>
            </p:nvSpPr>
            <p:spPr>
              <a:xfrm>
                <a:off x="4226040" y="38862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Group 39"/>
          <p:cNvGrpSpPr/>
          <p:nvPr/>
        </p:nvGrpSpPr>
        <p:grpSpPr>
          <a:xfrm>
            <a:off x="3312000" y="4268880"/>
            <a:ext cx="4848840" cy="914040"/>
            <a:chOff x="3312000" y="4268880"/>
            <a:chExt cx="4848840" cy="914040"/>
          </a:xfrm>
        </p:grpSpPr>
        <p:sp>
          <p:nvSpPr>
            <p:cNvPr id="282" name="Text Box 40"/>
            <p:cNvSpPr/>
            <p:nvPr/>
          </p:nvSpPr>
          <p:spPr>
            <a:xfrm>
              <a:off x="3312000" y="4419360"/>
              <a:ext cx="484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=       x (172.9 – 32) = 78.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41"/>
            <p:cNvGrpSpPr/>
            <p:nvPr/>
          </p:nvGrpSpPr>
          <p:grpSpPr>
            <a:xfrm>
              <a:off x="4230720" y="4268880"/>
              <a:ext cx="380880" cy="914040"/>
              <a:chOff x="4230720" y="4268880"/>
              <a:chExt cx="380880" cy="914040"/>
            </a:xfrm>
          </p:grpSpPr>
          <p:sp>
            <p:nvSpPr>
              <p:cNvPr id="284" name="Text Box 42"/>
              <p:cNvSpPr/>
              <p:nvPr/>
            </p:nvSpPr>
            <p:spPr>
              <a:xfrm>
                <a:off x="4232520" y="46623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43"/>
              <p:cNvSpPr/>
              <p:nvPr/>
            </p:nvSpPr>
            <p:spPr>
              <a:xfrm>
                <a:off x="4232520" y="4268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44"/>
              <p:cNvSpPr/>
              <p:nvPr/>
            </p:nvSpPr>
            <p:spPr>
              <a:xfrm>
                <a:off x="4230720" y="472428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2561-4441-4285-BB4E-C52225D1D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: A Science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990720"/>
            <a:ext cx="426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and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ery with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s and 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724280" y="4071960"/>
            <a:ext cx="426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743200" cy="21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81916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DE8E-27AB-4E6D-8D9C-6DA45A29A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rcRect l="17809" t="9998" r="18456" b="0"/>
          <a:stretch/>
        </p:blipFill>
        <p:spPr>
          <a:xfrm>
            <a:off x="0" y="1311120"/>
            <a:ext cx="446076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4"/>
          <p:cNvSpPr/>
          <p:nvPr/>
        </p:nvSpPr>
        <p:spPr>
          <a:xfrm>
            <a:off x="5716440" y="147636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b = 4.45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4579920" y="2057400"/>
            <a:ext cx="4191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orce = mass x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4536 kg x 9.81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kg m/s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1 newton (N) = 1 kg m/s</a:t>
            </a:r>
            <a:r>
              <a:rPr b="0" lang="en-US" sz="2400" spc="-1" strike="noStrike" baseline="30000">
                <a:solidFill>
                  <a:srgbClr val="00997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3891960" y="15732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542400" y="6350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107E-1452-459E-9F14-2FE79000B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5394240" y="-395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477720" y="-106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477720" y="471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304920" y="17064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إعتبا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حدات قياس الطاق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هي نفس واحدت قياس الشغل في الوحدات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فكلاهما يتم قياسه بوحده الجول ورزمها هو ( </a:t>
            </a:r>
            <a:r>
              <a:rPr b="0" i="1" lang="ar-SA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9973"/>
                </a:solidFill>
                <a:latin typeface="Arial"/>
              </a:rPr>
              <a:t>الجول 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9973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9973"/>
                </a:solidFill>
                <a:latin typeface="Arial"/>
              </a:rPr>
              <a:t>) الشغل الذي يقوم به نيوتن واحد على مسافه قدرها واحد م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phic 15" descr=""/>
          <p:cNvPicPr/>
          <p:nvPr/>
        </p:nvPicPr>
        <p:blipFill>
          <a:blip r:embed="rId1"/>
          <a:stretch/>
        </p:blipFill>
        <p:spPr>
          <a:xfrm>
            <a:off x="1082520" y="3200400"/>
            <a:ext cx="5470560" cy="1165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6"/>
          <p:cNvSpPr/>
          <p:nvPr/>
        </p:nvSpPr>
        <p:spPr>
          <a:xfrm>
            <a:off x="914400" y="4584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J =N.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2682000" y="38088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Energy 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194640" y="9334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4ED5-4A3F-42D2-9FFB-AA3C4FC29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4"/>
          <p:cNvGrpSpPr/>
          <p:nvPr/>
        </p:nvGrpSpPr>
        <p:grpSpPr>
          <a:xfrm>
            <a:off x="1828800" y="685800"/>
            <a:ext cx="7162920" cy="1214280"/>
            <a:chOff x="1828800" y="685800"/>
            <a:chExt cx="7162920" cy="1214280"/>
          </a:xfrm>
        </p:grpSpPr>
        <p:sp>
          <p:nvSpPr>
            <p:cNvPr id="305" name="Text Box 5"/>
            <p:cNvSpPr/>
            <p:nvPr/>
          </p:nvSpPr>
          <p:spPr>
            <a:xfrm>
              <a:off x="1828800" y="68580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number of atoms in 12 g of carb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2212920" y="1379520"/>
              <a:ext cx="56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02,200,000,000,000,000,000,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7"/>
          <p:cNvSpPr/>
          <p:nvPr/>
        </p:nvSpPr>
        <p:spPr>
          <a:xfrm>
            <a:off x="3539880" y="207324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02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952560" y="2766960"/>
            <a:ext cx="7238880" cy="1214280"/>
            <a:chOff x="952560" y="2766960"/>
            <a:chExt cx="7238880" cy="1214280"/>
          </a:xfrm>
        </p:grpSpPr>
        <p:sp>
          <p:nvSpPr>
            <p:cNvPr id="309" name="Text Box 8"/>
            <p:cNvSpPr/>
            <p:nvPr/>
          </p:nvSpPr>
          <p:spPr>
            <a:xfrm>
              <a:off x="952560" y="276696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mass of a single carbon atom in gram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1864440" y="3460680"/>
              <a:ext cx="543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00000000000000000000001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0"/>
          <p:cNvSpPr/>
          <p:nvPr/>
        </p:nvSpPr>
        <p:spPr>
          <a:xfrm>
            <a:off x="3606480" y="415440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3912120" y="4815000"/>
            <a:ext cx="132408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x 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537120" y="525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s a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945400" y="525780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sitiv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6"/>
          <p:cNvSpPr/>
          <p:nvPr/>
        </p:nvSpPr>
        <p:spPr>
          <a:xfrm flipV="1">
            <a:off x="838080" y="5105160"/>
            <a:ext cx="31244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H="1" flipV="1">
            <a:off x="5181480" y="502920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340B-6C6D-467A-B639-F67B984FB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08160" y="7621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8.7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569240" y="1727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314280" y="220968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8.762 = 5.68762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558720" y="1244520"/>
            <a:ext cx="2994120" cy="459720"/>
            <a:chOff x="558720" y="1244520"/>
            <a:chExt cx="2994120" cy="459720"/>
          </a:xfrm>
        </p:grpSpPr>
        <p:sp>
          <p:nvSpPr>
            <p:cNvPr id="323" name="Line 7"/>
            <p:cNvSpPr/>
            <p:nvPr/>
          </p:nvSpPr>
          <p:spPr>
            <a:xfrm flipH="1">
              <a:off x="558720" y="1473120"/>
              <a:ext cx="380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0"/>
            <p:cNvSpPr/>
            <p:nvPr/>
          </p:nvSpPr>
          <p:spPr>
            <a:xfrm>
              <a:off x="1000800" y="124452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 decimal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2"/>
          <p:cNvSpPr/>
          <p:nvPr/>
        </p:nvSpPr>
        <p:spPr>
          <a:xfrm>
            <a:off x="5014440" y="762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0007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6288840" y="1727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5014440" y="22096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000772 = 7.72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5278320" y="1244520"/>
            <a:ext cx="3633840" cy="459720"/>
            <a:chOff x="5278320" y="1244520"/>
            <a:chExt cx="3633840" cy="459720"/>
          </a:xfrm>
        </p:grpSpPr>
        <p:sp>
          <p:nvSpPr>
            <p:cNvPr id="329" name="Line 16"/>
            <p:cNvSpPr/>
            <p:nvPr/>
          </p:nvSpPr>
          <p:spPr>
            <a:xfrm>
              <a:off x="5278320" y="1473120"/>
              <a:ext cx="8938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7"/>
            <p:cNvSpPr/>
            <p:nvPr/>
          </p:nvSpPr>
          <p:spPr>
            <a:xfrm>
              <a:off x="6174000" y="124452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 decimal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19"/>
          <p:cNvSpPr/>
          <p:nvPr/>
        </p:nvSpPr>
        <p:spPr>
          <a:xfrm>
            <a:off x="290880" y="3036960"/>
            <a:ext cx="37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dition or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212760" y="3733920"/>
            <a:ext cx="4206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quantity with the same exponen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onent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main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5046480" y="37846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1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.9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4869000" y="4330800"/>
            <a:ext cx="34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1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.39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6585480" y="48769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0 x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435C-224B-4563-A745-C3A27D949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2861640" y="1062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31120" y="102708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245520" y="1600200"/>
            <a:ext cx="396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xpon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4965840" y="1447920"/>
            <a:ext cx="360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x (7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.0 x 7.0) x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230760" y="34815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244440" y="4054320"/>
            <a:ext cx="4563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expon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5422320" y="3581280"/>
            <a:ext cx="31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5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8.5 ÷ 5.0)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5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AF35-CA6A-4275-9C97-971E63BC3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28600" y="914400"/>
            <a:ext cx="861048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digit that is not zero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34 kg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 between nonzero digi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6 m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 to the left of the first nonzero digit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8 L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number is greater than 1, then all zeros to the right of the decimal point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mg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number is less than 1, then only the zeros that are at the end and in the middle of the number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420 g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175F-0166-4BE2-A7A1-5517AE118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486080" y="4572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many significant figures are in each of the following measu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281240" y="1638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361480" y="163836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282320" y="2419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361480" y="24130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1288080" y="32004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32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5361480" y="320040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1289160" y="398160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5361480" y="398772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281960" y="4762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5361480" y="476244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F625-8DFC-47A5-AFCA-292A2A62E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81360" y="914400"/>
            <a:ext cx="37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dition or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81720" y="1523880"/>
            <a:ext cx="860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cannot have more digits to the right of the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than any of the original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8"/>
          <p:cNvGrpSpPr/>
          <p:nvPr/>
        </p:nvGrpSpPr>
        <p:grpSpPr>
          <a:xfrm>
            <a:off x="698400" y="2478240"/>
            <a:ext cx="1165680" cy="1245240"/>
            <a:chOff x="698400" y="2478240"/>
            <a:chExt cx="1165680" cy="1245240"/>
          </a:xfrm>
        </p:grpSpPr>
        <p:sp>
          <p:nvSpPr>
            <p:cNvPr id="364" name="Text Box 8"/>
            <p:cNvSpPr/>
            <p:nvPr/>
          </p:nvSpPr>
          <p:spPr>
            <a:xfrm>
              <a:off x="748800" y="24782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9.3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916200" y="28195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0"/>
            <p:cNvSpPr/>
            <p:nvPr/>
          </p:nvSpPr>
          <p:spPr>
            <a:xfrm>
              <a:off x="731520" y="2819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698400" y="32767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752040" y="32637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.4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0"/>
          <p:cNvGrpSpPr/>
          <p:nvPr/>
        </p:nvGrpSpPr>
        <p:grpSpPr>
          <a:xfrm>
            <a:off x="1904760" y="3263760"/>
            <a:ext cx="3155760" cy="459720"/>
            <a:chOff x="1904760" y="3263760"/>
            <a:chExt cx="3155760" cy="459720"/>
          </a:xfrm>
        </p:grpSpPr>
        <p:sp>
          <p:nvSpPr>
            <p:cNvPr id="370" name="Line 14"/>
            <p:cNvSpPr/>
            <p:nvPr/>
          </p:nvSpPr>
          <p:spPr>
            <a:xfrm flipH="1">
              <a:off x="1904760" y="347976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5"/>
            <p:cNvSpPr/>
            <p:nvPr/>
          </p:nvSpPr>
          <p:spPr>
            <a:xfrm>
              <a:off x="2657880" y="326376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off to 9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1904760" y="2819520"/>
            <a:ext cx="6307200" cy="459720"/>
            <a:chOff x="1904760" y="2819520"/>
            <a:chExt cx="6307200" cy="459720"/>
          </a:xfrm>
        </p:grpSpPr>
        <p:sp>
          <p:nvSpPr>
            <p:cNvPr id="373" name="Line 16"/>
            <p:cNvSpPr/>
            <p:nvPr/>
          </p:nvSpPr>
          <p:spPr>
            <a:xfrm flipH="1">
              <a:off x="1904760" y="30481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2662200" y="2819520"/>
              <a:ext cx="55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significant figure after decimal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1"/>
          <p:cNvGrpSpPr/>
          <p:nvPr/>
        </p:nvGrpSpPr>
        <p:grpSpPr>
          <a:xfrm>
            <a:off x="815400" y="4267080"/>
            <a:ext cx="1213920" cy="1183680"/>
            <a:chOff x="815400" y="4267080"/>
            <a:chExt cx="1213920" cy="1183680"/>
          </a:xfrm>
        </p:grpSpPr>
        <p:sp>
          <p:nvSpPr>
            <p:cNvPr id="376" name="Text Box 21"/>
            <p:cNvSpPr/>
            <p:nvPr/>
          </p:nvSpPr>
          <p:spPr>
            <a:xfrm>
              <a:off x="916560" y="426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2"/>
            <p:cNvSpPr/>
            <p:nvPr/>
          </p:nvSpPr>
          <p:spPr>
            <a:xfrm>
              <a:off x="815400" y="457200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.91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3"/>
            <p:cNvSpPr/>
            <p:nvPr/>
          </p:nvSpPr>
          <p:spPr>
            <a:xfrm>
              <a:off x="838080" y="50292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4"/>
            <p:cNvSpPr/>
            <p:nvPr/>
          </p:nvSpPr>
          <p:spPr>
            <a:xfrm>
              <a:off x="916920" y="49910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78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25"/>
          <p:cNvGrpSpPr/>
          <p:nvPr/>
        </p:nvGrpSpPr>
        <p:grpSpPr>
          <a:xfrm>
            <a:off x="1904760" y="4267080"/>
            <a:ext cx="6425280" cy="459720"/>
            <a:chOff x="1904760" y="4267080"/>
            <a:chExt cx="6425280" cy="459720"/>
          </a:xfrm>
        </p:grpSpPr>
        <p:sp>
          <p:nvSpPr>
            <p:cNvPr id="381" name="Line 26"/>
            <p:cNvSpPr/>
            <p:nvPr/>
          </p:nvSpPr>
          <p:spPr>
            <a:xfrm flipH="1">
              <a:off x="1904760" y="44956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7"/>
            <p:cNvSpPr/>
            <p:nvPr/>
          </p:nvSpPr>
          <p:spPr>
            <a:xfrm>
              <a:off x="2661480" y="4267080"/>
              <a:ext cx="56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 significant figures after decimal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8"/>
          <p:cNvGrpSpPr/>
          <p:nvPr/>
        </p:nvGrpSpPr>
        <p:grpSpPr>
          <a:xfrm>
            <a:off x="1904760" y="4991040"/>
            <a:ext cx="3155760" cy="459720"/>
            <a:chOff x="1904760" y="4991040"/>
            <a:chExt cx="3155760" cy="459720"/>
          </a:xfrm>
        </p:grpSpPr>
        <p:sp>
          <p:nvSpPr>
            <p:cNvPr id="384" name="Line 29"/>
            <p:cNvSpPr/>
            <p:nvPr/>
          </p:nvSpPr>
          <p:spPr>
            <a:xfrm flipH="1">
              <a:off x="1904760" y="520704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2657880" y="499104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off to 0.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BFC-8854-40EB-A200-74F8C2330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40680" y="93024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ication o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8160" y="153972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significant figures in the result is set by the original number that ha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199600" y="251460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1 x 3.6666 = 16.536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895720" y="25146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1881720" y="2908440"/>
            <a:ext cx="1383120" cy="980280"/>
            <a:chOff x="1881720" y="2908440"/>
            <a:chExt cx="1383120" cy="980280"/>
          </a:xfrm>
        </p:grpSpPr>
        <p:sp>
          <p:nvSpPr>
            <p:cNvPr id="393" name="Line 10"/>
            <p:cNvSpPr/>
            <p:nvPr/>
          </p:nvSpPr>
          <p:spPr>
            <a:xfrm flipV="1">
              <a:off x="2577960" y="29084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1881720" y="342900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4485240" y="2908080"/>
            <a:ext cx="1383120" cy="1346040"/>
            <a:chOff x="4485240" y="2908080"/>
            <a:chExt cx="1383120" cy="1346040"/>
          </a:xfrm>
        </p:grpSpPr>
        <p:sp>
          <p:nvSpPr>
            <p:cNvPr id="396" name="Line 14"/>
            <p:cNvSpPr/>
            <p:nvPr/>
          </p:nvSpPr>
          <p:spPr>
            <a:xfrm flipV="1">
              <a:off x="5181480" y="29080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4485240" y="342864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6"/>
          <p:cNvSpPr/>
          <p:nvPr/>
        </p:nvSpPr>
        <p:spPr>
          <a:xfrm>
            <a:off x="2211120" y="449568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112.04 = 0.06069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1830960" y="4915080"/>
            <a:ext cx="1383120" cy="980280"/>
            <a:chOff x="1830960" y="4915080"/>
            <a:chExt cx="1383120" cy="980280"/>
          </a:xfrm>
        </p:grpSpPr>
        <p:sp>
          <p:nvSpPr>
            <p:cNvPr id="400" name="Line 18"/>
            <p:cNvSpPr/>
            <p:nvPr/>
          </p:nvSpPr>
          <p:spPr>
            <a:xfrm flipV="1">
              <a:off x="2527200" y="49150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9"/>
            <p:cNvSpPr/>
            <p:nvPr/>
          </p:nvSpPr>
          <p:spPr>
            <a:xfrm>
              <a:off x="1830960" y="543564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0"/>
          <p:cNvGrpSpPr/>
          <p:nvPr/>
        </p:nvGrpSpPr>
        <p:grpSpPr>
          <a:xfrm>
            <a:off x="4494960" y="4879800"/>
            <a:ext cx="1383120" cy="1346040"/>
            <a:chOff x="4494960" y="4879800"/>
            <a:chExt cx="1383120" cy="1346040"/>
          </a:xfrm>
        </p:grpSpPr>
        <p:sp>
          <p:nvSpPr>
            <p:cNvPr id="403" name="Line 21"/>
            <p:cNvSpPr/>
            <p:nvPr/>
          </p:nvSpPr>
          <p:spPr>
            <a:xfrm flipV="1">
              <a:off x="5191200" y="48798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2"/>
            <p:cNvSpPr/>
            <p:nvPr/>
          </p:nvSpPr>
          <p:spPr>
            <a:xfrm>
              <a:off x="4494960" y="5400360"/>
              <a:ext cx="13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und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sig fi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23"/>
          <p:cNvSpPr/>
          <p:nvPr/>
        </p:nvSpPr>
        <p:spPr>
          <a:xfrm>
            <a:off x="5754600" y="44956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0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A2B8-8707-4E32-9395-CCBC303ED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2821680" y="1062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46880" y="93024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ct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48680" y="1487520"/>
            <a:ext cx="86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from definitions or numbers of objects ar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an infinite number of 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31120" y="2971800"/>
            <a:ext cx="84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of three measured lengths; 6.64, 6.68 and 6.7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2"/>
          <p:cNvGrpSpPr/>
          <p:nvPr/>
        </p:nvGrpSpPr>
        <p:grpSpPr>
          <a:xfrm>
            <a:off x="1838160" y="3938760"/>
            <a:ext cx="5090400" cy="864360"/>
            <a:chOff x="1838160" y="3938760"/>
            <a:chExt cx="5090400" cy="864360"/>
          </a:xfrm>
        </p:grpSpPr>
        <p:grpSp>
          <p:nvGrpSpPr>
            <p:cNvPr id="412" name="Group 10"/>
            <p:cNvGrpSpPr/>
            <p:nvPr/>
          </p:nvGrpSpPr>
          <p:grpSpPr>
            <a:xfrm>
              <a:off x="1838160" y="3938760"/>
              <a:ext cx="2657160" cy="864360"/>
              <a:chOff x="1838160" y="3938760"/>
              <a:chExt cx="2657160" cy="864360"/>
            </a:xfrm>
          </p:grpSpPr>
          <p:sp>
            <p:nvSpPr>
              <p:cNvPr id="413" name="Text Box 7"/>
              <p:cNvSpPr/>
              <p:nvPr/>
            </p:nvSpPr>
            <p:spPr>
              <a:xfrm>
                <a:off x="1838160" y="3938760"/>
                <a:ext cx="265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.64 + 6.68 + 6.7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8"/>
              <p:cNvSpPr/>
              <p:nvPr/>
            </p:nvSpPr>
            <p:spPr>
              <a:xfrm>
                <a:off x="1922400" y="4356360"/>
                <a:ext cx="243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9"/>
              <p:cNvSpPr/>
              <p:nvPr/>
            </p:nvSpPr>
            <p:spPr>
              <a:xfrm>
                <a:off x="2978280" y="4343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 Box 11"/>
            <p:cNvSpPr/>
            <p:nvPr/>
          </p:nvSpPr>
          <p:spPr>
            <a:xfrm>
              <a:off x="4356720" y="4127400"/>
              <a:ext cx="25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6.67333 = 6.6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4"/>
          <p:cNvSpPr/>
          <p:nvPr/>
        </p:nvSpPr>
        <p:spPr>
          <a:xfrm>
            <a:off x="2422440" y="518148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3 i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c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6"/>
          <p:cNvGrpSpPr/>
          <p:nvPr/>
        </p:nvGrpSpPr>
        <p:grpSpPr>
          <a:xfrm>
            <a:off x="6738480" y="4127400"/>
            <a:ext cx="613440" cy="459720"/>
            <a:chOff x="6738480" y="4127400"/>
            <a:chExt cx="613440" cy="459720"/>
          </a:xfrm>
        </p:grpSpPr>
        <p:sp>
          <p:nvSpPr>
            <p:cNvPr id="419" name="Text Box 13"/>
            <p:cNvSpPr/>
            <p:nvPr/>
          </p:nvSpPr>
          <p:spPr>
            <a:xfrm>
              <a:off x="6738480" y="41274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5"/>
            <p:cNvSpPr/>
            <p:nvPr/>
          </p:nvSpPr>
          <p:spPr>
            <a:xfrm>
              <a:off x="6858000" y="4191120"/>
              <a:ext cx="38088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FAE5-50FA-4C6D-8F4B-976D55A72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: A Science for 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6320" y="1143000"/>
            <a:ext cx="6095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mers, ceramics, liquid cry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m-temperature supercondu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comp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572000" y="4071960"/>
            <a:ext cx="4419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ally modified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” pest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13984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838080" y="41878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C425-F927-4067-BE3B-ACBD9273B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14480" y="2905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ow close a measurement is 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ow close a set of measurements ar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878400" y="479412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641760" y="479412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6674040" y="4794120"/>
            <a:ext cx="185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0" descr="01_13"/>
          <p:cNvPicPr/>
          <p:nvPr/>
        </p:nvPicPr>
        <p:blipFill>
          <a:blip r:embed="rId1"/>
          <a:srcRect l="0" t="4030" r="0" b="13630"/>
          <a:stretch/>
        </p:blipFill>
        <p:spPr>
          <a:xfrm>
            <a:off x="152280" y="1830240"/>
            <a:ext cx="883944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CF56-E454-420E-A0D2-D378D655A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40720" y="166680"/>
            <a:ext cx="81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al Analysis Method of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28600" y="99072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ich unit conversion factor(s)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units through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units cancel except for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red unit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 problem was solved cor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7"/>
          <p:cNvSpPr/>
          <p:nvPr/>
        </p:nvSpPr>
        <p:spPr>
          <a:xfrm>
            <a:off x="918000" y="3505320"/>
            <a:ext cx="72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quantity x conversion factor = desired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8"/>
          <p:cNvSpPr/>
          <p:nvPr/>
        </p:nvSpPr>
        <p:spPr>
          <a:xfrm>
            <a:off x="1830960" y="47181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unit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2"/>
          <p:cNvSpPr/>
          <p:nvPr/>
        </p:nvSpPr>
        <p:spPr>
          <a:xfrm>
            <a:off x="5349240" y="47242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desired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4"/>
          <p:cNvGrpSpPr/>
          <p:nvPr/>
        </p:nvGrpSpPr>
        <p:grpSpPr>
          <a:xfrm>
            <a:off x="3630600" y="4495680"/>
            <a:ext cx="1755000" cy="953640"/>
            <a:chOff x="3630600" y="4495680"/>
            <a:chExt cx="1755000" cy="953640"/>
          </a:xfrm>
        </p:grpSpPr>
        <p:sp>
          <p:nvSpPr>
            <p:cNvPr id="434" name="Text Box 39"/>
            <p:cNvSpPr/>
            <p:nvPr/>
          </p:nvSpPr>
          <p:spPr>
            <a:xfrm>
              <a:off x="3630600" y="449568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red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0"/>
            <p:cNvSpPr/>
            <p:nvPr/>
          </p:nvSpPr>
          <p:spPr>
            <a:xfrm>
              <a:off x="3765240" y="498960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iven u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3"/>
            <p:cNvSpPr/>
            <p:nvPr/>
          </p:nvSpPr>
          <p:spPr>
            <a:xfrm>
              <a:off x="3670200" y="49705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Line 46"/>
          <p:cNvSpPr/>
          <p:nvPr/>
        </p:nvSpPr>
        <p:spPr>
          <a:xfrm flipV="1">
            <a:off x="2057400" y="4647960"/>
            <a:ext cx="106668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7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E62D-A222-43DD-AC6B-ACB386309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461520" y="547560"/>
            <a:ext cx="81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al Analysis Method of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765720" y="297180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Unit 1 L = 10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63560" y="3606840"/>
            <a:ext cx="4340160" cy="891360"/>
            <a:chOff x="763560" y="3606840"/>
            <a:chExt cx="4340160" cy="891360"/>
          </a:xfrm>
        </p:grpSpPr>
        <p:grpSp>
          <p:nvGrpSpPr>
            <p:cNvPr id="443" name="Group 8"/>
            <p:cNvGrpSpPr/>
            <p:nvPr/>
          </p:nvGrpSpPr>
          <p:grpSpPr>
            <a:xfrm>
              <a:off x="2085480" y="3606840"/>
              <a:ext cx="1366560" cy="891360"/>
              <a:chOff x="2085480" y="3606840"/>
              <a:chExt cx="1366560" cy="891360"/>
            </a:xfrm>
          </p:grpSpPr>
          <p:sp>
            <p:nvSpPr>
              <p:cNvPr id="444" name="Text Box 9"/>
              <p:cNvSpPr/>
              <p:nvPr/>
            </p:nvSpPr>
            <p:spPr>
              <a:xfrm>
                <a:off x="2509200" y="4038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0"/>
              <p:cNvSpPr/>
              <p:nvPr/>
            </p:nvSpPr>
            <p:spPr>
              <a:xfrm>
                <a:off x="2085480" y="3606840"/>
                <a:ext cx="136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000 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1"/>
              <p:cNvSpPr/>
              <p:nvPr/>
            </p:nvSpPr>
            <p:spPr>
              <a:xfrm>
                <a:off x="2159280" y="4063680"/>
                <a:ext cx="12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Text Box 12"/>
            <p:cNvSpPr/>
            <p:nvPr/>
          </p:nvSpPr>
          <p:spPr>
            <a:xfrm>
              <a:off x="763560" y="38098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63 L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3"/>
            <p:cNvSpPr/>
            <p:nvPr/>
          </p:nvSpPr>
          <p:spPr>
            <a:xfrm>
              <a:off x="3473640" y="3835080"/>
              <a:ext cx="163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1630 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Line 14"/>
          <p:cNvSpPr/>
          <p:nvPr/>
        </p:nvSpPr>
        <p:spPr>
          <a:xfrm flipV="1">
            <a:off x="1473120" y="39366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 flipV="1">
            <a:off x="2730600" y="41400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6"/>
          <p:cNvGrpSpPr/>
          <p:nvPr/>
        </p:nvGrpSpPr>
        <p:grpSpPr>
          <a:xfrm>
            <a:off x="2896560" y="4635360"/>
            <a:ext cx="4950000" cy="853200"/>
            <a:chOff x="2896560" y="4635360"/>
            <a:chExt cx="4950000" cy="853200"/>
          </a:xfrm>
        </p:grpSpPr>
        <p:sp>
          <p:nvSpPr>
            <p:cNvPr id="452" name="Text Box 17"/>
            <p:cNvSpPr/>
            <p:nvPr/>
          </p:nvSpPr>
          <p:spPr>
            <a:xfrm>
              <a:off x="4642200" y="4635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4218840" y="502884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0 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9"/>
            <p:cNvSpPr/>
            <p:nvPr/>
          </p:nvSpPr>
          <p:spPr>
            <a:xfrm>
              <a:off x="4292280" y="505440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2896560" y="48002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63 L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5607720" y="48258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0.0016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2"/>
            <p:cNvGrpSpPr/>
            <p:nvPr/>
          </p:nvGrpSpPr>
          <p:grpSpPr>
            <a:xfrm>
              <a:off x="7242120" y="4647960"/>
              <a:ext cx="604440" cy="840600"/>
              <a:chOff x="7242120" y="4647960"/>
              <a:chExt cx="604440" cy="840600"/>
            </a:xfrm>
          </p:grpSpPr>
          <p:sp>
            <p:nvSpPr>
              <p:cNvPr id="458" name="Line 23"/>
              <p:cNvSpPr/>
              <p:nvPr/>
            </p:nvSpPr>
            <p:spPr>
              <a:xfrm>
                <a:off x="7316640" y="50544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4"/>
              <p:cNvSpPr/>
              <p:nvPr/>
            </p:nvSpPr>
            <p:spPr>
              <a:xfrm>
                <a:off x="7302960" y="464796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5"/>
              <p:cNvSpPr/>
              <p:nvPr/>
            </p:nvSpPr>
            <p:spPr>
              <a:xfrm>
                <a:off x="7242120" y="5028840"/>
                <a:ext cx="60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26"/>
          <p:cNvGrpSpPr/>
          <p:nvPr/>
        </p:nvGrpSpPr>
        <p:grpSpPr>
          <a:xfrm>
            <a:off x="2971800" y="4648320"/>
            <a:ext cx="4952880" cy="761760"/>
            <a:chOff x="2971800" y="4648320"/>
            <a:chExt cx="4952880" cy="761760"/>
          </a:xfrm>
        </p:grpSpPr>
        <p:sp>
          <p:nvSpPr>
            <p:cNvPr id="462" name="Line 27"/>
            <p:cNvSpPr/>
            <p:nvPr/>
          </p:nvSpPr>
          <p:spPr>
            <a:xfrm>
              <a:off x="2971800" y="4648320"/>
              <a:ext cx="4952880" cy="761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8"/>
            <p:cNvSpPr/>
            <p:nvPr/>
          </p:nvSpPr>
          <p:spPr>
            <a:xfrm flipH="1">
              <a:off x="2971800" y="4648320"/>
              <a:ext cx="4952880" cy="761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Line 29"/>
          <p:cNvSpPr/>
          <p:nvPr/>
        </p:nvSpPr>
        <p:spPr>
          <a:xfrm>
            <a:off x="3733920" y="439416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0"/>
          <p:cNvSpPr/>
          <p:nvPr/>
        </p:nvSpPr>
        <p:spPr>
          <a:xfrm>
            <a:off x="4952880" y="42670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1"/>
          <p:cNvSpPr/>
          <p:nvPr/>
        </p:nvSpPr>
        <p:spPr>
          <a:xfrm flipV="1">
            <a:off x="5257800" y="533412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2"/>
          <p:cNvSpPr/>
          <p:nvPr/>
        </p:nvSpPr>
        <p:spPr>
          <a:xfrm>
            <a:off x="7493040" y="412740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908720" y="1614600"/>
            <a:ext cx="47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many mL are in 1.63 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1DCD-1C74-4995-B4C2-E6BE3C42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speed of sound in air is about 343 m/s.  What is this speed in mile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092960" y="35053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 = 1609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3856680" y="350532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n = 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6351480" y="35053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hour = 6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3"/>
          <p:cNvGrpSpPr/>
          <p:nvPr/>
        </p:nvGrpSpPr>
        <p:grpSpPr>
          <a:xfrm>
            <a:off x="764640" y="4840200"/>
            <a:ext cx="1135800" cy="801000"/>
            <a:chOff x="764640" y="4840200"/>
            <a:chExt cx="1135800" cy="801000"/>
          </a:xfrm>
        </p:grpSpPr>
        <p:sp>
          <p:nvSpPr>
            <p:cNvPr id="475" name="Text Box 7"/>
            <p:cNvSpPr/>
            <p:nvPr/>
          </p:nvSpPr>
          <p:spPr>
            <a:xfrm>
              <a:off x="764640" y="50194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1"/>
            <p:cNvGrpSpPr/>
            <p:nvPr/>
          </p:nvGrpSpPr>
          <p:grpSpPr>
            <a:xfrm>
              <a:off x="1465200" y="4840200"/>
              <a:ext cx="435240" cy="801000"/>
              <a:chOff x="1465200" y="4840200"/>
              <a:chExt cx="435240" cy="80100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465200" y="4840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1513080" y="5181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1479600" y="52574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30"/>
          <p:cNvGrpSpPr/>
          <p:nvPr/>
        </p:nvGrpSpPr>
        <p:grpSpPr>
          <a:xfrm>
            <a:off x="1852920" y="4827600"/>
            <a:ext cx="1437480" cy="889920"/>
            <a:chOff x="1852920" y="4827600"/>
            <a:chExt cx="1437480" cy="889920"/>
          </a:xfrm>
        </p:grpSpPr>
        <p:sp>
          <p:nvSpPr>
            <p:cNvPr id="481" name="Text Box 14"/>
            <p:cNvSpPr/>
            <p:nvPr/>
          </p:nvSpPr>
          <p:spPr>
            <a:xfrm>
              <a:off x="185292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8"/>
            <p:cNvGrpSpPr/>
            <p:nvPr/>
          </p:nvGrpSpPr>
          <p:grpSpPr>
            <a:xfrm>
              <a:off x="2093040" y="4827600"/>
              <a:ext cx="1197360" cy="889920"/>
              <a:chOff x="2093040" y="4827600"/>
              <a:chExt cx="1197360" cy="889920"/>
            </a:xfrm>
          </p:grpSpPr>
          <p:sp>
            <p:nvSpPr>
              <p:cNvPr id="483" name="Text Box 15"/>
              <p:cNvSpPr/>
              <p:nvPr/>
            </p:nvSpPr>
            <p:spPr>
              <a:xfrm>
                <a:off x="2287800" y="4827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6"/>
              <p:cNvSpPr/>
              <p:nvPr/>
            </p:nvSpPr>
            <p:spPr>
              <a:xfrm>
                <a:off x="2225520" y="5257800"/>
                <a:ext cx="99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7"/>
              <p:cNvSpPr/>
              <p:nvPr/>
            </p:nvSpPr>
            <p:spPr>
              <a:xfrm>
                <a:off x="2093040" y="5257800"/>
                <a:ext cx="119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09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31"/>
          <p:cNvGrpSpPr/>
          <p:nvPr/>
        </p:nvGrpSpPr>
        <p:grpSpPr>
          <a:xfrm>
            <a:off x="3281400" y="4827600"/>
            <a:ext cx="1382400" cy="889920"/>
            <a:chOff x="3281400" y="4827600"/>
            <a:chExt cx="1382400" cy="889920"/>
          </a:xfrm>
        </p:grpSpPr>
        <p:grpSp>
          <p:nvGrpSpPr>
            <p:cNvPr id="487" name="Group 20"/>
            <p:cNvGrpSpPr/>
            <p:nvPr/>
          </p:nvGrpSpPr>
          <p:grpSpPr>
            <a:xfrm>
              <a:off x="3414960" y="4827600"/>
              <a:ext cx="1248840" cy="889920"/>
              <a:chOff x="3414960" y="4827600"/>
              <a:chExt cx="1248840" cy="889920"/>
            </a:xfrm>
          </p:grpSpPr>
          <p:sp>
            <p:nvSpPr>
              <p:cNvPr id="488" name="Text Box 21"/>
              <p:cNvSpPr/>
              <p:nvPr/>
            </p:nvSpPr>
            <p:spPr>
              <a:xfrm>
                <a:off x="3734640" y="4827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22"/>
              <p:cNvSpPr/>
              <p:nvPr/>
            </p:nvSpPr>
            <p:spPr>
              <a:xfrm>
                <a:off x="3673080" y="5257800"/>
                <a:ext cx="99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23"/>
              <p:cNvSpPr/>
              <p:nvPr/>
            </p:nvSpPr>
            <p:spPr>
              <a:xfrm>
                <a:off x="3414960" y="5257800"/>
                <a:ext cx="118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Text Box 28"/>
            <p:cNvSpPr/>
            <p:nvPr/>
          </p:nvSpPr>
          <p:spPr>
            <a:xfrm>
              <a:off x="328140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32"/>
          <p:cNvGrpSpPr/>
          <p:nvPr/>
        </p:nvGrpSpPr>
        <p:grpSpPr>
          <a:xfrm>
            <a:off x="4773960" y="4827600"/>
            <a:ext cx="1483200" cy="889920"/>
            <a:chOff x="4773960" y="4827600"/>
            <a:chExt cx="1483200" cy="889920"/>
          </a:xfrm>
        </p:grpSpPr>
        <p:sp>
          <p:nvSpPr>
            <p:cNvPr id="493" name="Text Box 25"/>
            <p:cNvSpPr/>
            <p:nvPr/>
          </p:nvSpPr>
          <p:spPr>
            <a:xfrm>
              <a:off x="5162040" y="4827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5197680" y="525780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27"/>
            <p:cNvSpPr/>
            <p:nvPr/>
          </p:nvSpPr>
          <p:spPr>
            <a:xfrm>
              <a:off x="4880520" y="5257800"/>
              <a:ext cx="13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9"/>
            <p:cNvSpPr/>
            <p:nvPr/>
          </p:nvSpPr>
          <p:spPr>
            <a:xfrm>
              <a:off x="4773960" y="50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40"/>
          <p:cNvGrpSpPr/>
          <p:nvPr/>
        </p:nvGrpSpPr>
        <p:grpSpPr>
          <a:xfrm>
            <a:off x="6224760" y="4840200"/>
            <a:ext cx="1662480" cy="851760"/>
            <a:chOff x="6224760" y="4840200"/>
            <a:chExt cx="1662480" cy="851760"/>
          </a:xfrm>
        </p:grpSpPr>
        <p:sp>
          <p:nvSpPr>
            <p:cNvPr id="498" name="Text Box 34"/>
            <p:cNvSpPr/>
            <p:nvPr/>
          </p:nvSpPr>
          <p:spPr>
            <a:xfrm>
              <a:off x="6224760" y="50306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7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38"/>
            <p:cNvGrpSpPr/>
            <p:nvPr/>
          </p:nvGrpSpPr>
          <p:grpSpPr>
            <a:xfrm>
              <a:off x="7097040" y="4840200"/>
              <a:ext cx="790200" cy="851760"/>
              <a:chOff x="7097040" y="4840200"/>
              <a:chExt cx="790200" cy="851760"/>
            </a:xfrm>
          </p:grpSpPr>
          <p:sp>
            <p:nvSpPr>
              <p:cNvPr id="500" name="Text Box 35"/>
              <p:cNvSpPr/>
              <p:nvPr/>
            </p:nvSpPr>
            <p:spPr>
              <a:xfrm>
                <a:off x="7233120" y="48402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6"/>
              <p:cNvSpPr/>
              <p:nvPr/>
            </p:nvSpPr>
            <p:spPr>
              <a:xfrm>
                <a:off x="7097040" y="52322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7"/>
              <p:cNvSpPr/>
              <p:nvPr/>
            </p:nvSpPr>
            <p:spPr>
              <a:xfrm>
                <a:off x="7170480" y="525744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Line 39"/>
          <p:cNvSpPr/>
          <p:nvPr/>
        </p:nvSpPr>
        <p:spPr>
          <a:xfrm>
            <a:off x="167940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1"/>
          <p:cNvSpPr/>
          <p:nvPr/>
        </p:nvSpPr>
        <p:spPr>
          <a:xfrm flipV="1">
            <a:off x="303840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2"/>
          <p:cNvSpPr/>
          <p:nvPr/>
        </p:nvSpPr>
        <p:spPr>
          <a:xfrm>
            <a:off x="438480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3"/>
          <p:cNvSpPr/>
          <p:nvPr/>
        </p:nvSpPr>
        <p:spPr>
          <a:xfrm>
            <a:off x="5946840" y="441972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4"/>
          <p:cNvSpPr/>
          <p:nvPr/>
        </p:nvSpPr>
        <p:spPr>
          <a:xfrm flipV="1">
            <a:off x="167940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5"/>
          <p:cNvSpPr/>
          <p:nvPr/>
        </p:nvSpPr>
        <p:spPr>
          <a:xfrm flipV="1">
            <a:off x="4308480" y="5638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6"/>
          <p:cNvSpPr/>
          <p:nvPr/>
        </p:nvSpPr>
        <p:spPr>
          <a:xfrm flipV="1">
            <a:off x="1552680" y="496548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7"/>
          <p:cNvSpPr/>
          <p:nvPr/>
        </p:nvSpPr>
        <p:spPr>
          <a:xfrm flipV="1">
            <a:off x="2936880" y="54097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8"/>
          <p:cNvSpPr/>
          <p:nvPr/>
        </p:nvSpPr>
        <p:spPr>
          <a:xfrm flipV="1">
            <a:off x="1565280" y="529560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9"/>
          <p:cNvSpPr/>
          <p:nvPr/>
        </p:nvSpPr>
        <p:spPr>
          <a:xfrm flipV="1">
            <a:off x="4308480" y="4952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50"/>
          <p:cNvSpPr/>
          <p:nvPr/>
        </p:nvSpPr>
        <p:spPr>
          <a:xfrm flipV="1">
            <a:off x="4194000" y="5384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1"/>
          <p:cNvSpPr/>
          <p:nvPr/>
        </p:nvSpPr>
        <p:spPr>
          <a:xfrm flipV="1">
            <a:off x="5832360" y="49525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2"/>
          <p:cNvSpPr/>
          <p:nvPr/>
        </p:nvSpPr>
        <p:spPr>
          <a:xfrm>
            <a:off x="2322000" y="201780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s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3"/>
          <p:cNvSpPr/>
          <p:nvPr/>
        </p:nvSpPr>
        <p:spPr>
          <a:xfrm>
            <a:off x="2323440" y="266688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s to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5"/>
          <p:cNvSpPr/>
          <p:nvPr/>
        </p:nvSpPr>
        <p:spPr>
          <a:xfrm>
            <a:off x="3199680" y="137160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rsion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09EF-CD1E-43F5-B2B5-0C5037CD0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01_02"/>
          <p:cNvPicPr/>
          <p:nvPr/>
        </p:nvPicPr>
        <p:blipFill>
          <a:blip r:embed="rId1"/>
          <a:srcRect l="0" t="4412" r="0" b="0"/>
          <a:stretch/>
        </p:blipFill>
        <p:spPr>
          <a:xfrm>
            <a:off x="152280" y="1676520"/>
            <a:ext cx="8839440" cy="3674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1720" y="114300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593320" y="114300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D83-7B28-4FFD-A605-C37756ADC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80880" y="3049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ystematic approach to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othe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tentative explanation for a set of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3270240" y="5105520"/>
            <a:ext cx="2588760" cy="1066320"/>
            <a:chOff x="3270240" y="5105520"/>
            <a:chExt cx="2588760" cy="1066320"/>
          </a:xfrm>
        </p:grpSpPr>
        <p:sp>
          <p:nvSpPr>
            <p:cNvPr id="69" name="Text Box 8"/>
            <p:cNvSpPr/>
            <p:nvPr/>
          </p:nvSpPr>
          <p:spPr>
            <a:xfrm>
              <a:off x="3270240" y="541008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sted     modif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9"/>
            <p:cNvSpPr/>
            <p:nvPr/>
          </p:nvSpPr>
          <p:spPr>
            <a:xfrm flipH="1">
              <a:off x="3916440" y="586728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0"/>
            <p:cNvSpPr/>
            <p:nvPr/>
          </p:nvSpPr>
          <p:spPr>
            <a:xfrm flipV="1">
              <a:off x="3916440" y="5105520"/>
              <a:ext cx="1295280" cy="30456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12" descr=""/>
          <p:cNvPicPr/>
          <p:nvPr/>
        </p:nvPicPr>
        <p:blipFill>
          <a:blip r:embed="rId1"/>
          <a:stretch/>
        </p:blipFill>
        <p:spPr>
          <a:xfrm>
            <a:off x="57240" y="1722600"/>
            <a:ext cx="91630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6B96-09D1-42E7-8D0F-25B18DE9E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80880" y="30942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unifying principle that explains a body of facts and/or those laws that are based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80880" y="3049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oncise statement of a relationship between phenomena that is always the same under the sam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916560" y="51055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570400" y="20574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5" descr=""/>
          <p:cNvPicPr/>
          <p:nvPr/>
        </p:nvPicPr>
        <p:blipFill>
          <a:blip r:embed="rId1"/>
          <a:stretch/>
        </p:blipFill>
        <p:spPr>
          <a:xfrm>
            <a:off x="3505320" y="4505400"/>
            <a:ext cx="44956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6DC6-89C2-41F1-BB48-AB330F23F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In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8437" t="11835" r="9080" b="0"/>
          <a:stretch/>
        </p:blipFill>
        <p:spPr>
          <a:xfrm>
            <a:off x="0" y="2362320"/>
            <a:ext cx="4572000" cy="3663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80880" y="1143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40 George Gam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othes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he universe began with a gigantic explosion or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29596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800600" y="373392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ic background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ordial 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8600" y="53352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ordial Helium and the Big Ba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164F-D76F-4EA4-8159-9E76314D9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7200" y="213372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thing that occupies space and has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orm of matter that has a definite composition and distinct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440" y="533520"/>
            <a:ext cx="84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the study of matter an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5"/>
          <p:cNvGrpSpPr/>
          <p:nvPr/>
        </p:nvGrpSpPr>
        <p:grpSpPr>
          <a:xfrm>
            <a:off x="838080" y="4572000"/>
            <a:ext cx="1625760" cy="1928880"/>
            <a:chOff x="838080" y="4572000"/>
            <a:chExt cx="1625760" cy="1928880"/>
          </a:xfrm>
        </p:grpSpPr>
        <p:pic>
          <p:nvPicPr>
            <p:cNvPr id="90" name="Picture 21" descr=""/>
            <p:cNvPicPr/>
            <p:nvPr/>
          </p:nvPicPr>
          <p:blipFill>
            <a:blip r:embed="rId1"/>
            <a:stretch/>
          </p:blipFill>
          <p:spPr>
            <a:xfrm>
              <a:off x="838080" y="4572000"/>
              <a:ext cx="160020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3"/>
            <p:cNvSpPr/>
            <p:nvPr/>
          </p:nvSpPr>
          <p:spPr>
            <a:xfrm>
              <a:off x="865800" y="6132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quid nitro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3048120" y="4597560"/>
            <a:ext cx="1904760" cy="1895400"/>
            <a:chOff x="3048120" y="4597560"/>
            <a:chExt cx="1904760" cy="1895400"/>
          </a:xfrm>
        </p:grpSpPr>
        <p:pic>
          <p:nvPicPr>
            <p:cNvPr id="93" name="Picture 22" descr=""/>
            <p:cNvPicPr/>
            <p:nvPr/>
          </p:nvPicPr>
          <p:blipFill>
            <a:blip r:embed="rId2"/>
            <a:stretch/>
          </p:blipFill>
          <p:spPr>
            <a:xfrm>
              <a:off x="3048120" y="4597560"/>
              <a:ext cx="1904760" cy="15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4"/>
            <p:cNvSpPr/>
            <p:nvPr/>
          </p:nvSpPr>
          <p:spPr>
            <a:xfrm>
              <a:off x="3361680" y="61246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ld ing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9"/>
          <p:cNvGrpSpPr/>
          <p:nvPr/>
        </p:nvGrpSpPr>
        <p:grpSpPr>
          <a:xfrm>
            <a:off x="5486400" y="4648320"/>
            <a:ext cx="2333520" cy="1892160"/>
            <a:chOff x="5486400" y="4648320"/>
            <a:chExt cx="2333520" cy="1892160"/>
          </a:xfrm>
        </p:grpSpPr>
        <p:pic>
          <p:nvPicPr>
            <p:cNvPr id="96" name="Picture 27" descr=""/>
            <p:cNvPicPr/>
            <p:nvPr/>
          </p:nvPicPr>
          <p:blipFill>
            <a:blip r:embed="rId3"/>
            <a:stretch/>
          </p:blipFill>
          <p:spPr>
            <a:xfrm>
              <a:off x="5486400" y="4648320"/>
              <a:ext cx="233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28"/>
            <p:cNvSpPr/>
            <p:nvPr/>
          </p:nvSpPr>
          <p:spPr>
            <a:xfrm>
              <a:off x="5889240" y="617220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licon crys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15:29:02Z</dcterms:created>
  <dc:creator>J. David Robertson</dc:creator>
  <dc:description/>
  <dc:language>en-US</dc:language>
  <cp:lastModifiedBy>Eman Al-Abdulkareem</cp:lastModifiedBy>
  <dcterms:modified xsi:type="dcterms:W3CDTF">2017-09-23T20:44:47Z</dcterms:modified>
  <cp:revision>111</cp:revision>
  <dc:subject/>
  <dc:title>Chemistry:  The Study of Change</dc:title>
</cp:coreProperties>
</file>