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0.png" ContentType="image/png"/>
  <Override PartName="/ppt/media/image28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3.png" ContentType="image/png"/>
  <Override PartName="/ppt/media/image47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9D2-1CAD-4AFB-BF2F-D877D2C7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B89-BADC-472F-8D80-FF0C16B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DB6-3E1C-4FE2-9ED4-FDEEBBA5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6B0-35BC-4E9D-9A6D-232A14D7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715-B6D0-4F09-87D0-393606E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320-8E71-4831-A5F3-8BD33B5E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F24-158D-4FA0-9823-2843E453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FFC-1D93-40DE-8C05-AD1DB903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274-EA08-4805-9AA6-A26BC77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3C3-4B5D-4F1B-A6DB-9E4C341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B09-7589-4682-9514-6A1ADDB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2ED-C0B9-4D55-BE72-3F455D0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BF3-CD25-4EF0-823F-3A6BCDC4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y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0080" y="65070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Copyright © The McGraw-Hill Companies, Inc. 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44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D49-30D1-4C5A-87A8-CCD1AED0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two or more substances in which the substances retain their distinct id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16002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of the mixture is the same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is not uniform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743560" y="2057400"/>
            <a:ext cx="5676480" cy="1685880"/>
            <a:chOff x="2743560" y="2057400"/>
            <a:chExt cx="5676480" cy="1685880"/>
          </a:xfrm>
        </p:grpSpPr>
        <p:sp>
          <p:nvSpPr>
            <p:cNvPr id="103" name="Text Box 6"/>
            <p:cNvSpPr/>
            <p:nvPr/>
          </p:nvSpPr>
          <p:spPr>
            <a:xfrm>
              <a:off x="2743560" y="2743200"/>
              <a:ext cx="362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ft drink, milk, sol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5" descr=""/>
            <p:cNvPicPr/>
            <p:nvPr/>
          </p:nvPicPr>
          <p:blipFill>
            <a:blip r:embed="rId1"/>
            <a:stretch/>
          </p:blipFill>
          <p:spPr>
            <a:xfrm>
              <a:off x="7086600" y="2057400"/>
              <a:ext cx="13334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6"/>
            <p:cNvSpPr/>
            <p:nvPr/>
          </p:nvSpPr>
          <p:spPr>
            <a:xfrm>
              <a:off x="5867280" y="3166920"/>
              <a:ext cx="1143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228600" y="5181480"/>
            <a:ext cx="5865840" cy="1341720"/>
            <a:chOff x="228600" y="5181480"/>
            <a:chExt cx="5865840" cy="1341720"/>
          </a:xfrm>
        </p:grpSpPr>
        <p:sp>
          <p:nvSpPr>
            <p:cNvPr id="107" name="Text Box 8"/>
            <p:cNvSpPr/>
            <p:nvPr/>
          </p:nvSpPr>
          <p:spPr>
            <a:xfrm>
              <a:off x="3060720" y="5334120"/>
              <a:ext cx="30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ment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ron filings in s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9" descr="cha56011_0104"/>
            <p:cNvPicPr/>
            <p:nvPr/>
          </p:nvPicPr>
          <p:blipFill>
            <a:blip r:embed="rId2"/>
            <a:srcRect l="0" t="40533" r="52024" b="0"/>
            <a:stretch/>
          </p:blipFill>
          <p:spPr>
            <a:xfrm>
              <a:off x="228600" y="5181480"/>
              <a:ext cx="21081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7"/>
            <p:cNvSpPr/>
            <p:nvPr/>
          </p:nvSpPr>
          <p:spPr>
            <a:xfrm flipH="1" flipV="1">
              <a:off x="1871280" y="5943240"/>
              <a:ext cx="12193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20A-1222-425C-A9F8-0AE98FC54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380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separate a mixture into its pu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4597560" y="2322360"/>
            <a:ext cx="4394160" cy="2861640"/>
            <a:chOff x="4597560" y="2322360"/>
            <a:chExt cx="4394160" cy="2861640"/>
          </a:xfrm>
        </p:grpSpPr>
        <p:pic>
          <p:nvPicPr>
            <p:cNvPr id="113" name="Picture 6" descr="cha56011_0104"/>
            <p:cNvPicPr/>
            <p:nvPr/>
          </p:nvPicPr>
          <p:blipFill>
            <a:blip r:embed="rId1"/>
            <a:stretch/>
          </p:blipFill>
          <p:spPr>
            <a:xfrm>
              <a:off x="4597560" y="232236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6196680" y="47242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457200" y="1828800"/>
            <a:ext cx="3700440" cy="4004640"/>
            <a:chOff x="457200" y="1828800"/>
            <a:chExt cx="3700440" cy="4004640"/>
          </a:xfrm>
        </p:grpSpPr>
        <p:pic>
          <p:nvPicPr>
            <p:cNvPr id="116" name="Picture 13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70044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1070280" y="537372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211-412A-4734-B4CC-799AC345B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84280" y="228600"/>
            <a:ext cx="797544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parated into simpler substances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 element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 elements occur naturally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, aluminum, lead, oxygen, carbon,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elements have been created by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etium, americium, seabor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086600" y="3505320"/>
            <a:ext cx="1724040" cy="142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3205080" y="3479760"/>
            <a:ext cx="2509920" cy="147312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>
            <a:off x="3352680" y="31528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7381800" y="3186000"/>
            <a:ext cx="4669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4F0B-327A-4E90-BD40-8F15C2F9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18D-AD1F-4765-9BE9-F86DAA1B3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3352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composed of atoms of two or more elements chemically united in fixed prop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1016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s can only be separated into their pure components (elements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367280" y="3886200"/>
            <a:ext cx="1649880" cy="2044800"/>
            <a:chOff x="1367280" y="3886200"/>
            <a:chExt cx="1649880" cy="2044800"/>
          </a:xfrm>
        </p:grpSpPr>
        <p:pic>
          <p:nvPicPr>
            <p:cNvPr id="130" name="Picture 17" descr=""/>
            <p:cNvPicPr/>
            <p:nvPr/>
          </p:nvPicPr>
          <p:blipFill>
            <a:blip r:embed="rId1"/>
            <a:stretch/>
          </p:blipFill>
          <p:spPr>
            <a:xfrm>
              <a:off x="1432080" y="3886200"/>
              <a:ext cx="15397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0"/>
            <p:cNvSpPr/>
            <p:nvPr/>
          </p:nvSpPr>
          <p:spPr>
            <a:xfrm>
              <a:off x="1367280" y="5562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hium fluor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3800520" y="3886200"/>
            <a:ext cx="1762200" cy="2092320"/>
            <a:chOff x="3800520" y="3886200"/>
            <a:chExt cx="1762200" cy="2092320"/>
          </a:xfrm>
        </p:grpSpPr>
        <p:pic>
          <p:nvPicPr>
            <p:cNvPr id="133" name="Picture 18" descr=""/>
            <p:cNvPicPr/>
            <p:nvPr/>
          </p:nvPicPr>
          <p:blipFill>
            <a:blip r:embed="rId2"/>
            <a:stretch/>
          </p:blipFill>
          <p:spPr>
            <a:xfrm>
              <a:off x="3800520" y="3886200"/>
              <a:ext cx="17622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1"/>
            <p:cNvSpPr/>
            <p:nvPr/>
          </p:nvSpPr>
          <p:spPr>
            <a:xfrm>
              <a:off x="4307400" y="5610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6017400" y="3886200"/>
            <a:ext cx="2588760" cy="2135160"/>
            <a:chOff x="6017400" y="3886200"/>
            <a:chExt cx="2588760" cy="2135160"/>
          </a:xfrm>
        </p:grpSpPr>
        <p:pic>
          <p:nvPicPr>
            <p:cNvPr id="136" name="Picture 19" descr=""/>
            <p:cNvPicPr/>
            <p:nvPr/>
          </p:nvPicPr>
          <p:blipFill>
            <a:blip r:embed="rId3"/>
            <a:stretch/>
          </p:blipFill>
          <p:spPr>
            <a:xfrm>
              <a:off x="6418440" y="3886200"/>
              <a:ext cx="15825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2"/>
            <p:cNvSpPr/>
            <p:nvPr/>
          </p:nvSpPr>
          <p:spPr>
            <a:xfrm>
              <a:off x="6017400" y="5653080"/>
              <a:ext cx="25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y ice – carbon diox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FAE-A8C4-4697-BC26-3ABD9C8C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901-699D-49F0-93AA-7417A927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9320" y="2743200"/>
            <a:ext cx="20638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16680" y="25884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:  Th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2080" y="2514600"/>
            <a:ext cx="2136600" cy="29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6434280" y="1709640"/>
            <a:ext cx="22525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F9BC-DBEA-45F4-95FE-B7B58BB80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6320" y="76320"/>
            <a:ext cx="89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States of Matter:  Effect of a Hot Poker on a Block of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49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5985360" y="5511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138040" y="556272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5091840" y="15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CF1-9F93-4F41-9743-14F2D92C0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lter the composition or identity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3016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ters the composition or identity of the substance(s)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249920" y="2101680"/>
            <a:ext cx="6735240" cy="947160"/>
            <a:chOff x="1249920" y="2101680"/>
            <a:chExt cx="6735240" cy="947160"/>
          </a:xfrm>
        </p:grpSpPr>
        <p:sp>
          <p:nvSpPr>
            <p:cNvPr id="157" name="Text Box 6"/>
            <p:cNvSpPr/>
            <p:nvPr/>
          </p:nvSpPr>
          <p:spPr>
            <a:xfrm>
              <a:off x="1249920" y="2344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ce mel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149800" y="2101680"/>
              <a:ext cx="283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gar dissolvi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wa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609480" y="4086360"/>
            <a:ext cx="7391520" cy="2695320"/>
            <a:chOff x="609480" y="4086360"/>
            <a:chExt cx="7391520" cy="2695320"/>
          </a:xfrm>
        </p:grpSpPr>
        <p:pic>
          <p:nvPicPr>
            <p:cNvPr id="160" name="Picture 16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835440" y="4086360"/>
              <a:ext cx="41655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609480" y="5022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"/>
          <p:cNvSpPr/>
          <p:nvPr/>
        </p:nvSpPr>
        <p:spPr>
          <a:xfrm>
            <a:off x="2844000" y="29844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68E-9C0A-46A0-856F-83C1D20D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depends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3505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0200" y="1981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0200" y="50767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64760" y="921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and Intensiv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4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4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128600" cy="1357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"/>
          <p:cNvPicPr/>
          <p:nvPr/>
        </p:nvPicPr>
        <p:blipFill>
          <a:blip r:embed="rId3"/>
          <a:stretch/>
        </p:blipFill>
        <p:spPr>
          <a:xfrm>
            <a:off x="4583160" y="4724280"/>
            <a:ext cx="2937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0880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49E-568D-4628-BF5C-AACCB6BE7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56E-5500-4E28-ABCB-E6DC04B5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8"/>
          <p:cNvSpPr/>
          <p:nvPr/>
        </p:nvSpPr>
        <p:spPr>
          <a:xfrm>
            <a:off x="1527840" y="25884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ystem of Units (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0" descr=""/>
          <p:cNvPicPr/>
          <p:nvPr/>
        </p:nvPicPr>
        <p:blipFill>
          <a:blip r:embed="rId1"/>
          <a:stretch/>
        </p:blipFill>
        <p:spPr>
          <a:xfrm>
            <a:off x="0" y="1447920"/>
            <a:ext cx="8458200" cy="3692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990720" y="54100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وحدات المشتقة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erived units</a:t>
            </a:r>
            <a:br>
              <a:rPr sz="2400"/>
            </a:b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وهي وحدات مشتقة من الوحدات الأساسية وهي حسب الجدول التالي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: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2760" y="2222640"/>
          <a:ext cx="7648560" cy="3487680"/>
        </p:xfrm>
        <a:graphic>
          <a:graphicData uri="http://schemas.openxmlformats.org/drawingml/2006/table">
            <a:tbl>
              <a:tblPr/>
              <a:tblGrid>
                <a:gridCol w="947520"/>
                <a:gridCol w="825480"/>
                <a:gridCol w="1586160"/>
                <a:gridCol w="1398240"/>
                <a:gridCol w="1476720"/>
                <a:gridCol w="1414440"/>
              </a:tblGrid>
              <a:tr h="5176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رم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I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وح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804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quare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ر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مسا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حج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g/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جم/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ilogram/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يلوجرام/ المتر ال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ثا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elocity (spe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سرعة  الخط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Tahoma"/>
                          <a:ea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ccel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عجلة ( التسارع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7E7-A6DD-4511-BB0A-3C133D656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FF0-FC4A-44EB-81A1-762E9C672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30492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er - anything that occupies space and ha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114300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sure of the quantit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 of mass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3429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rce that gravity exerts o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5565240" y="4343400"/>
            <a:ext cx="3425400" cy="1602720"/>
            <a:chOff x="5565240" y="4343400"/>
            <a:chExt cx="3425400" cy="1602720"/>
          </a:xfrm>
        </p:grpSpPr>
        <p:sp>
          <p:nvSpPr>
            <p:cNvPr id="185" name="Text Box 12"/>
            <p:cNvSpPr/>
            <p:nvPr/>
          </p:nvSpPr>
          <p:spPr>
            <a:xfrm>
              <a:off x="5565240" y="4343400"/>
              <a:ext cx="34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1 kg bar will wei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297480" y="495288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kg on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137640" y="54864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 kg on 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306000" y="4343400"/>
            <a:ext cx="5275800" cy="2266920"/>
            <a:chOff x="306000" y="4343400"/>
            <a:chExt cx="5275800" cy="2266920"/>
          </a:xfrm>
        </p:grpSpPr>
        <p:grpSp>
          <p:nvGrpSpPr>
            <p:cNvPr id="189" name="Group 15"/>
            <p:cNvGrpSpPr/>
            <p:nvPr/>
          </p:nvGrpSpPr>
          <p:grpSpPr>
            <a:xfrm>
              <a:off x="306000" y="4343400"/>
              <a:ext cx="3020040" cy="1602720"/>
              <a:chOff x="306000" y="4343400"/>
              <a:chExt cx="3020040" cy="1602720"/>
            </a:xfrm>
          </p:grpSpPr>
          <p:sp>
            <p:nvSpPr>
              <p:cNvPr id="190" name="Text Box 5"/>
              <p:cNvSpPr/>
              <p:nvPr/>
            </p:nvSpPr>
            <p:spPr>
              <a:xfrm>
                <a:off x="306000" y="4343400"/>
                <a:ext cx="302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weight 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x ma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"/>
              <p:cNvSpPr/>
              <p:nvPr/>
            </p:nvSpPr>
            <p:spPr>
              <a:xfrm>
                <a:off x="577440" y="4952880"/>
                <a:ext cx="239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earth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7"/>
              <p:cNvSpPr/>
              <p:nvPr/>
            </p:nvSpPr>
            <p:spPr>
              <a:xfrm>
                <a:off x="577800" y="5486400"/>
                <a:ext cx="24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moon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18" descr=""/>
            <p:cNvPicPr/>
            <p:nvPr/>
          </p:nvPicPr>
          <p:blipFill>
            <a:blip r:embed="rId1"/>
            <a:stretch/>
          </p:blipFill>
          <p:spPr>
            <a:xfrm>
              <a:off x="3276720" y="4876920"/>
              <a:ext cx="2305080" cy="17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29C-CE4F-4A44-BAF0-B16DF4FA5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0760" y="304920"/>
            <a:ext cx="90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volume is 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6040" y="990720"/>
            <a:ext cx="54406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05240" y="1650960"/>
            <a:ext cx="54604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 Box 7" descr=""/>
          <p:cNvPicPr/>
          <p:nvPr/>
        </p:nvPicPr>
        <p:blipFill>
          <a:blip r:embed="rId1"/>
          <a:stretch/>
        </p:blipFill>
        <p:spPr>
          <a:xfrm>
            <a:off x="3176640" y="2249640"/>
            <a:ext cx="5851440" cy="749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5005080" y="2971800"/>
            <a:ext cx="226260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L = 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2"/>
          <a:srcRect l="61885" t="13502" r="9002" b="0"/>
          <a:stretch/>
        </p:blipFill>
        <p:spPr>
          <a:xfrm>
            <a:off x="7508880" y="2895480"/>
            <a:ext cx="1635120" cy="363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65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8AA-7255-42A5-AACC-B7B4497A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26640" y="24300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065680" y="90324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g/mL =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915120" y="1828800"/>
            <a:ext cx="3074400" cy="928440"/>
            <a:chOff x="915120" y="1828800"/>
            <a:chExt cx="3074400" cy="928440"/>
          </a:xfrm>
        </p:grpSpPr>
        <p:sp>
          <p:nvSpPr>
            <p:cNvPr id="206" name="Text Box 4"/>
            <p:cNvSpPr/>
            <p:nvPr/>
          </p:nvSpPr>
          <p:spPr>
            <a:xfrm>
              <a:off x="915120" y="2058840"/>
              <a:ext cx="17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nsity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787480" y="18288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2661120" y="22366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658600" y="23241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3"/>
          <p:cNvGrpSpPr/>
          <p:nvPr/>
        </p:nvGrpSpPr>
        <p:grpSpPr>
          <a:xfrm>
            <a:off x="5831280" y="1879560"/>
            <a:ext cx="1331640" cy="876240"/>
            <a:chOff x="5831280" y="1879560"/>
            <a:chExt cx="1331640" cy="876240"/>
          </a:xfrm>
        </p:grpSpPr>
        <p:sp>
          <p:nvSpPr>
            <p:cNvPr id="211" name="Text Box 9"/>
            <p:cNvSpPr/>
            <p:nvPr/>
          </p:nvSpPr>
          <p:spPr>
            <a:xfrm>
              <a:off x="5831280" y="207180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44520" y="1879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18600" y="2235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629760" y="23306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6"/>
          <p:cNvSpPr/>
          <p:nvPr/>
        </p:nvSpPr>
        <p:spPr>
          <a:xfrm>
            <a:off x="533520" y="34941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iece of platinum metal with a density of 21.5 g/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has a volume of 4.49 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What is its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1373400" y="4572000"/>
            <a:ext cx="1331640" cy="876240"/>
            <a:chOff x="1373400" y="4572000"/>
            <a:chExt cx="1331640" cy="876240"/>
          </a:xfrm>
        </p:grpSpPr>
        <p:sp>
          <p:nvSpPr>
            <p:cNvPr id="217" name="Text Box 18"/>
            <p:cNvSpPr/>
            <p:nvPr/>
          </p:nvSpPr>
          <p:spPr>
            <a:xfrm>
              <a:off x="1373400" y="47642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2186640" y="4572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160720" y="4927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2171880" y="5023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2"/>
          <p:cNvSpPr/>
          <p:nvPr/>
        </p:nvSpPr>
        <p:spPr>
          <a:xfrm>
            <a:off x="1284120" y="5500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447048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622296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916720" y="5499000"/>
            <a:ext cx="53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1.5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4.49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72F-B404-4B0C-87A0-A6DF85CD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1905120"/>
            <a:ext cx="685800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g/m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772560" y="76212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8EF6-5F3C-408E-B9EE-B24A72E7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479680" y="0"/>
            <a:ext cx="39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238-257E-43CA-BDDE-D0F03648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1981080" y="1600200"/>
            <a:ext cx="2210040" cy="4335480"/>
            <a:chOff x="1981080" y="1600200"/>
            <a:chExt cx="2210040" cy="4335480"/>
          </a:xfrm>
        </p:grpSpPr>
        <p:pic>
          <p:nvPicPr>
            <p:cNvPr id="232" name="Picture 29" descr=""/>
            <p:cNvPicPr/>
            <p:nvPr/>
          </p:nvPicPr>
          <p:blipFill>
            <a:blip r:embed="rId1"/>
            <a:stretch/>
          </p:blipFill>
          <p:spPr>
            <a:xfrm>
              <a:off x="1981080" y="160020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4" descr=""/>
            <p:cNvPicPr/>
            <p:nvPr/>
          </p:nvPicPr>
          <p:blipFill>
            <a:blip r:embed="rId2"/>
            <a:stretch/>
          </p:blipFill>
          <p:spPr>
            <a:xfrm>
              <a:off x="3490920" y="541008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1" descr=""/>
          <p:cNvPicPr/>
          <p:nvPr/>
        </p:nvPicPr>
        <p:blipFill>
          <a:blip r:embed="rId3"/>
          <a:stretch/>
        </p:blipFill>
        <p:spPr>
          <a:xfrm>
            <a:off x="3681360" y="540072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4"/>
          <a:stretch/>
        </p:blipFill>
        <p:spPr>
          <a:xfrm>
            <a:off x="4838760" y="4067280"/>
            <a:ext cx="271440" cy="26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261120" y="15238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6154200" y="4003560"/>
            <a:ext cx="2961000" cy="874800"/>
            <a:chOff x="6154200" y="4003560"/>
            <a:chExt cx="2961000" cy="874800"/>
          </a:xfrm>
        </p:grpSpPr>
        <p:sp>
          <p:nvSpPr>
            <p:cNvPr id="238" name="Text Box 4"/>
            <p:cNvSpPr/>
            <p:nvPr/>
          </p:nvSpPr>
          <p:spPr>
            <a:xfrm>
              <a:off x="6154200" y="417816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7067520" y="4003560"/>
              <a:ext cx="393120" cy="874800"/>
              <a:chOff x="7067520" y="4003560"/>
              <a:chExt cx="393120" cy="874800"/>
            </a:xfrm>
          </p:grpSpPr>
          <p:sp>
            <p:nvSpPr>
              <p:cNvPr id="240" name="Text Box 5"/>
              <p:cNvSpPr/>
              <p:nvPr/>
            </p:nvSpPr>
            <p:spPr>
              <a:xfrm>
                <a:off x="7081920" y="4003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"/>
              <p:cNvSpPr/>
              <p:nvPr/>
            </p:nvSpPr>
            <p:spPr>
              <a:xfrm>
                <a:off x="7081920" y="435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7067520" y="44593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 Box 11"/>
          <p:cNvSpPr/>
          <p:nvPr/>
        </p:nvSpPr>
        <p:spPr>
          <a:xfrm>
            <a:off x="6493680" y="207324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 K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3 K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431040" y="489276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"/>
          <p:cNvPicPr/>
          <p:nvPr/>
        </p:nvPicPr>
        <p:blipFill>
          <a:blip r:embed="rId5"/>
          <a:stretch/>
        </p:blipFill>
        <p:spPr>
          <a:xfrm>
            <a:off x="380880" y="155268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3"/>
          <p:cNvGrpSpPr/>
          <p:nvPr/>
        </p:nvGrpSpPr>
        <p:grpSpPr>
          <a:xfrm>
            <a:off x="3581280" y="1828800"/>
            <a:ext cx="547920" cy="2633760"/>
            <a:chOff x="3581280" y="1828800"/>
            <a:chExt cx="547920" cy="2633760"/>
          </a:xfrm>
        </p:grpSpPr>
        <p:pic>
          <p:nvPicPr>
            <p:cNvPr id="247" name="Picture 30" descr=""/>
            <p:cNvPicPr/>
            <p:nvPr/>
          </p:nvPicPr>
          <p:blipFill>
            <a:blip r:embed="rId6"/>
            <a:stretch/>
          </p:blipFill>
          <p:spPr>
            <a:xfrm>
              <a:off x="3795840" y="18288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1" descr=""/>
            <p:cNvPicPr/>
            <p:nvPr/>
          </p:nvPicPr>
          <p:blipFill>
            <a:blip r:embed="rId7"/>
            <a:stretch/>
          </p:blipFill>
          <p:spPr>
            <a:xfrm>
              <a:off x="3762360" y="33670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2" descr=""/>
            <p:cNvPicPr/>
            <p:nvPr/>
          </p:nvPicPr>
          <p:blipFill>
            <a:blip r:embed="rId8"/>
            <a:stretch/>
          </p:blipFill>
          <p:spPr>
            <a:xfrm>
              <a:off x="3581280" y="359568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3" descr=""/>
            <p:cNvPicPr/>
            <p:nvPr/>
          </p:nvPicPr>
          <p:blipFill>
            <a:blip r:embed="rId9"/>
            <a:stretch/>
          </p:blipFill>
          <p:spPr>
            <a:xfrm>
              <a:off x="3824280" y="423396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8"/>
          <p:cNvGrpSpPr/>
          <p:nvPr/>
        </p:nvGrpSpPr>
        <p:grpSpPr>
          <a:xfrm>
            <a:off x="3768840" y="1571760"/>
            <a:ext cx="1312920" cy="4185720"/>
            <a:chOff x="3768840" y="1571760"/>
            <a:chExt cx="1312920" cy="4185720"/>
          </a:xfrm>
        </p:grpSpPr>
        <p:pic>
          <p:nvPicPr>
            <p:cNvPr id="252" name="Picture 36" descr=""/>
            <p:cNvPicPr/>
            <p:nvPr/>
          </p:nvPicPr>
          <p:blipFill>
            <a:blip r:embed="rId10"/>
            <a:stretch/>
          </p:blipFill>
          <p:spPr>
            <a:xfrm>
              <a:off x="4040280" y="157176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7" descr=""/>
            <p:cNvPicPr/>
            <p:nvPr/>
          </p:nvPicPr>
          <p:blipFill>
            <a:blip r:embed="rId11"/>
            <a:stretch/>
          </p:blipFill>
          <p:spPr>
            <a:xfrm>
              <a:off x="3768840" y="556740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4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emperature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B13-BDBC-464E-A040-C74CD98C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04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vert 172.9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 to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3342960" y="1066680"/>
            <a:ext cx="2961000" cy="874800"/>
            <a:chOff x="3342960" y="1066680"/>
            <a:chExt cx="2961000" cy="874800"/>
          </a:xfrm>
        </p:grpSpPr>
        <p:sp>
          <p:nvSpPr>
            <p:cNvPr id="258" name="Text Box 6"/>
            <p:cNvSpPr/>
            <p:nvPr/>
          </p:nvSpPr>
          <p:spPr>
            <a:xfrm>
              <a:off x="3342960" y="124128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"/>
            <p:cNvGrpSpPr/>
            <p:nvPr/>
          </p:nvGrpSpPr>
          <p:grpSpPr>
            <a:xfrm>
              <a:off x="4256280" y="1066680"/>
              <a:ext cx="393120" cy="874800"/>
              <a:chOff x="4256280" y="1066680"/>
              <a:chExt cx="393120" cy="874800"/>
            </a:xfrm>
          </p:grpSpPr>
          <p:sp>
            <p:nvSpPr>
              <p:cNvPr id="260" name="Text Box 8"/>
              <p:cNvSpPr/>
              <p:nvPr/>
            </p:nvSpPr>
            <p:spPr>
              <a:xfrm>
                <a:off x="4270680" y="1066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4270680" y="1420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4256280" y="1522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2560320" y="1793880"/>
            <a:ext cx="2951640" cy="874800"/>
            <a:chOff x="2560320" y="1793880"/>
            <a:chExt cx="2951640" cy="874800"/>
          </a:xfrm>
        </p:grpSpPr>
        <p:sp>
          <p:nvSpPr>
            <p:cNvPr id="264" name="Text Box 12"/>
            <p:cNvSpPr/>
            <p:nvPr/>
          </p:nvSpPr>
          <p:spPr>
            <a:xfrm>
              <a:off x="2560320" y="1968480"/>
              <a:ext cx="29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3"/>
            <p:cNvGrpSpPr/>
            <p:nvPr/>
          </p:nvGrpSpPr>
          <p:grpSpPr>
            <a:xfrm>
              <a:off x="4248000" y="1793880"/>
              <a:ext cx="393120" cy="874800"/>
              <a:chOff x="4248000" y="1793880"/>
              <a:chExt cx="393120" cy="874800"/>
            </a:xfrm>
          </p:grpSpPr>
          <p:sp>
            <p:nvSpPr>
              <p:cNvPr id="266" name="Text Box 14"/>
              <p:cNvSpPr/>
              <p:nvPr/>
            </p:nvSpPr>
            <p:spPr>
              <a:xfrm>
                <a:off x="4262400" y="1793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"/>
              <p:cNvSpPr/>
              <p:nvPr/>
            </p:nvSpPr>
            <p:spPr>
              <a:xfrm>
                <a:off x="4262400" y="2148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4248000" y="2249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1"/>
          <p:cNvGrpSpPr/>
          <p:nvPr/>
        </p:nvGrpSpPr>
        <p:grpSpPr>
          <a:xfrm>
            <a:off x="1646280" y="2666880"/>
            <a:ext cx="3004560" cy="914400"/>
            <a:chOff x="1646280" y="2666880"/>
            <a:chExt cx="3004560" cy="914400"/>
          </a:xfrm>
        </p:grpSpPr>
        <p:sp>
          <p:nvSpPr>
            <p:cNvPr id="270" name="Text Box 25"/>
            <p:cNvSpPr/>
            <p:nvPr/>
          </p:nvSpPr>
          <p:spPr>
            <a:xfrm>
              <a:off x="2055600" y="2803320"/>
              <a:ext cx="259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 =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0"/>
            <p:cNvGrpSpPr/>
            <p:nvPr/>
          </p:nvGrpSpPr>
          <p:grpSpPr>
            <a:xfrm>
              <a:off x="1646280" y="2666880"/>
              <a:ext cx="380880" cy="914400"/>
              <a:chOff x="1646280" y="2666880"/>
              <a:chExt cx="380880" cy="914400"/>
            </a:xfrm>
          </p:grpSpPr>
          <p:sp>
            <p:nvSpPr>
              <p:cNvPr id="272" name="Text Box 27"/>
              <p:cNvSpPr/>
              <p:nvPr/>
            </p:nvSpPr>
            <p:spPr>
              <a:xfrm>
                <a:off x="1648080" y="3060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8"/>
              <p:cNvSpPr/>
              <p:nvPr/>
            </p:nvSpPr>
            <p:spPr>
              <a:xfrm>
                <a:off x="1648080" y="2666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1646280" y="3122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8"/>
          <p:cNvGrpSpPr/>
          <p:nvPr/>
        </p:nvGrpSpPr>
        <p:grpSpPr>
          <a:xfrm>
            <a:off x="3317760" y="3430440"/>
            <a:ext cx="3189600" cy="914400"/>
            <a:chOff x="3317760" y="3430440"/>
            <a:chExt cx="3189600" cy="914400"/>
          </a:xfrm>
        </p:grpSpPr>
        <p:sp>
          <p:nvSpPr>
            <p:cNvPr id="276" name="Text Box 33"/>
            <p:cNvSpPr/>
            <p:nvPr/>
          </p:nvSpPr>
          <p:spPr>
            <a:xfrm>
              <a:off x="3317760" y="3581280"/>
              <a:ext cx="31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4226040" y="3430440"/>
              <a:ext cx="380880" cy="914400"/>
              <a:chOff x="4226040" y="3430440"/>
              <a:chExt cx="380880" cy="914400"/>
            </a:xfrm>
          </p:grpSpPr>
          <p:sp>
            <p:nvSpPr>
              <p:cNvPr id="278" name="Text Box 35"/>
              <p:cNvSpPr/>
              <p:nvPr/>
            </p:nvSpPr>
            <p:spPr>
              <a:xfrm>
                <a:off x="4227840" y="38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4227840" y="34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7"/>
              <p:cNvSpPr/>
              <p:nvPr/>
            </p:nvSpPr>
            <p:spPr>
              <a:xfrm>
                <a:off x="4226040" y="3886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9"/>
          <p:cNvGrpSpPr/>
          <p:nvPr/>
        </p:nvGrpSpPr>
        <p:grpSpPr>
          <a:xfrm>
            <a:off x="3312000" y="4268880"/>
            <a:ext cx="4848840" cy="914040"/>
            <a:chOff x="3312000" y="4268880"/>
            <a:chExt cx="4848840" cy="914040"/>
          </a:xfrm>
        </p:grpSpPr>
        <p:sp>
          <p:nvSpPr>
            <p:cNvPr id="282" name="Text Box 40"/>
            <p:cNvSpPr/>
            <p:nvPr/>
          </p:nvSpPr>
          <p:spPr>
            <a:xfrm>
              <a:off x="3312000" y="4419360"/>
              <a:ext cx="484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172.9 – 32) = 78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41"/>
            <p:cNvGrpSpPr/>
            <p:nvPr/>
          </p:nvGrpSpPr>
          <p:grpSpPr>
            <a:xfrm>
              <a:off x="4230720" y="4268880"/>
              <a:ext cx="380880" cy="914040"/>
              <a:chOff x="4230720" y="4268880"/>
              <a:chExt cx="380880" cy="914040"/>
            </a:xfrm>
          </p:grpSpPr>
          <p:sp>
            <p:nvSpPr>
              <p:cNvPr id="284" name="Text Box 42"/>
              <p:cNvSpPr/>
              <p:nvPr/>
            </p:nvSpPr>
            <p:spPr>
              <a:xfrm>
                <a:off x="4232520" y="4662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43"/>
              <p:cNvSpPr/>
              <p:nvPr/>
            </p:nvSpPr>
            <p:spPr>
              <a:xfrm>
                <a:off x="4232520" y="426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4"/>
              <p:cNvSpPr/>
              <p:nvPr/>
            </p:nvSpPr>
            <p:spPr>
              <a:xfrm>
                <a:off x="42307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1220-0045-47F0-BB1A-5C2B355A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90720"/>
            <a:ext cx="426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 with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s and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4071960"/>
            <a:ext cx="426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743200" cy="21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8191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9BC-49D9-40D6-B6DE-2B3BEF55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17809" t="9998" r="18456" b="0"/>
          <a:stretch/>
        </p:blipFill>
        <p:spPr>
          <a:xfrm>
            <a:off x="0" y="1311120"/>
            <a:ext cx="446076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5716440" y="1476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b = 4.4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579920" y="2057400"/>
            <a:ext cx="4191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536 kg x 9.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g m/s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1 newton (N) = 1 kg m/s</a:t>
            </a:r>
            <a:r>
              <a:rPr b="0" lang="en-US" sz="2400" spc="-1" strike="noStrike" baseline="30000">
                <a:solidFill>
                  <a:srgbClr val="00997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891960" y="157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542400" y="635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D32-0AC9-4B9C-B523-474006BA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5394240" y="-395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477720" y="-106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77720" y="471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04920" y="1706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إعتبا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حدات قياس الطاق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ي نفس واحدت قياس الشغل في الوحد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فكلاهما يتم قياسه بوحده الجول ورزمها هو ( </a:t>
            </a:r>
            <a:r>
              <a:rPr b="0" i="1" lang="ar-SA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الجول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) الشغل الذي يقوم به نيوتن واحد على مسافه قدرها واحد م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phic 15" descr=""/>
          <p:cNvPicPr/>
          <p:nvPr/>
        </p:nvPicPr>
        <p:blipFill>
          <a:blip r:embed="rId1"/>
          <a:stretch/>
        </p:blipFill>
        <p:spPr>
          <a:xfrm>
            <a:off x="1082520" y="3200400"/>
            <a:ext cx="5470560" cy="1165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6"/>
          <p:cNvSpPr/>
          <p:nvPr/>
        </p:nvSpPr>
        <p:spPr>
          <a:xfrm>
            <a:off x="914400" y="458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J =N.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682000" y="38088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Energy 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194640" y="933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6E3-5C87-421B-B8F0-276555A6B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1828800" y="685800"/>
            <a:ext cx="7162920" cy="1214280"/>
            <a:chOff x="1828800" y="685800"/>
            <a:chExt cx="7162920" cy="1214280"/>
          </a:xfrm>
        </p:grpSpPr>
        <p:sp>
          <p:nvSpPr>
            <p:cNvPr id="305" name="Text Box 5"/>
            <p:cNvSpPr/>
            <p:nvPr/>
          </p:nvSpPr>
          <p:spPr>
            <a:xfrm>
              <a:off x="1828800" y="6858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number of atoms in 12 g of carb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2212920" y="1379520"/>
              <a:ext cx="56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02,200,000,000,000,000,0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7"/>
          <p:cNvSpPr/>
          <p:nvPr/>
        </p:nvSpPr>
        <p:spPr>
          <a:xfrm>
            <a:off x="3539880" y="207324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952560" y="2766960"/>
            <a:ext cx="7238880" cy="1214280"/>
            <a:chOff x="952560" y="2766960"/>
            <a:chExt cx="7238880" cy="1214280"/>
          </a:xfrm>
        </p:grpSpPr>
        <p:sp>
          <p:nvSpPr>
            <p:cNvPr id="309" name="Text Box 8"/>
            <p:cNvSpPr/>
            <p:nvPr/>
          </p:nvSpPr>
          <p:spPr>
            <a:xfrm>
              <a:off x="952560" y="276696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mass of a single carbon atom in gram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864440" y="346068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000000000000000000001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0"/>
          <p:cNvSpPr/>
          <p:nvPr/>
        </p:nvSpPr>
        <p:spPr>
          <a:xfrm>
            <a:off x="3606480" y="41544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912120" y="4815000"/>
            <a:ext cx="13240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37120" y="525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a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945400" y="525780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V="1">
            <a:off x="838080" y="5105160"/>
            <a:ext cx="31244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5181480" y="502920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2BB-5265-41B9-B71A-B3B5F77C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08160" y="762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5692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14280" y="220968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 = 5.6876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558720" y="1244520"/>
            <a:ext cx="2994120" cy="459720"/>
            <a:chOff x="558720" y="1244520"/>
            <a:chExt cx="2994120" cy="459720"/>
          </a:xfrm>
        </p:grpSpPr>
        <p:sp>
          <p:nvSpPr>
            <p:cNvPr id="323" name="Line 7"/>
            <p:cNvSpPr/>
            <p:nvPr/>
          </p:nvSpPr>
          <p:spPr>
            <a:xfrm flipH="1">
              <a:off x="558720" y="1473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0"/>
            <p:cNvSpPr/>
            <p:nvPr/>
          </p:nvSpPr>
          <p:spPr>
            <a:xfrm>
              <a:off x="1000800" y="12445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501444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2888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014440" y="22096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 = 7.7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5278320" y="1244520"/>
            <a:ext cx="3633840" cy="459720"/>
            <a:chOff x="5278320" y="1244520"/>
            <a:chExt cx="3633840" cy="459720"/>
          </a:xfrm>
        </p:grpSpPr>
        <p:sp>
          <p:nvSpPr>
            <p:cNvPr id="329" name="Line 16"/>
            <p:cNvSpPr/>
            <p:nvPr/>
          </p:nvSpPr>
          <p:spPr>
            <a:xfrm>
              <a:off x="5278320" y="1473120"/>
              <a:ext cx="893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6174000" y="124452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9"/>
          <p:cNvSpPr/>
          <p:nvPr/>
        </p:nvSpPr>
        <p:spPr>
          <a:xfrm>
            <a:off x="290880" y="303696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12760" y="3733920"/>
            <a:ext cx="4206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quantity with the same expon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onent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5046480" y="3784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.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869000" y="4330800"/>
            <a:ext cx="34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3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6585480" y="48769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0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5A11-EB62-460A-882F-F76F67A0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31120" y="1027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45520" y="1600200"/>
            <a:ext cx="396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965840" y="14479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x (7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7.0) x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30760" y="34815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44440" y="4054320"/>
            <a:ext cx="4563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422320" y="3581280"/>
            <a:ext cx="31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5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.5 ÷ 5.0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0B89-140D-4B64-B74D-096F46AD6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8600" y="91440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igit that is not zero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34 kg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between nonzero digi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6 m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to the left of the first nonzero dig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 L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greater than 1, then all zeros to the right of the decimal point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mg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less than 1, then only the zeros that are at the end and in the middle of the number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20 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1A5-B6FB-47EA-91FE-708DACA4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48608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significant figures are in each of the following measu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281240" y="1638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361480" y="163836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282320" y="241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361480" y="2413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288080" y="32004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2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5361480" y="32004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1289160" y="39816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361480" y="398772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281960" y="4762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5361480" y="47624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3E6-4B84-4D0C-9265-861AF02B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81360" y="91440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81720" y="152388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cannot have more digits to the right of the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han any of the original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8"/>
          <p:cNvGrpSpPr/>
          <p:nvPr/>
        </p:nvGrpSpPr>
        <p:grpSpPr>
          <a:xfrm>
            <a:off x="698400" y="2478240"/>
            <a:ext cx="1165680" cy="1245240"/>
            <a:chOff x="698400" y="2478240"/>
            <a:chExt cx="1165680" cy="1245240"/>
          </a:xfrm>
        </p:grpSpPr>
        <p:sp>
          <p:nvSpPr>
            <p:cNvPr id="364" name="Text Box 8"/>
            <p:cNvSpPr/>
            <p:nvPr/>
          </p:nvSpPr>
          <p:spPr>
            <a:xfrm>
              <a:off x="748800" y="24782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9.3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916200" y="28195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731520" y="2819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69840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752040" y="32637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.4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1904760" y="3263760"/>
            <a:ext cx="3155760" cy="459720"/>
            <a:chOff x="1904760" y="3263760"/>
            <a:chExt cx="3155760" cy="459720"/>
          </a:xfrm>
        </p:grpSpPr>
        <p:sp>
          <p:nvSpPr>
            <p:cNvPr id="370" name="Line 14"/>
            <p:cNvSpPr/>
            <p:nvPr/>
          </p:nvSpPr>
          <p:spPr>
            <a:xfrm flipH="1">
              <a:off x="1904760" y="3479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2657880" y="326376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9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1904760" y="2819520"/>
            <a:ext cx="6307200" cy="459720"/>
            <a:chOff x="1904760" y="2819520"/>
            <a:chExt cx="6307200" cy="459720"/>
          </a:xfrm>
        </p:grpSpPr>
        <p:sp>
          <p:nvSpPr>
            <p:cNvPr id="373" name="Line 16"/>
            <p:cNvSpPr/>
            <p:nvPr/>
          </p:nvSpPr>
          <p:spPr>
            <a:xfrm flipH="1">
              <a:off x="1904760" y="3048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2662200" y="2819520"/>
              <a:ext cx="55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ignificant figure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1"/>
          <p:cNvGrpSpPr/>
          <p:nvPr/>
        </p:nvGrpSpPr>
        <p:grpSpPr>
          <a:xfrm>
            <a:off x="815400" y="4267080"/>
            <a:ext cx="1213920" cy="1183680"/>
            <a:chOff x="815400" y="4267080"/>
            <a:chExt cx="1213920" cy="1183680"/>
          </a:xfrm>
        </p:grpSpPr>
        <p:sp>
          <p:nvSpPr>
            <p:cNvPr id="376" name="Text Box 21"/>
            <p:cNvSpPr/>
            <p:nvPr/>
          </p:nvSpPr>
          <p:spPr>
            <a:xfrm>
              <a:off x="916560" y="426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815400" y="457200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1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"/>
            <p:cNvSpPr/>
            <p:nvPr/>
          </p:nvSpPr>
          <p:spPr>
            <a:xfrm>
              <a:off x="838080" y="50292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4"/>
            <p:cNvSpPr/>
            <p:nvPr/>
          </p:nvSpPr>
          <p:spPr>
            <a:xfrm>
              <a:off x="916920" y="49910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8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5"/>
          <p:cNvGrpSpPr/>
          <p:nvPr/>
        </p:nvGrpSpPr>
        <p:grpSpPr>
          <a:xfrm>
            <a:off x="1904760" y="4267080"/>
            <a:ext cx="6425280" cy="459720"/>
            <a:chOff x="1904760" y="4267080"/>
            <a:chExt cx="6425280" cy="459720"/>
          </a:xfrm>
        </p:grpSpPr>
        <p:sp>
          <p:nvSpPr>
            <p:cNvPr id="381" name="Line 26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7"/>
            <p:cNvSpPr/>
            <p:nvPr/>
          </p:nvSpPr>
          <p:spPr>
            <a:xfrm>
              <a:off x="2661480" y="426708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 significant figures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8"/>
          <p:cNvGrpSpPr/>
          <p:nvPr/>
        </p:nvGrpSpPr>
        <p:grpSpPr>
          <a:xfrm>
            <a:off x="1904760" y="4991040"/>
            <a:ext cx="3155760" cy="459720"/>
            <a:chOff x="1904760" y="4991040"/>
            <a:chExt cx="3155760" cy="459720"/>
          </a:xfrm>
        </p:grpSpPr>
        <p:sp>
          <p:nvSpPr>
            <p:cNvPr id="384" name="Line 29"/>
            <p:cNvSpPr/>
            <p:nvPr/>
          </p:nvSpPr>
          <p:spPr>
            <a:xfrm flipH="1">
              <a:off x="1904760" y="52070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2657880" y="499104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0.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0AE-F8A0-4059-86C9-2885C54C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0680" y="93024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 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160" y="15397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ignificant figures in the result is set by the original number that h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199600" y="251460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1 x 3.6666 = 16.536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895720" y="25146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1881720" y="2908440"/>
            <a:ext cx="1383120" cy="980280"/>
            <a:chOff x="1881720" y="2908440"/>
            <a:chExt cx="1383120" cy="980280"/>
          </a:xfrm>
        </p:grpSpPr>
        <p:sp>
          <p:nvSpPr>
            <p:cNvPr id="393" name="Line 10"/>
            <p:cNvSpPr/>
            <p:nvPr/>
          </p:nvSpPr>
          <p:spPr>
            <a:xfrm flipV="1">
              <a:off x="2577960" y="2908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1881720" y="3429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4485240" y="2908080"/>
            <a:ext cx="1383120" cy="1346040"/>
            <a:chOff x="4485240" y="2908080"/>
            <a:chExt cx="1383120" cy="1346040"/>
          </a:xfrm>
        </p:grpSpPr>
        <p:sp>
          <p:nvSpPr>
            <p:cNvPr id="396" name="Line 14"/>
            <p:cNvSpPr/>
            <p:nvPr/>
          </p:nvSpPr>
          <p:spPr>
            <a:xfrm flipV="1">
              <a:off x="5181480" y="29080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4485240" y="3428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6"/>
          <p:cNvSpPr/>
          <p:nvPr/>
        </p:nvSpPr>
        <p:spPr>
          <a:xfrm>
            <a:off x="2211120" y="449568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112.04 = 0.0606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830960" y="4915080"/>
            <a:ext cx="1383120" cy="980280"/>
            <a:chOff x="1830960" y="4915080"/>
            <a:chExt cx="1383120" cy="980280"/>
          </a:xfrm>
        </p:grpSpPr>
        <p:sp>
          <p:nvSpPr>
            <p:cNvPr id="400" name="Line 18"/>
            <p:cNvSpPr/>
            <p:nvPr/>
          </p:nvSpPr>
          <p:spPr>
            <a:xfrm flipV="1">
              <a:off x="2527200" y="49150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1830960" y="54356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494960" y="4879800"/>
            <a:ext cx="1383120" cy="1346040"/>
            <a:chOff x="4494960" y="4879800"/>
            <a:chExt cx="1383120" cy="1346040"/>
          </a:xfrm>
        </p:grpSpPr>
        <p:sp>
          <p:nvSpPr>
            <p:cNvPr id="403" name="Line 21"/>
            <p:cNvSpPr/>
            <p:nvPr/>
          </p:nvSpPr>
          <p:spPr>
            <a:xfrm flipV="1">
              <a:off x="5191200" y="4879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494960" y="540036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23"/>
          <p:cNvSpPr/>
          <p:nvPr/>
        </p:nvSpPr>
        <p:spPr>
          <a:xfrm>
            <a:off x="57546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17B-2176-46D9-8A6C-6DACE81D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46880" y="93024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c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8680" y="1487520"/>
            <a:ext cx="86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from definitions or numbers of objects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an infinite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31120" y="2971800"/>
            <a:ext cx="84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of three measured lengths; 6.64, 6.68 and 6.7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2"/>
          <p:cNvGrpSpPr/>
          <p:nvPr/>
        </p:nvGrpSpPr>
        <p:grpSpPr>
          <a:xfrm>
            <a:off x="1838160" y="3938760"/>
            <a:ext cx="5090400" cy="864360"/>
            <a:chOff x="1838160" y="3938760"/>
            <a:chExt cx="5090400" cy="864360"/>
          </a:xfrm>
        </p:grpSpPr>
        <p:grpSp>
          <p:nvGrpSpPr>
            <p:cNvPr id="412" name="Group 10"/>
            <p:cNvGrpSpPr/>
            <p:nvPr/>
          </p:nvGrpSpPr>
          <p:grpSpPr>
            <a:xfrm>
              <a:off x="1838160" y="3938760"/>
              <a:ext cx="2657160" cy="864360"/>
              <a:chOff x="1838160" y="3938760"/>
              <a:chExt cx="2657160" cy="864360"/>
            </a:xfrm>
          </p:grpSpPr>
          <p:sp>
            <p:nvSpPr>
              <p:cNvPr id="413" name="Text Box 7"/>
              <p:cNvSpPr/>
              <p:nvPr/>
            </p:nvSpPr>
            <p:spPr>
              <a:xfrm>
                <a:off x="1838160" y="3938760"/>
                <a:ext cx="265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.64 + 6.68 + 6.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1922400" y="435636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9"/>
              <p:cNvSpPr/>
              <p:nvPr/>
            </p:nvSpPr>
            <p:spPr>
              <a:xfrm>
                <a:off x="2978280" y="4343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1"/>
            <p:cNvSpPr/>
            <p:nvPr/>
          </p:nvSpPr>
          <p:spPr>
            <a:xfrm>
              <a:off x="4356720" y="412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6.67333 = 6.6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"/>
          <p:cNvSpPr/>
          <p:nvPr/>
        </p:nvSpPr>
        <p:spPr>
          <a:xfrm>
            <a:off x="2422440" y="51814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3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6738480" y="4127400"/>
            <a:ext cx="613440" cy="459720"/>
            <a:chOff x="6738480" y="4127400"/>
            <a:chExt cx="613440" cy="459720"/>
          </a:xfrm>
        </p:grpSpPr>
        <p:sp>
          <p:nvSpPr>
            <p:cNvPr id="419" name="Text Box 13"/>
            <p:cNvSpPr/>
            <p:nvPr/>
          </p:nvSpPr>
          <p:spPr>
            <a:xfrm>
              <a:off x="6738480" y="41274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6858000" y="4191120"/>
              <a:ext cx="38088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4EB-22B3-42EE-932F-AE0E668D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320" y="1143000"/>
            <a:ext cx="6095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ers, ceramics, liquid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-temperature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comp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0" y="407196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 modifi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”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13984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838080" y="41878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FF42-FA27-4C52-9AAD-62E94605A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4480" y="290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measurement is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set of measurements ar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878400" y="47941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64176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67404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01_13"/>
          <p:cNvPicPr/>
          <p:nvPr/>
        </p:nvPicPr>
        <p:blipFill>
          <a:blip r:embed="rId1"/>
          <a:srcRect l="0" t="4030" r="0" b="13630"/>
          <a:stretch/>
        </p:blipFill>
        <p:spPr>
          <a:xfrm>
            <a:off x="152280" y="1830240"/>
            <a:ext cx="88394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1D7B-C4B8-4C27-A7E0-46701DF6A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40720" y="16668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28600" y="99072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unit conversion factor(s)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nits through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units cancel except for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red uni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 problem was solved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918000" y="350532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quantity x conversion factor = desire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8"/>
          <p:cNvSpPr/>
          <p:nvPr/>
        </p:nvSpPr>
        <p:spPr>
          <a:xfrm>
            <a:off x="1830960" y="47181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unit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2"/>
          <p:cNvSpPr/>
          <p:nvPr/>
        </p:nvSpPr>
        <p:spPr>
          <a:xfrm>
            <a:off x="5349240" y="47242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esired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4"/>
          <p:cNvGrpSpPr/>
          <p:nvPr/>
        </p:nvGrpSpPr>
        <p:grpSpPr>
          <a:xfrm>
            <a:off x="3630600" y="4495680"/>
            <a:ext cx="1755000" cy="953640"/>
            <a:chOff x="3630600" y="4495680"/>
            <a:chExt cx="1755000" cy="953640"/>
          </a:xfrm>
        </p:grpSpPr>
        <p:sp>
          <p:nvSpPr>
            <p:cNvPr id="434" name="Text Box 39"/>
            <p:cNvSpPr/>
            <p:nvPr/>
          </p:nvSpPr>
          <p:spPr>
            <a:xfrm>
              <a:off x="3630600" y="44956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ed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3765240" y="49896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n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>
              <a:off x="3670200" y="4970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6"/>
          <p:cNvSpPr/>
          <p:nvPr/>
        </p:nvSpPr>
        <p:spPr>
          <a:xfrm flipV="1">
            <a:off x="2057400" y="464796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D2D-13F2-426A-BD6C-E5B570DB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61520" y="54756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65720" y="297180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Unit 1 L = 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63560" y="3606840"/>
            <a:ext cx="4340160" cy="891360"/>
            <a:chOff x="763560" y="3606840"/>
            <a:chExt cx="4340160" cy="891360"/>
          </a:xfrm>
        </p:grpSpPr>
        <p:grpSp>
          <p:nvGrpSpPr>
            <p:cNvPr id="443" name="Group 8"/>
            <p:cNvGrpSpPr/>
            <p:nvPr/>
          </p:nvGrpSpPr>
          <p:grpSpPr>
            <a:xfrm>
              <a:off x="2085480" y="3606840"/>
              <a:ext cx="1366560" cy="891360"/>
              <a:chOff x="2085480" y="3606840"/>
              <a:chExt cx="1366560" cy="89136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2509200" y="4038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0"/>
              <p:cNvSpPr/>
              <p:nvPr/>
            </p:nvSpPr>
            <p:spPr>
              <a:xfrm>
                <a:off x="2085480" y="360684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00 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1"/>
              <p:cNvSpPr/>
              <p:nvPr/>
            </p:nvSpPr>
            <p:spPr>
              <a:xfrm>
                <a:off x="2159280" y="4063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12"/>
            <p:cNvSpPr/>
            <p:nvPr/>
          </p:nvSpPr>
          <p:spPr>
            <a:xfrm>
              <a:off x="763560" y="38098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3473640" y="383508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63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14"/>
          <p:cNvSpPr/>
          <p:nvPr/>
        </p:nvSpPr>
        <p:spPr>
          <a:xfrm flipV="1">
            <a:off x="1473120" y="3936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V="1">
            <a:off x="2730600" y="41400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2896560" y="4635360"/>
            <a:ext cx="4950000" cy="853200"/>
            <a:chOff x="2896560" y="4635360"/>
            <a:chExt cx="4950000" cy="853200"/>
          </a:xfrm>
        </p:grpSpPr>
        <p:sp>
          <p:nvSpPr>
            <p:cNvPr id="452" name="Text Box 17"/>
            <p:cNvSpPr/>
            <p:nvPr/>
          </p:nvSpPr>
          <p:spPr>
            <a:xfrm>
              <a:off x="4642200" y="463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4218840" y="50288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>
              <a:off x="4292280" y="5054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2896560" y="48002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5607720" y="48258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0.0016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242120" y="4647960"/>
              <a:ext cx="604440" cy="840600"/>
              <a:chOff x="7242120" y="4647960"/>
              <a:chExt cx="604440" cy="840600"/>
            </a:xfrm>
          </p:grpSpPr>
          <p:sp>
            <p:nvSpPr>
              <p:cNvPr id="458" name="Line 23"/>
              <p:cNvSpPr/>
              <p:nvPr/>
            </p:nvSpPr>
            <p:spPr>
              <a:xfrm>
                <a:off x="7316640" y="50544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4"/>
              <p:cNvSpPr/>
              <p:nvPr/>
            </p:nvSpPr>
            <p:spPr>
              <a:xfrm>
                <a:off x="7302960" y="46479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5"/>
              <p:cNvSpPr/>
              <p:nvPr/>
            </p:nvSpPr>
            <p:spPr>
              <a:xfrm>
                <a:off x="7242120" y="50288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26"/>
          <p:cNvGrpSpPr/>
          <p:nvPr/>
        </p:nvGrpSpPr>
        <p:grpSpPr>
          <a:xfrm>
            <a:off x="2971800" y="4648320"/>
            <a:ext cx="4952880" cy="761760"/>
            <a:chOff x="2971800" y="4648320"/>
            <a:chExt cx="4952880" cy="761760"/>
          </a:xfrm>
        </p:grpSpPr>
        <p:sp>
          <p:nvSpPr>
            <p:cNvPr id="462" name="Line 27"/>
            <p:cNvSpPr/>
            <p:nvPr/>
          </p:nvSpPr>
          <p:spPr>
            <a:xfrm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 flipH="1"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Line 29"/>
          <p:cNvSpPr/>
          <p:nvPr/>
        </p:nvSpPr>
        <p:spPr>
          <a:xfrm>
            <a:off x="3733920" y="439416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0"/>
          <p:cNvSpPr/>
          <p:nvPr/>
        </p:nvSpPr>
        <p:spPr>
          <a:xfrm>
            <a:off x="4952880" y="42670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1"/>
          <p:cNvSpPr/>
          <p:nvPr/>
        </p:nvSpPr>
        <p:spPr>
          <a:xfrm flipV="1">
            <a:off x="5257800" y="533412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>
            <a:off x="7493040" y="4127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908720" y="161460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mL are in 1.63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0DAE-4F94-4295-8FD8-915098C6B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peed of sound in air is about 343 m/s.  What is this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092960" y="35053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 = 1609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856680" y="35053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 = 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351480" y="3505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our = 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3"/>
          <p:cNvGrpSpPr/>
          <p:nvPr/>
        </p:nvGrpSpPr>
        <p:grpSpPr>
          <a:xfrm>
            <a:off x="764640" y="4840200"/>
            <a:ext cx="1135800" cy="801000"/>
            <a:chOff x="764640" y="4840200"/>
            <a:chExt cx="1135800" cy="801000"/>
          </a:xfrm>
        </p:grpSpPr>
        <p:sp>
          <p:nvSpPr>
            <p:cNvPr id="475" name="Text Box 7"/>
            <p:cNvSpPr/>
            <p:nvPr/>
          </p:nvSpPr>
          <p:spPr>
            <a:xfrm>
              <a:off x="764640" y="50194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1"/>
            <p:cNvGrpSpPr/>
            <p:nvPr/>
          </p:nvGrpSpPr>
          <p:grpSpPr>
            <a:xfrm>
              <a:off x="1465200" y="4840200"/>
              <a:ext cx="435240" cy="801000"/>
              <a:chOff x="1465200" y="4840200"/>
              <a:chExt cx="435240" cy="80100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465200" y="4840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1513080" y="518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1479600" y="5257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30"/>
          <p:cNvGrpSpPr/>
          <p:nvPr/>
        </p:nvGrpSpPr>
        <p:grpSpPr>
          <a:xfrm>
            <a:off x="1852920" y="4827600"/>
            <a:ext cx="1437480" cy="889920"/>
            <a:chOff x="1852920" y="4827600"/>
            <a:chExt cx="1437480" cy="889920"/>
          </a:xfrm>
        </p:grpSpPr>
        <p:sp>
          <p:nvSpPr>
            <p:cNvPr id="481" name="Text Box 14"/>
            <p:cNvSpPr/>
            <p:nvPr/>
          </p:nvSpPr>
          <p:spPr>
            <a:xfrm>
              <a:off x="185292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8"/>
            <p:cNvGrpSpPr/>
            <p:nvPr/>
          </p:nvGrpSpPr>
          <p:grpSpPr>
            <a:xfrm>
              <a:off x="2093040" y="4827600"/>
              <a:ext cx="1197360" cy="889920"/>
              <a:chOff x="2093040" y="4827600"/>
              <a:chExt cx="1197360" cy="889920"/>
            </a:xfrm>
          </p:grpSpPr>
          <p:sp>
            <p:nvSpPr>
              <p:cNvPr id="483" name="Text Box 15"/>
              <p:cNvSpPr/>
              <p:nvPr/>
            </p:nvSpPr>
            <p:spPr>
              <a:xfrm>
                <a:off x="2287800" y="4827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"/>
              <p:cNvSpPr/>
              <p:nvPr/>
            </p:nvSpPr>
            <p:spPr>
              <a:xfrm>
                <a:off x="222552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7"/>
              <p:cNvSpPr/>
              <p:nvPr/>
            </p:nvSpPr>
            <p:spPr>
              <a:xfrm>
                <a:off x="2093040" y="525780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09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1"/>
          <p:cNvGrpSpPr/>
          <p:nvPr/>
        </p:nvGrpSpPr>
        <p:grpSpPr>
          <a:xfrm>
            <a:off x="3281400" y="4827600"/>
            <a:ext cx="1382400" cy="889920"/>
            <a:chOff x="3281400" y="4827600"/>
            <a:chExt cx="1382400" cy="889920"/>
          </a:xfrm>
        </p:grpSpPr>
        <p:grpSp>
          <p:nvGrpSpPr>
            <p:cNvPr id="487" name="Group 20"/>
            <p:cNvGrpSpPr/>
            <p:nvPr/>
          </p:nvGrpSpPr>
          <p:grpSpPr>
            <a:xfrm>
              <a:off x="3414960" y="4827600"/>
              <a:ext cx="1248840" cy="889920"/>
              <a:chOff x="3414960" y="4827600"/>
              <a:chExt cx="1248840" cy="889920"/>
            </a:xfrm>
          </p:grpSpPr>
          <p:sp>
            <p:nvSpPr>
              <p:cNvPr id="488" name="Text Box 21"/>
              <p:cNvSpPr/>
              <p:nvPr/>
            </p:nvSpPr>
            <p:spPr>
              <a:xfrm>
                <a:off x="3734640" y="4827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367308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3"/>
              <p:cNvSpPr/>
              <p:nvPr/>
            </p:nvSpPr>
            <p:spPr>
              <a:xfrm>
                <a:off x="3414960" y="5257800"/>
                <a:ext cx="118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28"/>
            <p:cNvSpPr/>
            <p:nvPr/>
          </p:nvSpPr>
          <p:spPr>
            <a:xfrm>
              <a:off x="328140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32"/>
          <p:cNvGrpSpPr/>
          <p:nvPr/>
        </p:nvGrpSpPr>
        <p:grpSpPr>
          <a:xfrm>
            <a:off x="4773960" y="4827600"/>
            <a:ext cx="1483200" cy="889920"/>
            <a:chOff x="4773960" y="4827600"/>
            <a:chExt cx="1483200" cy="889920"/>
          </a:xfrm>
        </p:grpSpPr>
        <p:sp>
          <p:nvSpPr>
            <p:cNvPr id="493" name="Text Box 25"/>
            <p:cNvSpPr/>
            <p:nvPr/>
          </p:nvSpPr>
          <p:spPr>
            <a:xfrm>
              <a:off x="5162040" y="4827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519768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7"/>
            <p:cNvSpPr/>
            <p:nvPr/>
          </p:nvSpPr>
          <p:spPr>
            <a:xfrm>
              <a:off x="4880520" y="5257800"/>
              <a:ext cx="13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9"/>
            <p:cNvSpPr/>
            <p:nvPr/>
          </p:nvSpPr>
          <p:spPr>
            <a:xfrm>
              <a:off x="477396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40"/>
          <p:cNvGrpSpPr/>
          <p:nvPr/>
        </p:nvGrpSpPr>
        <p:grpSpPr>
          <a:xfrm>
            <a:off x="6224760" y="4840200"/>
            <a:ext cx="1662480" cy="851760"/>
            <a:chOff x="6224760" y="4840200"/>
            <a:chExt cx="1662480" cy="851760"/>
          </a:xfrm>
        </p:grpSpPr>
        <p:sp>
          <p:nvSpPr>
            <p:cNvPr id="498" name="Text Box 34"/>
            <p:cNvSpPr/>
            <p:nvPr/>
          </p:nvSpPr>
          <p:spPr>
            <a:xfrm>
              <a:off x="6224760" y="5030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8"/>
            <p:cNvGrpSpPr/>
            <p:nvPr/>
          </p:nvGrpSpPr>
          <p:grpSpPr>
            <a:xfrm>
              <a:off x="7097040" y="4840200"/>
              <a:ext cx="790200" cy="851760"/>
              <a:chOff x="7097040" y="4840200"/>
              <a:chExt cx="790200" cy="851760"/>
            </a:xfrm>
          </p:grpSpPr>
          <p:sp>
            <p:nvSpPr>
              <p:cNvPr id="500" name="Text Box 35"/>
              <p:cNvSpPr/>
              <p:nvPr/>
            </p:nvSpPr>
            <p:spPr>
              <a:xfrm>
                <a:off x="7233120" y="4840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6"/>
              <p:cNvSpPr/>
              <p:nvPr/>
            </p:nvSpPr>
            <p:spPr>
              <a:xfrm>
                <a:off x="7097040" y="5232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7"/>
              <p:cNvSpPr/>
              <p:nvPr/>
            </p:nvSpPr>
            <p:spPr>
              <a:xfrm>
                <a:off x="7170480" y="525744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Line 39"/>
          <p:cNvSpPr/>
          <p:nvPr/>
        </p:nvSpPr>
        <p:spPr>
          <a:xfrm>
            <a:off x="16794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"/>
          <p:cNvSpPr/>
          <p:nvPr/>
        </p:nvSpPr>
        <p:spPr>
          <a:xfrm flipV="1">
            <a:off x="3038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43848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594684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4"/>
          <p:cNvSpPr/>
          <p:nvPr/>
        </p:nvSpPr>
        <p:spPr>
          <a:xfrm flipV="1">
            <a:off x="1679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5"/>
          <p:cNvSpPr/>
          <p:nvPr/>
        </p:nvSpPr>
        <p:spPr>
          <a:xfrm flipV="1">
            <a:off x="430848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V="1">
            <a:off x="1552680" y="496548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 flipV="1">
            <a:off x="2936880" y="5409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 flipV="1">
            <a:off x="1565280" y="5295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9"/>
          <p:cNvSpPr/>
          <p:nvPr/>
        </p:nvSpPr>
        <p:spPr>
          <a:xfrm flipV="1">
            <a:off x="430848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0"/>
          <p:cNvSpPr/>
          <p:nvPr/>
        </p:nvSpPr>
        <p:spPr>
          <a:xfrm flipV="1">
            <a:off x="4194000" y="5384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1"/>
          <p:cNvSpPr/>
          <p:nvPr/>
        </p:nvSpPr>
        <p:spPr>
          <a:xfrm flipV="1">
            <a:off x="583236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2322000" y="2017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s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2323440" y="26668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31996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rs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EBE7-740C-467A-A492-51C9B1314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1_02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1676520"/>
            <a:ext cx="8839440" cy="3674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1720" y="11430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593320" y="1143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AFC-7F7A-46E9-A92D-A3ACE107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80880" y="304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ystematic approach t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tentative explanation for a set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3270240" y="5105520"/>
            <a:ext cx="2588760" cy="1066320"/>
            <a:chOff x="3270240" y="5105520"/>
            <a:chExt cx="2588760" cy="1066320"/>
          </a:xfrm>
        </p:grpSpPr>
        <p:sp>
          <p:nvSpPr>
            <p:cNvPr id="69" name="Text Box 8"/>
            <p:cNvSpPr/>
            <p:nvPr/>
          </p:nvSpPr>
          <p:spPr>
            <a:xfrm>
              <a:off x="3270240" y="54100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sted     modif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2" descr=""/>
          <p:cNvPicPr/>
          <p:nvPr/>
        </p:nvPicPr>
        <p:blipFill>
          <a:blip r:embed="rId1"/>
          <a:stretch/>
        </p:blipFill>
        <p:spPr>
          <a:xfrm>
            <a:off x="57240" y="1722600"/>
            <a:ext cx="916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F8F-07F0-4AFA-B0B9-642C9270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80880" y="30942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unifying principle that explains a body of facts and/or those laws that are based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80880" y="3049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ncise statement of a relationship between phenomena that is always the same under the sa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916560" y="51055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70400" y="20574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505320" y="4505400"/>
            <a:ext cx="449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654-4FF3-4DBC-9F00-0779B9559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8437" t="11835" r="9080" b="0"/>
          <a:stretch/>
        </p:blipFill>
        <p:spPr>
          <a:xfrm>
            <a:off x="0" y="2362320"/>
            <a:ext cx="4572000" cy="3663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8088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40 George Gam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othes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e universe began with a gigantic explosion or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9596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37339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backgroun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8600" y="53352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 and the Big Ba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906E-4039-4B02-8CC5-03F801373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21337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thing that occupies space and ha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orm of matter that has a definite composition and distinct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440" y="533520"/>
            <a:ext cx="84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tudy of matter an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838080" y="4572000"/>
            <a:ext cx="1625760" cy="1928880"/>
            <a:chOff x="838080" y="4572000"/>
            <a:chExt cx="1625760" cy="1928880"/>
          </a:xfrm>
        </p:grpSpPr>
        <p:pic>
          <p:nvPicPr>
            <p:cNvPr id="90" name="Picture 21" descr=""/>
            <p:cNvPicPr/>
            <p:nvPr/>
          </p:nvPicPr>
          <p:blipFill>
            <a:blip r:embed="rId1"/>
            <a:stretch/>
          </p:blipFill>
          <p:spPr>
            <a:xfrm>
              <a:off x="838080" y="4572000"/>
              <a:ext cx="16002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3"/>
            <p:cNvSpPr/>
            <p:nvPr/>
          </p:nvSpPr>
          <p:spPr>
            <a:xfrm>
              <a:off x="865800" y="6132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 nit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3048120" y="4597560"/>
            <a:ext cx="1904760" cy="1895400"/>
            <a:chOff x="3048120" y="4597560"/>
            <a:chExt cx="1904760" cy="1895400"/>
          </a:xfrm>
        </p:grpSpPr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3048120" y="4597560"/>
              <a:ext cx="190476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3361680" y="61246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ld ing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5486400" y="4648320"/>
            <a:ext cx="2333520" cy="1892160"/>
            <a:chOff x="5486400" y="4648320"/>
            <a:chExt cx="2333520" cy="1892160"/>
          </a:xfrm>
        </p:grpSpPr>
        <p:pic>
          <p:nvPicPr>
            <p:cNvPr id="96" name="Picture 27" descr=""/>
            <p:cNvPicPr/>
            <p:nvPr/>
          </p:nvPicPr>
          <p:blipFill>
            <a:blip r:embed="rId3"/>
            <a:stretch/>
          </p:blipFill>
          <p:spPr>
            <a:xfrm>
              <a:off x="5486400" y="4648320"/>
              <a:ext cx="233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8"/>
            <p:cNvSpPr/>
            <p:nvPr/>
          </p:nvSpPr>
          <p:spPr>
            <a:xfrm>
              <a:off x="5889240" y="6172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icon crys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15:29:02Z</dcterms:created>
  <dc:creator>J. David Robertson</dc:creator>
  <dc:description/>
  <dc:language>en-US</dc:language>
  <cp:lastModifiedBy>Eman Al-Abdulkareem</cp:lastModifiedBy>
  <dcterms:modified xsi:type="dcterms:W3CDTF">2017-09-23T20:44:47Z</dcterms:modified>
  <cp:revision>111</cp:revision>
  <dc:subject/>
  <dc:title>Chemistry:  The Study of Change</dc:title>
</cp:coreProperties>
</file>