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2BD1-3AA7-4567-820A-57D5FD26D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C0A6-8C68-4C2C-8F6D-4D2B6F00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AF23-CE98-42C6-9271-C860B211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4A51-DF2B-4C7D-AA5B-17659DE53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3AB8-980B-4A91-AE73-7188FA46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5C51-1AF9-4085-BDB4-E10F4C29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D5FB-CB96-44A4-96FD-DC6259CF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5B8E-D37A-44C4-A43D-FA5E1C01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93E6-3681-4AD4-8AC8-A7A5377F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47DE-905F-4086-9E42-AE41930A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03B2-7D64-4350-8F1C-423A876A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5F9D-8FC2-485B-8759-8FC7EEBB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599E-6CDB-4ED3-8F67-86563147635F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ow Can I Measure Cardiac Output In A Patient With Shock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on Sevransky M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ternational Consensus Conferen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ris Fran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pril 27, 2006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90720" y="152280"/>
            <a:ext cx="69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udies Comparing Methods Of Measuring Cardiac Output in Patients With Shoc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297480" cy="53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deal Cardiac Output Monitoring Techniqu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ecise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 bia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n-invasiv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adily available in the ICU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ads to treatment changes/improvement in outcom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rmodilu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st Widely Used Measure of Cardiac Outpu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w Cardiac Output correlated with mortality in multiple studi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adily available in ICU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vasive with Potential Infectious/Mechanical Complicatio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adings May Vary with Skill of Read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ynamic Variation Between Measureme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 Definitive Evidence that Use Improves Outcomes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udies Comparing Thermodilution with Other Methods Of measuring Cardiac Output In Patients With Shoc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68320" y="2362320"/>
            <a:ext cx="79106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parison of bedside measurement of cardiac output  with the thermodilution method and the Fick method in mechanically ventilated patients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941800" cy="4772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676520" y="65530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onzalez et al Crit Care 2003:7:171-8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parison of bedside measurement of cardiac output  with the thermodilution method and the Fick method in mechanically ventilated patients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65530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onzalez et al Crit Care 2003:7:171-8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ulse Waveform Metho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ss-Invasive Than Thermodi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al Time/ Repetitive Monitorin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eds Recalibr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pendent on Compliance of Arterial Tre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ttle Validation in Patients with Shoc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liability of a new algorithm for continuous cardiac output determination by pulse-contour analysis during hemodynamic instabilit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64008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odge et al Crit Care Med 2002;30:52-8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57200" y="1600200"/>
            <a:ext cx="8229600" cy="4525920"/>
            <a:chOff x="457200" y="1600200"/>
            <a:chExt cx="8229600" cy="452592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82296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 txBox="1"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ioimpedanc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ss Invasiv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an perform repetitive measur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 routinely available in the intensive care uni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ultiple competing methodologi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ttle Validation in Patients with Shoc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udies Comparing Bioimpedance with Other Methods Of measuring Cardiac Output In Patients With Shoc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791064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ow Do I Measure Cardiac Output In A Patient With Shock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curate, Noninvasive Continuous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nitoring of Cardiac Output by Whole-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ody Electrical Bioimpedance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57200" y="1600200"/>
            <a:ext cx="8229600" cy="4525920"/>
            <a:chOff x="457200" y="1600200"/>
            <a:chExt cx="8229600" cy="452592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82296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 txBox="1"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143000" y="640080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tter et al Chest 2004:125;1431-1440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chocardiograph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n-invasiv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adily available in the ICU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 provide other useful informa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sadvantag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olume Measurement Dependent Upon Endocardial Visualiza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oppler Flow measurement less accurate if Aortic Regurgita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t validated in patients with shoc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278880" y="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-D Metho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800280"/>
            <a:ext cx="685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Principle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troke volume= End diastolic volume – End systolic volume 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LV volumes estimated by Simpson’s method, which is the summation of the volume of stacked cylinders within the LV at end-diastole and end-systole 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571680"/>
            <a:ext cx="7467840" cy="2286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2971800"/>
            <a:ext cx="4191120" cy="2895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95680" y="2971800"/>
            <a:ext cx="4191120" cy="2895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86000" y="3962520"/>
            <a:ext cx="1143000" cy="20574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257800" y="4038480"/>
            <a:ext cx="1371600" cy="20574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60958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50 ml   -   52 ml= 98 ml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429000"/>
            <a:ext cx="9144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95680" y="3429000"/>
            <a:ext cx="9144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963160" y="-8568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oppler Metho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90840" y="495360"/>
            <a:ext cx="4305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Principle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Flow (stroke volume)=Area * Velocity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=Stroke volume * Heart rate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1971720" y="3889080"/>
            <a:ext cx="666720" cy="29340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2505240"/>
            <a:ext cx="3962520" cy="2514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514600" y="3300480"/>
            <a:ext cx="45720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285640" y="3833640"/>
            <a:ext cx="304920" cy="104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6000" y="1752480"/>
            <a:ext cx="495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rea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of left ventricular outflow tract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Obtain LVOT dimension in parasternal long axis view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5753160"/>
            <a:ext cx="414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implified formul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(2.1cm)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* 0.785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5029200"/>
            <a:ext cx="152280" cy="660240"/>
          </a:xfrm>
          <a:custGeom>
            <a:avLst/>
            <a:gdLst>
              <a:gd name="textAreaLeft" fmla="*/ 97200 w 152280"/>
              <a:gd name="textAreaRight" fmla="*/ 152640 w 152280"/>
              <a:gd name="textAreaTop" fmla="*/ 16920 h 660240"/>
              <a:gd name="textAreaBottom" fmla="*/ 643320 h 66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68360" y="4927680"/>
            <a:ext cx="116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=2.1 cm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410080" y="2514600"/>
            <a:ext cx="3276720" cy="2438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612160" y="6156360"/>
            <a:ext cx="181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3.46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1676520"/>
            <a:ext cx="327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Flow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elocity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at LVOT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ulsed wave Doppler at LVOT in apical 5 chamber view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7009920" y="2209680"/>
            <a:ext cx="838440" cy="22860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49960" y="372096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90000" y="5676840"/>
            <a:ext cx="297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elocity time integral 25 cm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03240" y="6189840"/>
            <a:ext cx="32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25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m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= 87 cm</a:t>
            </a:r>
            <a:r>
              <a:rPr b="0" lang="en-US" sz="40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48040" y="528480"/>
            <a:ext cx="4724280" cy="1071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10080" y="5105520"/>
            <a:ext cx="3276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10400" y="5095800"/>
            <a:ext cx="604800" cy="525600"/>
          </a:xfrm>
          <a:custGeom>
            <a:avLst/>
            <a:gdLst/>
            <a:ahLst/>
            <a:rect l="l" t="t" r="r" b="b"/>
            <a:pathLst>
              <a:path w="381" h="331">
                <a:moveTo>
                  <a:pt x="0" y="0"/>
                </a:moveTo>
                <a:cubicBezTo>
                  <a:pt x="10" y="86"/>
                  <a:pt x="40" y="164"/>
                  <a:pt x="68" y="246"/>
                </a:cubicBezTo>
                <a:cubicBezTo>
                  <a:pt x="83" y="289"/>
                  <a:pt x="82" y="316"/>
                  <a:pt x="127" y="331"/>
                </a:cubicBezTo>
                <a:cubicBezTo>
                  <a:pt x="144" y="325"/>
                  <a:pt x="165" y="327"/>
                  <a:pt x="178" y="314"/>
                </a:cubicBezTo>
                <a:cubicBezTo>
                  <a:pt x="183" y="309"/>
                  <a:pt x="203" y="251"/>
                  <a:pt x="212" y="238"/>
                </a:cubicBezTo>
                <a:cubicBezTo>
                  <a:pt x="228" y="187"/>
                  <a:pt x="242" y="179"/>
                  <a:pt x="271" y="136"/>
                </a:cubicBezTo>
                <a:cubicBezTo>
                  <a:pt x="289" y="59"/>
                  <a:pt x="262" y="138"/>
                  <a:pt x="305" y="85"/>
                </a:cubicBezTo>
                <a:cubicBezTo>
                  <a:pt x="352" y="26"/>
                  <a:pt x="263" y="93"/>
                  <a:pt x="339" y="43"/>
                </a:cubicBezTo>
                <a:cubicBezTo>
                  <a:pt x="345" y="34"/>
                  <a:pt x="349" y="24"/>
                  <a:pt x="356" y="17"/>
                </a:cubicBezTo>
                <a:cubicBezTo>
                  <a:pt x="363" y="10"/>
                  <a:pt x="381" y="0"/>
                  <a:pt x="381" y="0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3440" y="61563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parison of cardiac output measured with  echocardiographic volumes and aortic Doppler methods during mechanical ventilation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0" y="1600200"/>
            <a:ext cx="8229600" cy="4525920"/>
            <a:chOff x="0" y="1600200"/>
            <a:chExt cx="8229600" cy="4525920"/>
          </a:xfrm>
        </p:grpSpPr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0" y="1600200"/>
              <a:ext cx="82296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 txBox="1"/>
            <p:nvPr/>
          </p:nvSpPr>
          <p:spPr>
            <a:xfrm>
              <a:off x="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990720" y="64771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xler et al Intensive Care Medicine 2003;29:208:17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nical Examin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adily availab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petitive Measur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veral studies available to validate  (Highest number in systematic review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y allow differentiation of low from  hig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ny different methods use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vides dichotomous rather than continuous measu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udies Use Suboptimal Statistical Metho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udies Comparing Clinical Examination with Other Methods Of Measuring Cardiac Output In Patients With Shoc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15960" y="2635200"/>
            <a:ext cx="791064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pillary refill and core–peripheral temperature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ap as indicators of haemodynamic status in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ediatric intensive care patients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57200" y="1600200"/>
            <a:ext cx="8229600" cy="4525920"/>
            <a:chOff x="457200" y="1600200"/>
            <a:chExt cx="8229600" cy="4525920"/>
          </a:xfrm>
        </p:grpSpPr>
        <p:pic>
          <p:nvPicPr>
            <p:cNvPr id="169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82296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 txBox="1"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600200" y="64008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ibby et al Archives Disease of Children1999:80:163-6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ystematic Review Limita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d not include Foreign Language Publica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ystematic Review done by single person rather than group- possible introduction of bia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cluding Studies of Techniques Tested in Other Critically Ill Patients May Unjustly Exclude Promising Methods Of Measuring Cardiac Outpu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 gold standard for measurement of cardiac output in patients with shoc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st trials of cardiac output measurement devices identified by systematic review include heterogeneous patient populations and suboptimal statistical methodolog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st studies identified did not clearly define shoc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tential Methods To Measure Cardiac Output in Patients With Shoc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rmodilu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lse waveform method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sophageal Doppl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ioimpeda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chocardiograph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nical Examin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ardiac output most often measured by thermodilution in ICU; most studies compare other methods with thermodi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nical examination had the highest number of studies that met criteria of the systematic review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w Do I Measure Cardiac Output in Patients with Shock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nical exam; Thermodilu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iven major limitations of above 2 methods, further work to validate other types of cardiac output measurement in patients with shock needs to be don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ystematic Review of Literatur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viewed Medline, Embase, Selected References and Files from 1966 to April 2006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SH Keywords Sepsis or Severe Sepsis or Septic Shock or Traumatic or Surgical Shock or Cardiogenic Shoc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rdiac Output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clusion  and ExclusionCriteri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clusion Criteri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uman clinical trial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 At least)Two methods of comparing cardiac outp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tients with shoc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t least a subgroup with shock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f majority of patients studied had shock, or had clinical values consistent with shock the study was include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clusion Criteri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 patients with shoc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able to separate patients with shoc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 comparison methodolog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parison methodology not reproducible ( e.g survey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ating Criteri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umber of Patien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umber of patients with shoc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tient Popul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ether shock diagnosis is defined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rdiac Output Measurement Methods Compar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atistical Analysi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pectrum Bias - Sensitiv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21337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nsitivity of a test changes as the composition of the case population changes, with different proportions of mild, moderate and severe cases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3886200"/>
            <a:ext cx="0" cy="21337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6019920"/>
            <a:ext cx="7315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276720" y="4267080"/>
            <a:ext cx="1904400" cy="1752840"/>
            <a:chOff x="3276720" y="4267080"/>
            <a:chExt cx="1904400" cy="1752840"/>
          </a:xfrm>
        </p:grpSpPr>
        <p:sp>
          <p:nvSpPr>
            <p:cNvPr id="59" name=""/>
            <p:cNvSpPr/>
            <p:nvPr/>
          </p:nvSpPr>
          <p:spPr>
            <a:xfrm>
              <a:off x="3276720" y="4267080"/>
              <a:ext cx="1676160" cy="1752840"/>
            </a:xfrm>
            <a:custGeom>
              <a:avLst/>
              <a:gdLst/>
              <a:ahLst/>
              <a:rect l="l" t="t" r="r" b="b"/>
              <a:pathLst>
                <a:path w="816" h="288">
                  <a:moveTo>
                    <a:pt x="0" y="288"/>
                  </a:moveTo>
                  <a:cubicBezTo>
                    <a:pt x="124" y="144"/>
                    <a:pt x="248" y="0"/>
                    <a:pt x="384" y="0"/>
                  </a:cubicBezTo>
                  <a:cubicBezTo>
                    <a:pt x="520" y="0"/>
                    <a:pt x="744" y="240"/>
                    <a:pt x="816" y="288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57600" y="4800600"/>
              <a:ext cx="152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Mod.</a:t>
              </a: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2057400" y="4267080"/>
            <a:ext cx="1752480" cy="1752840"/>
            <a:chOff x="2057400" y="4267080"/>
            <a:chExt cx="1752480" cy="1752840"/>
          </a:xfrm>
        </p:grpSpPr>
        <p:sp>
          <p:nvSpPr>
            <p:cNvPr id="62" name=""/>
            <p:cNvSpPr/>
            <p:nvPr/>
          </p:nvSpPr>
          <p:spPr>
            <a:xfrm>
              <a:off x="2057400" y="4267080"/>
              <a:ext cx="1676520" cy="1752840"/>
            </a:xfrm>
            <a:custGeom>
              <a:avLst/>
              <a:gdLst/>
              <a:ahLst/>
              <a:rect l="l" t="t" r="r" b="b"/>
              <a:pathLst>
                <a:path w="816" h="288">
                  <a:moveTo>
                    <a:pt x="0" y="288"/>
                  </a:moveTo>
                  <a:cubicBezTo>
                    <a:pt x="124" y="144"/>
                    <a:pt x="248" y="0"/>
                    <a:pt x="384" y="0"/>
                  </a:cubicBezTo>
                  <a:cubicBezTo>
                    <a:pt x="520" y="0"/>
                    <a:pt x="744" y="240"/>
                    <a:pt x="816" y="288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14600" y="45720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Arial"/>
                </a:rPr>
                <a:t>Mild</a:t>
              </a: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990720" y="3809880"/>
            <a:ext cx="1676160" cy="2210040"/>
            <a:chOff x="990720" y="3809880"/>
            <a:chExt cx="1676160" cy="2210040"/>
          </a:xfrm>
        </p:grpSpPr>
        <p:sp>
          <p:nvSpPr>
            <p:cNvPr id="65" name=""/>
            <p:cNvSpPr/>
            <p:nvPr/>
          </p:nvSpPr>
          <p:spPr>
            <a:xfrm>
              <a:off x="990720" y="4267080"/>
              <a:ext cx="1676160" cy="1752840"/>
            </a:xfrm>
            <a:custGeom>
              <a:avLst/>
              <a:gdLst/>
              <a:ahLst/>
              <a:rect l="l" t="t" r="r" b="b"/>
              <a:pathLst>
                <a:path w="816" h="288">
                  <a:moveTo>
                    <a:pt x="0" y="288"/>
                  </a:moveTo>
                  <a:cubicBezTo>
                    <a:pt x="124" y="144"/>
                    <a:pt x="248" y="0"/>
                    <a:pt x="384" y="0"/>
                  </a:cubicBezTo>
                  <a:cubicBezTo>
                    <a:pt x="520" y="0"/>
                    <a:pt x="744" y="240"/>
                    <a:pt x="816" y="288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43000" y="3809880"/>
              <a:ext cx="1295280" cy="45972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9900"/>
                  </a:solidFill>
                  <a:latin typeface="Arial"/>
                </a:rPr>
                <a:t>Normal</a:t>
              </a: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4419720" y="6095880"/>
            <a:ext cx="220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st Valu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924280" y="3657600"/>
            <a:ext cx="1752480" cy="3104640"/>
            <a:chOff x="2924280" y="3657600"/>
            <a:chExt cx="1752480" cy="3104640"/>
          </a:xfrm>
        </p:grpSpPr>
        <p:sp>
          <p:nvSpPr>
            <p:cNvPr id="69" name=""/>
            <p:cNvSpPr/>
            <p:nvPr/>
          </p:nvSpPr>
          <p:spPr>
            <a:xfrm>
              <a:off x="3505320" y="3657600"/>
              <a:ext cx="0" cy="266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24280" y="63025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Cutoff</a:t>
              </a: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648320" y="4267080"/>
            <a:ext cx="1904400" cy="1752840"/>
            <a:chOff x="4648320" y="4267080"/>
            <a:chExt cx="1904400" cy="1752840"/>
          </a:xfrm>
        </p:grpSpPr>
        <p:sp>
          <p:nvSpPr>
            <p:cNvPr id="72" name=""/>
            <p:cNvSpPr/>
            <p:nvPr/>
          </p:nvSpPr>
          <p:spPr>
            <a:xfrm>
              <a:off x="4648320" y="4267080"/>
              <a:ext cx="1676160" cy="1752840"/>
            </a:xfrm>
            <a:custGeom>
              <a:avLst/>
              <a:gdLst/>
              <a:ahLst/>
              <a:rect l="l" t="t" r="r" b="b"/>
              <a:pathLst>
                <a:path w="816" h="288">
                  <a:moveTo>
                    <a:pt x="0" y="288"/>
                  </a:moveTo>
                  <a:cubicBezTo>
                    <a:pt x="124" y="144"/>
                    <a:pt x="248" y="0"/>
                    <a:pt x="384" y="0"/>
                  </a:cubicBezTo>
                  <a:cubicBezTo>
                    <a:pt x="520" y="0"/>
                    <a:pt x="744" y="240"/>
                    <a:pt x="816" y="288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29200" y="4800600"/>
              <a:ext cx="152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Severe.</a:t>
              </a: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iases in diagnostic test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600200"/>
          <a:ext cx="8229600" cy="36687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pectrum bias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Information bias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easurement bias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0644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Verification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0644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est-review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0644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Imperfect gold-standard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0644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Workup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0644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iagnostic review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0644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Imperfect test reading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0644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election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0644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Incorporation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0644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ontext (prevalence)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0644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0644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Reading orde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0644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Outlier/no result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Flowdiagram of Literature Search Result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370520" y="2262240"/>
            <a:ext cx="5394600" cy="3272400"/>
            <a:chOff x="1370520" y="2262240"/>
            <a:chExt cx="5394600" cy="3272400"/>
          </a:xfrm>
        </p:grpSpPr>
        <p:cxnSp>
          <p:nvCxnSpPr>
            <p:cNvPr id="78" name="_s46086"/>
            <p:cNvCxnSpPr>
              <a:stCxn id="79" idx="1"/>
              <a:endCxn id="80" idx="2"/>
            </p:cNvCxnSpPr>
            <p:nvPr/>
          </p:nvCxnSpPr>
          <p:spPr>
            <a:xfrm flipH="1" rot="10800000">
              <a:off x="1484640" y="4162680"/>
              <a:ext cx="3097800" cy="364320"/>
            </a:xfrm>
            <a:prstGeom prst="bentConnector4">
              <a:avLst>
                <a:gd name="adj1" fmla="val -3684"/>
                <a:gd name="adj2" fmla="val 7843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46087"/>
            <p:cNvCxnSpPr>
              <a:stCxn id="82" idx="1"/>
              <a:endCxn id="80" idx="2"/>
            </p:cNvCxnSpPr>
            <p:nvPr/>
          </p:nvCxnSpPr>
          <p:spPr>
            <a:xfrm flipH="1" rot="10800000">
              <a:off x="2399760" y="4162680"/>
              <a:ext cx="2183040" cy="1164600"/>
            </a:xfrm>
            <a:prstGeom prst="bentConnector4">
              <a:avLst>
                <a:gd name="adj1" fmla="val -5228"/>
                <a:gd name="adj2" fmla="val 589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46088"/>
            <p:cNvCxnSpPr>
              <a:stCxn id="80" idx="0"/>
              <a:endCxn id="84" idx="2"/>
            </p:cNvCxnSpPr>
            <p:nvPr/>
          </p:nvCxnSpPr>
          <p:spPr>
            <a:xfrm flipV="1">
              <a:off x="4582440" y="3591360"/>
              <a:ext cx="1080" cy="156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46089"/>
            <p:cNvCxnSpPr>
              <a:stCxn id="84" idx="1"/>
              <a:endCxn id="86" idx="2"/>
            </p:cNvCxnSpPr>
            <p:nvPr/>
          </p:nvCxnSpPr>
          <p:spPr>
            <a:xfrm flipH="1" rot="10800000">
              <a:off x="2399040" y="2677320"/>
              <a:ext cx="2068920" cy="706680"/>
            </a:xfrm>
            <a:prstGeom prst="bentConnector4">
              <a:avLst>
                <a:gd name="adj1" fmla="val -5516"/>
                <a:gd name="adj2" fmla="val 646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6" name="_s46090"/>
            <p:cNvSpPr/>
            <p:nvPr/>
          </p:nvSpPr>
          <p:spPr>
            <a:xfrm>
              <a:off x="2286000" y="2262240"/>
              <a:ext cx="4365000" cy="415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"/>
                </a:rPr>
                <a:t>2747 articles selected from  Pubmed, Embase, file search and reference review</a:t>
              </a:r>
              <a:endParaRPr b="0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" name="_s46091"/>
            <p:cNvSpPr/>
            <p:nvPr/>
          </p:nvSpPr>
          <p:spPr>
            <a:xfrm>
              <a:off x="2400120" y="3176280"/>
              <a:ext cx="4365000" cy="415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3300"/>
                  </a:solidFill>
                  <a:latin typeface="Arial"/>
                </a:rPr>
                <a:t>81 Abstracts Reviewed</a:t>
              </a:r>
              <a:endParaRPr b="0" lang="en-US" sz="12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" name="_s46092"/>
            <p:cNvSpPr/>
            <p:nvPr/>
          </p:nvSpPr>
          <p:spPr>
            <a:xfrm>
              <a:off x="2400120" y="3748320"/>
              <a:ext cx="4365000" cy="415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"/>
                </a:rPr>
                <a:t>72 Full Text Articles Retrieved</a:t>
              </a:r>
              <a:endParaRPr b="0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" name="_s46093"/>
            <p:cNvSpPr/>
            <p:nvPr/>
          </p:nvSpPr>
          <p:spPr>
            <a:xfrm>
              <a:off x="2400120" y="5119560"/>
              <a:ext cx="4365000" cy="415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"/>
                </a:rPr>
                <a:t>13 Articles Met Criteria</a:t>
              </a:r>
              <a:endParaRPr b="0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9" name="_s46094"/>
            <p:cNvSpPr/>
            <p:nvPr/>
          </p:nvSpPr>
          <p:spPr>
            <a:xfrm>
              <a:off x="1485720" y="4320000"/>
              <a:ext cx="4365000" cy="415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"/>
                </a:rPr>
                <a:t>37 No Comparison Group</a:t>
              </a:r>
              <a:endParaRPr b="0" lang="en-US" sz="1600" spc="-1" strike="noStrike">
                <a:solidFill>
                  <a:srgbClr val="ffff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"/>
                </a:rPr>
                <a:t>22 Not Shock Patients</a:t>
              </a:r>
              <a:endParaRPr b="0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3:47:45Z</dcterms:created>
  <dc:creator>SEVRANJ1</dc:creator>
  <dc:description/>
  <dc:language>en-US</dc:language>
  <cp:lastModifiedBy>SEVRANJ1</cp:lastModifiedBy>
  <dcterms:modified xsi:type="dcterms:W3CDTF">2006-04-26T17:21:35Z</dcterms:modified>
  <cp:revision>142</cp:revision>
  <dc:subject/>
  <dc:title>How Do I Measure Cardiac Output?</dc:title>
</cp:coreProperties>
</file>