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8B3-A7FA-4333-9182-B6ED8595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49A-F08A-43DC-8238-315C97F0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BEB-FAE1-4851-8088-1EBC7E77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1E1-8E4B-4DBD-92F2-AC6D9EBB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9BA-E177-4F8E-A1FC-C12E3ECD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22C-B8D6-42CC-964C-94900E9E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2CD-13F9-4A34-A82E-936BB840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4FE-9749-498F-B197-9739DCBF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67C-F6A2-4E35-9E77-544B6516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3C1-EF71-4C23-A7BC-9DC5487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DEF-E6C3-4DAA-AA32-B76686E1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5BB-84AA-459D-814E-AFE6C0C9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A652-0D40-4130-A559-140E30EBB8A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Can I Measure Cardiac Output In A Patient With Shock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n Sevransky M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national Consensus Confere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is Fr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il 27, 200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15228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udies Comparing Methods Of Measuring Cardiac Output in Patients With Shoc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29748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deal Cardiac Output Monitoring Techniqu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cise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bi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-invasi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ily available in the IC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ads to treatment changes/improvement in outco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rmodilu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st Widely Used Measure of Cardiac Outp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 Cardiac Output correlated with mortality in multiple stud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dily available in ICU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vasive with Potential Infectious/Mechanical Complica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dings May Vary with Skill of Read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ynamic Variation Between Measurem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Definitive Evidence that Use Improves Outcome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Comparing Thermodilution with Other Methods Of measuring Cardiac Output In Patients With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68320" y="2362320"/>
            <a:ext cx="7910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ison of bedside measurement of cardiac output  with the thermodilution method and the Fick method in mechanically ventilated patient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941800" cy="4772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76520" y="65530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nzalez et al Crit Care 2003:7:171-8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ison of bedside measurement of cardiac output  with the thermodilution method and the Fick method in mechanically ventilated patient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65530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nzalez et al Crit Care 2003:7:171-8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ulse Waveform Metho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-Invasive Than Thermodi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l Time/ Repetitive Monitor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eds Recalib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ent on Compliance of Arterial Tre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tle Validation in Patients with Shoc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liability of a new algorithm for continuous cardiac output determination by pulse-contour analysis during hemodynamic instabilit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64008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dge et al Crit Care Med 2002;30:52-8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impeda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 Invasiv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n perform repetitive meas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routinely available in the intensive care uni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ple competing methodolog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tle Validation in Patients with Shoc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Comparing Bioimpedance with Other Methods Of measuring Cardiac Output In Patients With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9106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Do I Measure Cardiac Output In A Patient With Shock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urate, Noninvasive Continuou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itoring of Cardiac Output by Whole-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dy Electrical Bioimped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143000" y="64008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tter et al Chest 2004:125;1431-144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hocardiograph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-invasiv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dily available in the IC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provide other useful inform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olume Measurement Dependent Upon Endocardial Visualiz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ppler Flow measurement less accurate if Aortic Regurgit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 validated in patients with shoc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78880" y="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-D Meth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80028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Principle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troke volume= End diastolic volume – End systolic volume 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V volumes estimated by Simpson’s method, which is the summation of the volume of stacked cylinders within the LV at end-diastole and end-systole 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71680"/>
            <a:ext cx="7467840" cy="2286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4191120" cy="2895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191120" cy="2895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3962520"/>
            <a:ext cx="1143000" cy="2057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257800" y="4038480"/>
            <a:ext cx="1371600" cy="2057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6095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50 ml   -   52 ml= 98 m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42900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342900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63160" y="-8568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ppler Meth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90840" y="495360"/>
            <a:ext cx="4305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Principle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low (stroke volume)=Area * Velocity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=Stroke volume * Heart rate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1971720" y="3889080"/>
            <a:ext cx="666720" cy="2934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505240"/>
            <a:ext cx="3962520" cy="251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14600" y="3300480"/>
            <a:ext cx="45720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285640" y="3833640"/>
            <a:ext cx="304920" cy="104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6000" y="1752480"/>
            <a:ext cx="495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of left ventricular outflow tract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Obtain LVOT dimension in parasternal long axis view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753160"/>
            <a:ext cx="41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mplified formul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2.1cm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* 0.785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5029200"/>
            <a:ext cx="152280" cy="660240"/>
          </a:xfrm>
          <a:custGeom>
            <a:avLst/>
            <a:gdLst>
              <a:gd name="textAreaLeft" fmla="*/ 97200 w 152280"/>
              <a:gd name="textAreaRight" fmla="*/ 152640 w 15228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492768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=2.1 c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612160" y="615636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.4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676520"/>
            <a:ext cx="32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low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at LVOT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ulsed wave Doppler at LVOT in apical 5 chamber view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009920" y="2209680"/>
            <a:ext cx="838440" cy="2286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49960" y="372096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90000" y="5676840"/>
            <a:ext cx="29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elocity time integral 25 c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03240" y="6189840"/>
            <a:ext cx="32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= 87 cm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48040" y="528480"/>
            <a:ext cx="4724280" cy="10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10552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10400" y="5095800"/>
            <a:ext cx="604800" cy="525600"/>
          </a:xfrm>
          <a:custGeom>
            <a:avLst/>
            <a:gdLst/>
            <a:ahLst/>
            <a:rect l="l" t="t" r="r" b="b"/>
            <a:pathLst>
              <a:path w="381" h="331">
                <a:moveTo>
                  <a:pt x="0" y="0"/>
                </a:moveTo>
                <a:cubicBezTo>
                  <a:pt x="10" y="86"/>
                  <a:pt x="40" y="164"/>
                  <a:pt x="68" y="246"/>
                </a:cubicBezTo>
                <a:cubicBezTo>
                  <a:pt x="83" y="289"/>
                  <a:pt x="82" y="316"/>
                  <a:pt x="127" y="331"/>
                </a:cubicBezTo>
                <a:cubicBezTo>
                  <a:pt x="144" y="325"/>
                  <a:pt x="165" y="327"/>
                  <a:pt x="178" y="314"/>
                </a:cubicBezTo>
                <a:cubicBezTo>
                  <a:pt x="183" y="309"/>
                  <a:pt x="203" y="251"/>
                  <a:pt x="212" y="238"/>
                </a:cubicBezTo>
                <a:cubicBezTo>
                  <a:pt x="228" y="187"/>
                  <a:pt x="242" y="179"/>
                  <a:pt x="271" y="136"/>
                </a:cubicBezTo>
                <a:cubicBezTo>
                  <a:pt x="289" y="59"/>
                  <a:pt x="262" y="138"/>
                  <a:pt x="305" y="85"/>
                </a:cubicBezTo>
                <a:cubicBezTo>
                  <a:pt x="352" y="26"/>
                  <a:pt x="263" y="93"/>
                  <a:pt x="339" y="43"/>
                </a:cubicBezTo>
                <a:cubicBezTo>
                  <a:pt x="345" y="34"/>
                  <a:pt x="349" y="24"/>
                  <a:pt x="356" y="17"/>
                </a:cubicBezTo>
                <a:cubicBezTo>
                  <a:pt x="363" y="10"/>
                  <a:pt x="381" y="0"/>
                  <a:pt x="38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3440" y="6156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arison of cardiac output measured with  echocardiographic volumes and aortic Doppler methods during mechanical ventilation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1600200"/>
            <a:ext cx="8229600" cy="4525920"/>
            <a:chOff x="0" y="1600200"/>
            <a:chExt cx="8229600" cy="452592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 txBox="1"/>
            <p:nvPr/>
          </p:nvSpPr>
          <p:spPr>
            <a:xfrm>
              <a:off x="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990720" y="64771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xler et al Intensive Care Medicine 2003;29:208:17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nical Examin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dily avail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etitive Meas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ral studies available to validate  (Highest number in systematic review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allow differentiation of low from  hig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y different methods us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s dichotomous rather than continuous meas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udies Use Suboptimal Statistical Metho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Comparing Clinical Examination with Other Methods Of Measuring Cardiac Output In Patients With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5960" y="2635200"/>
            <a:ext cx="79106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pillary refill and core–peripheral temperatur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ap as indicators of haemodynamic status in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ediatric intensive care patient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600200" y="64008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bby et al Archives Disease of Children1999:80:163-6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stematic Review Limi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d not include Foreign Language Pub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stematic Review done by single person rather than group- possible introduction of bi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cluding Studies of Techniques Tested in Other Critically Ill Patients May Unjustly Exclude Promising Methods Of Measuring Cardiac Outpu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gold standard for measurement of cardiac output in patients with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st trials of cardiac output measurement devices identified by systematic review include heterogeneous patient populations and suboptimal statistical methodolog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st studies identified did not clearly define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tential Methods To Measure Cardiac Output in Patients With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modi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lse waveform meth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ophageal Doppl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oimped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hocardiograph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nical Examin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rdiac output most often measured by thermodilution in ICU; most studies compare other methods with thermodi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nical examination had the highest number of studies that met criteria of the systematic revie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Do I Measure Cardiac Output in Patients with Shock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nical exam; Thermodilu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iven major limitations of above 2 methods, further work to validate other types of cardiac output measurement in patients with shock needs to be don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stematic Review of Litera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ed Medline, Embase, Selected References and Files from 1966 to April 200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SH Keywords Sepsis or Severe Sepsis or Septic Shock or Traumatic or Surgical Shock or Cardiogenic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rdiac Output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clusion  and ExclusionCriteri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lusion Criteri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uman clinical trial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 At least)Two methods of comparing cardiac outp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ients with shoc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 least a subgroup with shock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f majority of patients studied had shock, or had clinical values consistent with shock the study was include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lusion Criteri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patients with shoc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able to separate patients with shoc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comparison methodolo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arison methodology not reproducible ( e.g survey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Criteri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mber of Pati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mber of patients with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tient Popul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ther shock diagnosis is defined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rdiac Output Measurement Methods Compar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istical Analy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trum Bias - Sensi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133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nsitivity of a test changes as the composition of the case population changes, with different proportions of mild, moderate and severe case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886200"/>
            <a:ext cx="0" cy="2133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019920"/>
            <a:ext cx="7315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276720" y="4267080"/>
            <a:ext cx="1904400" cy="1752840"/>
            <a:chOff x="3276720" y="4267080"/>
            <a:chExt cx="1904400" cy="1752840"/>
          </a:xfrm>
        </p:grpSpPr>
        <p:sp>
          <p:nvSpPr>
            <p:cNvPr id="59" name=""/>
            <p:cNvSpPr/>
            <p:nvPr/>
          </p:nvSpPr>
          <p:spPr>
            <a:xfrm>
              <a:off x="3276720" y="4267080"/>
              <a:ext cx="1676160" cy="1752840"/>
            </a:xfrm>
            <a:custGeom>
              <a:avLst/>
              <a:gdLst/>
              <a:ahLst/>
              <a:rect l="l" t="t" r="r" b="b"/>
              <a:pathLst>
                <a:path w="816" h="288">
                  <a:moveTo>
                    <a:pt x="0" y="288"/>
                  </a:moveTo>
                  <a:cubicBezTo>
                    <a:pt x="124" y="144"/>
                    <a:pt x="248" y="0"/>
                    <a:pt x="384" y="0"/>
                  </a:cubicBezTo>
                  <a:cubicBezTo>
                    <a:pt x="520" y="0"/>
                    <a:pt x="744" y="240"/>
                    <a:pt x="816" y="28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57600" y="4800600"/>
              <a:ext cx="152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Mod.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057400" y="4267080"/>
            <a:ext cx="1752480" cy="1752840"/>
            <a:chOff x="2057400" y="4267080"/>
            <a:chExt cx="1752480" cy="1752840"/>
          </a:xfrm>
        </p:grpSpPr>
        <p:sp>
          <p:nvSpPr>
            <p:cNvPr id="62" name=""/>
            <p:cNvSpPr/>
            <p:nvPr/>
          </p:nvSpPr>
          <p:spPr>
            <a:xfrm>
              <a:off x="2057400" y="4267080"/>
              <a:ext cx="1676520" cy="1752840"/>
            </a:xfrm>
            <a:custGeom>
              <a:avLst/>
              <a:gdLst/>
              <a:ahLst/>
              <a:rect l="l" t="t" r="r" b="b"/>
              <a:pathLst>
                <a:path w="816" h="288">
                  <a:moveTo>
                    <a:pt x="0" y="288"/>
                  </a:moveTo>
                  <a:cubicBezTo>
                    <a:pt x="124" y="144"/>
                    <a:pt x="248" y="0"/>
                    <a:pt x="384" y="0"/>
                  </a:cubicBezTo>
                  <a:cubicBezTo>
                    <a:pt x="520" y="0"/>
                    <a:pt x="744" y="240"/>
                    <a:pt x="816" y="28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4572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Mild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90720" y="3809880"/>
            <a:ext cx="1676160" cy="2210040"/>
            <a:chOff x="990720" y="3809880"/>
            <a:chExt cx="1676160" cy="2210040"/>
          </a:xfrm>
        </p:grpSpPr>
        <p:sp>
          <p:nvSpPr>
            <p:cNvPr id="65" name=""/>
            <p:cNvSpPr/>
            <p:nvPr/>
          </p:nvSpPr>
          <p:spPr>
            <a:xfrm>
              <a:off x="990720" y="4267080"/>
              <a:ext cx="1676160" cy="1752840"/>
            </a:xfrm>
            <a:custGeom>
              <a:avLst/>
              <a:gdLst/>
              <a:ahLst/>
              <a:rect l="l" t="t" r="r" b="b"/>
              <a:pathLst>
                <a:path w="816" h="288">
                  <a:moveTo>
                    <a:pt x="0" y="288"/>
                  </a:moveTo>
                  <a:cubicBezTo>
                    <a:pt x="124" y="144"/>
                    <a:pt x="248" y="0"/>
                    <a:pt x="384" y="0"/>
                  </a:cubicBezTo>
                  <a:cubicBezTo>
                    <a:pt x="520" y="0"/>
                    <a:pt x="744" y="240"/>
                    <a:pt x="816" y="28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3000" y="3809880"/>
              <a:ext cx="1295280" cy="4597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419720" y="609588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st Valu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924280" y="3657600"/>
            <a:ext cx="1752480" cy="3104640"/>
            <a:chOff x="2924280" y="3657600"/>
            <a:chExt cx="1752480" cy="3104640"/>
          </a:xfrm>
        </p:grpSpPr>
        <p:sp>
          <p:nvSpPr>
            <p:cNvPr id="69" name=""/>
            <p:cNvSpPr/>
            <p:nvPr/>
          </p:nvSpPr>
          <p:spPr>
            <a:xfrm>
              <a:off x="3505320" y="3657600"/>
              <a:ext cx="0" cy="266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24280" y="6302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utoff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648320" y="4267080"/>
            <a:ext cx="1904400" cy="1752840"/>
            <a:chOff x="4648320" y="4267080"/>
            <a:chExt cx="1904400" cy="1752840"/>
          </a:xfrm>
        </p:grpSpPr>
        <p:sp>
          <p:nvSpPr>
            <p:cNvPr id="72" name=""/>
            <p:cNvSpPr/>
            <p:nvPr/>
          </p:nvSpPr>
          <p:spPr>
            <a:xfrm>
              <a:off x="4648320" y="4267080"/>
              <a:ext cx="1676160" cy="1752840"/>
            </a:xfrm>
            <a:custGeom>
              <a:avLst/>
              <a:gdLst/>
              <a:ahLst/>
              <a:rect l="l" t="t" r="r" b="b"/>
              <a:pathLst>
                <a:path w="816" h="288">
                  <a:moveTo>
                    <a:pt x="0" y="288"/>
                  </a:moveTo>
                  <a:cubicBezTo>
                    <a:pt x="124" y="144"/>
                    <a:pt x="248" y="0"/>
                    <a:pt x="384" y="0"/>
                  </a:cubicBezTo>
                  <a:cubicBezTo>
                    <a:pt x="520" y="0"/>
                    <a:pt x="744" y="240"/>
                    <a:pt x="816" y="288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4800600"/>
              <a:ext cx="152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evere.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ases in diagnostic tes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pectrum bia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nformation bia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asurement bia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Verificatio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st-review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mperfect gold-standard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Workup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iagnostic review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mperfect test reading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electio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ncorporatio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ext (prevalence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ading ord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utlier/no resul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lowdiagram of Literature Search Resul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0520" y="2262240"/>
            <a:ext cx="5394600" cy="3272400"/>
            <a:chOff x="1370520" y="2262240"/>
            <a:chExt cx="5394600" cy="3272400"/>
          </a:xfrm>
        </p:grpSpPr>
        <p:cxnSp>
          <p:nvCxnSpPr>
            <p:cNvPr id="78" name="_s46086"/>
            <p:cNvCxnSpPr>
              <a:stCxn id="79" idx="1"/>
              <a:endCxn id="80" idx="2"/>
            </p:cNvCxnSpPr>
            <p:nvPr/>
          </p:nvCxnSpPr>
          <p:spPr>
            <a:xfrm flipH="1" rot="10800000">
              <a:off x="1484640" y="4162680"/>
              <a:ext cx="3097800" cy="364320"/>
            </a:xfrm>
            <a:prstGeom prst="bentConnector4">
              <a:avLst>
                <a:gd name="adj1" fmla="val -3684"/>
                <a:gd name="adj2" fmla="val 784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6087"/>
            <p:cNvCxnSpPr>
              <a:stCxn id="82" idx="1"/>
              <a:endCxn id="80" idx="2"/>
            </p:cNvCxnSpPr>
            <p:nvPr/>
          </p:nvCxnSpPr>
          <p:spPr>
            <a:xfrm flipH="1" rot="10800000">
              <a:off x="2399760" y="4162680"/>
              <a:ext cx="2183040" cy="1164600"/>
            </a:xfrm>
            <a:prstGeom prst="bentConnector4">
              <a:avLst>
                <a:gd name="adj1" fmla="val -5228"/>
                <a:gd name="adj2" fmla="val 58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6088"/>
            <p:cNvCxnSpPr>
              <a:stCxn id="80" idx="0"/>
              <a:endCxn id="84" idx="2"/>
            </p:cNvCxnSpPr>
            <p:nvPr/>
          </p:nvCxnSpPr>
          <p:spPr>
            <a:xfrm flipV="1">
              <a:off x="4582440" y="3591360"/>
              <a:ext cx="1080" cy="15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46089"/>
            <p:cNvCxnSpPr>
              <a:stCxn id="84" idx="1"/>
              <a:endCxn id="86" idx="2"/>
            </p:cNvCxnSpPr>
            <p:nvPr/>
          </p:nvCxnSpPr>
          <p:spPr>
            <a:xfrm flipH="1" rot="10800000">
              <a:off x="2399040" y="2677320"/>
              <a:ext cx="2068920" cy="706680"/>
            </a:xfrm>
            <a:prstGeom prst="bentConnector4">
              <a:avLst>
                <a:gd name="adj1" fmla="val -5516"/>
                <a:gd name="adj2" fmla="val 646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46090"/>
            <p:cNvSpPr/>
            <p:nvPr/>
          </p:nvSpPr>
          <p:spPr>
            <a:xfrm>
              <a:off x="2286000" y="2262240"/>
              <a:ext cx="4365000" cy="415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2747 articles selected from  Pubmed, Embase, file search and reference review</a:t>
              </a:r>
              <a:endParaRPr b="0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" name="_s46091"/>
            <p:cNvSpPr/>
            <p:nvPr/>
          </p:nvSpPr>
          <p:spPr>
            <a:xfrm>
              <a:off x="2400120" y="3176280"/>
              <a:ext cx="4365000" cy="415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81 Abstracts Reviewed</a:t>
              </a:r>
              <a:endParaRPr b="0" lang="en-US" sz="1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" name="_s46092"/>
            <p:cNvSpPr/>
            <p:nvPr/>
          </p:nvSpPr>
          <p:spPr>
            <a:xfrm>
              <a:off x="2400120" y="3748320"/>
              <a:ext cx="4365000" cy="41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72 Full Text Articles Retrieved</a:t>
              </a:r>
              <a:endParaRPr b="0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" name="_s46093"/>
            <p:cNvSpPr/>
            <p:nvPr/>
          </p:nvSpPr>
          <p:spPr>
            <a:xfrm>
              <a:off x="2400120" y="5119560"/>
              <a:ext cx="4365000" cy="41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13 Articles Met Criteria</a:t>
              </a:r>
              <a:endParaRPr b="0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" name="_s46094"/>
            <p:cNvSpPr/>
            <p:nvPr/>
          </p:nvSpPr>
          <p:spPr>
            <a:xfrm>
              <a:off x="1485720" y="4320000"/>
              <a:ext cx="4365000" cy="41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37 No Comparison Group</a:t>
              </a:r>
              <a:endParaRPr b="0" lang="en-US" sz="16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22 Not Shock Patients</a:t>
              </a:r>
              <a:endParaRPr b="0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3:47:45Z</dcterms:created>
  <dc:creator>SEVRANJ1</dc:creator>
  <dc:description/>
  <dc:language>en-US</dc:language>
  <cp:lastModifiedBy>SEVRANJ1</cp:lastModifiedBy>
  <dcterms:modified xsi:type="dcterms:W3CDTF">2006-04-26T17:21:35Z</dcterms:modified>
  <cp:revision>142</cp:revision>
  <dc:subject/>
  <dc:title>How Do I Measure Cardiac Output?</dc:title>
</cp:coreProperties>
</file>