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png" ContentType="image/png"/>
  <Override PartName="/ppt/media/image21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3.png" ContentType="image/png"/>
  <Override PartName="/ppt/media/image17.jpeg" ContentType="image/jpeg"/>
  <Override PartName="/ppt/media/image5.jpeg" ContentType="image/jpeg"/>
  <Override PartName="/ppt/media/image18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ftr" idx="14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 type="sldNum" idx="15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8255-6B20-4F5F-8042-99F82DCAEC0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ost ventilators used in pediatrics are time cycled and operate either in a pressure limited or volume limited mode. Flow cycled ventilators are available but not commonly used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lmost all of my experience is with serv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I do not know of any time-limited ven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what would be the difference between a flow-limited and time-cycled vent and a time-limited flow cycled vent? Should we clean up this slide and just say you can limit by pressure or volume and cycle by flow or tim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D4D7-CB56-4132-A360-4B513BD38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7719-9D97-41B9-A704-51F18059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DE67-B638-47AE-9F72-7F8896315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7D00-6AF3-4218-95C9-A3A98FCA7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9762-24A7-4BC3-86CB-6E72B0F48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CE40-5806-41AB-87F0-DC039189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3B05-3B22-440A-B224-5C28B34C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434C-AF90-4475-AFC9-35298FDE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E93B-7C07-42E6-AAFC-994F9C16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9028-1570-4AC9-B2B7-6C0C92B9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4B0C-05F4-4CD9-8777-752AEF77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99DA-C842-4DC7-9C14-BA0CCFC7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87DB-9237-46EC-9E65-58F0AD6A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42FF-3C7C-461A-9376-DD83098B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BDF3-0502-460A-A736-D9A7FB88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384C-672A-4706-A095-986994F78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128C-7164-4D2E-8241-41292F8BB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0758E-81B5-40F7-A8A7-814A8BA8E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26108-F81A-4121-8F41-32D9C50F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9C7EC-ED3D-4E03-8ED4-B4EC0859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37A11-0979-40AE-91F1-B5AE6F6A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F1E61-A1DC-4B92-BEAF-AF3912B1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5F20-8F16-4249-9B2B-AFB93193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207DA-B84E-4CD4-82D2-3D5D4E8C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B7683-DCDA-467B-BB75-839BC18C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4FD83-5E53-4638-9BB0-C6C59ED5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43D94-AB00-4026-BE44-EF12AEFA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F3FF7-AD55-4406-8188-143F9A8E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5AB05-425B-418D-B608-754C77C2D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ACDF4-BE01-4AC2-ADEA-B6190C778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ECE73-64FB-4A26-A619-B2A4B44B8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07BB0-0392-4BCC-9553-44B09CDA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198AC-3F94-44A3-B2E3-B3BC1239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1472-7061-4F7D-B03F-1C68670B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B96CD-984C-4E49-82ED-49283523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78FC3-A957-4D96-90FD-543779D8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00F53-C27C-4548-A4B0-92CD60D7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B3846-94A9-4FEA-B2D5-BE37031D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2CC97-05D7-4968-AB3F-41EDFC50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FDA30-B7C1-472B-BFB6-3C5A5844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502D8-86F2-4E4E-9AE5-4971C2E6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2239B-9E17-4C71-B455-9285628B8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24E4C-0926-4443-AD79-BFE6CF7AB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7753-F60F-475B-8F7A-FAF7553C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C40B-2D65-4257-A271-C9B9EEF9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A3F8-2785-4B75-9FCA-EB64786A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A13F-6370-401F-BD2C-1FB0E79C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558D-B455-4884-92BD-B6C8063B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4FB4-94A8-4E48-B313-FB9CF9F34480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FA98-C432-4111-AA7F-9ACADD0BAF7B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DF04-BB58-4040-83E6-5027A4C15DD6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BE29-2F78-4BAF-AB57-590CA1161C3B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605;&#1604;&#1601;:VIP_Bird2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hyperlink" Target="http://www.mda.org/publications/breathe/images/Trach-with-Passy-Muir.jpg" TargetMode="External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ipartreview.com/_gallery/_pages/9842645.html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240" y="4643280"/>
            <a:ext cx="6553080" cy="84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4617b"/>
            </a:solidFill>
            <a:miter/>
          </a:ln>
        </p:spPr>
        <p:txBody>
          <a:bodyPr lIns="4680" rIns="4680" tIns="51480" bIns="46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  <a:ea typeface="Traditional Arab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0" y="-533520"/>
            <a:ext cx="8610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4617b"/>
            </a:solidFill>
            <a:miter/>
          </a:ln>
        </p:spPr>
        <p:txBody>
          <a:bodyPr anchor="t">
            <a:noAutofit/>
          </a:bodyPr>
          <a:p>
            <a:pPr indent="0" algn="ct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4" descr="ventilator[1]"/>
          <p:cNvPicPr/>
          <p:nvPr/>
        </p:nvPicPr>
        <p:blipFill>
          <a:blip r:embed="rId1"/>
          <a:srcRect l="0" t="2406" r="3226" b="0"/>
          <a:stretch/>
        </p:blipFill>
        <p:spPr>
          <a:xfrm>
            <a:off x="2340000" y="1413000"/>
            <a:ext cx="4537080" cy="3085920"/>
          </a:xfrm>
          <a:prstGeom prst="rect">
            <a:avLst/>
          </a:prstGeom>
          <a:ln w="0">
            <a:noFill/>
          </a:ln>
        </p:spPr>
      </p:pic>
      <p:sp>
        <p:nvSpPr>
          <p:cNvPr id="196" name="WordArt 5"/>
          <p:cNvSpPr txBox="1"/>
          <p:nvPr/>
        </p:nvSpPr>
        <p:spPr>
          <a:xfrm>
            <a:off x="1692360" y="4724280"/>
            <a:ext cx="66578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echanical ventilator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529"/>
                </a:solidFill>
                <a:latin typeface="Calibri"/>
                <a:ea typeface="Traditional Arabic"/>
              </a:rPr>
              <a:t>Volume.. Volume.. Volume</a:t>
            </a:r>
            <a:r>
              <a:rPr b="0" lang="en-US" sz="5000" spc="-1" strike="noStrike">
                <a:solidFill>
                  <a:srgbClr val="dbf5f9"/>
                </a:solidFill>
                <a:latin typeface="Calibri"/>
                <a:ea typeface="Traditional Arabic"/>
              </a:rPr>
              <a:t> 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idal volume: the amount of gas in any br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(5-7ml/kg of body weigh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Minute volume: the total amount of gas breathed over one minu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4" descr="j0297707"/>
          <p:cNvPicPr/>
          <p:nvPr/>
        </p:nvPicPr>
        <p:blipFill>
          <a:blip r:embed="rId1"/>
          <a:stretch/>
        </p:blipFill>
        <p:spPr>
          <a:xfrm>
            <a:off x="5867280" y="4076640"/>
            <a:ext cx="237672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529"/>
                </a:solidFill>
                <a:latin typeface="Sybil Green"/>
                <a:ea typeface="Traditional Arabic"/>
              </a:rPr>
              <a:t>FIO2..FIO2..FIO2</a:t>
            </a:r>
            <a:endParaRPr b="0" lang="en-US" sz="63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723920" y="1934640"/>
            <a:ext cx="3962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raction of inspired Oxy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% percent of O2 delivered to the pat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Preset on the ventilator and will be mixed with air to be delivered via the ventilator</a:t>
            </a:r>
            <a:r>
              <a:rPr b="0" lang="en-US" sz="2800" spc="-1" strike="noStrike">
                <a:solidFill>
                  <a:srgbClr val="e2d7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4" descr="smhiflow"/>
          <p:cNvPicPr/>
          <p:nvPr/>
        </p:nvPicPr>
        <p:blipFill>
          <a:blip r:embed="rId1"/>
          <a:stretch/>
        </p:blipFill>
        <p:spPr>
          <a:xfrm>
            <a:off x="990720" y="2362320"/>
            <a:ext cx="2514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300" spc="-1" strike="noStrike">
                <a:solidFill>
                  <a:srgbClr val="fff529"/>
                </a:solidFill>
                <a:latin typeface="Burnstown Dam"/>
                <a:ea typeface="Traditional Arabic"/>
              </a:rPr>
              <a:t>PEEP..PIP..MAP</a:t>
            </a:r>
            <a:endParaRPr b="0" lang="en-US" sz="83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PEE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ositive end expiratory pressure, a pressure designed to maintain patent airway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PI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Peak inspiratory press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e highest pressure attained in br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Mean airway press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55944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bf5f9"/>
              </a:solidFill>
              <a:latin typeface="Calibri"/>
              <a:ea typeface="Traditional Arabic"/>
            </a:endParaRPr>
          </a:p>
        </p:txBody>
      </p:sp>
      <p:sp>
        <p:nvSpPr>
          <p:cNvPr id="236" name="WordArt 4"/>
          <p:cNvSpPr txBox="1"/>
          <p:nvPr/>
        </p:nvSpPr>
        <p:spPr>
          <a:xfrm>
            <a:off x="1908000" y="2421000"/>
            <a:ext cx="583272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ype of ventilators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9280" y="378936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  <a:ea typeface="Traditional Arabic"/>
              </a:rPr>
              <a:t>Inflate the lungs by exerting positive pressure on the airway, similar to a bellows mechanism, forcing the alveoli to expand during inspiration.</a:t>
            </a:r>
            <a:br>
              <a:rPr sz="2400"/>
            </a:br>
            <a:r>
              <a:rPr b="0" lang="en-US" sz="2400" spc="-1" strike="noStrike">
                <a:solidFill>
                  <a:srgbClr val="dbf5f9"/>
                </a:solidFill>
                <a:latin typeface="Calibri"/>
                <a:ea typeface="Traditional Arabic"/>
              </a:rPr>
              <a:t>Requires use of artificial airway</a:t>
            </a:r>
            <a:r>
              <a:rPr b="0" lang="en-US" sz="2400" spc="-1" strike="noStrike">
                <a:solidFill>
                  <a:srgbClr val="dbf5f9"/>
                </a:solidFill>
                <a:latin typeface="Calibri"/>
                <a:ea typeface="Traditional Arabic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964800"/>
            <a:ext cx="85536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pplies negative pressure around the chest wall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o artificial air way is necessary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1042920" y="1125360"/>
            <a:ext cx="2737080" cy="1943280"/>
          </a:xfrm>
          <a:prstGeom prst="cloudCallout">
            <a:avLst>
              <a:gd name="adj1" fmla="val -30277"/>
              <a:gd name="adj2" fmla="val 947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468360" y="260280"/>
            <a:ext cx="2016000" cy="1295640"/>
          </a:xfrm>
          <a:prstGeom prst="wedgeEllipseCallout">
            <a:avLst>
              <a:gd name="adj1" fmla="val 30078"/>
              <a:gd name="adj2" fmla="val 549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AutoShape 19"/>
          <p:cNvSpPr/>
          <p:nvPr/>
        </p:nvSpPr>
        <p:spPr>
          <a:xfrm>
            <a:off x="971640" y="1700280"/>
            <a:ext cx="1512720" cy="609480"/>
          </a:xfrm>
          <a:prstGeom prst="wedgeRoundRectCallout">
            <a:avLst>
              <a:gd name="adj1" fmla="val -46222"/>
              <a:gd name="adj2" fmla="val 7005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WordArt 21"/>
          <p:cNvSpPr txBox="1"/>
          <p:nvPr/>
        </p:nvSpPr>
        <p:spPr>
          <a:xfrm>
            <a:off x="179280" y="981000"/>
            <a:ext cx="59770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 pressure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3" name="WordArt 22"/>
          <p:cNvSpPr txBox="1"/>
          <p:nvPr/>
        </p:nvSpPr>
        <p:spPr>
          <a:xfrm>
            <a:off x="250920" y="3141720"/>
            <a:ext cx="5833800" cy="40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+ pressure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Organization Chart 2"/>
          <p:cNvGrpSpPr/>
          <p:nvPr/>
        </p:nvGrpSpPr>
        <p:grpSpPr>
          <a:xfrm>
            <a:off x="0" y="152280"/>
            <a:ext cx="9143640" cy="6705360"/>
            <a:chOff x="0" y="152280"/>
            <a:chExt cx="9143640" cy="6705360"/>
          </a:xfrm>
        </p:grpSpPr>
        <p:cxnSp>
          <p:nvCxnSpPr>
            <p:cNvPr id="245" name="_s1028"/>
            <p:cNvCxnSpPr>
              <a:stCxn id="246" idx="3"/>
              <a:endCxn id="247" idx="2"/>
            </p:cNvCxnSpPr>
            <p:nvPr/>
          </p:nvCxnSpPr>
          <p:spPr>
            <a:xfrm flipV="1">
              <a:off x="2444400" y="3322080"/>
              <a:ext cx="368640" cy="195984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248" name="_s1029"/>
            <p:cNvCxnSpPr>
              <a:stCxn id="249" idx="3"/>
              <a:endCxn id="247" idx="2"/>
            </p:cNvCxnSpPr>
            <p:nvPr/>
          </p:nvCxnSpPr>
          <p:spPr>
            <a:xfrm flipV="1">
              <a:off x="2444400" y="3322080"/>
              <a:ext cx="368640" cy="77544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250" name="_s1030"/>
            <p:cNvCxnSpPr>
              <a:stCxn id="251" idx="1"/>
              <a:endCxn id="252" idx="2"/>
            </p:cNvCxnSpPr>
            <p:nvPr/>
          </p:nvCxnSpPr>
          <p:spPr>
            <a:xfrm rot="10800000">
              <a:off x="4847760" y="3321720"/>
              <a:ext cx="366840" cy="314244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253" name="_s1031"/>
            <p:cNvCxnSpPr>
              <a:stCxn id="254" idx="1"/>
              <a:endCxn id="252" idx="2"/>
            </p:cNvCxnSpPr>
            <p:nvPr/>
          </p:nvCxnSpPr>
          <p:spPr>
            <a:xfrm rot="10800000">
              <a:off x="4847760" y="3321720"/>
              <a:ext cx="366840" cy="195984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255" name="_s1032"/>
            <p:cNvCxnSpPr>
              <a:stCxn id="256" idx="1"/>
              <a:endCxn id="252" idx="2"/>
            </p:cNvCxnSpPr>
            <p:nvPr/>
          </p:nvCxnSpPr>
          <p:spPr>
            <a:xfrm rot="10800000">
              <a:off x="4847760" y="3321720"/>
              <a:ext cx="366840" cy="77544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257" name="_s1033"/>
            <p:cNvCxnSpPr>
              <a:stCxn id="252" idx="0"/>
              <a:endCxn id="258" idx="2"/>
            </p:cNvCxnSpPr>
            <p:nvPr/>
          </p:nvCxnSpPr>
          <p:spPr>
            <a:xfrm flipV="1" rot="16200000">
              <a:off x="4150440" y="1807200"/>
              <a:ext cx="368280" cy="1027440"/>
            </a:xfrm>
            <a:prstGeom prst="bentConnector3">
              <a:avLst>
                <a:gd name="adj1" fmla="val 31115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259" name="_s1034"/>
            <p:cNvCxnSpPr>
              <a:stCxn id="247" idx="0"/>
              <a:endCxn id="258" idx="2"/>
            </p:cNvCxnSpPr>
            <p:nvPr/>
          </p:nvCxnSpPr>
          <p:spPr>
            <a:xfrm flipH="1" flipV="1" rot="5400000">
              <a:off x="3133080" y="1816560"/>
              <a:ext cx="368280" cy="1009080"/>
            </a:xfrm>
            <a:prstGeom prst="bentConnector3">
              <a:avLst>
                <a:gd name="adj1" fmla="val 31115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260" name="_s1035"/>
            <p:cNvCxnSpPr>
              <a:stCxn id="258" idx="0"/>
              <a:endCxn id="261" idx="2"/>
            </p:cNvCxnSpPr>
            <p:nvPr/>
          </p:nvCxnSpPr>
          <p:spPr>
            <a:xfrm flipV="1" rot="16200000">
              <a:off x="2968560" y="468360"/>
              <a:ext cx="366120" cy="1338840"/>
            </a:xfrm>
            <a:prstGeom prst="bentConnector3">
              <a:avLst>
                <a:gd name="adj1" fmla="val 31299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262" name="_s1036"/>
            <p:cNvCxnSpPr>
              <a:stCxn id="263" idx="0"/>
              <a:endCxn id="261" idx="2"/>
            </p:cNvCxnSpPr>
            <p:nvPr/>
          </p:nvCxnSpPr>
          <p:spPr>
            <a:xfrm flipH="1" flipV="1" rot="5400000">
              <a:off x="1631520" y="469080"/>
              <a:ext cx="366120" cy="1337760"/>
            </a:xfrm>
            <a:prstGeom prst="bentConnector3">
              <a:avLst>
                <a:gd name="adj1" fmla="val 31299"/>
              </a:avLst>
            </a:prstGeom>
            <a:ln w="38160">
              <a:solidFill>
                <a:srgbClr val="ffffff"/>
              </a:solidFill>
              <a:miter/>
            </a:ln>
          </p:spPr>
        </p:cxnSp>
        <p:sp>
          <p:nvSpPr>
            <p:cNvPr id="261" name="_s1037"/>
            <p:cNvSpPr/>
            <p:nvPr/>
          </p:nvSpPr>
          <p:spPr>
            <a:xfrm>
              <a:off x="1337040" y="152280"/>
              <a:ext cx="2291760" cy="7884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Mechanical ventila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Mode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3" name="_s1038"/>
            <p:cNvSpPr/>
            <p:nvPr/>
          </p:nvSpPr>
          <p:spPr>
            <a:xfrm>
              <a:off x="0" y="1335240"/>
              <a:ext cx="2291760" cy="7884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Negative Pressure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Ventila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8" name="_s1039"/>
            <p:cNvSpPr/>
            <p:nvPr/>
          </p:nvSpPr>
          <p:spPr>
            <a:xfrm>
              <a:off x="2674080" y="1335240"/>
              <a:ext cx="2292120" cy="7884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Positive Pressure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Ventila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7" name="_s1040"/>
            <p:cNvSpPr/>
            <p:nvPr/>
          </p:nvSpPr>
          <p:spPr>
            <a:xfrm>
              <a:off x="1976760" y="2518920"/>
              <a:ext cx="1672560" cy="78840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Pressure Mode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2" name="_s1041"/>
            <p:cNvSpPr/>
            <p:nvPr/>
          </p:nvSpPr>
          <p:spPr>
            <a:xfrm>
              <a:off x="4031640" y="2518920"/>
              <a:ext cx="1632240" cy="78840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Volume Mode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6" name="_s1042"/>
            <p:cNvSpPr/>
            <p:nvPr/>
          </p:nvSpPr>
          <p:spPr>
            <a:xfrm>
              <a:off x="5229720" y="3702600"/>
              <a:ext cx="2838240" cy="78840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ontrol ventilation (CV)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, 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ontrolled Mandatory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Ventilation, CMV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5229720" y="4885920"/>
              <a:ext cx="2178000" cy="78840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Assist Control 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AC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Assisted Mandatory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Ventilation 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AMV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1" name="_s1044"/>
            <p:cNvSpPr/>
            <p:nvPr/>
          </p:nvSpPr>
          <p:spPr>
            <a:xfrm>
              <a:off x="5229720" y="6069240"/>
              <a:ext cx="3913920" cy="78840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Synchronized Intermittent mandatory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Ventilation / SIMV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Intermittent mandatory ventilation IMV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9" name="_s1045"/>
            <p:cNvSpPr/>
            <p:nvPr/>
          </p:nvSpPr>
          <p:spPr>
            <a:xfrm>
              <a:off x="620280" y="3702600"/>
              <a:ext cx="1809720" cy="78840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Pressure support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Ventilation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PSV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6" name="_s1046"/>
            <p:cNvSpPr/>
            <p:nvPr/>
          </p:nvSpPr>
          <p:spPr>
            <a:xfrm>
              <a:off x="221400" y="4885920"/>
              <a:ext cx="2208600" cy="78840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Pressure –controlled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Ventilation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PCV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529"/>
                </a:solidFill>
                <a:latin typeface="Burnstown Dam"/>
                <a:ea typeface="Traditional Arabic"/>
              </a:rPr>
              <a:t>Volume</a:t>
            </a:r>
            <a:r>
              <a:rPr b="1" lang="en-US" sz="5600" spc="-1" strike="noStrike">
                <a:solidFill>
                  <a:srgbClr val="fff529"/>
                </a:solidFill>
                <a:latin typeface="Burnstown Dam"/>
                <a:ea typeface="Traditional Arabic"/>
              </a:rPr>
              <a:t> </a:t>
            </a:r>
            <a:r>
              <a:rPr b="0" lang="en-US" sz="5600" spc="-1" strike="noStrike">
                <a:solidFill>
                  <a:srgbClr val="fff529"/>
                </a:solidFill>
                <a:latin typeface="Burnstown Dam"/>
                <a:ea typeface="Traditional Arabic"/>
              </a:rPr>
              <a:t>controlled</a:t>
            </a:r>
            <a:r>
              <a:rPr b="1" lang="en-US" sz="5600" spc="-1" strike="noStrike">
                <a:solidFill>
                  <a:srgbClr val="fff529"/>
                </a:solidFill>
                <a:latin typeface="Burnstown Dam"/>
                <a:ea typeface="Traditional Arabic"/>
              </a:rPr>
              <a:t> </a:t>
            </a:r>
            <a:r>
              <a:rPr b="0" lang="en-US" sz="5600" spc="-1" strike="noStrike">
                <a:solidFill>
                  <a:srgbClr val="fff529"/>
                </a:solidFill>
                <a:latin typeface="Burnstown Dam"/>
                <a:ea typeface="Traditional Arabic"/>
              </a:rPr>
              <a:t>ventilation</a:t>
            </a:r>
            <a:r>
              <a:rPr b="0" lang="en-US" sz="5000" spc="-1" strike="noStrike">
                <a:solidFill>
                  <a:srgbClr val="dbf5f9"/>
                </a:solidFill>
                <a:latin typeface="Calibri"/>
                <a:ea typeface="Traditional Arabic"/>
              </a:rPr>
              <a:t> 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29600" cy="20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t volume delivered to the 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Volume delivered are pres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ully support patient ventilator require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4" descr="modes"/>
          <p:cNvPicPr/>
          <p:nvPr/>
        </p:nvPicPr>
        <p:blipFill>
          <a:blip r:embed="rId1"/>
          <a:stretch/>
        </p:blipFill>
        <p:spPr>
          <a:xfrm>
            <a:off x="2771640" y="3573360"/>
            <a:ext cx="4753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529"/>
                </a:solidFill>
                <a:latin typeface="Burnstown Dam"/>
                <a:ea typeface="Traditional Arabic"/>
              </a:rPr>
              <a:t>Assist control A /C</a:t>
            </a:r>
            <a:endParaRPr b="0" lang="en-US" sz="5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Inspiratory cycle is activated by the pati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nstantia"/>
              </a:rPr>
              <a:t>Also ventilator cycles at rate predetermine by the opera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nstantia"/>
              </a:rPr>
              <a:t>Should the pt stop breathing, or breathe so weakly that the ventilator cannot function as an assistor, this mandatory baseline rate will prevent a pne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4" descr="modes"/>
          <p:cNvPicPr/>
          <p:nvPr/>
        </p:nvPicPr>
        <p:blipFill>
          <a:blip r:embed="rId1"/>
          <a:stretch/>
        </p:blipFill>
        <p:spPr>
          <a:xfrm>
            <a:off x="6948360" y="4338720"/>
            <a:ext cx="21956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fff529"/>
                </a:solidFill>
                <a:latin typeface="Burnstown Dam"/>
                <a:ea typeface="Traditional Arabic"/>
              </a:rPr>
              <a:t>Synchronized intermittent Mandatory ventilation</a:t>
            </a:r>
            <a:r>
              <a:rPr b="0" lang="en-CA" sz="4600" spc="-1" strike="noStrike">
                <a:solidFill>
                  <a:srgbClr val="dbf5f9"/>
                </a:solidFill>
                <a:latin typeface="Calibri"/>
                <a:ea typeface="Traditional Arabic"/>
              </a:rPr>
              <a:t> </a:t>
            </a:r>
            <a:r>
              <a:rPr b="0" lang="en-CA" sz="4600" spc="-1" strike="noStrike">
                <a:solidFill>
                  <a:srgbClr val="dbf5f9"/>
                </a:solidFill>
                <a:latin typeface="Blue Highway Linocut"/>
                <a:ea typeface="Traditional Arabic"/>
              </a:rPr>
              <a:t>(SIMV)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nstantia"/>
              </a:rPr>
              <a:t>Patient can breath spontaneously through the ventilator circuit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nstantia"/>
              </a:rPr>
              <a:t>The pt may initiate the mandatory breath with own inspiratory effort ,and the ventilator breath will be synchronized with the pt eff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nstantia"/>
              </a:rPr>
              <a:t>Provide good ventilatory support +allow respiratory muscle exerci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nstantia"/>
              </a:rPr>
              <a:t>Can be used in weaning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4" descr="modes"/>
          <p:cNvPicPr/>
          <p:nvPr/>
        </p:nvPicPr>
        <p:blipFill>
          <a:blip r:embed="rId1"/>
          <a:stretch/>
        </p:blipFill>
        <p:spPr>
          <a:xfrm>
            <a:off x="7451640" y="4797360"/>
            <a:ext cx="169236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600" spc="-1" strike="noStrike">
                <a:solidFill>
                  <a:srgbClr val="fff529"/>
                </a:solidFill>
                <a:latin typeface="Burnstown Dam"/>
                <a:ea typeface="Traditional Arabic"/>
              </a:rPr>
              <a:t>Pressure Support</a:t>
            </a:r>
            <a:r>
              <a:rPr b="0" lang="en-CA" sz="5000" spc="-1" strike="noStrike">
                <a:solidFill>
                  <a:srgbClr val="dbf5f9"/>
                </a:solidFill>
                <a:latin typeface="Calibri"/>
                <a:ea typeface="Traditional Arabic"/>
              </a:rPr>
              <a:t> 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nstantia"/>
              </a:rPr>
              <a:t>Breath must be initiated from pati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nstantia"/>
              </a:rPr>
              <a:t>Ventilator will then provide gas flow to 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nstantia"/>
              </a:rPr>
              <a:t>Overcome ETT resista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nstantia"/>
              </a:rPr>
              <a:t>Provide variable level of support to 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nstantia"/>
              </a:rPr>
              <a:t>Weaning mo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4" descr="modes"/>
          <p:cNvPicPr/>
          <p:nvPr/>
        </p:nvPicPr>
        <p:blipFill>
          <a:blip r:embed="rId1"/>
          <a:stretch/>
        </p:blipFill>
        <p:spPr>
          <a:xfrm>
            <a:off x="5105520" y="4076640"/>
            <a:ext cx="350496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9360">
            <a:solidFill>
              <a:srgbClr val="33ccff"/>
            </a:solidFill>
            <a:miter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bf5f9"/>
                </a:solidFill>
                <a:latin typeface="Calibri"/>
                <a:ea typeface="Traditional Arabic"/>
              </a:rPr>
              <a:t>Mechanical Ventilation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nstantia"/>
              </a:rPr>
              <a:t>Ventilators deliver gas  to the lungs using positive pressure at a certain </a:t>
            </a:r>
            <a:r>
              <a:rPr b="0" i="1" lang="en-US" sz="3500" spc="-1" strike="noStrike" u="sng">
                <a:solidFill>
                  <a:srgbClr val="ffffff"/>
                </a:solidFill>
                <a:uFillTx/>
                <a:latin typeface="Constantia"/>
              </a:rPr>
              <a:t>rate</a:t>
            </a:r>
            <a:r>
              <a:rPr b="0" lang="en-US" sz="3500" spc="-1" strike="noStrike">
                <a:solidFill>
                  <a:srgbClr val="ffffff"/>
                </a:solidFill>
                <a:latin typeface="Constantia"/>
              </a:rPr>
              <a:t>. The amount of gas delivered can be </a:t>
            </a:r>
            <a:r>
              <a:rPr b="0" i="1" lang="en-US" sz="3500" spc="-1" strike="noStrike" u="sng">
                <a:solidFill>
                  <a:srgbClr val="ffffff"/>
                </a:solidFill>
                <a:uFillTx/>
                <a:latin typeface="Constantia"/>
              </a:rPr>
              <a:t>limited</a:t>
            </a:r>
            <a:r>
              <a:rPr b="0" lang="en-US" sz="3500" spc="-1" strike="noStrike">
                <a:solidFill>
                  <a:srgbClr val="ffffff"/>
                </a:solidFill>
                <a:latin typeface="Constantia"/>
              </a:rPr>
              <a:t> by time, pressure or volume. The duration can be </a:t>
            </a:r>
            <a:r>
              <a:rPr b="0" i="1" lang="en-US" sz="3500" spc="-1" strike="noStrike" u="sng">
                <a:solidFill>
                  <a:srgbClr val="ffffff"/>
                </a:solidFill>
                <a:uFillTx/>
                <a:latin typeface="Constantia"/>
              </a:rPr>
              <a:t>cycled</a:t>
            </a:r>
            <a:r>
              <a:rPr b="0" lang="en-US" sz="3500" spc="-1" strike="noStrike">
                <a:solidFill>
                  <a:srgbClr val="ffffff"/>
                </a:solidFill>
                <a:latin typeface="Constantia"/>
              </a:rPr>
              <a:t> by time, pressure or flow</a:t>
            </a:r>
            <a:r>
              <a:rPr b="0" lang="en-US" sz="35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4" descr="180px-VIP_Bird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4581360"/>
            <a:ext cx="3240360" cy="2016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e2d700"/>
                </a:solidFill>
                <a:uFillTx/>
                <a:latin typeface="Constantia"/>
              </a:rPr>
              <a:t>Airway</a:t>
            </a:r>
            <a:r>
              <a:rPr b="1" i="1" lang="en-US" sz="2800" spc="-1" strike="noStrike" u="sng">
                <a:solidFill>
                  <a:srgbClr val="e2d700"/>
                </a:solidFill>
                <a:uFillTx/>
                <a:latin typeface="Constanti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spiratio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ecreased clearance of secretion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osocomial or ventilator-acquired pneumonia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WordArt 5"/>
          <p:cNvSpPr txBox="1"/>
          <p:nvPr/>
        </p:nvSpPr>
        <p:spPr>
          <a:xfrm>
            <a:off x="755640" y="692280"/>
            <a:ext cx="655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mplication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63216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bf5f9"/>
              </a:solidFill>
              <a:latin typeface="Calibri"/>
              <a:ea typeface="Traditional Arab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6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e2d700"/>
                </a:solidFill>
                <a:uFillTx/>
                <a:latin typeface="Constantia"/>
              </a:rPr>
              <a:t>Endotracheal tube</a:t>
            </a:r>
            <a:r>
              <a:rPr b="1" i="1" lang="en-US" sz="2800" spc="-1" strike="noStrike" u="sng">
                <a:solidFill>
                  <a:srgbClr val="e2d700"/>
                </a:solidFill>
                <a:uFillTx/>
                <a:latin typeface="Constanti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ube kinked or plugged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racheal stenosi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ung atelectasi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nusiti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titis med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aryngeal edema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556000" y="-157032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600" spc="-1" strike="noStrike">
              <a:solidFill>
                <a:srgbClr val="dbf5f9"/>
              </a:solidFill>
              <a:latin typeface="Calibri"/>
              <a:ea typeface="Traditional Arab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229600" cy="707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e2d700"/>
                </a:solidFill>
                <a:uFillTx/>
                <a:latin typeface="Constantia"/>
              </a:rPr>
              <a:t>Mechanical</a:t>
            </a:r>
            <a:r>
              <a:rPr b="1" i="1" lang="en-US" sz="2800" spc="-1" strike="noStrike" u="sng">
                <a:solidFill>
                  <a:srgbClr val="e2d700"/>
                </a:solidFill>
                <a:uFillTx/>
                <a:latin typeface="Constanti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hypoventilation with atelectasi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hyperventilation with hypocapnia and respiratory alkalosi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barotraumas ,pneumothorax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Alarm "turn off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"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Failure of alarms or ventilator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Inadequate nebulization or humidification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Overheated inspired air, resulting in hypertherm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85dfd0"/>
              </a:solidFill>
              <a:latin typeface="Viner Hand ITC"/>
              <a:ea typeface="Traditional Arab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3640" y="2060640"/>
            <a:ext cx="8381880" cy="304776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Initiation and maintenance of positive pressure ventilation (PPV) or improve Oxygenation, maintains or improve ventilation and provide respiratory muscle r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WordArt 6"/>
          <p:cNvSpPr txBox="1"/>
          <p:nvPr/>
        </p:nvSpPr>
        <p:spPr>
          <a:xfrm>
            <a:off x="684360" y="1052640"/>
            <a:ext cx="31669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urpose </a:t>
            </a:r>
            <a:endParaRPr b="0" lang="en-US" sz="3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WordArt 3"/>
          <p:cNvSpPr txBox="1"/>
          <p:nvPr/>
        </p:nvSpPr>
        <p:spPr>
          <a:xfrm>
            <a:off x="1066680" y="2895480"/>
            <a:ext cx="754380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aker"/>
              </a:rPr>
              <a:t>Indication </a:t>
            </a:r>
            <a:endParaRPr b="0" lang="en-US" sz="3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aker"/>
              <a:ea typeface="Waker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2895480" y="29718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900000" y="404640"/>
            <a:ext cx="4967280" cy="2057400"/>
          </a:xfrm>
          <a:prstGeom prst="wedgeRectCallout">
            <a:avLst>
              <a:gd name="adj1" fmla="val 65148"/>
              <a:gd name="adj2" fmla="val 62884"/>
            </a:avLst>
          </a:prstGeom>
          <a:solidFill>
            <a:srgbClr val="ffff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ute Respiratory Failur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oxemia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uromuscular Disord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Pulmonary edema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ntral nervous system Disord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5364000" y="3716280"/>
            <a:ext cx="3529080" cy="2255760"/>
          </a:xfrm>
          <a:prstGeom prst="wedgeRectCallout">
            <a:avLst>
              <a:gd name="adj1" fmla="val -86120"/>
              <a:gd name="adj2" fmla="val -52953"/>
            </a:avLst>
          </a:prstGeom>
          <a:solidFill>
            <a:srgbClr val="ffff00">
              <a:alpha val="5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Over Seda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reduce ICP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Aspir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AR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Pulmonary embolis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ft ventricular failu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5dfd0"/>
                </a:solidFill>
                <a:latin typeface="Hurry Up"/>
                <a:ea typeface="Traditional Arabic"/>
              </a:rPr>
              <a:t>Types of Artificial Airways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09" name="Picture 3" descr="0218537MAIN2.jpg.jpg"/>
          <p:cNvPicPr/>
          <p:nvPr/>
        </p:nvPicPr>
        <p:blipFill>
          <a:blip r:embed="rId1"/>
          <a:stretch/>
        </p:blipFill>
        <p:spPr>
          <a:xfrm>
            <a:off x="324000" y="1484280"/>
            <a:ext cx="2286000" cy="2362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frca_img_large_ett_new"/>
          <p:cNvPicPr/>
          <p:nvPr/>
        </p:nvPicPr>
        <p:blipFill>
          <a:blip r:embed="rId2"/>
          <a:stretch/>
        </p:blipFill>
        <p:spPr>
          <a:xfrm>
            <a:off x="6629400" y="1219320"/>
            <a:ext cx="2209680" cy="2514600"/>
          </a:xfrm>
          <a:prstGeom prst="rect">
            <a:avLst/>
          </a:prstGeom>
          <a:ln w="0">
            <a:noFill/>
          </a:ln>
        </p:spPr>
      </p:pic>
      <p:sp>
        <p:nvSpPr>
          <p:cNvPr id="211" name="WordArt 8"/>
          <p:cNvSpPr txBox="1"/>
          <p:nvPr/>
        </p:nvSpPr>
        <p:spPr>
          <a:xfrm>
            <a:off x="4800600" y="2362320"/>
            <a:ext cx="1523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ingLiU_HKSCS-ExtB"/>
              </a:rPr>
              <a:t>ETT</a:t>
            </a:r>
            <a:endParaRPr b="0" lang="en-US" sz="36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ingLiU_HKSCS-ExtB"/>
              <a:ea typeface="MingLiU_HKSCS-ExtB"/>
            </a:endParaRPr>
          </a:p>
        </p:txBody>
      </p:sp>
      <p:pic>
        <p:nvPicPr>
          <p:cNvPr id="212" name="Picture 9" descr="Smith and Nephew Allevyn Tracheostomy Hydrocellular Dressing"/>
          <p:cNvPicPr/>
          <p:nvPr/>
        </p:nvPicPr>
        <p:blipFill>
          <a:blip r:embed="rId5"/>
          <a:stretch/>
        </p:blipFill>
        <p:spPr>
          <a:xfrm>
            <a:off x="6659640" y="4343400"/>
            <a:ext cx="2209680" cy="2514600"/>
          </a:xfrm>
          <a:prstGeom prst="rect">
            <a:avLst/>
          </a:prstGeom>
          <a:ln w="0">
            <a:noFill/>
          </a:ln>
        </p:spPr>
      </p:pic>
      <p:sp>
        <p:nvSpPr>
          <p:cNvPr id="213" name="WordArt 10"/>
          <p:cNvSpPr txBox="1"/>
          <p:nvPr/>
        </p:nvSpPr>
        <p:spPr>
          <a:xfrm>
            <a:off x="3733920" y="4876920"/>
            <a:ext cx="2743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Jokerman"/>
              </a:rPr>
              <a:t>Tracheostomy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Jokerman"/>
              <a:ea typeface="Jokerman"/>
            </a:endParaRPr>
          </a:p>
        </p:txBody>
      </p:sp>
      <p:pic>
        <p:nvPicPr>
          <p:cNvPr id="214" name="Picture 13" descr="مشاهدة الصورة بالحجم الكامل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95280" y="4149720"/>
            <a:ext cx="2160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4582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pee"/>
                <a:ea typeface="Traditional Arabic"/>
              </a:rPr>
              <a:t>Basic Concepts in Mechanical Ventilation</a:t>
            </a:r>
            <a:endParaRPr b="0" lang="en-US" sz="2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adley Hand ITC"/>
              </a:rPr>
              <a:t>Flo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adley Hand ITC"/>
              </a:rPr>
              <a:t>Press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adley Hand ITC"/>
              </a:rPr>
              <a:t>Ti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adley Hand ITC"/>
              </a:rPr>
              <a:t>Volu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adley Hand ITC"/>
              </a:rPr>
              <a:t>Respiratory r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adley Hand ITC"/>
              </a:rPr>
              <a:t>FIO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adley Hand ITC"/>
              </a:rPr>
              <a:t>P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adley Hand ITC"/>
              </a:rPr>
              <a:t>P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adley Hand ITC"/>
              </a:rPr>
              <a:t>M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4" descr="en_a05fig04"/>
          <p:cNvPicPr/>
          <p:nvPr/>
        </p:nvPicPr>
        <p:blipFill>
          <a:blip r:embed="rId1"/>
          <a:srcRect l="0" t="0" r="1480" b="10883"/>
          <a:stretch/>
        </p:blipFill>
        <p:spPr>
          <a:xfrm>
            <a:off x="4284720" y="2133720"/>
            <a:ext cx="41911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529"/>
                </a:solidFill>
                <a:latin typeface="Curlz MT"/>
                <a:ea typeface="Traditional Arabic"/>
              </a:rPr>
              <a:t>FLOW.. FLOW.. FLOW</a:t>
            </a:r>
            <a:r>
              <a:rPr b="1" lang="en-US" sz="5000" spc="-1" strike="noStrike">
                <a:solidFill>
                  <a:srgbClr val="fff529"/>
                </a:solidFill>
                <a:latin typeface="Curlz MT"/>
                <a:ea typeface="Traditional Arabic"/>
              </a:rPr>
              <a:t>..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e amount of air over a specific period of ti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onstant flow a device which presents a constant of gas past the patient airw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8" descr="BD21299_"/>
          <p:cNvPicPr/>
          <p:nvPr/>
        </p:nvPicPr>
        <p:blipFill>
          <a:blip r:embed="rId1"/>
          <a:stretch/>
        </p:blipFill>
        <p:spPr>
          <a:xfrm>
            <a:off x="6156360" y="4869000"/>
            <a:ext cx="208764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529"/>
                </a:solidFill>
                <a:latin typeface="Gigi"/>
                <a:ea typeface="Traditional Arabic"/>
              </a:rPr>
              <a:t>Pressure.. Pressure.. Pressure</a:t>
            </a:r>
            <a:r>
              <a:rPr b="1" lang="en-US" sz="5000" spc="-1" strike="noStrike">
                <a:solidFill>
                  <a:srgbClr val="fff529"/>
                </a:solidFill>
                <a:latin typeface="Gigi"/>
                <a:ea typeface="Traditional Arabic"/>
              </a:rPr>
              <a:t>..</a:t>
            </a:r>
            <a:r>
              <a:rPr b="0" lang="en-US" sz="5000" spc="-1" strike="noStrike">
                <a:solidFill>
                  <a:srgbClr val="dbf5f9"/>
                </a:solidFill>
                <a:latin typeface="Calibri"/>
                <a:ea typeface="Traditional Arabic"/>
              </a:rPr>
              <a:t> 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3640" y="2060280"/>
            <a:ext cx="7467480" cy="243828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May be inward atmospher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May be outward </a:t>
            </a: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(mechanical ventil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Blood clipart image: blood,blood pressure,health,high blood pressure,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4292640"/>
            <a:ext cx="25905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529"/>
                </a:solidFill>
                <a:latin typeface="Blue Highway Linocut"/>
                <a:ea typeface="Traditional Arabic"/>
              </a:rPr>
              <a:t>Time.. Time.. Time ..Time</a:t>
            </a:r>
            <a:r>
              <a:rPr b="0" lang="en-US" sz="3600" spc="-1" strike="noStrike">
                <a:solidFill>
                  <a:srgbClr val="dbf5f9"/>
                </a:solidFill>
                <a:latin typeface="Calibri"/>
                <a:ea typeface="Traditional Arabic"/>
              </a:rPr>
              <a:t> 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10920" y="2997000"/>
            <a:ext cx="5113080" cy="19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e time taken to inhale and exhale, including any pause before the next breath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4" descr="Express Trophy Watch Batteries"/>
          <p:cNvPicPr/>
          <p:nvPr/>
        </p:nvPicPr>
        <p:blipFill>
          <a:blip r:embed="rId1"/>
          <a:stretch/>
        </p:blipFill>
        <p:spPr>
          <a:xfrm>
            <a:off x="5796000" y="1773360"/>
            <a:ext cx="28573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9:28:38Z</dcterms:created>
  <dc:creator>www.arabswell.com</dc:creator>
  <dc:description/>
  <dc:language>en-US</dc:language>
  <cp:lastModifiedBy>Nasima Yahya Awaji</cp:lastModifiedBy>
  <dcterms:modified xsi:type="dcterms:W3CDTF">2016-09-25T09:08:50Z</dcterms:modified>
  <cp:revision>48</cp:revision>
  <dc:subject/>
  <dc:title>Acid-base disturbance and compensation</dc:title>
</cp:coreProperties>
</file>