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9838-1914-4CF8-85D5-021854C2E0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st ventilators used in pediatrics are time cycled and operate either in a pressure limited or volume limited mode. Flow cycled ventilators are available but not commonly used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lmost all of my experience is with serv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 do not know of any time-limited v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what would be the difference between a flow-limited and time-cycled vent and a time-limited flow cycled vent? Should we clean up this slide and just say you can limit by pressure or volume and cycle by flow or ti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0FD-F156-48CA-A52C-DA35A362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487-B2FD-4526-9CCC-B5A8D83D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571-9695-417D-840C-50A133AC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268-1AE6-44BF-959F-4E23E5D2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D9CE-471E-40A5-9BE4-B749EA8E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4BEE-DB75-4E22-AC65-BBB32429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3445-D79B-4166-B8E5-895969B7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1296-F62C-4A7C-8B9F-440DF6C8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8685-DA47-4E13-99DB-011CF02A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5D92-6EBB-4573-AD57-3876DD2E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D16C-4504-41C5-8D8C-F48381C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49C-6BBB-46C0-80BA-F259BF06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F15B-7E39-4C01-8CC6-B8D48399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9786-795D-4D81-A7F9-1F5AA8D3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63DE-C574-46C4-96EB-4CE7EC06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1DA3-C043-4C70-B983-62E5AB3A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49FE-1D30-4C44-8312-498F23E7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CCF6-1ADF-4C3C-ADFC-E2595E33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395AC-F055-41D6-9334-0037462D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88C1-2553-43DF-B498-0E1325B7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3A92-BBDD-47BD-8B3E-21FEE498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835E-98EB-4437-8AA9-94A0949A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284-9C15-406F-9876-442D2A01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2A8A1-7D28-4C2D-A9AA-81C65179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CB17-5A0E-4D3E-BA0E-7013CAE7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5BD9-8303-42E9-BA33-FEFC426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8881-4CDD-487D-B635-D49F247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A54D-0184-4DE5-8F08-881B78AF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AB564-682E-4C94-8BB3-EEDA6B43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4367-D2D8-4062-9CA9-E56C1C63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B5FE-D1CF-416C-8929-834CE1B1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70E37-FCB7-4514-BF74-25BAD308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81CA-CE9A-4D1A-8DCD-07F53DCD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C2C-7F19-464D-9D02-2554E2EA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684F-FE6D-4054-BC54-DE462C69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C1A9-1009-4E84-A6B3-037CF143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B513-6772-4530-BF52-7458217F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71E0-0712-46A6-9D87-5D71DB9E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410C-AAA2-44B2-A332-385A221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695F-513F-4972-9F0A-1E677297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176A-6AD9-46C9-8C20-261AED52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43AC-DFA1-4D26-8BBE-B774F902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01095-09BA-4D5D-BCFD-3477D24B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125-1DB1-47CC-BA40-B08A39F5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E9A-43B4-41CE-8A58-145B132C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251-4B88-440A-ADA9-33B88FDD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FFE-4966-4A98-A7E9-C7F80F86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3D9-3019-4993-A901-AFD1FCB5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F55F-AAA8-4E6D-B454-7DC00020E2A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488F-C26F-4413-B770-59B6664C451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4F3-912F-44A4-8D65-7A0AA57874FB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F0B4-0849-4206-A3F5-4C32BC8C9D4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605;&#1604;&#1601;:VIP_Bird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hyperlink" Target="http://www.mda.org/publications/breathe/images/Trach-with-Passy-Muir.jpg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review.com/_gallery/_pages/9842645.html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4643280"/>
            <a:ext cx="655308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-533520"/>
            <a:ext cx="8610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ventilator[1]"/>
          <p:cNvPicPr/>
          <p:nvPr/>
        </p:nvPicPr>
        <p:blipFill>
          <a:blip r:embed="rId1"/>
          <a:srcRect l="0" t="2406" r="3226" b="0"/>
          <a:stretch/>
        </p:blipFill>
        <p:spPr>
          <a:xfrm>
            <a:off x="2340000" y="1413000"/>
            <a:ext cx="4537080" cy="30859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1692360" y="4724280"/>
            <a:ext cx="66578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cal ventilator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529"/>
                </a:solidFill>
                <a:latin typeface="Calibri"/>
                <a:ea typeface="Traditional Arabic"/>
              </a:rPr>
              <a:t>Volume.. Volume.. Volume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idal volume: the amount of gas in any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5-7ml/kg of body we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inute volume: the total amount of gas breathed over one minu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j0297707"/>
          <p:cNvPicPr/>
          <p:nvPr/>
        </p:nvPicPr>
        <p:blipFill>
          <a:blip r:embed="rId1"/>
          <a:stretch/>
        </p:blipFill>
        <p:spPr>
          <a:xfrm>
            <a:off x="5867280" y="4076640"/>
            <a:ext cx="2376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529"/>
                </a:solidFill>
                <a:latin typeface="Sybil Green"/>
                <a:ea typeface="Traditional Arabic"/>
              </a:rPr>
              <a:t>FIO2..FIO2..FIO2</a:t>
            </a:r>
            <a:endParaRPr b="0" lang="en-US" sz="6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23920" y="1934640"/>
            <a:ext cx="3962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raction of inspired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% percent of O2 delivered to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eset on the ventilator and will be mixed with air to be delivered via the ventilator</a:t>
            </a:r>
            <a:r>
              <a:rPr b="0" lang="en-US" sz="28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smhiflow"/>
          <p:cNvPicPr/>
          <p:nvPr/>
        </p:nvPicPr>
        <p:blipFill>
          <a:blip r:embed="rId1"/>
          <a:stretch/>
        </p:blipFill>
        <p:spPr>
          <a:xfrm>
            <a:off x="990720" y="2362320"/>
            <a:ext cx="2514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PEEP..PIP..MAP</a:t>
            </a:r>
            <a:endParaRPr b="0" lang="en-US" sz="8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E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end expiratory pressure, a pressure designed to maintain patent airwa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I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ak inspiratory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highest pressure attained in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an airway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5594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1908000" y="2421000"/>
            <a:ext cx="583272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ype of ventilator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3789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Inflate the lungs by exerting positive pressure on the airway, similar to a bellows mechanism, forcing the alveoli to expand during inspiration.</a:t>
            </a:r>
            <a:br>
              <a:rPr sz="2400"/>
            </a:b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Requires use of artificial airway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  <a:ea typeface="Traditional Arabic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64800"/>
            <a:ext cx="8553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pplies negative pressure around the chest wal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 artificial air way is necessa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42920" y="1125360"/>
            <a:ext cx="2737080" cy="1943280"/>
          </a:xfrm>
          <a:prstGeom prst="cloudCallout">
            <a:avLst>
              <a:gd name="adj1" fmla="val -30277"/>
              <a:gd name="adj2" fmla="val 94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468360" y="260280"/>
            <a:ext cx="2016000" cy="1295640"/>
          </a:xfrm>
          <a:prstGeom prst="wedgeEllipseCallout">
            <a:avLst>
              <a:gd name="adj1" fmla="val 30078"/>
              <a:gd name="adj2" fmla="val 549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971640" y="1700280"/>
            <a:ext cx="1512720" cy="609480"/>
          </a:xfrm>
          <a:prstGeom prst="wedgeRoundRectCallout">
            <a:avLst>
              <a:gd name="adj1" fmla="val -46222"/>
              <a:gd name="adj2" fmla="val 700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WordArt 21"/>
          <p:cNvSpPr txBox="1"/>
          <p:nvPr/>
        </p:nvSpPr>
        <p:spPr>
          <a:xfrm>
            <a:off x="179280" y="981000"/>
            <a:ext cx="5977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pressu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22"/>
          <p:cNvSpPr txBox="1"/>
          <p:nvPr/>
        </p:nvSpPr>
        <p:spPr>
          <a:xfrm>
            <a:off x="250920" y="3141720"/>
            <a:ext cx="58338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 pressur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Organization Chart 2"/>
          <p:cNvGrpSpPr/>
          <p:nvPr/>
        </p:nvGrpSpPr>
        <p:grpSpPr>
          <a:xfrm>
            <a:off x="0" y="152280"/>
            <a:ext cx="9143640" cy="6705360"/>
            <a:chOff x="0" y="152280"/>
            <a:chExt cx="9143640" cy="6705360"/>
          </a:xfrm>
        </p:grpSpPr>
        <p:cxnSp>
          <p:nvCxnSpPr>
            <p:cNvPr id="245" name="_s1028"/>
            <p:cNvCxnSpPr>
              <a:stCxn id="246" idx="3"/>
              <a:endCxn id="247" idx="2"/>
            </p:cNvCxnSpPr>
            <p:nvPr/>
          </p:nvCxnSpPr>
          <p:spPr>
            <a:xfrm flipV="1">
              <a:off x="2444400" y="3322080"/>
              <a:ext cx="368640" cy="19598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48" name="_s1029"/>
            <p:cNvCxnSpPr>
              <a:stCxn id="249" idx="3"/>
              <a:endCxn id="247" idx="2"/>
            </p:cNvCxnSpPr>
            <p:nvPr/>
          </p:nvCxnSpPr>
          <p:spPr>
            <a:xfrm flipV="1">
              <a:off x="2444400" y="3322080"/>
              <a:ext cx="368640" cy="775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0" name="_s1030"/>
            <p:cNvCxnSpPr>
              <a:stCxn id="251" idx="1"/>
              <a:endCxn id="252" idx="2"/>
            </p:cNvCxnSpPr>
            <p:nvPr/>
          </p:nvCxnSpPr>
          <p:spPr>
            <a:xfrm rot="10800000">
              <a:off x="4847760" y="3321720"/>
              <a:ext cx="366840" cy="3142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3" name="_s1031"/>
            <p:cNvCxnSpPr>
              <a:stCxn id="254" idx="1"/>
              <a:endCxn id="252" idx="2"/>
            </p:cNvCxnSpPr>
            <p:nvPr/>
          </p:nvCxnSpPr>
          <p:spPr>
            <a:xfrm rot="10800000">
              <a:off x="4847760" y="3321720"/>
              <a:ext cx="366840" cy="19598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5" name="_s1032"/>
            <p:cNvCxnSpPr>
              <a:stCxn id="256" idx="1"/>
              <a:endCxn id="252" idx="2"/>
            </p:cNvCxnSpPr>
            <p:nvPr/>
          </p:nvCxnSpPr>
          <p:spPr>
            <a:xfrm rot="10800000">
              <a:off x="4847760" y="3321720"/>
              <a:ext cx="366840" cy="775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7" name="_s1033"/>
            <p:cNvCxnSpPr>
              <a:stCxn id="252" idx="0"/>
              <a:endCxn id="258" idx="2"/>
            </p:cNvCxnSpPr>
            <p:nvPr/>
          </p:nvCxnSpPr>
          <p:spPr>
            <a:xfrm flipV="1" rot="16200000">
              <a:off x="4150440" y="1807200"/>
              <a:ext cx="368280" cy="1027440"/>
            </a:xfrm>
            <a:prstGeom prst="bentConnector3">
              <a:avLst>
                <a:gd name="adj1" fmla="val 31115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59" name="_s1034"/>
            <p:cNvCxnSpPr>
              <a:stCxn id="247" idx="0"/>
              <a:endCxn id="258" idx="2"/>
            </p:cNvCxnSpPr>
            <p:nvPr/>
          </p:nvCxnSpPr>
          <p:spPr>
            <a:xfrm flipH="1" flipV="1" rot="5400000">
              <a:off x="3133080" y="1816560"/>
              <a:ext cx="368280" cy="1009080"/>
            </a:xfrm>
            <a:prstGeom prst="bentConnector3">
              <a:avLst>
                <a:gd name="adj1" fmla="val 31115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60" name="_s1035"/>
            <p:cNvCxnSpPr>
              <a:stCxn id="258" idx="0"/>
              <a:endCxn id="261" idx="2"/>
            </p:cNvCxnSpPr>
            <p:nvPr/>
          </p:nvCxnSpPr>
          <p:spPr>
            <a:xfrm flipV="1" rot="16200000">
              <a:off x="2968560" y="468360"/>
              <a:ext cx="366120" cy="1338840"/>
            </a:xfrm>
            <a:prstGeom prst="bentConnector3">
              <a:avLst>
                <a:gd name="adj1" fmla="val 3129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62" name="_s1036"/>
            <p:cNvCxnSpPr>
              <a:stCxn id="263" idx="0"/>
              <a:endCxn id="261" idx="2"/>
            </p:cNvCxnSpPr>
            <p:nvPr/>
          </p:nvCxnSpPr>
          <p:spPr>
            <a:xfrm flipH="1" flipV="1" rot="5400000">
              <a:off x="1631520" y="469080"/>
              <a:ext cx="366120" cy="1337760"/>
            </a:xfrm>
            <a:prstGeom prst="bentConnector3">
              <a:avLst>
                <a:gd name="adj1" fmla="val 31299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261" name="_s1037"/>
            <p:cNvSpPr/>
            <p:nvPr/>
          </p:nvSpPr>
          <p:spPr>
            <a:xfrm>
              <a:off x="1337040" y="152280"/>
              <a:ext cx="2291760" cy="7884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echanical 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ode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_s1038"/>
            <p:cNvSpPr/>
            <p:nvPr/>
          </p:nvSpPr>
          <p:spPr>
            <a:xfrm>
              <a:off x="0" y="1335240"/>
              <a:ext cx="2291760" cy="7884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Negative Pressure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8" name="_s1039"/>
            <p:cNvSpPr/>
            <p:nvPr/>
          </p:nvSpPr>
          <p:spPr>
            <a:xfrm>
              <a:off x="2674080" y="1335240"/>
              <a:ext cx="2292120" cy="7884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ositive Pressur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7" name="_s1040"/>
            <p:cNvSpPr/>
            <p:nvPr/>
          </p:nvSpPr>
          <p:spPr>
            <a:xfrm>
              <a:off x="1976760" y="2518920"/>
              <a:ext cx="1672560" cy="7884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Mode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2" name="_s1041"/>
            <p:cNvSpPr/>
            <p:nvPr/>
          </p:nvSpPr>
          <p:spPr>
            <a:xfrm>
              <a:off x="4031640" y="2518920"/>
              <a:ext cx="1632240" cy="7884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olume Mod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_s1042"/>
            <p:cNvSpPr/>
            <p:nvPr/>
          </p:nvSpPr>
          <p:spPr>
            <a:xfrm>
              <a:off x="5229720" y="3702600"/>
              <a:ext cx="283824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rol ventilation (CV)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,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ntrolled Mandatory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, CMV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5229720" y="4885920"/>
              <a:ext cx="217800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ssist Control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C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ssisted Mandatory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_s1044"/>
            <p:cNvSpPr/>
            <p:nvPr/>
          </p:nvSpPr>
          <p:spPr>
            <a:xfrm>
              <a:off x="5229720" y="6069240"/>
              <a:ext cx="391392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ynchronized Intermittent mandatory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 / SI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Intermittent mandatory ventilation IM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_s1045"/>
            <p:cNvSpPr/>
            <p:nvPr/>
          </p:nvSpPr>
          <p:spPr>
            <a:xfrm>
              <a:off x="620280" y="3702600"/>
              <a:ext cx="180972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support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SV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6" name="_s1046"/>
            <p:cNvSpPr/>
            <p:nvPr/>
          </p:nvSpPr>
          <p:spPr>
            <a:xfrm>
              <a:off x="221400" y="4885920"/>
              <a:ext cx="2208600" cy="78840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essure –controlled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ilation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CV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Volume</a:t>
            </a:r>
            <a:r>
              <a:rPr b="1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 </a:t>
            </a: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controlled</a:t>
            </a:r>
            <a:r>
              <a:rPr b="1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 </a:t>
            </a:r>
            <a:r>
              <a:rPr b="0" lang="en-US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ventilation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t volume delivered to the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Volume delivered are pres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ully support patient ventilator requir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modes"/>
          <p:cNvPicPr/>
          <p:nvPr/>
        </p:nvPicPr>
        <p:blipFill>
          <a:blip r:embed="rId1"/>
          <a:stretch/>
        </p:blipFill>
        <p:spPr>
          <a:xfrm>
            <a:off x="2771640" y="3573360"/>
            <a:ext cx="4753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Assist control A /C</a:t>
            </a:r>
            <a:endParaRPr b="0" lang="en-US" sz="5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spiratory cycle is activated by the pat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Also ventilator cycles at rate predetermine by the op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Should the pt stop breathing, or breathe so weakly that the ventilator cannot function as an assistor, this mandatory baseline rate will prevent a pn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modes"/>
          <p:cNvPicPr/>
          <p:nvPr/>
        </p:nvPicPr>
        <p:blipFill>
          <a:blip r:embed="rId1"/>
          <a:stretch/>
        </p:blipFill>
        <p:spPr>
          <a:xfrm>
            <a:off x="6948360" y="4338720"/>
            <a:ext cx="2195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Synchronized intermittent Mandatory ventilation</a:t>
            </a:r>
            <a:r>
              <a:rPr b="0" lang="en-CA" sz="46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r>
              <a:rPr b="0" lang="en-CA" sz="4600" spc="-1" strike="noStrike">
                <a:solidFill>
                  <a:srgbClr val="dbf5f9"/>
                </a:solidFill>
                <a:latin typeface="Blue Highway Linocut"/>
                <a:ea typeface="Traditional Arabic"/>
              </a:rPr>
              <a:t>(SIMV)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atient can breath spontaneously through the ventilator circui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The pt may initiate the mandatory breath with own inspiratory effort ,and the ventilator breath will be synchronized with the pt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rovide good ventilatory support +allow respiratory muscle exerci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Can be used in wean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modes"/>
          <p:cNvPicPr/>
          <p:nvPr/>
        </p:nvPicPr>
        <p:blipFill>
          <a:blip r:embed="rId1"/>
          <a:stretch/>
        </p:blipFill>
        <p:spPr>
          <a:xfrm>
            <a:off x="7451640" y="4797360"/>
            <a:ext cx="16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600" spc="-1" strike="noStrike">
                <a:solidFill>
                  <a:srgbClr val="fff529"/>
                </a:solidFill>
                <a:latin typeface="Burnstown Dam"/>
                <a:ea typeface="Traditional Arabic"/>
              </a:rPr>
              <a:t>Pressure Support</a:t>
            </a:r>
            <a:r>
              <a:rPr b="0" lang="en-CA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Breath must be initiated from pati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Ventilator will then provide gas flow to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Overcome ETT resist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Provide variable level of support to 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nstantia"/>
              </a:rPr>
              <a:t>Weaning mo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modes"/>
          <p:cNvPicPr/>
          <p:nvPr/>
        </p:nvPicPr>
        <p:blipFill>
          <a:blip r:embed="rId1"/>
          <a:stretch/>
        </p:blipFill>
        <p:spPr>
          <a:xfrm>
            <a:off x="5105520" y="4076640"/>
            <a:ext cx="35049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9360">
            <a:solidFill>
              <a:srgbClr val="33ccff"/>
            </a:solidFill>
            <a:miter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bf5f9"/>
                </a:solidFill>
                <a:latin typeface="Calibri"/>
                <a:ea typeface="Traditional Arabic"/>
              </a:rPr>
              <a:t>Mechanical Ventilation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Ventilators deliver gas  to the lungs using positive pressure at a certain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rate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. The amount of gas delivered can be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limited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 by time, pressure or volume. The duration can be </a:t>
            </a:r>
            <a:r>
              <a:rPr b="0" i="1" lang="en-US" sz="3500" spc="-1" strike="noStrike" u="sng">
                <a:solidFill>
                  <a:srgbClr val="ffffff"/>
                </a:solidFill>
                <a:uFillTx/>
                <a:latin typeface="Constantia"/>
              </a:rPr>
              <a:t>cycled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 by time, pressure or flow</a:t>
            </a:r>
            <a:r>
              <a:rPr b="0" lang="en-US" sz="35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180px-VIP_Bird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581360"/>
            <a:ext cx="3240360" cy="20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Airway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spir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creased clearance of secretio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socomial or ventilator-acquired pneumoni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WordArt 5"/>
          <p:cNvSpPr txBox="1"/>
          <p:nvPr/>
        </p:nvSpPr>
        <p:spPr>
          <a:xfrm>
            <a:off x="755640" y="692280"/>
            <a:ext cx="655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lication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6321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Endotracheal tube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ube kinked or plugg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cheal stenos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ung atelectas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usiti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titis me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ryngeal edem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56000" y="-157032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707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Mechanical</a:t>
            </a:r>
            <a:r>
              <a:rPr b="1" i="1" lang="en-US" sz="2800" spc="-1" strike="noStrike" u="sng">
                <a:solidFill>
                  <a:srgbClr val="e2d7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hypoventilation with atelecta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hyperventilation with hypocapnia and respiratory alkal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barotraumas ,pneumothorax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larm "turn off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Failure of alarms or ventilator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nadequate nebulization or humidification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Overheated inspired air, resulting in hypertherm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85dfd0"/>
              </a:solidFill>
              <a:latin typeface="Viner Hand ITC"/>
              <a:ea typeface="Traditional Arab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81880" cy="3047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itiation and maintenance of positive pressure ventilation (PPV) or improve Oxygenation, maintains or improve ventilation and provide respiratory muscle 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684360" y="1052640"/>
            <a:ext cx="3166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urpose </a:t>
            </a:r>
            <a:endParaRPr b="0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1066680" y="2895480"/>
            <a:ext cx="75438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aker"/>
              </a:rPr>
              <a:t>Indication 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aker"/>
              <a:ea typeface="Waker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2895480" y="2971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900000" y="404640"/>
            <a:ext cx="4967280" cy="2057400"/>
          </a:xfrm>
          <a:prstGeom prst="wedgeRectCallout">
            <a:avLst>
              <a:gd name="adj1" fmla="val 65148"/>
              <a:gd name="adj2" fmla="val 62884"/>
            </a:avLst>
          </a:prstGeom>
          <a:solidFill>
            <a:srgbClr val="ffff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ute Respiratory Failu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xem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uromuscular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ulmonary edem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 nervous system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364000" y="3716280"/>
            <a:ext cx="3529080" cy="2255760"/>
          </a:xfrm>
          <a:prstGeom prst="wedgeRectCallout">
            <a:avLst>
              <a:gd name="adj1" fmla="val -86120"/>
              <a:gd name="adj2" fmla="val -52953"/>
            </a:avLst>
          </a:prstGeom>
          <a:solidFill>
            <a:srgbClr val="ffff00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Over Se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reduce ICP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s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ft ventricular fail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5dfd0"/>
                </a:solidFill>
                <a:latin typeface="Hurry Up"/>
                <a:ea typeface="Traditional Arabic"/>
              </a:rPr>
              <a:t>Types of Artificial Airway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09" name="Picture 3" descr="0218537MAIN2.jpg.jpg"/>
          <p:cNvPicPr/>
          <p:nvPr/>
        </p:nvPicPr>
        <p:blipFill>
          <a:blip r:embed="rId1"/>
          <a:stretch/>
        </p:blipFill>
        <p:spPr>
          <a:xfrm>
            <a:off x="324000" y="1484280"/>
            <a:ext cx="228600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frca_img_large_ett_new"/>
          <p:cNvPicPr/>
          <p:nvPr/>
        </p:nvPicPr>
        <p:blipFill>
          <a:blip r:embed="rId2"/>
          <a:stretch/>
        </p:blipFill>
        <p:spPr>
          <a:xfrm>
            <a:off x="6629400" y="1219320"/>
            <a:ext cx="220968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8"/>
          <p:cNvSpPr txBox="1"/>
          <p:nvPr/>
        </p:nvSpPr>
        <p:spPr>
          <a:xfrm>
            <a:off x="4800600" y="236232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ngLiU_HKSCS-ExtB"/>
              </a:rPr>
              <a:t>ETT</a:t>
            </a:r>
            <a:endParaRPr b="0" lang="en-US" sz="3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ngLiU_HKSCS-ExtB"/>
              <a:ea typeface="MingLiU_HKSCS-ExtB"/>
            </a:endParaRPr>
          </a:p>
        </p:txBody>
      </p:sp>
      <p:pic>
        <p:nvPicPr>
          <p:cNvPr id="212" name="Picture 9" descr="Smith and Nephew Allevyn Tracheostomy Hydrocellular Dressing"/>
          <p:cNvPicPr/>
          <p:nvPr/>
        </p:nvPicPr>
        <p:blipFill>
          <a:blip r:embed="rId5"/>
          <a:stretch/>
        </p:blipFill>
        <p:spPr>
          <a:xfrm>
            <a:off x="6659640" y="4343400"/>
            <a:ext cx="2209680" cy="25146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3733920" y="4876920"/>
            <a:ext cx="2743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okerman"/>
              </a:rPr>
              <a:t>Tracheostomy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pic>
        <p:nvPicPr>
          <p:cNvPr id="214" name="Picture 13" descr="مشاهدة الصورة بالحجم الكامل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4149720"/>
            <a:ext cx="216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pee"/>
                <a:ea typeface="Traditional Arabic"/>
              </a:rPr>
              <a:t>Basic Concepts in Mechanical Ventilation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Volu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Respiratory 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F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P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en_a05fig04"/>
          <p:cNvPicPr/>
          <p:nvPr/>
        </p:nvPicPr>
        <p:blipFill>
          <a:blip r:embed="rId1"/>
          <a:srcRect l="0" t="0" r="1480" b="10883"/>
          <a:stretch/>
        </p:blipFill>
        <p:spPr>
          <a:xfrm>
            <a:off x="4284720" y="2133720"/>
            <a:ext cx="419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529"/>
                </a:solidFill>
                <a:latin typeface="Curlz MT"/>
                <a:ea typeface="Traditional Arabic"/>
              </a:rPr>
              <a:t>FLOW.. FLOW.. FLOW</a:t>
            </a:r>
            <a:r>
              <a:rPr b="1" lang="en-US" sz="5000" spc="-1" strike="noStrike">
                <a:solidFill>
                  <a:srgbClr val="fff529"/>
                </a:solidFill>
                <a:latin typeface="Curlz MT"/>
                <a:ea typeface="Traditional Arabic"/>
              </a:rPr>
              <a:t>..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amount of air over a specific period of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stant flow a device which presents a constant of gas past the patient air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BD21299_"/>
          <p:cNvPicPr/>
          <p:nvPr/>
        </p:nvPicPr>
        <p:blipFill>
          <a:blip r:embed="rId1"/>
          <a:stretch/>
        </p:blipFill>
        <p:spPr>
          <a:xfrm>
            <a:off x="6156360" y="4869000"/>
            <a:ext cx="208764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529"/>
                </a:solidFill>
                <a:latin typeface="Gigi"/>
                <a:ea typeface="Traditional Arabic"/>
              </a:rPr>
              <a:t>Pressure.. Pressure.. Pressure</a:t>
            </a:r>
            <a:r>
              <a:rPr b="1" lang="en-US" sz="5000" spc="-1" strike="noStrike">
                <a:solidFill>
                  <a:srgbClr val="fff529"/>
                </a:solidFill>
                <a:latin typeface="Gigi"/>
                <a:ea typeface="Traditional Arabic"/>
              </a:rPr>
              <a:t>..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7467480" cy="2438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y be inward atmospher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ay be outward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(mechanical venti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lood clipart image: blood,blood pressure,health,high blood pressure,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292640"/>
            <a:ext cx="2590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9"/>
                </a:solidFill>
                <a:latin typeface="Blue Highway Linocut"/>
                <a:ea typeface="Traditional Arabic"/>
              </a:rPr>
              <a:t>Time.. Time.. Time ..Time</a:t>
            </a:r>
            <a:r>
              <a:rPr b="0" lang="en-US" sz="3600" spc="-1" strike="noStrike">
                <a:solidFill>
                  <a:srgbClr val="dbf5f9"/>
                </a:solidFill>
                <a:latin typeface="Calibri"/>
                <a:ea typeface="Traditional Arabic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0920" y="2997000"/>
            <a:ext cx="511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time taken to inhale and exhale, including any pause before the next breath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Express Trophy Watch Batteries"/>
          <p:cNvPicPr/>
          <p:nvPr/>
        </p:nvPicPr>
        <p:blipFill>
          <a:blip r:embed="rId1"/>
          <a:stretch/>
        </p:blipFill>
        <p:spPr>
          <a:xfrm>
            <a:off x="5796000" y="177336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28:38Z</dcterms:created>
  <dc:creator>www.arabswell.com</dc:creator>
  <dc:description/>
  <dc:language>en-US</dc:language>
  <cp:lastModifiedBy>Nasima Yahya Awaji</cp:lastModifiedBy>
  <dcterms:modified xsi:type="dcterms:W3CDTF">2016-09-25T09:08:50Z</dcterms:modified>
  <cp:revision>48</cp:revision>
  <dc:subject/>
  <dc:title>Acid-base disturbance and compensation</dc:title>
</cp:coreProperties>
</file>