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2C11-D852-486F-B214-8CC5396434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st ventilators used in pediatrics are time cycled and operate either in a pressure limited or volume limited mode. Flow cycled ventilators are available but not commonly used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lmost all of my experience is with ser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 do not know of any time-limited v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what would be the difference between a flow-limited and time-cycled vent and a time-limited flow cycled vent? Should we clean up this slide and just say you can limit by pressure or volume and cycle by flow or ti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BF2-3686-4C25-8958-306DABD3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5A3-1917-4704-956A-21A05615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F31-EEC2-447D-BDE3-3C29B7EF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1AB-29E4-44ED-9070-0E4345BB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04F-253C-4E02-91C8-0532294C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A4B9-AFDA-4C12-AEA7-C933222B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6466-4250-44C9-90ED-67D6628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F08A-8C97-4DB9-BA8A-C4799B4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4199-94B3-4D80-85A1-14AFD42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7E9-D7F3-4CEE-8D81-1C8E1E1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402-B478-4E7E-9ED0-F1F19A4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F44-F75D-48AD-B01B-240E4D6F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1A7-3B9F-43DA-9456-D3147B73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E6A6-5980-4EA6-8665-E483ED1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44D-D17B-4E4B-BF62-2F0E99E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A99D-C35F-4138-93A6-6BEF0190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EB08-B2C5-4565-B4BA-8F729509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DA78-6368-4608-8FE4-41FB648B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3130-FBAB-432B-9F90-8FEC56E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2F17-3504-4BE9-80EB-9CADD80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A394-8447-42BE-823C-77E1CAA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C101-184C-4FC1-AB2A-821287F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364-9377-479A-92F6-A75F266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CC49-7299-4432-84DE-8CBEF12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4F36-7D46-4D40-9941-BCC0DEB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A699-5487-4AE6-ACBF-9FBE997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0BA2-A37B-43CB-A117-A568CD4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57BA-2177-488D-96F6-F12B4CAE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C2C8-A54C-4EB4-B819-F2D9ADE0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D708-D43B-4479-BD89-C632AFF3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5BC3-2EAC-4F79-B64F-1D2CD722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FC3A-C5E4-4F28-8BF9-511E9D6F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CA95-E4A3-4271-859B-5EDCFB2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0E5-0396-4734-B450-565FA75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7887-D8AE-458C-9698-1F75024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95B7-6F52-48F4-9A68-2A68ABC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367B-E879-4369-9125-2FDCCBD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2F7C-7FDE-4A0D-94DB-C59CE06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921D3-9206-453E-94C1-609A78B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236D-EEE5-4D16-BBC6-76EA5F1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D19D-AB24-4832-BF61-4D832FB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BD39-7A53-4413-AC02-5D55AE22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D591-8800-4911-89E5-1AF7C7A0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02C-3773-4D3E-9DBA-D164D8A2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DD2-3955-472B-9E48-59C54E7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ACD-5293-40CA-85E4-A9DA91D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DE2-5EF4-4A28-B308-CBEFA9F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897-A6A7-4375-B0B5-CCF6D424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80F7-8E88-4B42-AB66-58ECF6D0119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437B-8DCC-41A0-AE1E-009C33D2FA9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539-015C-4F07-96A7-8F6BCDEF9B1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EA4-8F0D-4770-B195-B95F42FD571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VIP_Bird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hyperlink" Target="http://www.mda.org/publications/breathe/images/Trach-with-Passy-Muir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review.com/_gallery/_pages/9842645.html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4643280"/>
            <a:ext cx="655308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-533520"/>
            <a:ext cx="8610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ventilator[1]"/>
          <p:cNvPicPr/>
          <p:nvPr/>
        </p:nvPicPr>
        <p:blipFill>
          <a:blip r:embed="rId1"/>
          <a:srcRect l="0" t="2406" r="3226" b="0"/>
          <a:stretch/>
        </p:blipFill>
        <p:spPr>
          <a:xfrm>
            <a:off x="2340000" y="1413000"/>
            <a:ext cx="4537080" cy="30859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692360" y="4724280"/>
            <a:ext cx="66578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cal ventilator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529"/>
                </a:solidFill>
                <a:latin typeface="Calibri"/>
                <a:ea typeface="Traditional Arabic"/>
              </a:rPr>
              <a:t>Volume.. Volume.. Volume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idal volume: the amount of gas in any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5-7ml/kg of body w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inute volume: the total amount of gas breathed over one min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j0297707"/>
          <p:cNvPicPr/>
          <p:nvPr/>
        </p:nvPicPr>
        <p:blipFill>
          <a:blip r:embed="rId1"/>
          <a:stretch/>
        </p:blipFill>
        <p:spPr>
          <a:xfrm>
            <a:off x="5867280" y="4076640"/>
            <a:ext cx="2376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529"/>
                </a:solidFill>
                <a:latin typeface="Sybil Green"/>
                <a:ea typeface="Traditional Arabic"/>
              </a:rPr>
              <a:t>FIO2..FIO2..FIO2</a:t>
            </a:r>
            <a:endParaRPr b="0" lang="en-US" sz="6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23920" y="1934640"/>
            <a:ext cx="3962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raction of inspired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% percent of O2 delivered to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eset on the ventilator and will be mixed with air to be delivered via the ventilator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smhiflow"/>
          <p:cNvPicPr/>
          <p:nvPr/>
        </p:nvPicPr>
        <p:blipFill>
          <a:blip r:embed="rId1"/>
          <a:stretch/>
        </p:blipFill>
        <p:spPr>
          <a:xfrm>
            <a:off x="990720" y="2362320"/>
            <a:ext cx="251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EEP..PIP..MAP</a:t>
            </a:r>
            <a:endParaRPr b="0" lang="en-US" sz="8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E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end expiratory pressure, a pressure designed to maintain patent airwa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I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ak inspirator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highest pressure attained in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an airwa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594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1908000" y="2421000"/>
            <a:ext cx="583272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 of ventilator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3789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Inflate the lungs by exerting positive pressure on the airway, similar to a bellows mechanism, forcing the alveoli to expand during inspiration.</a:t>
            </a:r>
            <a:br>
              <a:rPr sz="2400"/>
            </a:b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Requires use of artificial airway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64800"/>
            <a:ext cx="8553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lies negative pressure around the chest wal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 artificial air way is necessa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42920" y="1125360"/>
            <a:ext cx="2737080" cy="1943280"/>
          </a:xfrm>
          <a:prstGeom prst="cloudCallout">
            <a:avLst>
              <a:gd name="adj1" fmla="val -30277"/>
              <a:gd name="adj2" fmla="val 94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468360" y="260280"/>
            <a:ext cx="2016000" cy="1295640"/>
          </a:xfrm>
          <a:prstGeom prst="wedgeEllipseCallout">
            <a:avLst>
              <a:gd name="adj1" fmla="val 30078"/>
              <a:gd name="adj2" fmla="val 549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971640" y="1700280"/>
            <a:ext cx="1512720" cy="609480"/>
          </a:xfrm>
          <a:prstGeom prst="wedgeRoundRectCallout">
            <a:avLst>
              <a:gd name="adj1" fmla="val -46222"/>
              <a:gd name="adj2" fmla="val 70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WordArt 21"/>
          <p:cNvSpPr txBox="1"/>
          <p:nvPr/>
        </p:nvSpPr>
        <p:spPr>
          <a:xfrm>
            <a:off x="179280" y="981000"/>
            <a:ext cx="5977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pressu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22"/>
          <p:cNvSpPr txBox="1"/>
          <p:nvPr/>
        </p:nvSpPr>
        <p:spPr>
          <a:xfrm>
            <a:off x="250920" y="3141720"/>
            <a:ext cx="5833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 pressur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Organization Chart 2"/>
          <p:cNvGrpSpPr/>
          <p:nvPr/>
        </p:nvGrpSpPr>
        <p:grpSpPr>
          <a:xfrm>
            <a:off x="0" y="152280"/>
            <a:ext cx="9143640" cy="6705360"/>
            <a:chOff x="0" y="152280"/>
            <a:chExt cx="9143640" cy="6705360"/>
          </a:xfrm>
        </p:grpSpPr>
        <p:cxnSp>
          <p:nvCxnSpPr>
            <p:cNvPr id="245" name="_s1028"/>
            <p:cNvCxnSpPr>
              <a:stCxn id="246" idx="3"/>
              <a:endCxn id="247" idx="2"/>
            </p:cNvCxnSpPr>
            <p:nvPr/>
          </p:nvCxnSpPr>
          <p:spPr>
            <a:xfrm flipV="1">
              <a:off x="2444400" y="3322080"/>
              <a:ext cx="3686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48" name="_s1029"/>
            <p:cNvCxnSpPr>
              <a:stCxn id="249" idx="3"/>
              <a:endCxn id="247" idx="2"/>
            </p:cNvCxnSpPr>
            <p:nvPr/>
          </p:nvCxnSpPr>
          <p:spPr>
            <a:xfrm flipV="1">
              <a:off x="2444400" y="3322080"/>
              <a:ext cx="3686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0" name="_s1030"/>
            <p:cNvCxnSpPr>
              <a:stCxn id="251" idx="1"/>
              <a:endCxn id="252" idx="2"/>
            </p:cNvCxnSpPr>
            <p:nvPr/>
          </p:nvCxnSpPr>
          <p:spPr>
            <a:xfrm rot="10800000">
              <a:off x="4847760" y="3321720"/>
              <a:ext cx="366840" cy="3142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3" name="_s1031"/>
            <p:cNvCxnSpPr>
              <a:stCxn id="254" idx="1"/>
              <a:endCxn id="252" idx="2"/>
            </p:cNvCxnSpPr>
            <p:nvPr/>
          </p:nvCxnSpPr>
          <p:spPr>
            <a:xfrm rot="10800000">
              <a:off x="4847760" y="3321720"/>
              <a:ext cx="3668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5" name="_s1032"/>
            <p:cNvCxnSpPr>
              <a:stCxn id="256" idx="1"/>
              <a:endCxn id="252" idx="2"/>
            </p:cNvCxnSpPr>
            <p:nvPr/>
          </p:nvCxnSpPr>
          <p:spPr>
            <a:xfrm rot="10800000">
              <a:off x="4847760" y="3321720"/>
              <a:ext cx="3668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7" name="_s1033"/>
            <p:cNvCxnSpPr>
              <a:stCxn id="252" idx="0"/>
              <a:endCxn id="258" idx="2"/>
            </p:cNvCxnSpPr>
            <p:nvPr/>
          </p:nvCxnSpPr>
          <p:spPr>
            <a:xfrm flipV="1" rot="16200000">
              <a:off x="4150440" y="1807200"/>
              <a:ext cx="368280" cy="102744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9" name="_s1034"/>
            <p:cNvCxnSpPr>
              <a:stCxn id="247" idx="0"/>
              <a:endCxn id="258" idx="2"/>
            </p:cNvCxnSpPr>
            <p:nvPr/>
          </p:nvCxnSpPr>
          <p:spPr>
            <a:xfrm flipH="1" flipV="1" rot="5400000">
              <a:off x="3133080" y="1816560"/>
              <a:ext cx="368280" cy="100908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0" name="_s1035"/>
            <p:cNvCxnSpPr>
              <a:stCxn id="258" idx="0"/>
              <a:endCxn id="261" idx="2"/>
            </p:cNvCxnSpPr>
            <p:nvPr/>
          </p:nvCxnSpPr>
          <p:spPr>
            <a:xfrm flipV="1" rot="16200000">
              <a:off x="2968560" y="468360"/>
              <a:ext cx="366120" cy="133884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2" name="_s1036"/>
            <p:cNvCxnSpPr>
              <a:stCxn id="263" idx="0"/>
              <a:endCxn id="261" idx="2"/>
            </p:cNvCxnSpPr>
            <p:nvPr/>
          </p:nvCxnSpPr>
          <p:spPr>
            <a:xfrm flipH="1" flipV="1" rot="5400000">
              <a:off x="1631520" y="469080"/>
              <a:ext cx="366120" cy="133776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261" name="_s1037"/>
            <p:cNvSpPr/>
            <p:nvPr/>
          </p:nvSpPr>
          <p:spPr>
            <a:xfrm>
              <a:off x="1337040" y="15228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echanical 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ode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_s1038"/>
            <p:cNvSpPr/>
            <p:nvPr/>
          </p:nvSpPr>
          <p:spPr>
            <a:xfrm>
              <a:off x="0" y="133524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egative Pressure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8" name="_s1039"/>
            <p:cNvSpPr/>
            <p:nvPr/>
          </p:nvSpPr>
          <p:spPr>
            <a:xfrm>
              <a:off x="2674080" y="1335240"/>
              <a:ext cx="229212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ositive Pressur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_s1040"/>
            <p:cNvSpPr/>
            <p:nvPr/>
          </p:nvSpPr>
          <p:spPr>
            <a:xfrm>
              <a:off x="1976760" y="2518920"/>
              <a:ext cx="167256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Mode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_s1041"/>
            <p:cNvSpPr/>
            <p:nvPr/>
          </p:nvSpPr>
          <p:spPr>
            <a:xfrm>
              <a:off x="4031640" y="2518920"/>
              <a:ext cx="163224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olume Mod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_s1042"/>
            <p:cNvSpPr/>
            <p:nvPr/>
          </p:nvSpPr>
          <p:spPr>
            <a:xfrm>
              <a:off x="5229720" y="3702600"/>
              <a:ext cx="283824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 ventilation (CV)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,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l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, CM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5229720" y="4885920"/>
              <a:ext cx="21780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 Control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C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_s1044"/>
            <p:cNvSpPr/>
            <p:nvPr/>
          </p:nvSpPr>
          <p:spPr>
            <a:xfrm>
              <a:off x="5229720" y="6069240"/>
              <a:ext cx="39139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ynchronized Intermittent mandatory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/ S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Intermittent mandatory ventilation 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_s1045"/>
            <p:cNvSpPr/>
            <p:nvPr/>
          </p:nvSpPr>
          <p:spPr>
            <a:xfrm>
              <a:off x="620280" y="3702600"/>
              <a:ext cx="18097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support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S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6" name="_s1046"/>
            <p:cNvSpPr/>
            <p:nvPr/>
          </p:nvSpPr>
          <p:spPr>
            <a:xfrm>
              <a:off x="221400" y="4885920"/>
              <a:ext cx="22086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–controlled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C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olume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controlled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entilation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t volume delivered to the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Volume delivered are pre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ully support patient ventilator requir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modes"/>
          <p:cNvPicPr/>
          <p:nvPr/>
        </p:nvPicPr>
        <p:blipFill>
          <a:blip r:embed="rId1"/>
          <a:stretch/>
        </p:blipFill>
        <p:spPr>
          <a:xfrm>
            <a:off x="2771640" y="3573360"/>
            <a:ext cx="4753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Assist control A /C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piratory cycle is activated by the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Also ventilator cycles at rate predetermine by the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Should the pt stop breathing, or breathe so weakly that the ventilator cannot function as an assistor, this mandatory baseline rate will prevent a p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modes"/>
          <p:cNvPicPr/>
          <p:nvPr/>
        </p:nvPicPr>
        <p:blipFill>
          <a:blip r:embed="rId1"/>
          <a:stretch/>
        </p:blipFill>
        <p:spPr>
          <a:xfrm>
            <a:off x="6948360" y="4338720"/>
            <a:ext cx="219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Synchronized intermittent Mandatory ventilation</a:t>
            </a:r>
            <a:r>
              <a:rPr b="0" lang="en-CA" sz="4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r>
              <a:rPr b="0" lang="en-CA" sz="4600" spc="-1" strike="noStrike">
                <a:solidFill>
                  <a:srgbClr val="dbf5f9"/>
                </a:solidFill>
                <a:latin typeface="Blue Highway Linocut"/>
                <a:ea typeface="Traditional Arabic"/>
              </a:rPr>
              <a:t>(SIMV)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atient can breath spontaneously through the ventilator circui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The pt may initiate the mandatory breath with own inspiratory effort ,and the ventilator breath will be synchronized with the pt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good ventilatory support +allow respiratory muscle exerci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Can be used in wean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modes"/>
          <p:cNvPicPr/>
          <p:nvPr/>
        </p:nvPicPr>
        <p:blipFill>
          <a:blip r:embed="rId1"/>
          <a:stretch/>
        </p:blipFill>
        <p:spPr>
          <a:xfrm>
            <a:off x="7451640" y="4797360"/>
            <a:ext cx="16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ressure Support</a:t>
            </a:r>
            <a:r>
              <a:rPr b="0" lang="en-CA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Breath must be initiated from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Ventilator will then provide gas flow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Overcome ETT resist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variable level of support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Weaning m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modes"/>
          <p:cNvPicPr/>
          <p:nvPr/>
        </p:nvPicPr>
        <p:blipFill>
          <a:blip r:embed="rId1"/>
          <a:stretch/>
        </p:blipFill>
        <p:spPr>
          <a:xfrm>
            <a:off x="5105520" y="4076640"/>
            <a:ext cx="3504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alibri"/>
                <a:ea typeface="Traditional Arabic"/>
              </a:rPr>
              <a:t>Mechanical Ventilation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Ventilators deliver gas  to the lungs using positive pressure at a certain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rate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 The amount of gas delivered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limit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volume. The duration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cycl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flow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180px-VIP_Bird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581360"/>
            <a:ext cx="324036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Airway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spir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creased clearance of secretio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socomial or ventilator-acquired pneumoni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755640" y="692280"/>
            <a:ext cx="65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lication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Endotracheal tube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ube kinked or plugg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cheal steno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ung atelecta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usit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itis m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yngeal edem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56000" y="-157032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707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Mechanical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oventilation with atelec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erventilation with hypocapnia and respiratory alkal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barotraumas ,pneumothorax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arm "turn off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Failure of alarms or ventilator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adequate nebulization or humidification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verheated inspired air, resulting in hypertherm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5dfd0"/>
              </a:solidFill>
              <a:latin typeface="Viner Hand ITC"/>
              <a:ea typeface="Traditional Arab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81880" cy="3047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itiation and maintenance of positive pressure ventilation (PPV) or improve Oxygenation, maintains or improve ventilation and provide respiratory muscle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684360" y="1052640"/>
            <a:ext cx="3166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pose 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066680" y="2895480"/>
            <a:ext cx="75438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aker"/>
              </a:rPr>
              <a:t>Indication 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aker"/>
              <a:ea typeface="Waker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2895480" y="2971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900000" y="404640"/>
            <a:ext cx="4967280" cy="2057400"/>
          </a:xfrm>
          <a:prstGeom prst="wedgeRectCallout">
            <a:avLst>
              <a:gd name="adj1" fmla="val 65148"/>
              <a:gd name="adj2" fmla="val 62884"/>
            </a:avLst>
          </a:prstGeom>
          <a:solidFill>
            <a:srgbClr val="ffff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ute Respiratory Failu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xem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uromuscular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dem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nervous system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364000" y="3716280"/>
            <a:ext cx="3529080" cy="2255760"/>
          </a:xfrm>
          <a:prstGeom prst="wedgeRectCallout">
            <a:avLst>
              <a:gd name="adj1" fmla="val -86120"/>
              <a:gd name="adj2" fmla="val -52953"/>
            </a:avLst>
          </a:prstGeom>
          <a:solidFill>
            <a:srgbClr val="ffff0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Over Se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educe ICP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ventricular fail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dfd0"/>
                </a:solidFill>
                <a:latin typeface="Hurry Up"/>
                <a:ea typeface="Traditional Arabic"/>
              </a:rPr>
              <a:t>Types of Artificial Airway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9" name="Picture 3" descr="0218537MAIN2.jpg.jpg"/>
          <p:cNvPicPr/>
          <p:nvPr/>
        </p:nvPicPr>
        <p:blipFill>
          <a:blip r:embed="rId1"/>
          <a:stretch/>
        </p:blipFill>
        <p:spPr>
          <a:xfrm>
            <a:off x="324000" y="1484280"/>
            <a:ext cx="22860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frca_img_large_ett_new"/>
          <p:cNvPicPr/>
          <p:nvPr/>
        </p:nvPicPr>
        <p:blipFill>
          <a:blip r:embed="rId2"/>
          <a:stretch/>
        </p:blipFill>
        <p:spPr>
          <a:xfrm>
            <a:off x="6629400" y="121932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4800600" y="23623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ngLiU_HKSCS-ExtB"/>
              </a:rPr>
              <a:t>ETT</a:t>
            </a:r>
            <a:endParaRPr b="0" lang="en-US" sz="3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ngLiU_HKSCS-ExtB"/>
              <a:ea typeface="MingLiU_HKSCS-ExtB"/>
            </a:endParaRPr>
          </a:p>
        </p:txBody>
      </p:sp>
      <p:pic>
        <p:nvPicPr>
          <p:cNvPr id="212" name="Picture 9" descr="Smith and Nephew Allevyn Tracheostomy Hydrocellular Dressing"/>
          <p:cNvPicPr/>
          <p:nvPr/>
        </p:nvPicPr>
        <p:blipFill>
          <a:blip r:embed="rId5"/>
          <a:stretch/>
        </p:blipFill>
        <p:spPr>
          <a:xfrm>
            <a:off x="6659640" y="434340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3733920" y="48769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okerman"/>
              </a:rPr>
              <a:t>Tracheostomy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214" name="Picture 13" descr="مشاهدة الصورة بالحجم الكامل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149720"/>
            <a:ext cx="21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pee"/>
                <a:ea typeface="Traditional Arabic"/>
              </a:rPr>
              <a:t>Basic Concepts in Mechanical Ventilation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Vol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Respiratory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en_a05fig04"/>
          <p:cNvPicPr/>
          <p:nvPr/>
        </p:nvPicPr>
        <p:blipFill>
          <a:blip r:embed="rId1"/>
          <a:srcRect l="0" t="0" r="1480" b="10883"/>
          <a:stretch/>
        </p:blipFill>
        <p:spPr>
          <a:xfrm>
            <a:off x="4284720" y="2133720"/>
            <a:ext cx="419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FLOW.. FLOW.. FLOW</a:t>
            </a: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..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amount of air over a specific period of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tant flow a device which presents a constant of gas past the patient air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BD21299_"/>
          <p:cNvPicPr/>
          <p:nvPr/>
        </p:nvPicPr>
        <p:blipFill>
          <a:blip r:embed="rId1"/>
          <a:stretch/>
        </p:blipFill>
        <p:spPr>
          <a:xfrm>
            <a:off x="6156360" y="4869000"/>
            <a:ext cx="20876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Pressure.. Pressure.. Pressure</a:t>
            </a: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..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7467480" cy="2438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inward atmosphe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outward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mechanical venti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lood clipart image: blood,blood pressure,health,high blood pressure,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292640"/>
            <a:ext cx="259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9"/>
                </a:solidFill>
                <a:latin typeface="Blue Highway Linocut"/>
                <a:ea typeface="Traditional Arabic"/>
              </a:rPr>
              <a:t>Time.. Time.. Time ..Time</a:t>
            </a:r>
            <a:r>
              <a:rPr b="0" lang="en-US" sz="3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511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me taken to inhale and exhale, including any pause before the next breat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Express Trophy Watch Batteries"/>
          <p:cNvPicPr/>
          <p:nvPr/>
        </p:nvPicPr>
        <p:blipFill>
          <a:blip r:embed="rId1"/>
          <a:stretch/>
        </p:blipFill>
        <p:spPr>
          <a:xfrm>
            <a:off x="5796000" y="177336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28:38Z</dcterms:created>
  <dc:creator>www.arabswell.com</dc:creator>
  <dc:description/>
  <dc:language>en-US</dc:language>
  <cp:lastModifiedBy>rtumala</cp:lastModifiedBy>
  <dcterms:modified xsi:type="dcterms:W3CDTF">2016-10-11T09:28:36Z</dcterms:modified>
  <cp:revision>48</cp:revision>
  <dc:subject/>
  <dc:title>Acid-base disturbance and compensation</dc:title>
</cp:coreProperties>
</file>