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E67-C76F-4FCE-ACEF-B66EB20F75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st ventilators used in pediatrics are time cycled and operate either in a pressure limited or volume limited mode. Flow cycled ventilators are available but not commonly used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lmost all of my experience is with ser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 do not know of any time-limited v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what would be the difference between a flow-limited and time-cycled vent and a time-limited flow cycled vent? Should we clean up this slide and just say you can limit by pressure or volume and cycle by flow or ti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3A1-4FD9-4C8B-AA71-AD7E7FE6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61F-BB63-47C5-A834-1697426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A0A-9496-4660-9696-1EAA12A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44-6030-41BB-90C6-AA99FC18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E5A4-1DA2-4420-B6EB-7B51DB2E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AD3-8CCB-42EB-A7AA-6480E72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8730-4B8F-4254-8D2E-1D723693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31AC-284A-4AE3-8953-6D721F4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357-BDA0-4BEB-9575-2199DB49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BBF2-4E2A-480D-A67C-E8E6F46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094-1AF7-40BC-B74C-7CF229B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DB2-C421-4E6A-9AB5-20FDBF9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1475-1495-4561-AA05-CFF0D60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6FE9-896F-4237-9C53-4531DBA2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355-F799-4E3B-BFF8-C26E72B7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042-4C10-43A9-A04D-AA4CF39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AC89-38AF-4E6F-A9F7-DB449F03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EB20-D42D-4068-8F60-E8F40581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DB7B-0F85-49AF-A850-1BC1631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448B-6A0F-43F3-8D66-9915171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7538-038D-41A3-92D6-278EAF0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A45B-A11F-45FB-B4C8-1530A9DA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756-1359-4D7C-86A9-D9AF64F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675-1D32-4721-87A8-D0D88B3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3EC7-E87A-4765-AF2C-9FB32116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CD63-6CF1-4EB6-BA9D-6C79A537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8131-D849-4CF2-812B-C939088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0BD7-CEB8-4330-8632-7EFDA44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C391-A9C0-4305-A51B-F978EA9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9FD0-D4DF-4171-B8A3-90A9E3B2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01DF-3CCA-4648-94DB-9F4420E0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2601-3DEE-467D-AB4B-D7E3933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AD5C-36B2-403A-ADA6-3F7A178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FC7-4175-4640-B758-35CD9DAF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D25E-A363-4AFF-B66D-E109AE0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0F86-0461-49D6-A089-9BF18C6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4165-12DB-4CD6-B893-F796878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8255-436C-496F-9C19-B220A78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D637-5505-4692-AF70-5423E70A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4070-818F-4A7B-A1D1-39A4EF9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6AE4-8F5E-4952-8421-54ADFC8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70AB-E4B5-42AE-9ECA-449A4318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287D-B17C-435A-9C42-F3E036F9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2E4-68E3-4540-9B29-7BCAA872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58A-4667-4D2A-939A-2AA610F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599-7C4A-4C0E-9269-89CC67B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DDF-8CC9-4EF8-B364-6585B3F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421-E735-4E73-90C7-A74B4A2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4638-32B9-4375-9BBD-2A91AAEB4FB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FE7-CDAB-49BE-B47C-AC63CD65F5D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068-93A1-4402-807D-B2620AF3A2E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D99-695C-461C-AC30-0520BED8ADE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VIP_Bird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hyperlink" Target="http://www.mda.org/publications/breathe/images/Trach-with-Passy-Muir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review.com/_gallery/_pages/9842645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4643280"/>
            <a:ext cx="655308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-533520"/>
            <a:ext cx="8610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ventilator[1]"/>
          <p:cNvPicPr/>
          <p:nvPr/>
        </p:nvPicPr>
        <p:blipFill>
          <a:blip r:embed="rId1"/>
          <a:srcRect l="0" t="2406" r="3226" b="0"/>
          <a:stretch/>
        </p:blipFill>
        <p:spPr>
          <a:xfrm>
            <a:off x="2340000" y="1413000"/>
            <a:ext cx="4537080" cy="30859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692360" y="4724280"/>
            <a:ext cx="6657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cal ventilator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529"/>
                </a:solidFill>
                <a:latin typeface="Calibri"/>
                <a:ea typeface="Traditional Arabic"/>
              </a:rPr>
              <a:t>Volume.. Volume.. Volume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dal volume: the amount of gas in any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5-7ml/kg of body w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inute volume: the total amount of gas breathed over one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j0297707"/>
          <p:cNvPicPr/>
          <p:nvPr/>
        </p:nvPicPr>
        <p:blipFill>
          <a:blip r:embed="rId1"/>
          <a:stretch/>
        </p:blipFill>
        <p:spPr>
          <a:xfrm>
            <a:off x="5867280" y="4076640"/>
            <a:ext cx="2376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529"/>
                </a:solidFill>
                <a:latin typeface="Sybil Green"/>
                <a:ea typeface="Traditional Arabic"/>
              </a:rPr>
              <a:t>FIO2..FIO2..FIO2</a:t>
            </a:r>
            <a:endParaRPr b="0" lang="en-US" sz="6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23920" y="1934640"/>
            <a:ext cx="3962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raction of inspired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% percent of O2 delivered to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set on the ventilator and will be mixed with air to be delivered via the ventilator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smhiflow"/>
          <p:cNvPicPr/>
          <p:nvPr/>
        </p:nvPicPr>
        <p:blipFill>
          <a:blip r:embed="rId1"/>
          <a:stretch/>
        </p:blipFill>
        <p:spPr>
          <a:xfrm>
            <a:off x="9907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EEP..PIP..MAP</a:t>
            </a:r>
            <a:endParaRPr b="0" lang="en-US" sz="8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end expiratory pressure, a pressure designed to maintain patent air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ak inspirator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highest pressure attained in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airwa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59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1908000" y="2421000"/>
            <a:ext cx="583272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 of ventilator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Inflate the lungs by exerting positive pressure on the airway, similar to a bellows mechanism, forcing the alveoli to expand during inspiration.</a:t>
            </a:r>
            <a:br>
              <a:rPr sz="2400"/>
            </a:b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Requires use of artificial airway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8553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lies negative pressure around the chest wal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 artificial air way is necessa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42920" y="1125360"/>
            <a:ext cx="2737080" cy="1943280"/>
          </a:xfrm>
          <a:prstGeom prst="cloudCallout">
            <a:avLst>
              <a:gd name="adj1" fmla="val -30277"/>
              <a:gd name="adj2" fmla="val 94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468360" y="260280"/>
            <a:ext cx="2016000" cy="1295640"/>
          </a:xfrm>
          <a:prstGeom prst="wedgeEllipseCallout">
            <a:avLst>
              <a:gd name="adj1" fmla="val 30078"/>
              <a:gd name="adj2" fmla="val 549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971640" y="1700280"/>
            <a:ext cx="1512720" cy="609480"/>
          </a:xfrm>
          <a:prstGeom prst="wedgeRoundRectCallout">
            <a:avLst>
              <a:gd name="adj1" fmla="val -46222"/>
              <a:gd name="adj2" fmla="val 70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21"/>
          <p:cNvSpPr txBox="1"/>
          <p:nvPr/>
        </p:nvSpPr>
        <p:spPr>
          <a:xfrm>
            <a:off x="179280" y="981000"/>
            <a:ext cx="5977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pressu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22"/>
          <p:cNvSpPr txBox="1"/>
          <p:nvPr/>
        </p:nvSpPr>
        <p:spPr>
          <a:xfrm>
            <a:off x="250920" y="3141720"/>
            <a:ext cx="5833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 pressur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Organization Chart 2"/>
          <p:cNvGrpSpPr/>
          <p:nvPr/>
        </p:nvGrpSpPr>
        <p:grpSpPr>
          <a:xfrm>
            <a:off x="0" y="152280"/>
            <a:ext cx="9143640" cy="6705360"/>
            <a:chOff x="0" y="152280"/>
            <a:chExt cx="9143640" cy="6705360"/>
          </a:xfrm>
        </p:grpSpPr>
        <p:cxnSp>
          <p:nvCxnSpPr>
            <p:cNvPr id="245" name="_s1028"/>
            <p:cNvCxnSpPr>
              <a:stCxn id="246" idx="3"/>
              <a:endCxn id="247" idx="2"/>
            </p:cNvCxnSpPr>
            <p:nvPr/>
          </p:nvCxnSpPr>
          <p:spPr>
            <a:xfrm flipV="1">
              <a:off x="2444400" y="3322080"/>
              <a:ext cx="3686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48" name="_s1029"/>
            <p:cNvCxnSpPr>
              <a:stCxn id="249" idx="3"/>
              <a:endCxn id="247" idx="2"/>
            </p:cNvCxnSpPr>
            <p:nvPr/>
          </p:nvCxnSpPr>
          <p:spPr>
            <a:xfrm flipV="1">
              <a:off x="2444400" y="3322080"/>
              <a:ext cx="3686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0" name="_s1030"/>
            <p:cNvCxnSpPr>
              <a:stCxn id="251" idx="1"/>
              <a:endCxn id="252" idx="2"/>
            </p:cNvCxnSpPr>
            <p:nvPr/>
          </p:nvCxnSpPr>
          <p:spPr>
            <a:xfrm rot="10800000">
              <a:off x="4847760" y="3321720"/>
              <a:ext cx="366840" cy="3142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3" name="_s1031"/>
            <p:cNvCxnSpPr>
              <a:stCxn id="254" idx="1"/>
              <a:endCxn id="252" idx="2"/>
            </p:cNvCxnSpPr>
            <p:nvPr/>
          </p:nvCxnSpPr>
          <p:spPr>
            <a:xfrm rot="10800000">
              <a:off x="4847760" y="3321720"/>
              <a:ext cx="3668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5" name="_s1032"/>
            <p:cNvCxnSpPr>
              <a:stCxn id="256" idx="1"/>
              <a:endCxn id="252" idx="2"/>
            </p:cNvCxnSpPr>
            <p:nvPr/>
          </p:nvCxnSpPr>
          <p:spPr>
            <a:xfrm rot="10800000">
              <a:off x="4847760" y="3321720"/>
              <a:ext cx="3668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8" idx="2"/>
            </p:cNvCxnSpPr>
            <p:nvPr/>
          </p:nvCxnSpPr>
          <p:spPr>
            <a:xfrm flipV="1" rot="16200000">
              <a:off x="4150440" y="1807200"/>
              <a:ext cx="368280" cy="102744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9" name="_s1034"/>
            <p:cNvCxnSpPr>
              <a:stCxn id="247" idx="0"/>
              <a:endCxn id="258" idx="2"/>
            </p:cNvCxnSpPr>
            <p:nvPr/>
          </p:nvCxnSpPr>
          <p:spPr>
            <a:xfrm flipH="1" flipV="1" rot="5400000">
              <a:off x="3133080" y="1816560"/>
              <a:ext cx="368280" cy="100908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0" name="_s1035"/>
            <p:cNvCxnSpPr>
              <a:stCxn id="258" idx="0"/>
              <a:endCxn id="261" idx="2"/>
            </p:cNvCxnSpPr>
            <p:nvPr/>
          </p:nvCxnSpPr>
          <p:spPr>
            <a:xfrm flipV="1" rot="16200000">
              <a:off x="2968560" y="468360"/>
              <a:ext cx="366120" cy="133884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2" name="_s1036"/>
            <p:cNvCxnSpPr>
              <a:stCxn id="263" idx="0"/>
              <a:endCxn id="261" idx="2"/>
            </p:cNvCxnSpPr>
            <p:nvPr/>
          </p:nvCxnSpPr>
          <p:spPr>
            <a:xfrm flipH="1" flipV="1" rot="5400000">
              <a:off x="1631520" y="469080"/>
              <a:ext cx="366120" cy="133776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261" name="_s1037"/>
            <p:cNvSpPr/>
            <p:nvPr/>
          </p:nvSpPr>
          <p:spPr>
            <a:xfrm>
              <a:off x="1337040" y="15228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echanical 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ode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_s1038"/>
            <p:cNvSpPr/>
            <p:nvPr/>
          </p:nvSpPr>
          <p:spPr>
            <a:xfrm>
              <a:off x="0" y="133524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gative Pressure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_s1039"/>
            <p:cNvSpPr/>
            <p:nvPr/>
          </p:nvSpPr>
          <p:spPr>
            <a:xfrm>
              <a:off x="2674080" y="1335240"/>
              <a:ext cx="229212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ositive Pressur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_s1040"/>
            <p:cNvSpPr/>
            <p:nvPr/>
          </p:nvSpPr>
          <p:spPr>
            <a:xfrm>
              <a:off x="1976760" y="2518920"/>
              <a:ext cx="167256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Mod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_s1041"/>
            <p:cNvSpPr/>
            <p:nvPr/>
          </p:nvSpPr>
          <p:spPr>
            <a:xfrm>
              <a:off x="4031640" y="2518920"/>
              <a:ext cx="163224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olume Mod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_s1042"/>
            <p:cNvSpPr/>
            <p:nvPr/>
          </p:nvSpPr>
          <p:spPr>
            <a:xfrm>
              <a:off x="5229720" y="3702600"/>
              <a:ext cx="283824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 ventilation (CV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,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l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, CM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5229720" y="4885920"/>
              <a:ext cx="21780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 Control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C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_s1044"/>
            <p:cNvSpPr/>
            <p:nvPr/>
          </p:nvSpPr>
          <p:spPr>
            <a:xfrm>
              <a:off x="5229720" y="6069240"/>
              <a:ext cx="39139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ynchronized Intermittent mandatory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/ S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Intermittent mandatory ventilation 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_s1045"/>
            <p:cNvSpPr/>
            <p:nvPr/>
          </p:nvSpPr>
          <p:spPr>
            <a:xfrm>
              <a:off x="620280" y="3702600"/>
              <a:ext cx="18097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support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S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_s1046"/>
            <p:cNvSpPr/>
            <p:nvPr/>
          </p:nvSpPr>
          <p:spPr>
            <a:xfrm>
              <a:off x="221400" y="4885920"/>
              <a:ext cx="22086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–controlled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C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olume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controlled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entilation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t volume delivered to the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 delivered are pre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ully support patient ventilator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modes"/>
          <p:cNvPicPr/>
          <p:nvPr/>
        </p:nvPicPr>
        <p:blipFill>
          <a:blip r:embed="rId1"/>
          <a:stretch/>
        </p:blipFill>
        <p:spPr>
          <a:xfrm>
            <a:off x="2771640" y="357336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Assist control A /C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piratory cycle is activated by the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Also ventilator cycles at rate predetermine by the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Should the pt stop breathing, or breathe so weakly that the ventilator cannot function as an assistor, this mandatory baseline rate will prevent a p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odes"/>
          <p:cNvPicPr/>
          <p:nvPr/>
        </p:nvPicPr>
        <p:blipFill>
          <a:blip r:embed="rId1"/>
          <a:stretch/>
        </p:blipFill>
        <p:spPr>
          <a:xfrm>
            <a:off x="6948360" y="4338720"/>
            <a:ext cx="219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Synchronized intermittent Mandatory ventilation</a:t>
            </a:r>
            <a:r>
              <a:rPr b="0" lang="en-CA" sz="4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r>
              <a:rPr b="0" lang="en-CA" sz="4600" spc="-1" strike="noStrike">
                <a:solidFill>
                  <a:srgbClr val="dbf5f9"/>
                </a:solidFill>
                <a:latin typeface="Blue Highway Linocut"/>
                <a:ea typeface="Traditional Arabic"/>
              </a:rPr>
              <a:t>(SIMV)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atient can breath spontaneously through the ventilator circui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The pt may initiate the mandatory breath with own inspiratory effort ,and the ventilator breath will be synchronized with the pt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good ventilatory support +allow respiratory muscle exerci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Can be used in wean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modes"/>
          <p:cNvPicPr/>
          <p:nvPr/>
        </p:nvPicPr>
        <p:blipFill>
          <a:blip r:embed="rId1"/>
          <a:stretch/>
        </p:blipFill>
        <p:spPr>
          <a:xfrm>
            <a:off x="7451640" y="4797360"/>
            <a:ext cx="16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ressure Support</a:t>
            </a:r>
            <a:r>
              <a:rPr b="0" lang="en-CA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Breath must be initiated from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Ventilator will then provide gas flow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Overcome ETT resist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variable level of support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Weaning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modes"/>
          <p:cNvPicPr/>
          <p:nvPr/>
        </p:nvPicPr>
        <p:blipFill>
          <a:blip r:embed="rId1"/>
          <a:stretch/>
        </p:blipFill>
        <p:spPr>
          <a:xfrm>
            <a:off x="5105520" y="4076640"/>
            <a:ext cx="3504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alibri"/>
                <a:ea typeface="Traditional Arabic"/>
              </a:rPr>
              <a:t>Mechanical Ventilation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Ventilators deliver gas  to the lungs using positive pressure at a certain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rate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 The amount of gas delivered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limit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volume. The duration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cycl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flow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180px-VIP_Bird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581360"/>
            <a:ext cx="3240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Airway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pir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creased clearance of secretio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socomial or ventilator-acquired pneumoni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755640" y="69228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lication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Endotracheal tube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ube kinked or plugg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cheal steno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ung atelecta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usit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itis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yngeal edem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56000" y="-15703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707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Mechanical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oventilation with atelec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erventilation with hypocapnia and respiratory alkal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arotraumas ,pneumothorax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arm "turn off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Failure of alarms or ventilator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adequate nebulization or humidification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verheated inspired air, resulting in hypertherm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5dfd0"/>
              </a:solidFill>
              <a:latin typeface="Viner Hand ITC"/>
              <a:ea typeface="Traditional Arab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81880" cy="3047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itiation and maintenance of positive pressure ventilation (PPV) or improve Oxygenation, maintains or improve ventilation and provide respiratory muscle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684360" y="1052640"/>
            <a:ext cx="3166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pose 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066680" y="2895480"/>
            <a:ext cx="75438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aker"/>
              </a:rPr>
              <a:t>Indication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aker"/>
              <a:ea typeface="Waker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2895480" y="2971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900000" y="404640"/>
            <a:ext cx="4967280" cy="2057400"/>
          </a:xfrm>
          <a:prstGeom prst="wedgeRectCallout">
            <a:avLst>
              <a:gd name="adj1" fmla="val 65148"/>
              <a:gd name="adj2" fmla="val 62884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ute Respiratory Fail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xem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uromuscular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dem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nervous system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364000" y="3716280"/>
            <a:ext cx="3529080" cy="2255760"/>
          </a:xfrm>
          <a:prstGeom prst="wedgeRectCallout">
            <a:avLst>
              <a:gd name="adj1" fmla="val -86120"/>
              <a:gd name="adj2" fmla="val -52953"/>
            </a:avLst>
          </a:prstGeom>
          <a:solidFill>
            <a:srgbClr val="ffff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ver Se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duce ICP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dfd0"/>
                </a:solidFill>
                <a:latin typeface="Hurry Up"/>
                <a:ea typeface="Traditional Arabic"/>
              </a:rPr>
              <a:t>Types of Artificial Airway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9" name="Picture 3" descr="0218537MAIN2.jpg.jpg"/>
          <p:cNvPicPr/>
          <p:nvPr/>
        </p:nvPicPr>
        <p:blipFill>
          <a:blip r:embed="rId1"/>
          <a:stretch/>
        </p:blipFill>
        <p:spPr>
          <a:xfrm>
            <a:off x="324000" y="14842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frca_img_large_ett_new"/>
          <p:cNvPicPr/>
          <p:nvPr/>
        </p:nvPicPr>
        <p:blipFill>
          <a:blip r:embed="rId2"/>
          <a:stretch/>
        </p:blipFill>
        <p:spPr>
          <a:xfrm>
            <a:off x="6629400" y="121932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4800600" y="2362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ngLiU_HKSCS-ExtB"/>
              </a:rPr>
              <a:t>ETT</a:t>
            </a:r>
            <a:endParaRPr b="0" lang="en-US" sz="3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ngLiU_HKSCS-ExtB"/>
              <a:ea typeface="MingLiU_HKSCS-ExtB"/>
            </a:endParaRPr>
          </a:p>
        </p:txBody>
      </p:sp>
      <p:pic>
        <p:nvPicPr>
          <p:cNvPr id="212" name="Picture 9" descr="Smith and Nephew Allevyn Tracheostomy Hydrocellular Dressing"/>
          <p:cNvPicPr/>
          <p:nvPr/>
        </p:nvPicPr>
        <p:blipFill>
          <a:blip r:embed="rId5"/>
          <a:stretch/>
        </p:blipFill>
        <p:spPr>
          <a:xfrm>
            <a:off x="6659640" y="434340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3733920" y="4876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Tracheostomy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214" name="Picture 13" descr="مشاهدة الصورة بالحجم الكامل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14972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pee"/>
                <a:ea typeface="Traditional Arabic"/>
              </a:rPr>
              <a:t>Basic Concepts in Mechanical Ventilation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Vol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Respiratory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en_a05fig04"/>
          <p:cNvPicPr/>
          <p:nvPr/>
        </p:nvPicPr>
        <p:blipFill>
          <a:blip r:embed="rId1"/>
          <a:srcRect l="0" t="0" r="1480" b="10883"/>
          <a:stretch/>
        </p:blipFill>
        <p:spPr>
          <a:xfrm>
            <a:off x="4284720" y="21337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FLOW.. FLOW.. FLOW</a:t>
            </a: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..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amount of air over a specific period of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ant flow a device which presents a constant of gas past the patient ai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BD21299_"/>
          <p:cNvPicPr/>
          <p:nvPr/>
        </p:nvPicPr>
        <p:blipFill>
          <a:blip r:embed="rId1"/>
          <a:stretch/>
        </p:blipFill>
        <p:spPr>
          <a:xfrm>
            <a:off x="6156360" y="4869000"/>
            <a:ext cx="20876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Pressure.. Pressure.. Pressure</a:t>
            </a: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..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467480" cy="2438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inward atmosphe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outward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mechanical venti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lood clipart image: blood,blood pressure,health,high blood pressure,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292640"/>
            <a:ext cx="259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9"/>
                </a:solidFill>
                <a:latin typeface="Blue Highway Linocut"/>
                <a:ea typeface="Traditional Arabic"/>
              </a:rPr>
              <a:t>Time.. Time.. Time ..Time</a:t>
            </a:r>
            <a:r>
              <a:rPr b="0" lang="en-US" sz="3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511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me taken to inhale and exhale, including any pause before the next brea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xpress Trophy Watch Batteries"/>
          <p:cNvPicPr/>
          <p:nvPr/>
        </p:nvPicPr>
        <p:blipFill>
          <a:blip r:embed="rId1"/>
          <a:stretch/>
        </p:blipFill>
        <p:spPr>
          <a:xfrm>
            <a:off x="5796000" y="177336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28:38Z</dcterms:created>
  <dc:creator>www.arabswell.com</dc:creator>
  <dc:description/>
  <dc:language>en-US</dc:language>
  <cp:lastModifiedBy>rtumala</cp:lastModifiedBy>
  <dcterms:modified xsi:type="dcterms:W3CDTF">2016-10-11T09:28:36Z</dcterms:modified>
  <cp:revision>48</cp:revision>
  <dc:subject/>
  <dc:title>Acid-base disturbance and compensation</dc:title>
</cp:coreProperties>
</file>